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919-8C78-4B2D-9F33-125F646D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4D3-E0A8-48B8-89A6-C6098847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FF7-4A96-4D27-B03C-0F249E2A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84E-873D-4B90-9B6B-B1B33AE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F7C-4C3A-4A24-B5F6-E4534DAB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5A3-36A2-4DCA-8B20-980F01F8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FB8-9D8D-4702-8820-9435B61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882-9610-4CD7-B7A7-5F5A41A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66E-41A1-4E6E-B986-1BE3FC4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59F-E6B4-4A94-BEEE-72FFBBC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3AD-85E0-4DB1-80E0-D6382A6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185-ECE4-4FB0-B84C-2A6E86F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7F3-F0E3-41D5-A3D6-7D804A0C6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wmf"/><Relationship Id="rId4" Type="http://schemas.openxmlformats.org/officeDocument/2006/relationships/slide" Target="slide3.xml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Neutralisation des acide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2604960" y="2818440"/>
            <a:ext cx="420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ar Lisa Torchia et Félix Cer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9720" y="478548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133720" y="4572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 Acides Forts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743200"/>
            <a:ext cx="2286000" cy="2666880"/>
          </a:xfrm>
          <a:prstGeom prst="upArrowCallout">
            <a:avLst>
              <a:gd name="adj1" fmla="val 25002"/>
              <a:gd name="adj2" fmla="val 25000"/>
              <a:gd name="adj3" fmla="val 19444"/>
              <a:gd name="adj4" fmla="val 66660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590920"/>
            <a:ext cx="1447920" cy="1143000"/>
          </a:xfrm>
          <a:prstGeom prst="upArrow">
            <a:avLst>
              <a:gd name="adj1" fmla="val 53287"/>
              <a:gd name="adj2" fmla="val 60000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419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19520"/>
            <a:ext cx="2286000" cy="2666880"/>
          </a:xfrm>
          <a:prstGeom prst="upArrowCallout">
            <a:avLst>
              <a:gd name="adj1" fmla="val 25002"/>
              <a:gd name="adj2" fmla="val 25000"/>
              <a:gd name="adj3" fmla="val 19444"/>
              <a:gd name="adj4" fmla="val 66660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590920"/>
            <a:ext cx="1447560" cy="1143000"/>
          </a:xfrm>
          <a:prstGeom prst="upArrow">
            <a:avLst>
              <a:gd name="adj1" fmla="val 53287"/>
              <a:gd name="adj2" fmla="val 60000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31680" y="3809880"/>
            <a:ext cx="209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L’ac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entiè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dissocié,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Bookman Old Style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44800" y="3809880"/>
            <a:ext cx="2527200" cy="1496160"/>
            <a:chOff x="2044800" y="3809880"/>
            <a:chExt cx="2527200" cy="1496160"/>
          </a:xfrm>
        </p:grpSpPr>
        <p:sp>
          <p:nvSpPr>
            <p:cNvPr id="168" name=""/>
            <p:cNvSpPr/>
            <p:nvPr/>
          </p:nvSpPr>
          <p:spPr>
            <a:xfrm>
              <a:off x="2044800" y="3809880"/>
              <a:ext cx="252720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Plus 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9900"/>
                  </a:solidFill>
                  <a:latin typeface="Bookman Old Style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9900"/>
                  </a:solidFill>
                  <a:latin typeface="Bookman Old Style"/>
                </a:rPr>
                <a:t>en H</a:t>
              </a:r>
              <a:r>
                <a:rPr b="1" lang="fr-FR" sz="2000" spc="-1" strike="noStrike" baseline="30000">
                  <a:solidFill>
                    <a:srgbClr val="009900"/>
                  </a:solidFill>
                  <a:latin typeface="Bookman Old Style"/>
                </a:rPr>
                <a:t>+</a:t>
              </a:r>
              <a:r>
                <a:rPr b="1" lang="fr-FR" sz="2400" spc="-1" strike="noStrike">
                  <a:solidFill>
                    <a:srgbClr val="0066ff"/>
                  </a:solidFill>
                  <a:latin typeface="Bookman Old Style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 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gra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68440" y="4495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50840" y="6248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6232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0" y="617220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6705720" y="609588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380880" y="45720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5" action="ppaction://hlinksldjump"/>
          </p:cNvPr>
          <p:cNvSpPr/>
          <p:nvPr/>
        </p:nvSpPr>
        <p:spPr>
          <a:xfrm>
            <a:off x="3657600" y="45720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4572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 Acides Faibles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819520"/>
            <a:ext cx="2209680" cy="2819160"/>
          </a:xfrm>
          <a:prstGeom prst="downArrowCallout">
            <a:avLst>
              <a:gd name="adj1" fmla="val 25002"/>
              <a:gd name="adj2" fmla="val 25000"/>
              <a:gd name="adj3" fmla="val 21264"/>
              <a:gd name="adj4" fmla="val 6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0825800">
            <a:off x="2057040" y="4723560"/>
            <a:ext cx="1447920" cy="1143000"/>
          </a:xfrm>
          <a:prstGeom prst="upArrow">
            <a:avLst>
              <a:gd name="adj1" fmla="val 53287"/>
              <a:gd name="adj2" fmla="val 60000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819520"/>
            <a:ext cx="2209680" cy="2819160"/>
          </a:xfrm>
          <a:prstGeom prst="downArrowCallout">
            <a:avLst>
              <a:gd name="adj1" fmla="val 25002"/>
              <a:gd name="adj2" fmla="val 25000"/>
              <a:gd name="adj3" fmla="val 21264"/>
              <a:gd name="adj4" fmla="val 6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25800">
            <a:off x="5409720" y="4723560"/>
            <a:ext cx="1447920" cy="1143000"/>
          </a:xfrm>
          <a:prstGeom prst="upArrow">
            <a:avLst>
              <a:gd name="adj1" fmla="val 53287"/>
              <a:gd name="adj2" fmla="val 60000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29280" y="35053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95080" y="2895480"/>
            <a:ext cx="204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L’ac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peu dissoc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Bookman Old Style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3880" y="2971800"/>
            <a:ext cx="2527200" cy="1541520"/>
            <a:chOff x="1523880" y="2971800"/>
            <a:chExt cx="2527200" cy="1541520"/>
          </a:xfrm>
        </p:grpSpPr>
        <p:sp>
          <p:nvSpPr>
            <p:cNvPr id="184" name=""/>
            <p:cNvSpPr/>
            <p:nvPr/>
          </p:nvSpPr>
          <p:spPr>
            <a:xfrm>
              <a:off x="1523880" y="2971800"/>
              <a:ext cx="252720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Plus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9900"/>
                  </a:solidFill>
                  <a:latin typeface="Bookman Old Style"/>
                </a:rPr>
                <a:t>concentratio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9900"/>
                  </a:solidFill>
                  <a:latin typeface="Bookman Old Style"/>
                </a:rPr>
                <a:t>en H</a:t>
              </a:r>
              <a:r>
                <a:rPr b="1" lang="fr-FR" sz="2400" spc="-1" strike="noStrike">
                  <a:solidFill>
                    <a:srgbClr val="0066ff"/>
                  </a:solidFill>
                  <a:latin typeface="Bookman Old Style"/>
                </a:rPr>
                <a:t>  </a:t>
              </a: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 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Bookman Old Style"/>
                </a:rPr>
                <a:t>fa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1680" y="3672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6600"/>
                  </a:solidFill>
                  <a:latin typeface="Bookman Old Style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-60840" y="6248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Rounded MT Bold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3400" y="617220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Rounded MT Bold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6019920" y="6248520"/>
            <a:ext cx="2209680" cy="609480"/>
          </a:xfrm>
          <a:custGeom>
            <a:avLst/>
            <a:gdLst>
              <a:gd name="textAreaLeft" fmla="*/ 39240 w 2209680"/>
              <a:gd name="textAreaRight" fmla="*/ 2170440 w 2209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8278" h="21600">
                <a:moveTo>
                  <a:pt x="0" y="0"/>
                </a:moveTo>
                <a:lnTo>
                  <a:pt x="78278" y="0"/>
                </a:lnTo>
                <a:lnTo>
                  <a:pt x="78278" y="21600"/>
                </a:lnTo>
                <a:lnTo>
                  <a:pt x="0" y="21600"/>
                </a:lnTo>
                <a:close/>
              </a:path>
              <a:path fill="lightenLess" w="78278" h="21600">
                <a:moveTo>
                  <a:pt x="0" y="0"/>
                </a:moveTo>
                <a:lnTo>
                  <a:pt x="78278" y="0"/>
                </a:lnTo>
                <a:lnTo>
                  <a:pt x="76878" y="1400"/>
                </a:lnTo>
                <a:lnTo>
                  <a:pt x="1400" y="1400"/>
                </a:lnTo>
                <a:close/>
              </a:path>
              <a:path fill="darken" w="78278" h="21600">
                <a:moveTo>
                  <a:pt x="78278" y="0"/>
                </a:moveTo>
                <a:lnTo>
                  <a:pt x="78278" y="21600"/>
                </a:lnTo>
                <a:lnTo>
                  <a:pt x="76878" y="20200"/>
                </a:lnTo>
                <a:lnTo>
                  <a:pt x="76878" y="1400"/>
                </a:lnTo>
                <a:close/>
              </a:path>
              <a:path fill="darkenLess" w="78278" h="21600">
                <a:moveTo>
                  <a:pt x="7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8" y="20200"/>
                </a:lnTo>
                <a:close/>
              </a:path>
              <a:path fill="lighten" w="7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304920" y="32767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380880" y="3657600"/>
            <a:ext cx="990720" cy="228600"/>
          </a:xfrm>
          <a:custGeom>
            <a:avLst/>
            <a:gdLst>
              <a:gd name="textAreaLeft" fmla="*/ 14760 w 990720"/>
              <a:gd name="textAreaRight" fmla="*/ 975960 w 9907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93498" h="21600">
                <a:moveTo>
                  <a:pt x="0" y="0"/>
                </a:moveTo>
                <a:lnTo>
                  <a:pt x="93498" y="0"/>
                </a:lnTo>
                <a:lnTo>
                  <a:pt x="93498" y="21600"/>
                </a:lnTo>
                <a:lnTo>
                  <a:pt x="0" y="21600"/>
                </a:lnTo>
                <a:close/>
              </a:path>
              <a:path fill="lightenLess" w="93498" h="21600">
                <a:moveTo>
                  <a:pt x="0" y="0"/>
                </a:moveTo>
                <a:lnTo>
                  <a:pt x="93498" y="0"/>
                </a:lnTo>
                <a:lnTo>
                  <a:pt x="92098" y="1400"/>
                </a:lnTo>
                <a:lnTo>
                  <a:pt x="1400" y="1400"/>
                </a:lnTo>
                <a:close/>
              </a:path>
              <a:path fill="darken" w="93498" h="21600">
                <a:moveTo>
                  <a:pt x="93498" y="0"/>
                </a:moveTo>
                <a:lnTo>
                  <a:pt x="93498" y="21600"/>
                </a:lnTo>
                <a:lnTo>
                  <a:pt x="92098" y="20200"/>
                </a:lnTo>
                <a:lnTo>
                  <a:pt x="92098" y="1400"/>
                </a:lnTo>
                <a:close/>
              </a:path>
              <a:path fill="darkenLess" w="93498" h="21600">
                <a:moveTo>
                  <a:pt x="93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098" y="20200"/>
                </a:lnTo>
                <a:close/>
              </a:path>
              <a:path fill="lighten" w="93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3352680"/>
            <a:ext cx="2438280" cy="304920"/>
          </a:xfrm>
          <a:custGeom>
            <a:avLst/>
            <a:gdLst>
              <a:gd name="textAreaLeft" fmla="*/ 19440 w 2438280"/>
              <a:gd name="textAreaRight" fmla="*/ 2418840 w 24382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72545" h="21600">
                <a:moveTo>
                  <a:pt x="0" y="0"/>
                </a:moveTo>
                <a:lnTo>
                  <a:pt x="172545" y="0"/>
                </a:lnTo>
                <a:lnTo>
                  <a:pt x="172545" y="21600"/>
                </a:lnTo>
                <a:lnTo>
                  <a:pt x="0" y="21600"/>
                </a:lnTo>
                <a:close/>
              </a:path>
              <a:path fill="lightenLess" w="172545" h="21600">
                <a:moveTo>
                  <a:pt x="0" y="0"/>
                </a:moveTo>
                <a:lnTo>
                  <a:pt x="172545" y="0"/>
                </a:lnTo>
                <a:lnTo>
                  <a:pt x="171145" y="1400"/>
                </a:lnTo>
                <a:lnTo>
                  <a:pt x="1400" y="1400"/>
                </a:lnTo>
                <a:close/>
              </a:path>
              <a:path fill="darken" w="172545" h="21600">
                <a:moveTo>
                  <a:pt x="172545" y="0"/>
                </a:moveTo>
                <a:lnTo>
                  <a:pt x="172545" y="21600"/>
                </a:lnTo>
                <a:lnTo>
                  <a:pt x="171145" y="20200"/>
                </a:lnTo>
                <a:lnTo>
                  <a:pt x="171145" y="1400"/>
                </a:lnTo>
                <a:close/>
              </a:path>
              <a:path fill="darkenLess" w="172545" h="21600">
                <a:moveTo>
                  <a:pt x="172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45" y="20200"/>
                </a:lnTo>
                <a:close/>
              </a:path>
              <a:path fill="lighten" w="172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3657600" y="3276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624852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3049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00280" y="228600"/>
            <a:ext cx="754380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phénomène d'ionisation</a:t>
            </a:r>
            <a:endParaRPr b="0" lang="en-US" sz="32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1887480" y="1898640"/>
            <a:ext cx="620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Définition de la constan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de dissociation ioniq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71640" y="3956040"/>
            <a:ext cx="57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Exemple de la cons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de dissociation ioniq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(K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96252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685800" y="198108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232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09588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81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finition de la constante d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ssociation ionique (Ka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000160"/>
            <a:ext cx="91440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L’acidité d’une solution peut causer 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conséquences lors d ’une réaction chimiq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Voilà pourquoi il est important de contrôler cet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acidité. C’est de là que naît la </a:t>
            </a:r>
            <a:r>
              <a:rPr b="1" lang="fr-FR" sz="2800" spc="-1" strike="noStrike">
                <a:solidFill>
                  <a:srgbClr val="ff00ff"/>
                </a:solidFill>
                <a:latin typeface="Arial Rounded MT Bold"/>
              </a:rPr>
              <a:t>constante K</a:t>
            </a:r>
            <a:r>
              <a:rPr b="1" lang="fr-FR" sz="2800" spc="-1" strike="noStrike" baseline="-25000">
                <a:solidFill>
                  <a:srgbClr val="ff00ff"/>
                </a:solidFill>
                <a:latin typeface="Arial Rounded MT Bold"/>
              </a:rPr>
              <a:t>a</a:t>
            </a:r>
            <a:r>
              <a:rPr b="1" lang="fr-FR" sz="2800" spc="-1" strike="noStrike">
                <a:solidFill>
                  <a:srgbClr val="ff00ff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71400" y="62485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6934320" y="6248520"/>
            <a:ext cx="2209680" cy="609480"/>
          </a:xfrm>
          <a:custGeom>
            <a:avLst/>
            <a:gdLst>
              <a:gd name="textAreaLeft" fmla="*/ 39240 w 2209680"/>
              <a:gd name="textAreaRight" fmla="*/ 2170440 w 2209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8278" h="21600">
                <a:moveTo>
                  <a:pt x="0" y="0"/>
                </a:moveTo>
                <a:lnTo>
                  <a:pt x="78278" y="0"/>
                </a:lnTo>
                <a:lnTo>
                  <a:pt x="78278" y="21600"/>
                </a:lnTo>
                <a:lnTo>
                  <a:pt x="0" y="21600"/>
                </a:lnTo>
                <a:close/>
              </a:path>
              <a:path fill="lightenLess" w="78278" h="21600">
                <a:moveTo>
                  <a:pt x="0" y="0"/>
                </a:moveTo>
                <a:lnTo>
                  <a:pt x="78278" y="0"/>
                </a:lnTo>
                <a:lnTo>
                  <a:pt x="76878" y="1400"/>
                </a:lnTo>
                <a:lnTo>
                  <a:pt x="1400" y="1400"/>
                </a:lnTo>
                <a:close/>
              </a:path>
              <a:path fill="darken" w="78278" h="21600">
                <a:moveTo>
                  <a:pt x="78278" y="0"/>
                </a:moveTo>
                <a:lnTo>
                  <a:pt x="78278" y="21600"/>
                </a:lnTo>
                <a:lnTo>
                  <a:pt x="76878" y="20200"/>
                </a:lnTo>
                <a:lnTo>
                  <a:pt x="76878" y="1400"/>
                </a:lnTo>
                <a:close/>
              </a:path>
              <a:path fill="darkenLess" w="78278" h="21600">
                <a:moveTo>
                  <a:pt x="7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8" y="20200"/>
                </a:lnTo>
                <a:close/>
              </a:path>
              <a:path fill="lighten" w="7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4876920"/>
            <a:ext cx="9144000" cy="2286000"/>
            <a:chOff x="0" y="4876920"/>
            <a:chExt cx="9144000" cy="2286000"/>
          </a:xfrm>
        </p:grpSpPr>
        <p:sp>
          <p:nvSpPr>
            <p:cNvPr id="207" name=""/>
            <p:cNvSpPr/>
            <p:nvPr/>
          </p:nvSpPr>
          <p:spPr>
            <a:xfrm>
              <a:off x="0" y="4876920"/>
              <a:ext cx="9144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ff"/>
                  </a:solidFill>
                  <a:latin typeface="Arial Rounded MT Bold"/>
                </a:rPr>
                <a:t>K</a:t>
              </a:r>
              <a:r>
                <a:rPr b="1" lang="fr-FR" sz="2800" spc="-1" strike="noStrike" baseline="-25000">
                  <a:solidFill>
                    <a:srgbClr val="ff00ff"/>
                  </a:solidFill>
                  <a:latin typeface="Arial Rounded MT Bold"/>
                </a:rPr>
                <a:t>a</a:t>
              </a:r>
              <a:r>
                <a:rPr b="1" lang="fr-FR" sz="2800" spc="-1" strike="noStrike">
                  <a:solidFill>
                    <a:srgbClr val="ff00ff"/>
                  </a:solidFill>
                  <a:latin typeface="Arial Rounded MT Bold"/>
                </a:rPr>
                <a:t> =  concentration des produ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ff"/>
                  </a:solidFill>
                  <a:latin typeface="Arial Rounded MT Bold"/>
                </a:rPr>
                <a:t>         </a:t>
              </a:r>
              <a:r>
                <a:rPr b="1" lang="fr-FR" sz="2800" spc="-1" strike="noStrike">
                  <a:solidFill>
                    <a:srgbClr val="ff00ff"/>
                  </a:solidFill>
                  <a:latin typeface="Arial Rounded MT Bold"/>
                </a:rPr>
                <a:t>concentration des réacti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5792760"/>
              <a:ext cx="396216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66680" y="6095880"/>
            <a:ext cx="289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Balogna"/>
              </a:rPr>
              <a:t>Exem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61722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625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Plus la solution contient des ions H</a:t>
            </a:r>
            <a:r>
              <a:rPr b="1" lang="fr-FR" sz="2400" spc="-1" strike="noStrike" u="sng" baseline="30000">
                <a:solidFill>
                  <a:srgbClr val="000000"/>
                </a:solidFill>
                <a:uFillTx/>
                <a:latin typeface="Arial Rounded MT Bold"/>
              </a:rPr>
              <a:t>+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, plus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constante K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 Rounded MT Bold"/>
              </a:rPr>
              <a:t>a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 est grande.</a:t>
            </a: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 En d ’autre mo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9320" y="45720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emple de la valeur d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dissociation ioniqu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2570040" y="3002040"/>
            <a:ext cx="1573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NO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0600" y="3002040"/>
            <a:ext cx="25398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NO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 Rounded MT Bold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0560" y="294012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31543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2720" y="4083120"/>
            <a:ext cx="27504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fr-CA" sz="28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fr-CA" sz="28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[H  ] [NO</a:t>
            </a:r>
            <a:r>
              <a:rPr b="0" lang="fr-CA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fr-CA" sz="2800" spc="-1" strike="noStrike">
                <a:solidFill>
                  <a:srgbClr val="000000"/>
                </a:solidFill>
                <a:latin typeface="Bookman Old Style"/>
              </a:rPr>
              <a:t>[HNO</a:t>
            </a:r>
            <a:r>
              <a:rPr b="0" lang="fr-CA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fr-CA" sz="2800" spc="-1" strike="noStrike">
                <a:solidFill>
                  <a:srgbClr val="000000"/>
                </a:solidFill>
                <a:latin typeface="Bookman Old Style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9840" y="40068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40384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60958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Balogna"/>
              </a:rPr>
              <a:t>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6172200"/>
            <a:ext cx="762120" cy="457200"/>
          </a:xfrm>
          <a:prstGeom prst="rightArrow">
            <a:avLst>
              <a:gd name="adj1" fmla="val 50000"/>
              <a:gd name="adj2" fmla="val 33338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8080" y="304920"/>
            <a:ext cx="6324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concentration H</a:t>
            </a:r>
            <a:endParaRPr b="1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315200" y="22860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693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La concentration d’hydrogène</a:t>
            </a:r>
            <a:r>
              <a:rPr b="1" lang="fr-FR" sz="3600" spc="-1" strike="noStrike">
                <a:solidFill>
                  <a:srgbClr val="ff00ff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positif consiste en le </a:t>
            </a:r>
            <a:r>
              <a:rPr b="1" lang="fr-FR" sz="3600" spc="-1" strike="noStrike">
                <a:solidFill>
                  <a:srgbClr val="ff00ff"/>
                </a:solidFill>
                <a:latin typeface="Arial Rounded MT Bold"/>
              </a:rPr>
              <a:t>nombre d’ions</a:t>
            </a: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dans une quantité de </a:t>
            </a:r>
            <a:r>
              <a:rPr b="1" lang="fr-FR" sz="3600" spc="-1" strike="noStrike">
                <a:solidFill>
                  <a:srgbClr val="0066ff"/>
                </a:solidFill>
                <a:latin typeface="Arial Rounded MT Bold"/>
              </a:rPr>
              <a:t>solution</a:t>
            </a: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 donn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Plus ce nombre est grand, plus on considè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la solution acide, donc u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ff"/>
                </a:solidFill>
                <a:latin typeface="Arial Rounded MT Bold"/>
              </a:rPr>
              <a:t>valeur de Ka</a:t>
            </a:r>
            <a:r>
              <a:rPr b="1" lang="fr-FR" sz="3600" spc="-1" strike="noStrike">
                <a:solidFill>
                  <a:srgbClr val="000000"/>
                </a:solidFill>
                <a:latin typeface="Arial Rounded MT Bold"/>
              </a:rPr>
              <a:t> élev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232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609588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hotolaboratoirescience" descr=""/>
          <p:cNvPicPr/>
          <p:nvPr/>
        </p:nvPicPr>
        <p:blipFill>
          <a:blip r:embed="rId2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62120" y="0"/>
            <a:ext cx="7162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Et mainten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3124080"/>
            <a:ext cx="624816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ASSONS  À  L'EXPÉRI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67080" y="4724280"/>
            <a:ext cx="19051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iquez ic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4160" y="603576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380880" y="3505320"/>
            <a:ext cx="6629400" cy="2133360"/>
          </a:xfrm>
          <a:custGeom>
            <a:avLst/>
            <a:gdLst>
              <a:gd name="textAreaLeft" fmla="*/ 138240 w 6629400"/>
              <a:gd name="textAreaRight" fmla="*/ 6491160 w 6629400"/>
              <a:gd name="textAreaTop" fmla="*/ 138240 h 2133360"/>
              <a:gd name="textAreaBottom" fmla="*/ 1995120 h 2133360"/>
            </a:gdLst>
            <a:ahLst/>
            <a:rect l="textAreaLeft" t="textAreaTop" r="textAreaRight" b="textAreaBottom"/>
            <a:pathLst>
              <a:path w="67114" h="21600">
                <a:moveTo>
                  <a:pt x="0" y="0"/>
                </a:moveTo>
                <a:lnTo>
                  <a:pt x="67114" y="0"/>
                </a:lnTo>
                <a:lnTo>
                  <a:pt x="67114" y="21600"/>
                </a:lnTo>
                <a:lnTo>
                  <a:pt x="0" y="21600"/>
                </a:lnTo>
                <a:close/>
              </a:path>
              <a:path fill="lightenLess" w="67114" h="21600">
                <a:moveTo>
                  <a:pt x="0" y="0"/>
                </a:moveTo>
                <a:lnTo>
                  <a:pt x="67114" y="0"/>
                </a:lnTo>
                <a:lnTo>
                  <a:pt x="65714" y="1400"/>
                </a:lnTo>
                <a:lnTo>
                  <a:pt x="1400" y="1400"/>
                </a:lnTo>
                <a:close/>
              </a:path>
              <a:path fill="darken" w="67114" h="21600">
                <a:moveTo>
                  <a:pt x="67114" y="0"/>
                </a:moveTo>
                <a:lnTo>
                  <a:pt x="67114" y="21600"/>
                </a:lnTo>
                <a:lnTo>
                  <a:pt x="65714" y="20200"/>
                </a:lnTo>
                <a:lnTo>
                  <a:pt x="65714" y="1400"/>
                </a:lnTo>
                <a:close/>
              </a:path>
              <a:path fill="darkenLess" w="67114" h="21600">
                <a:moveTo>
                  <a:pt x="67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14" y="20200"/>
                </a:lnTo>
                <a:close/>
              </a:path>
              <a:path fill="lighten" w="67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75438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22860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résentation expérimental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la neutralis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981080"/>
            <a:ext cx="2514600" cy="23623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95280" y="2819520"/>
            <a:ext cx="6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237" name=""/>
          <p:cNvSpPr/>
          <p:nvPr/>
        </p:nvSpPr>
        <p:spPr>
          <a:xfrm>
            <a:off x="3778560" y="2286000"/>
            <a:ext cx="41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Vous avez besoin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04800" y="3048120"/>
            <a:ext cx="40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- 1 solution acide dans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éprouv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0240" y="388620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- 1 solution basique d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une éprouv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3276720" y="5257800"/>
            <a:ext cx="3200400" cy="1066680"/>
          </a:xfrm>
          <a:prstGeom prst="rightArrow">
            <a:avLst>
              <a:gd name="adj1" fmla="val 50000"/>
              <a:gd name="adj2" fmla="val 75008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91320" y="47242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- 1 bé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360" y="64008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0" y="6324480"/>
            <a:ext cx="2209680" cy="533520"/>
          </a:xfrm>
          <a:custGeom>
            <a:avLst/>
            <a:gdLst>
              <a:gd name="textAreaLeft" fmla="*/ 34560 w 2209680"/>
              <a:gd name="textAreaRight" fmla="*/ 2175120 w 2209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9415" h="21600">
                <a:moveTo>
                  <a:pt x="0" y="0"/>
                </a:moveTo>
                <a:lnTo>
                  <a:pt x="89415" y="0"/>
                </a:lnTo>
                <a:lnTo>
                  <a:pt x="89415" y="21600"/>
                </a:lnTo>
                <a:lnTo>
                  <a:pt x="0" y="21600"/>
                </a:lnTo>
                <a:close/>
              </a:path>
              <a:path fill="lightenLess" w="89415" h="21600">
                <a:moveTo>
                  <a:pt x="0" y="0"/>
                </a:moveTo>
                <a:lnTo>
                  <a:pt x="89415" y="0"/>
                </a:lnTo>
                <a:lnTo>
                  <a:pt x="88015" y="1400"/>
                </a:lnTo>
                <a:lnTo>
                  <a:pt x="1400" y="1400"/>
                </a:lnTo>
                <a:close/>
              </a:path>
              <a:path fill="darken" w="89415" h="21600">
                <a:moveTo>
                  <a:pt x="89415" y="0"/>
                </a:moveTo>
                <a:lnTo>
                  <a:pt x="89415" y="21600"/>
                </a:lnTo>
                <a:lnTo>
                  <a:pt x="88015" y="20200"/>
                </a:lnTo>
                <a:lnTo>
                  <a:pt x="88015" y="1400"/>
                </a:lnTo>
                <a:close/>
              </a:path>
              <a:path fill="darkenLess" w="89415" h="21600">
                <a:moveTo>
                  <a:pt x="8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15" y="20200"/>
                </a:lnTo>
                <a:close/>
              </a:path>
              <a:path fill="lighten" w="8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confusionexperimentale" descr=""/>
          <p:cNvPicPr/>
          <p:nvPr/>
        </p:nvPicPr>
        <p:blipFill>
          <a:blip r:embed="rId3"/>
          <a:stretch/>
        </p:blipFill>
        <p:spPr>
          <a:xfrm>
            <a:off x="6705720" y="4714920"/>
            <a:ext cx="2209680" cy="199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3504960" y="56037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assez à l ’é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experiencelisa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191120" cy="36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76320" y="1371600"/>
            <a:ext cx="2514600" cy="23623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2209680"/>
            <a:ext cx="60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2666880"/>
            <a:ext cx="426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On mélange la solution acide et la s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bas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ans un erlenme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486400" y="5486400"/>
            <a:ext cx="3352680" cy="1066680"/>
          </a:xfrm>
          <a:prstGeom prst="rightArrow">
            <a:avLst>
              <a:gd name="adj1" fmla="val 50000"/>
              <a:gd name="adj2" fmla="val 7857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oir la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6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3" action="ppaction://hlinksldjump"/>
          </p:cNvPr>
          <p:cNvSpPr/>
          <p:nvPr/>
        </p:nvSpPr>
        <p:spPr>
          <a:xfrm>
            <a:off x="0" y="617220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057400" y="4572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ff"/>
                </a:solidFill>
                <a:latin typeface="Arial Black"/>
              </a:rPr>
              <a:t>Nous pouvons conclure que 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ff"/>
              </a:solid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15192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0" y="6172200"/>
            <a:ext cx="2438280" cy="685800"/>
          </a:xfrm>
          <a:custGeom>
            <a:avLst/>
            <a:gdLst>
              <a:gd name="textAreaLeft" fmla="*/ 44280 w 2438280"/>
              <a:gd name="textAreaRight" fmla="*/ 2394000 w 2438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67" h="21600">
                <a:moveTo>
                  <a:pt x="0" y="0"/>
                </a:moveTo>
                <a:lnTo>
                  <a:pt x="76767" y="0"/>
                </a:lnTo>
                <a:lnTo>
                  <a:pt x="76767" y="21600"/>
                </a:lnTo>
                <a:lnTo>
                  <a:pt x="0" y="21600"/>
                </a:lnTo>
                <a:close/>
              </a:path>
              <a:path fill="lightenLess" w="76767" h="21600">
                <a:moveTo>
                  <a:pt x="0" y="0"/>
                </a:moveTo>
                <a:lnTo>
                  <a:pt x="76767" y="0"/>
                </a:lnTo>
                <a:lnTo>
                  <a:pt x="75367" y="1400"/>
                </a:lnTo>
                <a:lnTo>
                  <a:pt x="1400" y="1400"/>
                </a:lnTo>
                <a:close/>
              </a:path>
              <a:path fill="darken" w="76767" h="21600">
                <a:moveTo>
                  <a:pt x="76767" y="0"/>
                </a:moveTo>
                <a:lnTo>
                  <a:pt x="76767" y="21600"/>
                </a:lnTo>
                <a:lnTo>
                  <a:pt x="75367" y="20200"/>
                </a:lnTo>
                <a:lnTo>
                  <a:pt x="75367" y="1400"/>
                </a:lnTo>
                <a:close/>
              </a:path>
              <a:path fill="darkenLess" w="76767" h="21600">
                <a:moveTo>
                  <a:pt x="76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7" y="20200"/>
                </a:lnTo>
                <a:close/>
              </a:path>
              <a:path fill="lighten" w="76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etudier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1981080" cy="25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2209680" y="2362320"/>
            <a:ext cx="69343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Bookman Old Style"/>
              </a:rPr>
              <a:t>Une solution</a:t>
            </a:r>
            <a:r>
              <a:rPr b="1" lang="fr-CA" sz="3000" spc="-1" strike="noStrike">
                <a:solidFill>
                  <a:srgbClr val="6699ff"/>
                </a:solidFill>
                <a:latin typeface="Bookman Old Style"/>
              </a:rPr>
              <a:t> acide</a:t>
            </a:r>
            <a:r>
              <a:rPr b="1" lang="fr-CA" sz="3000" spc="-1" strike="noStrike">
                <a:solidFill>
                  <a:srgbClr val="000000"/>
                </a:solidFill>
                <a:latin typeface="Bookman Old Style"/>
              </a:rPr>
              <a:t>                  peut être neutralisée par          une solution</a:t>
            </a:r>
            <a:r>
              <a:rPr b="1" lang="fr-CA" sz="3000" spc="-1" strike="noStrike">
                <a:solidFill>
                  <a:srgbClr val="6699ff"/>
                </a:solidFill>
                <a:latin typeface="Bookman Old Style"/>
              </a:rPr>
              <a:t> basique,</a:t>
            </a:r>
            <a:r>
              <a:rPr b="1" lang="fr-CA" sz="3000" spc="-1" strike="noStrike">
                <a:solidFill>
                  <a:srgbClr val="000000"/>
                </a:solidFill>
                <a:latin typeface="Bookman Old Style"/>
              </a:rPr>
              <a:t>     produisant ainsi</a:t>
            </a:r>
            <a:r>
              <a:rPr b="1" lang="fr-C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Bookman Old Style"/>
              </a:rPr>
              <a:t>du sel, de l ’eau et de l ’énergie.</a:t>
            </a:r>
            <a:r>
              <a:rPr b="1" lang="fr-C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5191200"/>
            <a:ext cx="28954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cide + Bas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5257800"/>
            <a:ext cx="762120" cy="533520"/>
          </a:xfrm>
          <a:prstGeom prst="leftRightArrow">
            <a:avLst>
              <a:gd name="adj1" fmla="val 50000"/>
              <a:gd name="adj2" fmla="val 284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419720" y="5295960"/>
            <a:ext cx="3962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l + Eau + Chale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162920" y="6019920"/>
            <a:ext cx="1752480" cy="761760"/>
          </a:xfrm>
          <a:prstGeom prst="rightArrow">
            <a:avLst>
              <a:gd name="adj1" fmla="val 50000"/>
              <a:gd name="adj2" fmla="val 5751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533520"/>
            <a:ext cx="754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UTRALISATION  DES  ACIDES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 rot="21587400">
            <a:off x="2819160" y="5029200"/>
            <a:ext cx="345096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Lisa Torchia</a:t>
            </a:r>
            <a:endParaRPr b="1" lang="en-US" sz="2400" spc="1" strike="noStrike">
              <a:ln w="648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Félix Cerrato</a:t>
            </a:r>
            <a:endParaRPr b="1" lang="en-US" sz="2400" spc="1" strike="noStrike">
              <a:ln w="648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10120" y="243828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81280" y="198108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057400" y="18288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819520" y="1828800"/>
            <a:ext cx="128880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371600" y="18288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33520" y="1828800"/>
            <a:ext cx="12888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0" y="18288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0" y="22860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0" y="3048120"/>
            <a:ext cx="128916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38862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0" y="480060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0" y="5181480"/>
            <a:ext cx="128916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5467320" y="243828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5943600" y="243828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6477120" y="247644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7162920" y="247644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7620120" y="247644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8058240" y="247644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058240" y="182880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8058240" y="91440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8058240" y="380880"/>
            <a:ext cx="108576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5"/>
          <a:stretch/>
        </p:blipFill>
        <p:spPr>
          <a:xfrm>
            <a:off x="7981920" y="0"/>
            <a:ext cx="1314360" cy="22096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533520" y="457200"/>
            <a:ext cx="8305560" cy="5943600"/>
          </a:xfrm>
          <a:custGeom>
            <a:avLst/>
            <a:gdLst>
              <a:gd name="textAreaLeft" fmla="*/ 385200 w 8305560"/>
              <a:gd name="textAreaRight" fmla="*/ 7920360 w 830556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3" h="21600">
                <a:moveTo>
                  <a:pt x="0" y="0"/>
                </a:moveTo>
                <a:lnTo>
                  <a:pt x="30183" y="0"/>
                </a:lnTo>
                <a:lnTo>
                  <a:pt x="30183" y="21600"/>
                </a:lnTo>
                <a:lnTo>
                  <a:pt x="0" y="21600"/>
                </a:lnTo>
                <a:close/>
              </a:path>
              <a:path fill="lightenLess" w="30183" h="21600">
                <a:moveTo>
                  <a:pt x="0" y="0"/>
                </a:moveTo>
                <a:lnTo>
                  <a:pt x="30183" y="0"/>
                </a:lnTo>
                <a:lnTo>
                  <a:pt x="28783" y="1400"/>
                </a:lnTo>
                <a:lnTo>
                  <a:pt x="1400" y="1400"/>
                </a:lnTo>
                <a:close/>
              </a:path>
              <a:path fill="darken" w="30183" h="21600">
                <a:moveTo>
                  <a:pt x="30183" y="0"/>
                </a:moveTo>
                <a:lnTo>
                  <a:pt x="30183" y="21600"/>
                </a:lnTo>
                <a:lnTo>
                  <a:pt x="28783" y="20200"/>
                </a:lnTo>
                <a:lnTo>
                  <a:pt x="28783" y="1400"/>
                </a:lnTo>
                <a:close/>
              </a:path>
              <a:path fill="darkenLess" w="30183" h="21600">
                <a:moveTo>
                  <a:pt x="30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3" y="20200"/>
                </a:lnTo>
                <a:close/>
              </a:path>
              <a:path fill="lighten" w="30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505320" y="30492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H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174600" y="1728720"/>
            <a:ext cx="8858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Il est possible de déterm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 potentiel en ions Hydrogène (pH) d ’un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our ce faire, il faut se baser sur l’échelle ci-dessous</a:t>
            </a:r>
            <a:r>
              <a:rPr b="1" lang="fr-CA" sz="3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09800" y="3619440"/>
            <a:ext cx="24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égion Aci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43440" y="3733920"/>
            <a:ext cx="2000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H neut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400800" y="3657600"/>
            <a:ext cx="24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égion Bas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678636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61722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10200">
            <a:off x="2627280" y="263016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38080" y="4952880"/>
            <a:ext cx="7925040" cy="1511280"/>
            <a:chOff x="838080" y="4952880"/>
            <a:chExt cx="7925040" cy="1511280"/>
          </a:xfrm>
        </p:grpSpPr>
        <p:grpSp>
          <p:nvGrpSpPr>
            <p:cNvPr id="271" name=""/>
            <p:cNvGrpSpPr/>
            <p:nvPr/>
          </p:nvGrpSpPr>
          <p:grpSpPr>
            <a:xfrm>
              <a:off x="990720" y="4952880"/>
              <a:ext cx="7467120" cy="609480"/>
              <a:chOff x="990720" y="4952880"/>
              <a:chExt cx="746712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5257440"/>
                <a:ext cx="746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072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424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5776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9056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408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5760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9076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2428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5780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9060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412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5764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9080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2432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57840" y="4952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38080" y="563868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Balogna"/>
                </a:rPr>
                <a:t>0     1     2     3    4      5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Balog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05520" y="563868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Balogna"/>
                </a:rPr>
                <a:t>8     9    10   11  12   13   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rot="5410200">
            <a:off x="6362280" y="2628720"/>
            <a:ext cx="381240" cy="3657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267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3049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'estomac et les antiacid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4" name="estomac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90016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5" name="estomac2" descr=""/>
          <p:cNvPicPr/>
          <p:nvPr/>
        </p:nvPicPr>
        <p:blipFill>
          <a:blip r:embed="rId3"/>
          <a:srcRect l="-1884" t="-2842" r="33963" b="0"/>
          <a:stretch/>
        </p:blipFill>
        <p:spPr>
          <a:xfrm>
            <a:off x="1905120" y="4071960"/>
            <a:ext cx="228600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2895480" y="4191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sto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39000" y="1647720"/>
            <a:ext cx="579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L ’acide chlorhydriqu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HCl, sécrété par les cell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de l ’estomac est très 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(pH d ’environ 0.8 , soit u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concentration d ’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fr-CA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4 million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fois plus gran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fr-CA" sz="3200" spc="-1" strike="noStrike">
                <a:solidFill>
                  <a:srgbClr val="000000"/>
                </a:solidFill>
                <a:latin typeface="Tahoma"/>
              </a:rPr>
              <a:t>que celle du sa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20" y="63244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6172200"/>
            <a:ext cx="2209680" cy="685800"/>
          </a:xfrm>
          <a:custGeom>
            <a:avLst/>
            <a:gdLst>
              <a:gd name="textAreaLeft" fmla="*/ 44280 w 2209680"/>
              <a:gd name="textAreaRight" fmla="*/ 2165400 w 2209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8171" y="1400"/>
                </a:lnTo>
                <a:lnTo>
                  <a:pt x="1400" y="14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8171" y="20200"/>
                </a:lnTo>
                <a:lnTo>
                  <a:pt x="68171" y="14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71" y="202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5715000"/>
            <a:ext cx="2286000" cy="838080"/>
          </a:xfrm>
          <a:prstGeom prst="rightArrow">
            <a:avLst>
              <a:gd name="adj1" fmla="val 50000"/>
              <a:gd name="adj2" fmla="val 6819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estomac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90052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2" name="estomac2" descr=""/>
          <p:cNvPicPr/>
          <p:nvPr/>
        </p:nvPicPr>
        <p:blipFill>
          <a:blip r:embed="rId3"/>
          <a:srcRect l="-1884" t="-2842" r="33963" b="0"/>
          <a:stretch/>
        </p:blipFill>
        <p:spPr>
          <a:xfrm>
            <a:off x="1828800" y="4071960"/>
            <a:ext cx="228600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239640" y="1600200"/>
            <a:ext cx="59065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L ’ulcère et l ’indigesti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sont des maux qui peu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être causés par l ’acidité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En diminuant la quantit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d ’acide chlorhydrique da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l ’estomac, les antiaci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permettent de remédier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en partie seulement 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CA" sz="3000" spc="-1" strike="noStrike">
                <a:solidFill>
                  <a:srgbClr val="000000"/>
                </a:solidFill>
                <a:latin typeface="Tahoma"/>
              </a:rPr>
              <a:t>la baisse de p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696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324480"/>
            <a:ext cx="2362320" cy="53352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5591" h="21600">
                <a:moveTo>
                  <a:pt x="0" y="0"/>
                </a:moveTo>
                <a:lnTo>
                  <a:pt x="95591" y="0"/>
                </a:lnTo>
                <a:lnTo>
                  <a:pt x="95591" y="21600"/>
                </a:lnTo>
                <a:lnTo>
                  <a:pt x="0" y="21600"/>
                </a:lnTo>
                <a:close/>
              </a:path>
              <a:path fill="lightenLess" w="95591" h="21600">
                <a:moveTo>
                  <a:pt x="0" y="0"/>
                </a:moveTo>
                <a:lnTo>
                  <a:pt x="95591" y="0"/>
                </a:lnTo>
                <a:lnTo>
                  <a:pt x="94191" y="1400"/>
                </a:lnTo>
                <a:lnTo>
                  <a:pt x="1400" y="1400"/>
                </a:lnTo>
                <a:close/>
              </a:path>
              <a:path fill="darken" w="95591" h="21600">
                <a:moveTo>
                  <a:pt x="95591" y="0"/>
                </a:moveTo>
                <a:lnTo>
                  <a:pt x="95591" y="21600"/>
                </a:lnTo>
                <a:lnTo>
                  <a:pt x="94191" y="20200"/>
                </a:lnTo>
                <a:lnTo>
                  <a:pt x="94191" y="1400"/>
                </a:lnTo>
                <a:close/>
              </a:path>
              <a:path fill="darkenLess" w="95591" h="21600">
                <a:moveTo>
                  <a:pt x="9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91" y="20200"/>
                </a:lnTo>
                <a:close/>
              </a:path>
              <a:path fill="lighten" w="9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5867280"/>
            <a:ext cx="2286000" cy="838440"/>
          </a:xfrm>
          <a:prstGeom prst="rightArrow">
            <a:avLst>
              <a:gd name="adj1" fmla="val 50000"/>
              <a:gd name="adj2" fmla="val 68162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oir prod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191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sto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3049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emples de produi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merciaux anti-acid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2021760" y="2262240"/>
            <a:ext cx="509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cc00ff"/>
                </a:solidFill>
                <a:latin typeface="Arial Black"/>
              </a:rPr>
              <a:t>Lait de magnésie (Philips</a:t>
            </a:r>
            <a:r>
              <a:rPr b="1" lang="fr-CA" sz="3400" spc="-1" strike="noStrike">
                <a:solidFill>
                  <a:srgbClr val="cc00ff"/>
                </a:solidFill>
                <a:latin typeface="Garamond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27600" y="304812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cc"/>
                </a:solidFill>
                <a:latin typeface="Arial Black"/>
              </a:rPr>
              <a:t>T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90320" y="30481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0000"/>
                </a:solidFill>
                <a:latin typeface="Arial Black"/>
              </a:rPr>
              <a:t>Di-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0880" y="49068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3300"/>
                </a:solidFill>
                <a:latin typeface="Arial Black"/>
              </a:rPr>
              <a:t>Alka-Selt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28520" y="422100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0066"/>
                </a:solidFill>
                <a:latin typeface="Arial Black"/>
              </a:rPr>
              <a:t>Pepto-Bis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7960" y="4221000"/>
            <a:ext cx="15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0080"/>
                </a:solidFill>
                <a:latin typeface="Arial Black"/>
              </a:rPr>
              <a:t>Rol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56800" y="3505320"/>
            <a:ext cx="20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6699"/>
                </a:solidFill>
                <a:latin typeface="Arial Black"/>
              </a:rPr>
              <a:t>Ampho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764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760" y="624852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etour à l ’estomac et les antia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248520"/>
            <a:ext cx="4572000" cy="609480"/>
          </a:xfrm>
          <a:custGeom>
            <a:avLst/>
            <a:gdLst>
              <a:gd name="textAreaLeft" fmla="*/ 39240 w 4572000"/>
              <a:gd name="textAreaRight" fmla="*/ 4532760 w 4572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61949" h="21600">
                <a:moveTo>
                  <a:pt x="0" y="0"/>
                </a:moveTo>
                <a:lnTo>
                  <a:pt x="161949" y="0"/>
                </a:lnTo>
                <a:lnTo>
                  <a:pt x="161949" y="21600"/>
                </a:lnTo>
                <a:lnTo>
                  <a:pt x="0" y="21600"/>
                </a:lnTo>
                <a:close/>
              </a:path>
              <a:path fill="lightenLess" w="161949" h="21600">
                <a:moveTo>
                  <a:pt x="0" y="0"/>
                </a:moveTo>
                <a:lnTo>
                  <a:pt x="161949" y="0"/>
                </a:lnTo>
                <a:lnTo>
                  <a:pt x="160549" y="1400"/>
                </a:lnTo>
                <a:lnTo>
                  <a:pt x="1400" y="1400"/>
                </a:lnTo>
                <a:close/>
              </a:path>
              <a:path fill="darken" w="161949" h="21600">
                <a:moveTo>
                  <a:pt x="161949" y="0"/>
                </a:moveTo>
                <a:lnTo>
                  <a:pt x="161949" y="21600"/>
                </a:lnTo>
                <a:lnTo>
                  <a:pt x="160549" y="20200"/>
                </a:lnTo>
                <a:lnTo>
                  <a:pt x="160549" y="1400"/>
                </a:lnTo>
                <a:close/>
              </a:path>
              <a:path fill="darkenLess" w="161949" h="21600">
                <a:moveTo>
                  <a:pt x="161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49" y="20200"/>
                </a:lnTo>
                <a:close/>
              </a:path>
              <a:path fill="lighten" w="161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6248520"/>
            <a:ext cx="2209680" cy="609480"/>
          </a:xfrm>
          <a:custGeom>
            <a:avLst/>
            <a:gdLst>
              <a:gd name="textAreaLeft" fmla="*/ 39240 w 2209680"/>
              <a:gd name="textAreaRight" fmla="*/ 2170440 w 2209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8278" h="21600">
                <a:moveTo>
                  <a:pt x="0" y="0"/>
                </a:moveTo>
                <a:lnTo>
                  <a:pt x="78278" y="0"/>
                </a:lnTo>
                <a:lnTo>
                  <a:pt x="78278" y="21600"/>
                </a:lnTo>
                <a:lnTo>
                  <a:pt x="0" y="21600"/>
                </a:lnTo>
                <a:close/>
              </a:path>
              <a:path fill="lightenLess" w="78278" h="21600">
                <a:moveTo>
                  <a:pt x="0" y="0"/>
                </a:moveTo>
                <a:lnTo>
                  <a:pt x="78278" y="0"/>
                </a:lnTo>
                <a:lnTo>
                  <a:pt x="76878" y="1400"/>
                </a:lnTo>
                <a:lnTo>
                  <a:pt x="1400" y="1400"/>
                </a:lnTo>
                <a:close/>
              </a:path>
              <a:path fill="darken" w="78278" h="21600">
                <a:moveTo>
                  <a:pt x="78278" y="0"/>
                </a:moveTo>
                <a:lnTo>
                  <a:pt x="78278" y="21600"/>
                </a:lnTo>
                <a:lnTo>
                  <a:pt x="76878" y="20200"/>
                </a:lnTo>
                <a:lnTo>
                  <a:pt x="76878" y="1400"/>
                </a:lnTo>
                <a:close/>
              </a:path>
              <a:path fill="darkenLess" w="78278" h="21600">
                <a:moveTo>
                  <a:pt x="7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8" y="20200"/>
                </a:lnTo>
                <a:close/>
              </a:path>
              <a:path fill="lighten" w="7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95600" y="304920"/>
            <a:ext cx="584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33520"/>
            <a:ext cx="9144000" cy="6019560"/>
          </a:xfrm>
          <a:prstGeom prst="irregularSeal1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1295280"/>
            <a:ext cx="6248160" cy="4191120"/>
          </a:xfrm>
          <a:prstGeom prst="irregularSeal1">
            <a:avLst/>
          </a:prstGeom>
          <a:solidFill>
            <a:srgbClr val="f34f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2362320"/>
            <a:ext cx="3429000" cy="1981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371600"/>
            <a:ext cx="175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iv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523880"/>
            <a:ext cx="74674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- Bachand, Luc, Guy Petit et Philippe Vanier, </a:t>
            </a: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Chimie 534,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Montréal, Éd. Lidec inc., 1996. 444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chitecture"/>
              </a:rPr>
              <a:t>- Bernache-Assollant, Didier et Michel Cournil,</a:t>
            </a:r>
            <a:r>
              <a:rPr b="1" i="1" lang="fr-CA" sz="1800" spc="-1" strike="noStrike">
                <a:solidFill>
                  <a:srgbClr val="000000"/>
                </a:solidFill>
                <a:latin typeface="Architecture"/>
              </a:rPr>
              <a:t> Équi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chitecture"/>
              </a:rPr>
              <a:t> </a:t>
            </a:r>
            <a:r>
              <a:rPr b="1" i="1" lang="fr-CA" sz="1800" spc="-1" strike="noStrike">
                <a:solidFill>
                  <a:srgbClr val="000000"/>
                </a:solidFill>
                <a:latin typeface="Architecture"/>
              </a:rPr>
              <a:t>en solution</a:t>
            </a:r>
            <a:r>
              <a:rPr b="1" lang="fr-CA" sz="1800" spc="-1" strike="noStrike">
                <a:solidFill>
                  <a:srgbClr val="000000"/>
                </a:solidFill>
                <a:latin typeface="Architecture"/>
              </a:rPr>
              <a:t> </a:t>
            </a:r>
            <a:r>
              <a:rPr b="1" i="1" lang="fr-CA" sz="1800" spc="-1" strike="noStrike">
                <a:solidFill>
                  <a:srgbClr val="000000"/>
                </a:solidFill>
                <a:latin typeface="Architecture"/>
              </a:rPr>
              <a:t>(Thermodynamique et méthodes de calcul)</a:t>
            </a:r>
            <a:r>
              <a:rPr b="1" lang="fr-CA" sz="1800" spc="-1" strike="noStrike">
                <a:solidFill>
                  <a:srgbClr val="000000"/>
                </a:solidFill>
                <a:latin typeface="Architecture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chitecture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Architecture"/>
              </a:rPr>
              <a:t>Paris, Masson, 1997. 288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O’Connor, Paul R., Joseph E. Davis Jr., Edward L. Haenis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W. Keith MacNab et A.L. McClellan. </a:t>
            </a:r>
            <a:r>
              <a:rPr b="1" i="1" lang="en-US" sz="1800" spc="-1" strike="noStrike">
                <a:solidFill>
                  <a:srgbClr val="000000"/>
                </a:solidFill>
                <a:latin typeface="Architecture"/>
              </a:rPr>
              <a:t>La Chim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chitecture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chitecture"/>
              </a:rPr>
              <a:t>Expériences et principes</a:t>
            </a: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.  Montréal,Centre Éducati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chitecture"/>
              </a:rPr>
              <a:t>et Culturel inc., 1974, 464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695600" y="304920"/>
            <a:ext cx="584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7869240" y="6248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533520"/>
            <a:ext cx="9144000" cy="6019560"/>
          </a:xfrm>
          <a:prstGeom prst="irregularSeal1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1295280"/>
            <a:ext cx="6248160" cy="4191120"/>
          </a:xfrm>
          <a:prstGeom prst="irregularSeal1">
            <a:avLst/>
          </a:prstGeom>
          <a:solidFill>
            <a:srgbClr val="f34f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95480" y="2362320"/>
            <a:ext cx="3429000" cy="1981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1600200"/>
            <a:ext cx="1752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ern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682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Vigipro. (Page consultée le 14 avril 2000). </a:t>
            </a: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Réseau chimi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, [En ligne]. Adresse URL: http://www.chimi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endshow"/>
          </p:cNvPr>
          <p:cNvSpPr/>
          <p:nvPr/>
        </p:nvSpPr>
        <p:spPr>
          <a:xfrm>
            <a:off x="7848720" y="61722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62120" y="457200"/>
            <a:ext cx="76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vant de commence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3880"/>
            <a:ext cx="6591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 Rounded MT Bold"/>
              </a:rPr>
              <a:t>Prendre  connaissance que tous 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 Rounded MT Bold"/>
              </a:rPr>
              <a:t>caractè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 Rounded MT Bold"/>
              </a:rPr>
              <a:t>en </a:t>
            </a:r>
            <a:r>
              <a:rPr b="1" lang="fr-FR" sz="4400" spc="-1" strike="noStrike" u="sng">
                <a:solidFill>
                  <a:srgbClr val="009900"/>
                </a:solidFill>
                <a:uFillTx/>
                <a:latin typeface="Arial Rounded MT Bold"/>
              </a:rPr>
              <a:t>V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 Rounded MT Bold"/>
              </a:rPr>
              <a:t>(flèches et mo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 Rounded MT Bold"/>
              </a:rPr>
              <a:t>peu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 Rounded MT Bold"/>
              </a:rPr>
              <a:t>être sélectionn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4495680" cy="1682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267080" y="4724280"/>
            <a:ext cx="434340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enç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6705360" y="5638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liquer 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343400" y="3505320"/>
            <a:ext cx="4800600" cy="2743200"/>
          </a:xfrm>
          <a:custGeom>
            <a:avLst/>
            <a:gdLst>
              <a:gd name="textAreaLeft" fmla="*/ 177480 w 4800600"/>
              <a:gd name="textAreaRight" fmla="*/ 4623120 w 4800600"/>
              <a:gd name="textAreaTop" fmla="*/ 177480 h 2743200"/>
              <a:gd name="textAreaBottom" fmla="*/ 2565720 h 2743200"/>
            </a:gdLst>
            <a:ahLst/>
            <a:rect l="textAreaLeft" t="textAreaTop" r="textAreaRight" b="textAreaBottom"/>
            <a:pathLst>
              <a:path w="37798" h="21600">
                <a:moveTo>
                  <a:pt x="0" y="0"/>
                </a:moveTo>
                <a:lnTo>
                  <a:pt x="37798" y="0"/>
                </a:lnTo>
                <a:lnTo>
                  <a:pt x="37798" y="21600"/>
                </a:lnTo>
                <a:lnTo>
                  <a:pt x="0" y="21600"/>
                </a:lnTo>
                <a:close/>
              </a:path>
              <a:path fill="lightenLess" w="37798" h="21600">
                <a:moveTo>
                  <a:pt x="0" y="0"/>
                </a:moveTo>
                <a:lnTo>
                  <a:pt x="37798" y="0"/>
                </a:lnTo>
                <a:lnTo>
                  <a:pt x="36398" y="1400"/>
                </a:lnTo>
                <a:lnTo>
                  <a:pt x="1400" y="1400"/>
                </a:lnTo>
                <a:close/>
              </a:path>
              <a:path fill="darken" w="37798" h="21600">
                <a:moveTo>
                  <a:pt x="37798" y="0"/>
                </a:moveTo>
                <a:lnTo>
                  <a:pt x="37798" y="21600"/>
                </a:lnTo>
                <a:lnTo>
                  <a:pt x="36398" y="20200"/>
                </a:lnTo>
                <a:lnTo>
                  <a:pt x="36398" y="1400"/>
                </a:lnTo>
                <a:close/>
              </a:path>
              <a:path fill="darkenLess" w="37798" h="21600">
                <a:moveTo>
                  <a:pt x="37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8" y="20200"/>
                </a:lnTo>
                <a:close/>
              </a:path>
              <a:path fill="lighten" w="37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90920" y="380880"/>
            <a:ext cx="3962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nu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04920" y="188928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04920" y="289548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304920" y="403848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525780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8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hénomène d’ion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77724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Verdana"/>
              </a:rPr>
              <a:t>Démonstration expérimenta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Verdana"/>
              </a:rPr>
              <a:t>de la neutralis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77640" y="541008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L’estomac et les antia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480" y="181296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Glossaire : Types d ’a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6477120"/>
            <a:ext cx="39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liquer sur l’étoile pour sélectio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248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5880"/>
            <a:ext cx="1905120" cy="762120"/>
          </a:xfrm>
          <a:custGeom>
            <a:avLst/>
            <a:gdLst>
              <a:gd name="textAreaLeft" fmla="*/ 49320 w 1905120"/>
              <a:gd name="textAreaRight" fmla="*/ 1855800 w 1905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3980" h="21600">
                <a:moveTo>
                  <a:pt x="0" y="0"/>
                </a:moveTo>
                <a:lnTo>
                  <a:pt x="53980" y="0"/>
                </a:lnTo>
                <a:lnTo>
                  <a:pt x="53980" y="21600"/>
                </a:lnTo>
                <a:lnTo>
                  <a:pt x="0" y="21600"/>
                </a:lnTo>
                <a:close/>
              </a:path>
              <a:path fill="lightenLess" w="53980" h="21600">
                <a:moveTo>
                  <a:pt x="0" y="0"/>
                </a:moveTo>
                <a:lnTo>
                  <a:pt x="53980" y="0"/>
                </a:lnTo>
                <a:lnTo>
                  <a:pt x="52580" y="1400"/>
                </a:lnTo>
                <a:lnTo>
                  <a:pt x="1400" y="1400"/>
                </a:lnTo>
                <a:close/>
              </a:path>
              <a:path fill="darken" w="53980" h="21600">
                <a:moveTo>
                  <a:pt x="53980" y="0"/>
                </a:moveTo>
                <a:lnTo>
                  <a:pt x="53980" y="21600"/>
                </a:lnTo>
                <a:lnTo>
                  <a:pt x="52580" y="20200"/>
                </a:lnTo>
                <a:lnTo>
                  <a:pt x="52580" y="1400"/>
                </a:lnTo>
                <a:close/>
              </a:path>
              <a:path fill="darkenLess" w="53980" h="21600">
                <a:moveTo>
                  <a:pt x="5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0" y="20200"/>
                </a:lnTo>
                <a:close/>
              </a:path>
              <a:path fill="lighten" w="5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819520" y="45720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lossaire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478880" y="274320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noa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080" y="369576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olya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2280" y="461016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cides f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4800" y="5524560"/>
            <a:ext cx="32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cides fa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03360" y="457200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603360" y="548640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603360" y="274320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603360" y="3695760"/>
            <a:ext cx="609480" cy="685800"/>
          </a:xfrm>
          <a:custGeom>
            <a:avLst/>
            <a:gdLst>
              <a:gd name="textAreaLeft" fmla="*/ 250920 w 609480"/>
              <a:gd name="textAreaRight" fmla="*/ 358560 w 60948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960" y="63244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3320" y="6400800"/>
            <a:ext cx="39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liquer sur l’étoile pour sélectio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47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 Rounded MT Bold"/>
              </a:rPr>
              <a:t>Les acides peuvent être classés selon le nombre de protons libérés par molécule lors d’une ré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33720" y="4572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 Monoacides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Les acides qui ne contien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3200" spc="-1" strike="noStrike" u="sng">
                <a:solidFill>
                  <a:srgbClr val="ff00ff"/>
                </a:solidFill>
                <a:uFillTx/>
                <a:latin typeface="Arial Rounded MT Bold"/>
              </a:rPr>
              <a:t>qu’un seul proton par molécule</a:t>
            </a: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pouvant être ionis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se nomment les </a:t>
            </a:r>
            <a:r>
              <a:rPr b="1" lang="fr-FR" sz="3200" spc="-1" strike="noStrike">
                <a:solidFill>
                  <a:srgbClr val="0066ff"/>
                </a:solidFill>
                <a:latin typeface="Arial Rounded MT Bold"/>
              </a:rPr>
              <a:t>monoa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5410080" y="514656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3640" y="51195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Exe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232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6705720" y="609588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6248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609588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76520" y="498600"/>
            <a:ext cx="5664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Rounded MT Bold"/>
              </a:rPr>
              <a:t>Exemples de monoacides</a:t>
            </a:r>
            <a:endParaRPr b="0" lang="en-US" sz="24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113" name=""/>
          <p:cNvSpPr/>
          <p:nvPr/>
        </p:nvSpPr>
        <p:spPr>
          <a:xfrm>
            <a:off x="2727360" y="156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7720" y="2286000"/>
            <a:ext cx="11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Cl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080" y="228600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Cl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09400" y="345924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NO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23960" y="3459240"/>
            <a:ext cx="24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NO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6880" y="22240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46880" y="33670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2096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3670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43828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472428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58128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200" y="4602240"/>
            <a:ext cx="34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CH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COOH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3640" y="4602240"/>
            <a:ext cx="33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CH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COO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956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37440" y="44956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1640" y="6248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320" y="62485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x monoa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6095880"/>
            <a:ext cx="3200400" cy="685800"/>
          </a:xfrm>
          <a:custGeom>
            <a:avLst/>
            <a:gdLst>
              <a:gd name="textAreaLeft" fmla="*/ 44280 w 3200400"/>
              <a:gd name="textAreaRight" fmla="*/ 3156120 w 3200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0758" h="21600">
                <a:moveTo>
                  <a:pt x="0" y="0"/>
                </a:moveTo>
                <a:lnTo>
                  <a:pt x="100758" y="0"/>
                </a:lnTo>
                <a:lnTo>
                  <a:pt x="100758" y="21600"/>
                </a:lnTo>
                <a:lnTo>
                  <a:pt x="0" y="21600"/>
                </a:lnTo>
                <a:close/>
              </a:path>
              <a:path fill="lightenLess" w="100758" h="21600">
                <a:moveTo>
                  <a:pt x="0" y="0"/>
                </a:moveTo>
                <a:lnTo>
                  <a:pt x="100758" y="0"/>
                </a:lnTo>
                <a:lnTo>
                  <a:pt x="99359" y="1400"/>
                </a:lnTo>
                <a:lnTo>
                  <a:pt x="1400" y="1400"/>
                </a:lnTo>
                <a:close/>
              </a:path>
              <a:path fill="darken" w="100758" h="21600">
                <a:moveTo>
                  <a:pt x="100758" y="0"/>
                </a:moveTo>
                <a:lnTo>
                  <a:pt x="100758" y="21600"/>
                </a:lnTo>
                <a:lnTo>
                  <a:pt x="99359" y="20200"/>
                </a:lnTo>
                <a:lnTo>
                  <a:pt x="99359" y="1400"/>
                </a:lnTo>
                <a:close/>
              </a:path>
              <a:path fill="darkenLess" w="100758" h="21600">
                <a:moveTo>
                  <a:pt x="10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59" y="20200"/>
                </a:lnTo>
                <a:close/>
              </a:path>
              <a:path fill="lighten" w="10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6400800" y="617220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33720" y="45720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 Polyacides</a:t>
            </a:r>
            <a:endParaRPr b="0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Les acides qui peuvent libérer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ff"/>
                </a:solidFill>
                <a:uFillTx/>
                <a:latin typeface="Arial Rounded MT Bold"/>
              </a:rPr>
              <a:t>d’un proton par molécule</a:t>
            </a: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s’appellent les </a:t>
            </a:r>
            <a:r>
              <a:rPr b="1" lang="fr-FR" sz="3200" spc="-1" strike="noStrike">
                <a:solidFill>
                  <a:srgbClr val="0066ff"/>
                </a:solidFill>
                <a:latin typeface="Arial Rounded MT Bold"/>
              </a:rPr>
              <a:t>polyac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En se dissociant, de tels ac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libèrent généralement un proton à la fo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Il existe plusieurs polyacid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ff"/>
                </a:solidFill>
                <a:latin typeface="Arial Rounded MT Bold"/>
              </a:rPr>
              <a:t>diacides, triacides</a:t>
            </a:r>
            <a:r>
              <a:rPr b="1" lang="fr-FR" sz="3200" spc="-1" strike="noStrike">
                <a:solidFill>
                  <a:srgbClr val="000000"/>
                </a:solidFill>
                <a:latin typeface="Arial Rounded MT Bold"/>
              </a:rPr>
              <a:t>,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410080" y="537516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3640" y="53481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Rounded MT Bold"/>
              </a:rPr>
              <a:t>Exe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840" y="6248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7640" y="62485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0" y="6095880"/>
            <a:ext cx="2743200" cy="685800"/>
          </a:xfrm>
          <a:custGeom>
            <a:avLst/>
            <a:gdLst>
              <a:gd name="textAreaLeft" fmla="*/ 44280 w 2743200"/>
              <a:gd name="textAreaRight" fmla="*/ 2698920 w 2743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6366" h="21600">
                <a:moveTo>
                  <a:pt x="0" y="0"/>
                </a:moveTo>
                <a:lnTo>
                  <a:pt x="86366" y="0"/>
                </a:lnTo>
                <a:lnTo>
                  <a:pt x="86366" y="21600"/>
                </a:lnTo>
                <a:lnTo>
                  <a:pt x="0" y="21600"/>
                </a:lnTo>
                <a:close/>
              </a:path>
              <a:path fill="lightenLess" w="86366" h="21600">
                <a:moveTo>
                  <a:pt x="0" y="0"/>
                </a:moveTo>
                <a:lnTo>
                  <a:pt x="86366" y="0"/>
                </a:lnTo>
                <a:lnTo>
                  <a:pt x="84966" y="1400"/>
                </a:lnTo>
                <a:lnTo>
                  <a:pt x="1400" y="1400"/>
                </a:lnTo>
                <a:close/>
              </a:path>
              <a:path fill="darken" w="86366" h="21600">
                <a:moveTo>
                  <a:pt x="86366" y="0"/>
                </a:moveTo>
                <a:lnTo>
                  <a:pt x="86366" y="21600"/>
                </a:lnTo>
                <a:lnTo>
                  <a:pt x="84966" y="20200"/>
                </a:lnTo>
                <a:lnTo>
                  <a:pt x="84966" y="1400"/>
                </a:lnTo>
                <a:close/>
              </a:path>
              <a:path fill="darkenLess" w="86366" h="21600">
                <a:moveTo>
                  <a:pt x="86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6" y="20200"/>
                </a:lnTo>
                <a:close/>
              </a:path>
              <a:path fill="lighten" w="86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6858000" y="6248520"/>
            <a:ext cx="2286000" cy="457200"/>
          </a:xfrm>
          <a:custGeom>
            <a:avLst/>
            <a:gdLst>
              <a:gd name="textAreaLeft" fmla="*/ 29520 w 2286000"/>
              <a:gd name="textAreaRight" fmla="*/ 2256480 w 2286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7932" h="21600">
                <a:moveTo>
                  <a:pt x="0" y="0"/>
                </a:moveTo>
                <a:lnTo>
                  <a:pt x="107932" y="0"/>
                </a:lnTo>
                <a:lnTo>
                  <a:pt x="107932" y="21600"/>
                </a:lnTo>
                <a:lnTo>
                  <a:pt x="0" y="21600"/>
                </a:lnTo>
                <a:close/>
              </a:path>
              <a:path fill="lightenLess" w="107932" h="21600">
                <a:moveTo>
                  <a:pt x="0" y="0"/>
                </a:moveTo>
                <a:lnTo>
                  <a:pt x="107932" y="0"/>
                </a:lnTo>
                <a:lnTo>
                  <a:pt x="106532" y="1400"/>
                </a:lnTo>
                <a:lnTo>
                  <a:pt x="1400" y="1400"/>
                </a:lnTo>
                <a:close/>
              </a:path>
              <a:path fill="darken" w="107932" h="21600">
                <a:moveTo>
                  <a:pt x="107932" y="0"/>
                </a:moveTo>
                <a:lnTo>
                  <a:pt x="107932" y="21600"/>
                </a:lnTo>
                <a:lnTo>
                  <a:pt x="106532" y="20200"/>
                </a:lnTo>
                <a:lnTo>
                  <a:pt x="106532" y="1400"/>
                </a:lnTo>
                <a:close/>
              </a:path>
              <a:path fill="darkenLess" w="107932" h="21600">
                <a:moveTo>
                  <a:pt x="107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2" y="20200"/>
                </a:lnTo>
                <a:close/>
              </a:path>
              <a:path fill="lighten" w="107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676520" y="498600"/>
            <a:ext cx="5664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Rounded MT Bold"/>
              </a:rPr>
              <a:t>Exemples de polyacides</a:t>
            </a:r>
            <a:endParaRPr b="0" lang="en-US" sz="24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25432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71952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94440" y="21636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HSO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4(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46880" y="21016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21016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3597120"/>
            <a:ext cx="30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(aq)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 + SO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4(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18480" y="350532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50532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5320" y="210168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SO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3680" y="3597120"/>
            <a:ext cx="15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Rounded MT Bold"/>
              </a:rPr>
              <a:t>HSO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fr-FR" sz="12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0" lang="fr-FR" sz="1600" spc="-1" strike="noStrike">
                <a:solidFill>
                  <a:srgbClr val="000000"/>
                </a:solidFill>
                <a:latin typeface="Arial Rounded MT Bold"/>
              </a:rPr>
              <a:t>a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50532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6120" y="4572000"/>
            <a:ext cx="82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L’Acide sulfurique, </a:t>
            </a:r>
            <a:r>
              <a:rPr b="1" lang="fr-FR" sz="2800" spc="-1" strike="noStrike">
                <a:solidFill>
                  <a:srgbClr val="0066ff"/>
                </a:solidFill>
                <a:latin typeface="Bookman Old Style"/>
              </a:rPr>
              <a:t>H</a:t>
            </a:r>
            <a:r>
              <a:rPr b="1" lang="fr-FR" sz="1800" spc="-1" strike="noStrike">
                <a:solidFill>
                  <a:srgbClr val="0066ff"/>
                </a:solidFill>
                <a:latin typeface="Bookman Old Style"/>
              </a:rPr>
              <a:t>2</a:t>
            </a:r>
            <a:r>
              <a:rPr b="1" lang="fr-FR" sz="2800" spc="-1" strike="noStrike">
                <a:solidFill>
                  <a:srgbClr val="0066ff"/>
                </a:solidFill>
                <a:latin typeface="Bookman Old Style"/>
              </a:rPr>
              <a:t>SO</a:t>
            </a:r>
            <a:r>
              <a:rPr b="1" lang="fr-FR" sz="1800" spc="-1" strike="noStrike">
                <a:solidFill>
                  <a:srgbClr val="0066ff"/>
                </a:solidFill>
                <a:latin typeface="Bookman Old Style"/>
              </a:rPr>
              <a:t>4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qui est un exemple d’un diacide, subit 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00ff"/>
                </a:solidFill>
                <a:uFillTx/>
                <a:latin typeface="Bookman Old Style"/>
              </a:rPr>
              <a:t>ionisation en deux ét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6800" y="21337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Rounded MT Bold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6800" y="36576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Rounded MT Bold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627552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x polya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5680" y="6275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tour au 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0" y="617220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5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5" y="20200"/>
                </a:lnTo>
                <a:lnTo>
                  <a:pt x="106575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5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400800" y="6248520"/>
            <a:ext cx="2743200" cy="609480"/>
          </a:xfrm>
          <a:custGeom>
            <a:avLst/>
            <a:gdLst>
              <a:gd name="textAreaLeft" fmla="*/ 39240 w 2743200"/>
              <a:gd name="textAreaRight" fmla="*/ 2703960 w 2743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7174" h="21600">
                <a:moveTo>
                  <a:pt x="0" y="0"/>
                </a:moveTo>
                <a:lnTo>
                  <a:pt x="97174" y="0"/>
                </a:lnTo>
                <a:lnTo>
                  <a:pt x="97174" y="21600"/>
                </a:lnTo>
                <a:lnTo>
                  <a:pt x="0" y="21600"/>
                </a:lnTo>
                <a:close/>
              </a:path>
              <a:path fill="lightenLess" w="97174" h="21600">
                <a:moveTo>
                  <a:pt x="0" y="0"/>
                </a:moveTo>
                <a:lnTo>
                  <a:pt x="97174" y="0"/>
                </a:lnTo>
                <a:lnTo>
                  <a:pt x="95775" y="1400"/>
                </a:lnTo>
                <a:lnTo>
                  <a:pt x="1400" y="1400"/>
                </a:lnTo>
                <a:close/>
              </a:path>
              <a:path fill="darken" w="97174" h="21600">
                <a:moveTo>
                  <a:pt x="97174" y="0"/>
                </a:moveTo>
                <a:lnTo>
                  <a:pt x="97174" y="21600"/>
                </a:lnTo>
                <a:lnTo>
                  <a:pt x="95775" y="20200"/>
                </a:lnTo>
                <a:lnTo>
                  <a:pt x="95775" y="1400"/>
                </a:lnTo>
                <a:close/>
              </a:path>
              <a:path fill="darkenLess" w="97174" h="21600">
                <a:moveTo>
                  <a:pt x="97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5" y="20200"/>
                </a:lnTo>
                <a:close/>
              </a:path>
              <a:path fill="lighten" w="97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11:33:48Z</dcterms:created>
  <dc:creator>La Dauversière</dc:creator>
  <dc:description/>
  <dc:language>en-US</dc:language>
  <cp:lastModifiedBy>A. Bensaada</cp:lastModifiedBy>
  <dcterms:modified xsi:type="dcterms:W3CDTF">2000-09-25T05:34:53Z</dcterms:modified>
  <cp:revision>111</cp:revision>
  <dc:subject/>
  <dc:title>Aucun titre de diapositive</dc:title>
</cp:coreProperties>
</file>