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ets093.wav" ContentType="audio/x-wav"/>
  <Override PartName="/ppt/media/image1.wmf" ContentType="image/x-wmf"/>
  <Override PartName="/ppt/media/jets002.wav" ContentType="audio/x-wav"/>
  <Override PartName="/ppt/media/image11.wmf" ContentType="image/x-wmf"/>
  <Override PartName="/ppt/media/image7.png" ContentType="image/png"/>
  <Override PartName="/ppt/media/jets090.wav" ContentType="audio/x-wav"/>
  <Override PartName="/ppt/media/jets016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CF9-ECA9-4F55-8030-325CF030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1E4-9296-43C7-BC40-AE83A2D0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3DD-9687-403E-963A-F5FF0DEF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2CB-D6C7-4EFC-8971-041A7DFE1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4DD2-1B2F-4A2D-AE66-00EE1E24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69D9-1F16-485F-B15B-86A890BA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F3AF-6A3A-4F41-9B78-C8087AF6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C58E-2AC7-4AC4-A935-900736EF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3123-A899-4D6C-B4A6-CCD5F29E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E03E-1BD8-4433-8E36-EA601A85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16EE-06ED-4FE2-816A-CDB9E9F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CBE-B04E-4B3B-9E52-E524272D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9A68-839E-4117-87F2-60DD62C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F0E6-9304-4EB3-BF4B-0504800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5D70-D148-46CE-BDAA-D3B92BED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6FFB-0EB2-4CC9-ADCB-B6821682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F15D-E97E-49C8-B55D-34A959CA5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A79-7244-4832-A71B-98839188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643-4066-410E-9874-384548EE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B25-87D3-4F2D-8522-A97F3950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638-0F09-4F50-BF16-8AF7CE2F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3C9-A262-42F2-8A55-076E003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AF2-F0FA-4D3D-A502-758A50ED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BE6-B4E2-488C-9290-3FCA7E0A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065-9350-427D-A782-1F250E9351F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AB3F-7850-4C3B-91F6-C49974A3DE2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hyperlink" Target="file:///tmp/home/.config/libreoffice/4/user/gallery/Appareil%20photo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Appareil%20photo" TargetMode="Externa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file:///tmp/home/.config/libreoffice/4/user/gallery/Appareil%20photo" TargetMode="Externa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ts016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" Target="slide18.xml"/><Relationship Id="rId6" Type="http://schemas.openxmlformats.org/officeDocument/2006/relationships/audio" Target="../media/jets016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jets016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hyperlink" Target="file:///tmp/home/.config/libreoffice/4/user/gallery/Appareil%20photo" TargetMode="External"/><Relationship Id="rId4" Type="http://schemas.openxmlformats.org/officeDocument/2006/relationships/slide" Target="slide5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ts090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file:///tmp/home/.config/libreoffice/4/user/gallery/Appareil%20photo" TargetMode="External"/><Relationship Id="rId3" Type="http://schemas.openxmlformats.org/officeDocument/2006/relationships/slide" Target="slide22.xml"/><Relationship Id="rId4" Type="http://schemas.openxmlformats.org/officeDocument/2006/relationships/slide" Target="slide26.xml"/><Relationship Id="rId5" Type="http://schemas.openxmlformats.org/officeDocument/2006/relationships/slide" Target="slide32.xml"/><Relationship Id="rId6" Type="http://schemas.openxmlformats.org/officeDocument/2006/relationships/slide" Target="slide22.xml"/><Relationship Id="rId7" Type="http://schemas.openxmlformats.org/officeDocument/2006/relationships/slide" Target="slide26.xml"/><Relationship Id="rId8" Type="http://schemas.openxmlformats.org/officeDocument/2006/relationships/slide" Target="slide32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audio" Target="../media/jets093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audio" Target="../media/jets093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hyperlink" Target="file:///tmp/home/.config/libreoffice/4/user/gallery/Appareil%20photo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Appareil%20photo" TargetMode="Externa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jets093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hyperlink" Target="file:///tmp/home/.config/libreoffice/4/user/gallery/Appareil%20photo" TargetMode="External"/><Relationship Id="rId4" Type="http://schemas.openxmlformats.org/officeDocument/2006/relationships/slide" Target="slide33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slide" Target="slide20.xml"/><Relationship Id="rId3" Type="http://schemas.openxmlformats.org/officeDocument/2006/relationships/audio" Target="../media/jets093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hyperlink" Target="file:///tmp/home/.config/libreoffice/4/user/gallery/Appareil%20photo" TargetMode="External"/><Relationship Id="rId3" Type="http://schemas.openxmlformats.org/officeDocument/2006/relationships/slide" Target="slide36.xml"/><Relationship Id="rId4" Type="http://schemas.openxmlformats.org/officeDocument/2006/relationships/slide" Target="slide5.xml"/><Relationship Id="rId5" Type="http://schemas.openxmlformats.org/officeDocument/2006/relationships/slide" Target="slide20.xml"/><Relationship Id="rId6" Type="http://schemas.openxmlformats.org/officeDocument/2006/relationships/slide" Target="slide35.xml"/><Relationship Id="rId7" Type="http://schemas.openxmlformats.org/officeDocument/2006/relationships/hyperlink" Target="file:///tmp/home/.config/libreoffice/4/user/gallery/Appareil%20photo" TargetMode="External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jets002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audio" Target="../media/jets002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hyperlink" Target="file:///tmp/home/.config/libreoffice/4/user/gallery/Appareil%20photo" TargetMode="External"/><Relationship Id="rId3" Type="http://schemas.openxmlformats.org/officeDocument/2006/relationships/hyperlink" Target="file:///tmp/home/.config/libreoffice/4/user/gallery/Appareil%20photo" TargetMode="External"/><Relationship Id="rId4" Type="http://schemas.openxmlformats.org/officeDocument/2006/relationships/audio" Target="../media/jets002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hyperlink" Target="file:///tmp/home/.config/libreoffice/4/user/gallery/Appareil%20photo" TargetMode="Externa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pareil%20photo" TargetMode="External"/><Relationship Id="rId2" Type="http://schemas.openxmlformats.org/officeDocument/2006/relationships/hyperlink" Target="file:///tmp/home/.config/libreoffice/4/user/gallery/Appareil%20photo" TargetMode="External"/><Relationship Id="rId3" Type="http://schemas.openxmlformats.org/officeDocument/2006/relationships/hyperlink" Target="file:///tmp/home/.config/libreoffice/4/user/gallery/Appareil%20photo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5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assage" TargetMode="External"/><Relationship Id="rId2" Type="http://schemas.openxmlformats.org/officeDocument/2006/relationships/audio" Target="../media/jets016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431640"/>
            <a:ext cx="7543800" cy="18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lleycat ICG"/>
              </a:rPr>
              <a:t>Les miroirs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lleycat ICG"/>
              <a:ea typeface="Alleycat ICG"/>
            </a:endParaRPr>
          </a:p>
        </p:txBody>
      </p:sp>
      <p:sp>
        <p:nvSpPr>
          <p:cNvPr id="88" name=""/>
          <p:cNvSpPr/>
          <p:nvPr/>
        </p:nvSpPr>
        <p:spPr>
          <a:xfrm>
            <a:off x="2643480" y="2818440"/>
            <a:ext cx="4206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ar Luana Piloso et Mayssa Sk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54040" y="3809160"/>
            <a:ext cx="480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90760" y="4785480"/>
            <a:ext cx="64929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Stéphane Lamarc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1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402000" y="5943600"/>
            <a:ext cx="2666880" cy="457200"/>
            <a:chOff x="3402000" y="5943600"/>
            <a:chExt cx="2666880" cy="457200"/>
          </a:xfrm>
        </p:grpSpPr>
        <p:sp>
          <p:nvSpPr>
            <p:cNvPr id="92" name="">
              <a:hlinkClick r:id="" action="ppaction://hlinkshowjump?jump=nextslide"/>
            </p:cNvPr>
            <p:cNvSpPr/>
            <p:nvPr/>
          </p:nvSpPr>
          <p:spPr>
            <a:xfrm>
              <a:off x="34020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8840" y="601884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toco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066680"/>
            <a:ext cx="91440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1- Placer l`objet devant le miroir à une distance quelconqu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2- Observer l `image formé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3-  Recommencer l `expérience en variant les distan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entre le miroir et l `obje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4- Observer et écrire les résulta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733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ésulta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4419720"/>
          <a:ext cx="4876920" cy="214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4876920" cy="214920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133720" y="4419720"/>
            <a:ext cx="0" cy="21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4419720"/>
            <a:ext cx="0" cy="21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09588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556272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02920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6172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99"/>
                </a:solidFill>
                <a:latin typeface="Times New Roman"/>
              </a:rPr>
              <a:t>Clique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Ét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toco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066680"/>
            <a:ext cx="91440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1- Placer l`objet devant le miroir à une distance quelconqu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2- Observer l `image formé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3-  Recommencer l `expérience en variant les distan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entre le miroir et l `obje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4- Observer et écrire les résulta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733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ésulta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4419720"/>
          <a:ext cx="4876920" cy="214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4876920" cy="214920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133720" y="4419720"/>
            <a:ext cx="0" cy="21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4419720"/>
            <a:ext cx="0" cy="21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09588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56272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02920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0" y="609588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Ét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toco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066680"/>
            <a:ext cx="91440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1- Placer l`objet devant le miroir à une distance quelconqu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2- Observer l `image formé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3-  Recommencer l `expérience en variant les distan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entre le miroir et l `obje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4- Observer et écrire les résulta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733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ésulta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685800" y="4419720"/>
            <a:ext cx="4876920" cy="2149200"/>
            <a:chOff x="685800" y="4419720"/>
            <a:chExt cx="4876920" cy="2149200"/>
          </a:xfrm>
        </p:grpSpPr>
        <p:graphicFrame>
          <p:nvGraphicFramePr>
            <p:cNvPr id="204" name=""/>
            <p:cNvGraphicFramePr/>
            <p:nvPr/>
          </p:nvGraphicFramePr>
          <p:xfrm>
            <a:off x="685800" y="4419720"/>
            <a:ext cx="4876920" cy="2149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4419720"/>
                      <a:ext cx="4876920" cy="214920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2133720" y="4419720"/>
              <a:ext cx="0" cy="21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6200" y="4419720"/>
              <a:ext cx="0" cy="21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6095880"/>
              <a:ext cx="487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5800" y="5562360"/>
              <a:ext cx="487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800" y="5028840"/>
              <a:ext cx="487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7696080" y="5334120"/>
          <a:ext cx="1020960" cy="10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5334120"/>
                    <a:ext cx="102096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>
            <a:hlinkClick r:id="" action="ppaction://hlinkshowjump?jump=nextslide"/>
            <a:hlinkClick r:id="rId5"/>
          </p:cNvPr>
          <p:cNvSpPr/>
          <p:nvPr/>
        </p:nvSpPr>
        <p:spPr>
          <a:xfrm>
            <a:off x="7620120" y="5257800"/>
            <a:ext cx="1218960" cy="129528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2952">
                <a:moveTo>
                  <a:pt x="0" y="0"/>
                </a:moveTo>
                <a:lnTo>
                  <a:pt x="21600" y="0"/>
                </a:lnTo>
                <a:lnTo>
                  <a:pt x="21600" y="22952"/>
                </a:lnTo>
                <a:lnTo>
                  <a:pt x="0" y="22952"/>
                </a:lnTo>
                <a:close/>
              </a:path>
              <a:path fill="lightenLess" w="21600" h="22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2">
                <a:moveTo>
                  <a:pt x="21600" y="0"/>
                </a:moveTo>
                <a:lnTo>
                  <a:pt x="21600" y="22952"/>
                </a:lnTo>
                <a:lnTo>
                  <a:pt x="20200" y="21552"/>
                </a:lnTo>
                <a:lnTo>
                  <a:pt x="20200" y="1400"/>
                </a:lnTo>
                <a:close/>
              </a:path>
              <a:path fill="darkenLess" w="21600" h="22952">
                <a:moveTo>
                  <a:pt x="21600" y="22952"/>
                </a:moveTo>
                <a:lnTo>
                  <a:pt x="0" y="22952"/>
                </a:lnTo>
                <a:lnTo>
                  <a:pt x="1400" y="21552"/>
                </a:lnTo>
                <a:lnTo>
                  <a:pt x="20200" y="21552"/>
                </a:lnTo>
                <a:close/>
              </a:path>
              <a:path fill="lighten" w="21600" h="22952">
                <a:moveTo>
                  <a:pt x="0" y="22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liquer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Ét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2438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Que concluez-vous à propos de la distance d ’une image formée par un miroir pl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654280" y="380880"/>
            <a:ext cx="353052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clusion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3733920"/>
            <a:ext cx="83822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00ff00"/>
                </a:solidFill>
                <a:latin typeface="Klang MT"/>
              </a:rPr>
              <a:t>On obtient la même distance.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5943600"/>
            <a:ext cx="2286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00"/>
                </a:solidFill>
                <a:latin typeface="Times New Roman"/>
              </a:rPr>
              <a:t>Les lois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81680" y="5943600"/>
            <a:ext cx="1828800" cy="685800"/>
          </a:xfrm>
          <a:custGeom>
            <a:avLst/>
            <a:gdLst>
              <a:gd name="textAreaLeft" fmla="*/ 44280 w 1828800"/>
              <a:gd name="textAreaRight" fmla="*/ 1784520 w 1828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7581" h="21600">
                <a:moveTo>
                  <a:pt x="0" y="0"/>
                </a:moveTo>
                <a:lnTo>
                  <a:pt x="57581" y="0"/>
                </a:lnTo>
                <a:lnTo>
                  <a:pt x="57581" y="21600"/>
                </a:lnTo>
                <a:lnTo>
                  <a:pt x="0" y="21600"/>
                </a:lnTo>
                <a:close/>
              </a:path>
              <a:path fill="lightenLess" w="57581" h="21600">
                <a:moveTo>
                  <a:pt x="0" y="0"/>
                </a:moveTo>
                <a:lnTo>
                  <a:pt x="57581" y="0"/>
                </a:lnTo>
                <a:lnTo>
                  <a:pt x="56181" y="1400"/>
                </a:lnTo>
                <a:lnTo>
                  <a:pt x="1400" y="1400"/>
                </a:lnTo>
                <a:close/>
              </a:path>
              <a:path fill="darken" w="57581" h="21600">
                <a:moveTo>
                  <a:pt x="57581" y="0"/>
                </a:moveTo>
                <a:lnTo>
                  <a:pt x="57581" y="21600"/>
                </a:lnTo>
                <a:lnTo>
                  <a:pt x="56181" y="20200"/>
                </a:lnTo>
                <a:lnTo>
                  <a:pt x="56181" y="1400"/>
                </a:lnTo>
                <a:close/>
              </a:path>
              <a:path fill="darkenLess" w="57581" h="21600">
                <a:moveTo>
                  <a:pt x="57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81" y="20200"/>
                </a:lnTo>
                <a:close/>
              </a:path>
              <a:path fill="lighten" w="57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Miroir pl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rId4" action="ppaction://hlinksldjump"/>
          </p:cNvPr>
          <p:cNvSpPr/>
          <p:nvPr/>
        </p:nvSpPr>
        <p:spPr>
          <a:xfrm>
            <a:off x="228600" y="5867280"/>
            <a:ext cx="2438280" cy="762120"/>
          </a:xfrm>
          <a:custGeom>
            <a:avLst/>
            <a:gdLst>
              <a:gd name="textAreaLeft" fmla="*/ 49320 w 2438280"/>
              <a:gd name="textAreaRight" fmla="*/ 2388960 w 2438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676520" y="762120"/>
            <a:ext cx="62863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es lois de la réflexion</a:t>
            </a:r>
            <a:endParaRPr b="0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666880"/>
            <a:ext cx="7772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fr-FR" sz="3200" spc="-1" strike="noStrike">
                <a:solidFill>
                  <a:srgbClr val="ffcc00"/>
                </a:solidFill>
                <a:latin typeface="Times New Roman"/>
              </a:rPr>
              <a:t>Le rayon incident, le rayon réfléchi et la   </a:t>
            </a:r>
            <a:r>
              <a:rPr b="0" lang="fr-FR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cc00"/>
                </a:solidFill>
                <a:latin typeface="Times New Roman"/>
              </a:rPr>
              <a:t>           normale sont dans un même plan de l ’esp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fr-FR" sz="3200" spc="-1" strike="noStrike">
                <a:solidFill>
                  <a:srgbClr val="ffcc00"/>
                </a:solidFill>
                <a:latin typeface="Times New Roman"/>
              </a:rPr>
              <a:t>L ’angle d ’incidence est égal à l ’angle de          réflex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26668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86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33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6095880"/>
            <a:ext cx="2362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00"/>
                </a:solidFill>
                <a:latin typeface="Times New Roman"/>
              </a:rPr>
              <a:t>Les rayon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6019920"/>
            <a:ext cx="266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00"/>
                </a:solidFill>
                <a:latin typeface="Times New Roman"/>
              </a:rPr>
              <a:t>Miroir plan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  <a:hlinkClick r:id="rId3"/>
          </p:cNvPr>
          <p:cNvSpPr/>
          <p:nvPr/>
        </p:nvSpPr>
        <p:spPr>
          <a:xfrm>
            <a:off x="6477120" y="6095880"/>
            <a:ext cx="2209680" cy="533520"/>
          </a:xfrm>
          <a:custGeom>
            <a:avLst/>
            <a:gdLst>
              <a:gd name="textAreaLeft" fmla="*/ 34560 w 2209680"/>
              <a:gd name="textAreaRight" fmla="*/ 2175120 w 2209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9415" h="21600">
                <a:moveTo>
                  <a:pt x="0" y="0"/>
                </a:moveTo>
                <a:lnTo>
                  <a:pt x="89415" y="0"/>
                </a:lnTo>
                <a:lnTo>
                  <a:pt x="89415" y="21600"/>
                </a:lnTo>
                <a:lnTo>
                  <a:pt x="0" y="21600"/>
                </a:lnTo>
                <a:close/>
              </a:path>
              <a:path fill="lightenLess" w="89415" h="21600">
                <a:moveTo>
                  <a:pt x="0" y="0"/>
                </a:moveTo>
                <a:lnTo>
                  <a:pt x="89415" y="0"/>
                </a:lnTo>
                <a:lnTo>
                  <a:pt x="88015" y="1400"/>
                </a:lnTo>
                <a:lnTo>
                  <a:pt x="1400" y="1400"/>
                </a:lnTo>
                <a:close/>
              </a:path>
              <a:path fill="darken" w="89415" h="21600">
                <a:moveTo>
                  <a:pt x="89415" y="0"/>
                </a:moveTo>
                <a:lnTo>
                  <a:pt x="89415" y="21600"/>
                </a:lnTo>
                <a:lnTo>
                  <a:pt x="88015" y="20200"/>
                </a:lnTo>
                <a:lnTo>
                  <a:pt x="88015" y="1400"/>
                </a:lnTo>
                <a:close/>
              </a:path>
              <a:path fill="darkenLess" w="89415" h="21600">
                <a:moveTo>
                  <a:pt x="89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15" y="20200"/>
                </a:lnTo>
                <a:close/>
              </a:path>
              <a:path fill="lighten" w="89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457200" y="6095880"/>
            <a:ext cx="2362320" cy="533520"/>
          </a:xfrm>
          <a:custGeom>
            <a:avLst/>
            <a:gdLst>
              <a:gd name="textAreaLeft" fmla="*/ 34560 w 2362320"/>
              <a:gd name="textAreaRight" fmla="*/ 2327760 w 2362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5591" h="21600">
                <a:moveTo>
                  <a:pt x="0" y="0"/>
                </a:moveTo>
                <a:lnTo>
                  <a:pt x="95591" y="0"/>
                </a:lnTo>
                <a:lnTo>
                  <a:pt x="95591" y="21600"/>
                </a:lnTo>
                <a:lnTo>
                  <a:pt x="0" y="21600"/>
                </a:lnTo>
                <a:close/>
              </a:path>
              <a:path fill="lightenLess" w="95591" h="21600">
                <a:moveTo>
                  <a:pt x="0" y="0"/>
                </a:moveTo>
                <a:lnTo>
                  <a:pt x="95591" y="0"/>
                </a:lnTo>
                <a:lnTo>
                  <a:pt x="94191" y="1400"/>
                </a:lnTo>
                <a:lnTo>
                  <a:pt x="1400" y="1400"/>
                </a:lnTo>
                <a:close/>
              </a:path>
              <a:path fill="darken" w="95591" h="21600">
                <a:moveTo>
                  <a:pt x="95591" y="0"/>
                </a:moveTo>
                <a:lnTo>
                  <a:pt x="95591" y="21600"/>
                </a:lnTo>
                <a:lnTo>
                  <a:pt x="94191" y="20200"/>
                </a:lnTo>
                <a:lnTo>
                  <a:pt x="94191" y="1400"/>
                </a:lnTo>
                <a:close/>
              </a:path>
              <a:path fill="darkenLess" w="95591" h="21600">
                <a:moveTo>
                  <a:pt x="9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91" y="20200"/>
                </a:lnTo>
                <a:close/>
              </a:path>
              <a:path fill="lighten" w="9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33400" y="1981080"/>
            <a:ext cx="5677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ayons lumineux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78080" y="2997360"/>
            <a:ext cx="63878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ns un miroir plan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476080" y="228600"/>
            <a:ext cx="305280" cy="2743200"/>
            <a:chOff x="2476080" y="228600"/>
            <a:chExt cx="305280" cy="2743200"/>
          </a:xfrm>
        </p:grpSpPr>
        <p:sp>
          <p:nvSpPr>
            <p:cNvPr id="234" name=""/>
            <p:cNvSpPr/>
            <p:nvPr/>
          </p:nvSpPr>
          <p:spPr>
            <a:xfrm>
              <a:off x="2781360" y="228600"/>
              <a:ext cx="0" cy="2743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2476080" y="2286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476080" y="4572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476080" y="6858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476080" y="9144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476080" y="11430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476080" y="13716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476080" y="16002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476080" y="18288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476080" y="20574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476080" y="22860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476080" y="251460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476080" y="2819520"/>
              <a:ext cx="304920" cy="1522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781360" y="1600200"/>
            <a:ext cx="24382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81360" y="762120"/>
            <a:ext cx="2133720" cy="838080"/>
            <a:chOff x="2781360" y="762120"/>
            <a:chExt cx="2133720" cy="838080"/>
          </a:xfrm>
        </p:grpSpPr>
        <p:sp>
          <p:nvSpPr>
            <p:cNvPr id="249" name=""/>
            <p:cNvSpPr/>
            <p:nvPr/>
          </p:nvSpPr>
          <p:spPr>
            <a:xfrm flipV="1">
              <a:off x="2781360" y="762120"/>
              <a:ext cx="2133720" cy="838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695760" y="1066680"/>
              <a:ext cx="76320" cy="1526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95760" y="1219320"/>
              <a:ext cx="228600" cy="75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381560" y="228600"/>
            <a:ext cx="3809880" cy="685800"/>
            <a:chOff x="4381560" y="228600"/>
            <a:chExt cx="3809880" cy="685800"/>
          </a:xfrm>
        </p:grpSpPr>
        <p:sp>
          <p:nvSpPr>
            <p:cNvPr id="253" name=""/>
            <p:cNvSpPr/>
            <p:nvPr/>
          </p:nvSpPr>
          <p:spPr>
            <a:xfrm>
              <a:off x="4381560" y="4572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81560" y="45720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24560" y="22860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imes New Roman"/>
                </a:rPr>
                <a:t>Rayon incid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381560" y="2209680"/>
            <a:ext cx="3505320" cy="764280"/>
            <a:chOff x="4381560" y="2209680"/>
            <a:chExt cx="3505320" cy="764280"/>
          </a:xfrm>
        </p:grpSpPr>
        <p:sp>
          <p:nvSpPr>
            <p:cNvPr id="257" name=""/>
            <p:cNvSpPr/>
            <p:nvPr/>
          </p:nvSpPr>
          <p:spPr>
            <a:xfrm>
              <a:off x="4381560" y="22096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81560" y="2743200"/>
              <a:ext cx="1523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5960" y="257508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imes New Roman"/>
                </a:rPr>
                <a:t>Rayon réfléch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47640" y="1295280"/>
            <a:ext cx="2210040" cy="703800"/>
            <a:chOff x="647640" y="1295280"/>
            <a:chExt cx="2210040" cy="703800"/>
          </a:xfrm>
        </p:grpSpPr>
        <p:sp>
          <p:nvSpPr>
            <p:cNvPr id="261" name=""/>
            <p:cNvSpPr/>
            <p:nvPr/>
          </p:nvSpPr>
          <p:spPr>
            <a:xfrm>
              <a:off x="2705040" y="1523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1866960" y="1600200"/>
              <a:ext cx="8380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640" y="1295280"/>
              <a:ext cx="152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imes New Roman"/>
                </a:rPr>
                <a:t>Point d ’inciden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067360" y="838080"/>
            <a:ext cx="3276720" cy="762120"/>
            <a:chOff x="5067360" y="838080"/>
            <a:chExt cx="3276720" cy="762120"/>
          </a:xfrm>
        </p:grpSpPr>
        <p:sp>
          <p:nvSpPr>
            <p:cNvPr id="265" name=""/>
            <p:cNvSpPr/>
            <p:nvPr/>
          </p:nvSpPr>
          <p:spPr>
            <a:xfrm>
              <a:off x="5067360" y="1066680"/>
              <a:ext cx="1600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58080" y="8380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Times New Roman"/>
                </a:rPr>
                <a:t>Norma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67360" y="106668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772080" y="1219320"/>
            <a:ext cx="4724280" cy="749160"/>
            <a:chOff x="3772080" y="1219320"/>
            <a:chExt cx="4724280" cy="749160"/>
          </a:xfrm>
        </p:grpSpPr>
        <p:sp>
          <p:nvSpPr>
            <p:cNvPr id="269" name=""/>
            <p:cNvSpPr/>
            <p:nvPr/>
          </p:nvSpPr>
          <p:spPr>
            <a:xfrm>
              <a:off x="3772080" y="12952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72080" y="16002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000680" y="1219320"/>
              <a:ext cx="4495680" cy="709920"/>
              <a:chOff x="4000680" y="1219320"/>
              <a:chExt cx="4495680" cy="709920"/>
            </a:xfrm>
          </p:grpSpPr>
          <p:sp>
            <p:nvSpPr>
              <p:cNvPr id="272" name=""/>
              <p:cNvSpPr/>
              <p:nvPr/>
            </p:nvSpPr>
            <p:spPr>
              <a:xfrm>
                <a:off x="4000680" y="1447920"/>
                <a:ext cx="220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00680" y="1752480"/>
                <a:ext cx="2209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81760" y="1219320"/>
                <a:ext cx="2514600" cy="70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ffff"/>
                    </a:solidFill>
                    <a:latin typeface="Times New Roman"/>
                  </a:rPr>
                  <a:t>Angle d ’incidenc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ffffff"/>
                    </a:solidFill>
                    <a:latin typeface="Times New Roman"/>
                  </a:rPr>
                  <a:t>Angle de réflex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51200" y="1617120"/>
            <a:ext cx="2146320" cy="804240"/>
            <a:chOff x="2851200" y="1617120"/>
            <a:chExt cx="2146320" cy="804240"/>
          </a:xfrm>
        </p:grpSpPr>
        <p:sp>
          <p:nvSpPr>
            <p:cNvPr id="276" name=""/>
            <p:cNvSpPr/>
            <p:nvPr/>
          </p:nvSpPr>
          <p:spPr>
            <a:xfrm>
              <a:off x="2851200" y="1617120"/>
              <a:ext cx="2146320" cy="8042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6640" y="1905120"/>
              <a:ext cx="76320" cy="2286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924000" y="2133720"/>
              <a:ext cx="228600" cy="759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0" y="3114720"/>
            <a:ext cx="9144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Normale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Droite passant par le point d ’incid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int d ’incidence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oint de départ du rayon réfléch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Rayon incident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Rayon qui part de la source lumineuse jusqu ’au                                       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point d ’incid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Rayon réfléchi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Rayon qui part du point d ’incidence et qui réfléchi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l ’obje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Times New Roman"/>
              </a:rPr>
              <a:t>Angle d ’incidence et angle de réflexion: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Angles formés par le rayon et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la norma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296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4008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48720" y="6445080"/>
            <a:ext cx="1295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ff0033"/>
                </a:solidFill>
                <a:latin typeface="Times New Roman"/>
              </a:rPr>
              <a:t>Ex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33520" y="1218960"/>
            <a:ext cx="5028840" cy="3657600"/>
            <a:chOff x="533520" y="1218960"/>
            <a:chExt cx="5028840" cy="3657600"/>
          </a:xfrm>
        </p:grpSpPr>
        <p:sp>
          <p:nvSpPr>
            <p:cNvPr id="284" name=""/>
            <p:cNvSpPr/>
            <p:nvPr/>
          </p:nvSpPr>
          <p:spPr>
            <a:xfrm>
              <a:off x="2976120" y="1454400"/>
              <a:ext cx="0" cy="342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520" y="4876560"/>
              <a:ext cx="86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70640" y="4876560"/>
              <a:ext cx="86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63760" y="4876560"/>
              <a:ext cx="861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0880" y="4876560"/>
              <a:ext cx="861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976120" y="1218960"/>
              <a:ext cx="28764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976120" y="1573920"/>
              <a:ext cx="287640" cy="23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976120" y="1926360"/>
              <a:ext cx="28764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976120" y="2280600"/>
              <a:ext cx="28764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976120" y="2635200"/>
              <a:ext cx="28764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976120" y="2988000"/>
              <a:ext cx="28764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976120" y="3459960"/>
              <a:ext cx="28764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976120" y="3696840"/>
              <a:ext cx="28764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976120" y="4404240"/>
              <a:ext cx="28764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976120" y="4050000"/>
              <a:ext cx="28764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99" name=""/>
            <p:cNvGraphicFramePr/>
            <p:nvPr/>
          </p:nvGraphicFramePr>
          <p:xfrm>
            <a:off x="1134000" y="3355560"/>
            <a:ext cx="1519560" cy="118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4000" y="3355560"/>
                      <a:ext cx="1519560" cy="118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1" name=""/>
            <p:cNvGraphicFramePr/>
            <p:nvPr/>
          </p:nvGraphicFramePr>
          <p:xfrm>
            <a:off x="3535920" y="3355560"/>
            <a:ext cx="1519560" cy="118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35920" y="3355560"/>
                      <a:ext cx="1519560" cy="118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3" name=""/>
          <p:cNvSpPr/>
          <p:nvPr/>
        </p:nvSpPr>
        <p:spPr>
          <a:xfrm>
            <a:off x="1884240" y="3419640"/>
            <a:ext cx="2401920" cy="0"/>
          </a:xfrm>
          <a:prstGeom prst="line">
            <a:avLst/>
          </a:prstGeom>
          <a:ln w="12600">
            <a:solidFill>
              <a:srgbClr val="ff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5200" y="3857760"/>
            <a:ext cx="2401920" cy="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33640" y="3857760"/>
            <a:ext cx="2401560" cy="0"/>
          </a:xfrm>
          <a:prstGeom prst="line">
            <a:avLst/>
          </a:prstGeom>
          <a:ln w="12600">
            <a:solidFill>
              <a:srgbClr val="ff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35320" y="4516560"/>
            <a:ext cx="2327040" cy="0"/>
          </a:xfrm>
          <a:prstGeom prst="line">
            <a:avLst/>
          </a:prstGeom>
          <a:ln w="12600">
            <a:solidFill>
              <a:srgbClr val="00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33520" y="4516560"/>
            <a:ext cx="2401920" cy="0"/>
          </a:xfrm>
          <a:prstGeom prst="line">
            <a:avLst/>
          </a:prstGeom>
          <a:ln w="12600">
            <a:solidFill>
              <a:srgbClr val="ff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84240" y="1663560"/>
            <a:ext cx="149400" cy="146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84240" y="3419640"/>
            <a:ext cx="10512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09600" y="3857760"/>
            <a:ext cx="16509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35320" y="4516560"/>
            <a:ext cx="6001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33520" y="4516560"/>
            <a:ext cx="15019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058760" y="1736640"/>
            <a:ext cx="4052880" cy="2779920"/>
            <a:chOff x="1058760" y="1736640"/>
            <a:chExt cx="4052880" cy="2779920"/>
          </a:xfrm>
        </p:grpSpPr>
        <p:sp>
          <p:nvSpPr>
            <p:cNvPr id="314" name=""/>
            <p:cNvSpPr/>
            <p:nvPr/>
          </p:nvSpPr>
          <p:spPr>
            <a:xfrm>
              <a:off x="1058760" y="1736640"/>
              <a:ext cx="2776680" cy="2779920"/>
            </a:xfrm>
            <a:prstGeom prst="line">
              <a:avLst/>
            </a:prstGeom>
            <a:ln w="1260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58760" y="1736640"/>
              <a:ext cx="4052880" cy="2121120"/>
            </a:xfrm>
            <a:prstGeom prst="line">
              <a:avLst/>
            </a:prstGeom>
            <a:ln w="1260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133640" y="2760480"/>
            <a:ext cx="1876320" cy="1755720"/>
            <a:chOff x="1133640" y="2760480"/>
            <a:chExt cx="1876320" cy="1755720"/>
          </a:xfrm>
        </p:grpSpPr>
        <p:sp>
          <p:nvSpPr>
            <p:cNvPr id="317" name=""/>
            <p:cNvSpPr/>
            <p:nvPr/>
          </p:nvSpPr>
          <p:spPr>
            <a:xfrm flipV="1">
              <a:off x="1133640" y="2760480"/>
              <a:ext cx="1801800" cy="1096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5320" y="3638160"/>
              <a:ext cx="674640" cy="878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60680" y="4003560"/>
              <a:ext cx="1490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09720" y="4003560"/>
              <a:ext cx="76320" cy="219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35080" y="3125880"/>
              <a:ext cx="225360" cy="73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184120" y="3198960"/>
              <a:ext cx="75960" cy="2206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058760" y="1736640"/>
            <a:ext cx="1876680" cy="1901880"/>
            <a:chOff x="1058760" y="1736640"/>
            <a:chExt cx="1876680" cy="1901880"/>
          </a:xfrm>
        </p:grpSpPr>
        <p:sp>
          <p:nvSpPr>
            <p:cNvPr id="324" name=""/>
            <p:cNvSpPr/>
            <p:nvPr/>
          </p:nvSpPr>
          <p:spPr>
            <a:xfrm>
              <a:off x="1058760" y="1736640"/>
              <a:ext cx="1876680" cy="10242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58760" y="1736640"/>
              <a:ext cx="1876680" cy="1901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84360" y="2249640"/>
              <a:ext cx="0" cy="2919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84360" y="2249640"/>
              <a:ext cx="299880" cy="72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584360" y="1955520"/>
              <a:ext cx="225360" cy="74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84360" y="2030400"/>
              <a:ext cx="74520" cy="219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187960" y="1663560"/>
            <a:ext cx="149040" cy="146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58760" y="1736640"/>
            <a:ext cx="187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35440" y="1736640"/>
            <a:ext cx="2327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219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miro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219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serva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5680" y="30481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age virtu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495288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Pour chacun des points d `un objet, la distance objet-miroir est égale à la distance miroir-image.  L`image est virtuelle, c`est-à-dire qu`elle est formée par le prolongement des rayons réfléchi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6369120"/>
            <a:ext cx="32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Times New Roman"/>
              </a:rPr>
              <a:t>Champ de vi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229600" y="64008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>
            <a:hlinkClick r:id="rId5" action="ppaction://hlinksldjump"/>
          </p:cNvPr>
          <p:cNvSpPr/>
          <p:nvPr/>
        </p:nvSpPr>
        <p:spPr>
          <a:xfrm>
            <a:off x="5715000" y="6324480"/>
            <a:ext cx="3200400" cy="533520"/>
          </a:xfrm>
          <a:custGeom>
            <a:avLst/>
            <a:gdLst>
              <a:gd name="textAreaLeft" fmla="*/ 34560 w 3200400"/>
              <a:gd name="textAreaRight" fmla="*/ 3165840 w 3200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9498" h="21600">
                <a:moveTo>
                  <a:pt x="0" y="0"/>
                </a:moveTo>
                <a:lnTo>
                  <a:pt x="129498" y="0"/>
                </a:lnTo>
                <a:lnTo>
                  <a:pt x="129498" y="21600"/>
                </a:lnTo>
                <a:lnTo>
                  <a:pt x="0" y="21600"/>
                </a:lnTo>
                <a:close/>
              </a:path>
              <a:path fill="lightenLess" w="129498" h="21600">
                <a:moveTo>
                  <a:pt x="0" y="0"/>
                </a:moveTo>
                <a:lnTo>
                  <a:pt x="129498" y="0"/>
                </a:lnTo>
                <a:lnTo>
                  <a:pt x="128098" y="1400"/>
                </a:lnTo>
                <a:lnTo>
                  <a:pt x="1400" y="1400"/>
                </a:lnTo>
                <a:close/>
              </a:path>
              <a:path fill="darken" w="129498" h="21600">
                <a:moveTo>
                  <a:pt x="129498" y="0"/>
                </a:moveTo>
                <a:lnTo>
                  <a:pt x="129498" y="21600"/>
                </a:lnTo>
                <a:lnTo>
                  <a:pt x="128098" y="20200"/>
                </a:lnTo>
                <a:lnTo>
                  <a:pt x="128098" y="1400"/>
                </a:lnTo>
                <a:close/>
              </a:path>
              <a:path fill="darkenLess" w="129498" h="21600">
                <a:moveTo>
                  <a:pt x="129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98" y="20200"/>
                </a:lnTo>
                <a:close/>
              </a:path>
              <a:path fill="lighten" w="129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95280" y="228600"/>
            <a:ext cx="6388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mple de formation de l'image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063880" y="304920"/>
            <a:ext cx="50162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Champ de vision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371600"/>
            <a:ext cx="9144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Si vous vous placez devant un miroir plan, vous pouvez observer par réflexion une portion bien définie de l ’espace immédiat.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124080"/>
            <a:ext cx="93726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 champ de vision est déterminé à l'aide des positions précises du miroir et de l'observateur.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ar exemple, si l'observateur est situé à 1 mètre du miroir, son champ de vision sera moindre que s'il était situé à 30 c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ela dépend également du type de miroir. Ainsi, un miroir divergent (convexe) nous donne un champ de vision beaucoup plus élargi qu'un miroir convergent (concave).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71800" y="22096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00"/>
                </a:solidFill>
                <a:latin typeface="Times New Roman"/>
              </a:rPr>
              <a:t>C ’est votre champ de vision</a:t>
            </a:r>
            <a:r>
              <a:rPr b="0" lang="fr-FR" sz="34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01520" y="304920"/>
            <a:ext cx="904248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éthode pour tracer le champ de vision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2895480"/>
            <a:ext cx="0" cy="190512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8080" y="4800600"/>
            <a:ext cx="1676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2895480"/>
            <a:ext cx="1752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533520" y="289548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33520" y="32004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33520" y="3505320"/>
            <a:ext cx="30456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3520" y="380988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33520" y="41148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33520" y="449568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3809880"/>
            <a:ext cx="152640" cy="152640"/>
          </a:xfrm>
          <a:prstGeom prst="ellipse">
            <a:avLst/>
          </a:prstGeom>
          <a:solidFill>
            <a:srgbClr val="ff66cc"/>
          </a:solidFill>
          <a:ln w="1260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21520" y="2923200"/>
            <a:ext cx="1708200" cy="93528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49600" y="3864960"/>
            <a:ext cx="1652760" cy="95688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816480" y="4837680"/>
            <a:ext cx="2329200" cy="129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838080" y="1676520"/>
            <a:ext cx="2286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3459240"/>
            <a:ext cx="243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observateu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09880" y="625464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Miroir conc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6254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Miroir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nextslide"/>
            <a:hlinkClick r:id="rId3"/>
          </p:cNvPr>
          <p:cNvSpPr/>
          <p:nvPr/>
        </p:nvSpPr>
        <p:spPr>
          <a:xfrm>
            <a:off x="3962520" y="6324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>
            <a:hlinkClick r:id="rId4" action="ppaction://hlinksldjump"/>
          </p:cNvPr>
          <p:cNvSpPr/>
          <p:nvPr/>
        </p:nvSpPr>
        <p:spPr>
          <a:xfrm>
            <a:off x="228600" y="6248520"/>
            <a:ext cx="1905120" cy="53316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145" h="21600">
                <a:moveTo>
                  <a:pt x="0" y="0"/>
                </a:moveTo>
                <a:lnTo>
                  <a:pt x="77145" y="0"/>
                </a:lnTo>
                <a:lnTo>
                  <a:pt x="77145" y="21600"/>
                </a:lnTo>
                <a:lnTo>
                  <a:pt x="0" y="21600"/>
                </a:lnTo>
                <a:close/>
              </a:path>
              <a:path fill="lightenLess" w="77145" h="21600">
                <a:moveTo>
                  <a:pt x="0" y="0"/>
                </a:moveTo>
                <a:lnTo>
                  <a:pt x="77145" y="0"/>
                </a:lnTo>
                <a:lnTo>
                  <a:pt x="75745" y="1400"/>
                </a:lnTo>
                <a:lnTo>
                  <a:pt x="1400" y="1400"/>
                </a:lnTo>
                <a:close/>
              </a:path>
              <a:path fill="darken" w="77145" h="21600">
                <a:moveTo>
                  <a:pt x="77145" y="0"/>
                </a:moveTo>
                <a:lnTo>
                  <a:pt x="77145" y="21600"/>
                </a:lnTo>
                <a:lnTo>
                  <a:pt x="75745" y="20200"/>
                </a:lnTo>
                <a:lnTo>
                  <a:pt x="75745" y="1400"/>
                </a:lnTo>
                <a:close/>
              </a:path>
              <a:path fill="darkenLess" w="77145" h="21600">
                <a:moveTo>
                  <a:pt x="7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745" y="20200"/>
                </a:lnTo>
                <a:close/>
              </a:path>
              <a:path fill="lighten" w="7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24080" y="1676520"/>
            <a:ext cx="0" cy="44956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352680" y="3886200"/>
            <a:ext cx="47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Times New Roman"/>
              </a:rPr>
              <a:t>3-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Tracer les rayons inciden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1676520"/>
            <a:ext cx="548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Tracer les rayons de l ’œil jusqu ’aux              extrémités du miroi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2940120"/>
            <a:ext cx="518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Times New Roman"/>
              </a:rPr>
              <a:t>2-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Tracer la normale aux extrémité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600" y="4724280"/>
            <a:ext cx="5181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00"/>
                </a:solidFill>
                <a:latin typeface="Times New Roman"/>
              </a:rPr>
              <a:t>4-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Délimiter le champ de vision entre les 2 rayons inciden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1676520"/>
            <a:ext cx="2286000" cy="4419360"/>
          </a:xfrm>
          <a:custGeom>
            <a:avLst/>
            <a:gdLst/>
            <a:ahLst/>
            <a:rect l="l" t="t" r="r" b="b"/>
            <a:pathLst>
              <a:path w="1440" h="2784">
                <a:moveTo>
                  <a:pt x="0" y="768"/>
                </a:moveTo>
                <a:lnTo>
                  <a:pt x="1440" y="0"/>
                </a:lnTo>
                <a:lnTo>
                  <a:pt x="1440" y="2784"/>
                </a:lnTo>
                <a:lnTo>
                  <a:pt x="48" y="2016"/>
                </a:lnTo>
                <a:lnTo>
                  <a:pt x="48" y="72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534520" y="62485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10800" y="5630"/>
                </a:moveTo>
                <a:lnTo>
                  <a:pt x="13376" y="8241"/>
                </a:lnTo>
                <a:lnTo>
                  <a:pt x="13376" y="6500"/>
                </a:lnTo>
                <a:lnTo>
                  <a:pt x="15152" y="6500"/>
                </a:lnTo>
                <a:lnTo>
                  <a:pt x="15152" y="10017"/>
                </a:lnTo>
                <a:lnTo>
                  <a:pt x="17763" y="12593"/>
                </a:lnTo>
                <a:lnTo>
                  <a:pt x="16109" y="12593"/>
                </a:lnTo>
                <a:lnTo>
                  <a:pt x="16109" y="19782"/>
                </a:lnTo>
                <a:lnTo>
                  <a:pt x="5491" y="19782"/>
                </a:lnTo>
                <a:lnTo>
                  <a:pt x="5491" y="12593"/>
                </a:lnTo>
                <a:lnTo>
                  <a:pt x="3837" y="12593"/>
                </a:lnTo>
                <a:close/>
              </a:path>
              <a:path fill="darkenLess" w="21600" h="25186">
                <a:moveTo>
                  <a:pt x="13376" y="8241"/>
                </a:moveTo>
                <a:lnTo>
                  <a:pt x="13376" y="6500"/>
                </a:lnTo>
                <a:lnTo>
                  <a:pt x="15152" y="6500"/>
                </a:lnTo>
                <a:lnTo>
                  <a:pt x="15152" y="10017"/>
                </a:lnTo>
                <a:close/>
              </a:path>
              <a:path fill="darkenLess" w="21600" h="25186">
                <a:moveTo>
                  <a:pt x="9877" y="16092"/>
                </a:moveTo>
                <a:lnTo>
                  <a:pt x="11723" y="16092"/>
                </a:lnTo>
                <a:lnTo>
                  <a:pt x="11723" y="19782"/>
                </a:lnTo>
                <a:lnTo>
                  <a:pt x="16109" y="19782"/>
                </a:lnTo>
                <a:lnTo>
                  <a:pt x="16109" y="12593"/>
                </a:lnTo>
                <a:lnTo>
                  <a:pt x="5491" y="12593"/>
                </a:lnTo>
                <a:lnTo>
                  <a:pt x="5491" y="19782"/>
                </a:lnTo>
                <a:lnTo>
                  <a:pt x="9877" y="1978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86080" y="685800"/>
            <a:ext cx="617220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s Miroirs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724280" y="2286000"/>
            <a:ext cx="397512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lans, concaves et convexe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6248520"/>
            <a:ext cx="741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r: Luana Piluso &amp; Mayssa Skaf 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295280" y="457200"/>
            <a:ext cx="678204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iroir concave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4" name=""/>
          <p:cNvSpPr/>
          <p:nvPr/>
        </p:nvSpPr>
        <p:spPr>
          <a:xfrm>
            <a:off x="685800" y="2286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41600" y="3505320"/>
            <a:ext cx="635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ff"/>
                </a:solidFill>
                <a:latin typeface="Times New Roman"/>
              </a:rPr>
              <a:t>Laboratoir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2362320"/>
            <a:ext cx="716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ff"/>
                </a:solidFill>
                <a:latin typeface="Times New Roman"/>
              </a:rPr>
              <a:t>Description des caractères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4648320"/>
            <a:ext cx="8305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ff"/>
                </a:solidFill>
                <a:latin typeface="Times New Roman"/>
              </a:rPr>
              <a:t>Images formées par un miroir concav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5715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>
            <a:hlinkClick r:id="rId1" action="ppaction://hlinksldjump"/>
          </p:cNvPr>
          <p:cNvSpPr/>
          <p:nvPr/>
        </p:nvSpPr>
        <p:spPr>
          <a:xfrm>
            <a:off x="457200" y="2209680"/>
            <a:ext cx="4114800" cy="990720"/>
          </a:xfrm>
          <a:custGeom>
            <a:avLst/>
            <a:gdLst>
              <a:gd name="textAreaLeft" fmla="*/ 64080 w 4114800"/>
              <a:gd name="textAreaRight" fmla="*/ 4050720 w 4114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89687" h="21600">
                <a:moveTo>
                  <a:pt x="0" y="0"/>
                </a:moveTo>
                <a:lnTo>
                  <a:pt x="89687" y="0"/>
                </a:lnTo>
                <a:lnTo>
                  <a:pt x="89687" y="21600"/>
                </a:lnTo>
                <a:lnTo>
                  <a:pt x="0" y="21600"/>
                </a:lnTo>
                <a:close/>
              </a:path>
              <a:path fill="lightenLess" w="89687" h="21600">
                <a:moveTo>
                  <a:pt x="0" y="0"/>
                </a:moveTo>
                <a:lnTo>
                  <a:pt x="89687" y="0"/>
                </a:lnTo>
                <a:lnTo>
                  <a:pt x="88288" y="1400"/>
                </a:lnTo>
                <a:lnTo>
                  <a:pt x="1400" y="1400"/>
                </a:lnTo>
                <a:close/>
              </a:path>
              <a:path fill="darken" w="89687" h="21600">
                <a:moveTo>
                  <a:pt x="89687" y="0"/>
                </a:moveTo>
                <a:lnTo>
                  <a:pt x="89687" y="21600"/>
                </a:lnTo>
                <a:lnTo>
                  <a:pt x="88288" y="20200"/>
                </a:lnTo>
                <a:lnTo>
                  <a:pt x="88288" y="1400"/>
                </a:lnTo>
                <a:close/>
              </a:path>
              <a:path fill="darkenLess" w="89687" h="21600">
                <a:moveTo>
                  <a:pt x="89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88" y="20200"/>
                </a:lnTo>
                <a:close/>
              </a:path>
              <a:path fill="lighten" w="89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5791320"/>
            <a:ext cx="6629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ff"/>
                </a:solidFill>
                <a:latin typeface="Times New Roman"/>
              </a:rPr>
              <a:t>Formules et calcul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3429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5800" y="4572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nextslide"/>
            <a:hlinkClick r:id="rId2"/>
          </p:cNvPr>
          <p:cNvSpPr/>
          <p:nvPr/>
        </p:nvSpPr>
        <p:spPr>
          <a:xfrm>
            <a:off x="380880" y="2133720"/>
            <a:ext cx="6782040" cy="990360"/>
          </a:xfrm>
          <a:custGeom>
            <a:avLst/>
            <a:gdLst>
              <a:gd name="textAreaLeft" fmla="*/ 64080 w 6782040"/>
              <a:gd name="textAreaRight" fmla="*/ 6717960 w 67820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47872" h="21600">
                <a:moveTo>
                  <a:pt x="0" y="0"/>
                </a:moveTo>
                <a:lnTo>
                  <a:pt x="147872" y="0"/>
                </a:lnTo>
                <a:lnTo>
                  <a:pt x="147872" y="21600"/>
                </a:lnTo>
                <a:lnTo>
                  <a:pt x="0" y="21600"/>
                </a:lnTo>
                <a:close/>
              </a:path>
              <a:path fill="lightenLess" w="147872" h="21600">
                <a:moveTo>
                  <a:pt x="0" y="0"/>
                </a:moveTo>
                <a:lnTo>
                  <a:pt x="147872" y="0"/>
                </a:lnTo>
                <a:lnTo>
                  <a:pt x="146472" y="1400"/>
                </a:lnTo>
                <a:lnTo>
                  <a:pt x="1400" y="1400"/>
                </a:lnTo>
                <a:close/>
              </a:path>
              <a:path fill="darken" w="147872" h="21600">
                <a:moveTo>
                  <a:pt x="147872" y="0"/>
                </a:moveTo>
                <a:lnTo>
                  <a:pt x="147872" y="21600"/>
                </a:lnTo>
                <a:lnTo>
                  <a:pt x="146472" y="20200"/>
                </a:lnTo>
                <a:lnTo>
                  <a:pt x="146472" y="1400"/>
                </a:lnTo>
                <a:close/>
              </a:path>
              <a:path fill="darkenLess" w="147872" h="21600">
                <a:moveTo>
                  <a:pt x="147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6472" y="20200"/>
                </a:lnTo>
                <a:close/>
              </a:path>
              <a:path fill="lighten" w="147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>
            <a:hlinkClick r:id="rId3" action="ppaction://hlinksldjump"/>
          </p:cNvPr>
          <p:cNvSpPr/>
          <p:nvPr/>
        </p:nvSpPr>
        <p:spPr>
          <a:xfrm>
            <a:off x="533520" y="4495680"/>
            <a:ext cx="8610480" cy="990720"/>
          </a:xfrm>
          <a:custGeom>
            <a:avLst/>
            <a:gdLst>
              <a:gd name="textAreaLeft" fmla="*/ 64080 w 8610480"/>
              <a:gd name="textAreaRight" fmla="*/ 8546400 w 8610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87668" h="21600">
                <a:moveTo>
                  <a:pt x="0" y="0"/>
                </a:moveTo>
                <a:lnTo>
                  <a:pt x="187668" y="0"/>
                </a:lnTo>
                <a:lnTo>
                  <a:pt x="187668" y="21600"/>
                </a:lnTo>
                <a:lnTo>
                  <a:pt x="0" y="21600"/>
                </a:lnTo>
                <a:close/>
              </a:path>
              <a:path fill="lightenLess" w="187668" h="21600">
                <a:moveTo>
                  <a:pt x="0" y="0"/>
                </a:moveTo>
                <a:lnTo>
                  <a:pt x="187668" y="0"/>
                </a:lnTo>
                <a:lnTo>
                  <a:pt x="186268" y="1400"/>
                </a:lnTo>
                <a:lnTo>
                  <a:pt x="1400" y="1400"/>
                </a:lnTo>
                <a:close/>
              </a:path>
              <a:path fill="darken" w="187668" h="21600">
                <a:moveTo>
                  <a:pt x="187668" y="0"/>
                </a:moveTo>
                <a:lnTo>
                  <a:pt x="187668" y="21600"/>
                </a:lnTo>
                <a:lnTo>
                  <a:pt x="186268" y="20200"/>
                </a:lnTo>
                <a:lnTo>
                  <a:pt x="186268" y="1400"/>
                </a:lnTo>
                <a:close/>
              </a:path>
              <a:path fill="darkenLess" w="187668" h="21600">
                <a:moveTo>
                  <a:pt x="187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268" y="20200"/>
                </a:lnTo>
                <a:close/>
              </a:path>
              <a:path fill="lighten" w="187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>
            <a:hlinkClick r:id="rId4" action="ppaction://hlinksldjump"/>
          </p:cNvPr>
          <p:cNvSpPr/>
          <p:nvPr/>
        </p:nvSpPr>
        <p:spPr>
          <a:xfrm>
            <a:off x="304920" y="4038480"/>
            <a:ext cx="8534160" cy="914400"/>
          </a:xfrm>
          <a:custGeom>
            <a:avLst/>
            <a:gdLst>
              <a:gd name="textAreaLeft" fmla="*/ 59040 w 8534160"/>
              <a:gd name="textAreaRight" fmla="*/ 8475120 w 8534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01523" h="21600">
                <a:moveTo>
                  <a:pt x="0" y="0"/>
                </a:moveTo>
                <a:lnTo>
                  <a:pt x="201523" y="0"/>
                </a:lnTo>
                <a:lnTo>
                  <a:pt x="201523" y="21600"/>
                </a:lnTo>
                <a:lnTo>
                  <a:pt x="0" y="21600"/>
                </a:lnTo>
                <a:close/>
              </a:path>
              <a:path fill="lightenLess" w="201523" h="21600">
                <a:moveTo>
                  <a:pt x="0" y="0"/>
                </a:moveTo>
                <a:lnTo>
                  <a:pt x="201523" y="0"/>
                </a:lnTo>
                <a:lnTo>
                  <a:pt x="200124" y="1400"/>
                </a:lnTo>
                <a:lnTo>
                  <a:pt x="1400" y="1400"/>
                </a:lnTo>
                <a:close/>
              </a:path>
              <a:path fill="darken" w="201523" h="21600">
                <a:moveTo>
                  <a:pt x="201523" y="0"/>
                </a:moveTo>
                <a:lnTo>
                  <a:pt x="201523" y="21600"/>
                </a:lnTo>
                <a:lnTo>
                  <a:pt x="200124" y="20200"/>
                </a:lnTo>
                <a:lnTo>
                  <a:pt x="200124" y="1400"/>
                </a:lnTo>
                <a:close/>
              </a:path>
              <a:path fill="darkenLess" w="201523" h="21600">
                <a:moveTo>
                  <a:pt x="201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0124" y="20200"/>
                </a:lnTo>
                <a:close/>
              </a:path>
              <a:path fill="lighten" w="201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>
            <a:hlinkClick r:id="rId5" action="ppaction://hlinksldjump"/>
          </p:cNvPr>
          <p:cNvSpPr/>
          <p:nvPr/>
        </p:nvSpPr>
        <p:spPr>
          <a:xfrm>
            <a:off x="609480" y="5715000"/>
            <a:ext cx="5105520" cy="914400"/>
          </a:xfrm>
          <a:custGeom>
            <a:avLst/>
            <a:gdLst>
              <a:gd name="textAreaLeft" fmla="*/ 59040 w 5105520"/>
              <a:gd name="textAreaRight" fmla="*/ 5046480 w 51055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0564" h="21600">
                <a:moveTo>
                  <a:pt x="0" y="0"/>
                </a:moveTo>
                <a:lnTo>
                  <a:pt x="120564" y="0"/>
                </a:lnTo>
                <a:lnTo>
                  <a:pt x="120564" y="21600"/>
                </a:lnTo>
                <a:lnTo>
                  <a:pt x="0" y="21600"/>
                </a:lnTo>
                <a:close/>
              </a:path>
              <a:path fill="lightenLess" w="120564" h="21600">
                <a:moveTo>
                  <a:pt x="0" y="0"/>
                </a:moveTo>
                <a:lnTo>
                  <a:pt x="120564" y="0"/>
                </a:lnTo>
                <a:lnTo>
                  <a:pt x="119164" y="1400"/>
                </a:lnTo>
                <a:lnTo>
                  <a:pt x="1400" y="1400"/>
                </a:lnTo>
                <a:close/>
              </a:path>
              <a:path fill="darken" w="120564" h="21600">
                <a:moveTo>
                  <a:pt x="120564" y="0"/>
                </a:moveTo>
                <a:lnTo>
                  <a:pt x="120564" y="21600"/>
                </a:lnTo>
                <a:lnTo>
                  <a:pt x="119164" y="20200"/>
                </a:lnTo>
                <a:lnTo>
                  <a:pt x="119164" y="1400"/>
                </a:lnTo>
                <a:close/>
              </a:path>
              <a:path fill="darkenLess" w="120564" h="21600">
                <a:moveTo>
                  <a:pt x="120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164" y="20200"/>
                </a:lnTo>
                <a:close/>
              </a:path>
              <a:path fill="lighten" w="120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>
            <a:hlinkClick r:id="rId6" action="ppaction://hlinksldjump"/>
          </p:cNvPr>
          <p:cNvSpPr/>
          <p:nvPr/>
        </p:nvSpPr>
        <p:spPr>
          <a:xfrm>
            <a:off x="685800" y="3429000"/>
            <a:ext cx="8458200" cy="914400"/>
          </a:xfrm>
          <a:custGeom>
            <a:avLst/>
            <a:gdLst>
              <a:gd name="textAreaLeft" fmla="*/ 59040 w 8458200"/>
              <a:gd name="textAreaRight" fmla="*/ 8399160 w 84582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99730" h="21600">
                <a:moveTo>
                  <a:pt x="0" y="0"/>
                </a:moveTo>
                <a:lnTo>
                  <a:pt x="199730" y="0"/>
                </a:lnTo>
                <a:lnTo>
                  <a:pt x="199730" y="21600"/>
                </a:lnTo>
                <a:lnTo>
                  <a:pt x="0" y="21600"/>
                </a:lnTo>
                <a:close/>
              </a:path>
              <a:path fill="lightenLess" w="199730" h="21600">
                <a:moveTo>
                  <a:pt x="0" y="0"/>
                </a:moveTo>
                <a:lnTo>
                  <a:pt x="199730" y="0"/>
                </a:lnTo>
                <a:lnTo>
                  <a:pt x="198330" y="1400"/>
                </a:lnTo>
                <a:lnTo>
                  <a:pt x="1400" y="1400"/>
                </a:lnTo>
                <a:close/>
              </a:path>
              <a:path fill="darken" w="199730" h="21600">
                <a:moveTo>
                  <a:pt x="199730" y="0"/>
                </a:moveTo>
                <a:lnTo>
                  <a:pt x="199730" y="21600"/>
                </a:lnTo>
                <a:lnTo>
                  <a:pt x="198330" y="20200"/>
                </a:lnTo>
                <a:lnTo>
                  <a:pt x="198330" y="1400"/>
                </a:lnTo>
                <a:close/>
              </a:path>
              <a:path fill="darkenLess" w="199730" h="21600">
                <a:moveTo>
                  <a:pt x="1997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330" y="20200"/>
                </a:lnTo>
                <a:close/>
              </a:path>
              <a:path fill="lighten" w="1997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>
            <a:hlinkClick r:id="rId7" action="ppaction://hlinksldjump"/>
          </p:cNvPr>
          <p:cNvSpPr/>
          <p:nvPr/>
        </p:nvSpPr>
        <p:spPr>
          <a:xfrm>
            <a:off x="609480" y="4800600"/>
            <a:ext cx="8534520" cy="838080"/>
          </a:xfrm>
          <a:custGeom>
            <a:avLst/>
            <a:gdLst>
              <a:gd name="textAreaLeft" fmla="*/ 54000 w 8534520"/>
              <a:gd name="textAreaRight" fmla="*/ 8480520 w 85345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9877" h="21600">
                <a:moveTo>
                  <a:pt x="0" y="0"/>
                </a:moveTo>
                <a:lnTo>
                  <a:pt x="219877" y="0"/>
                </a:lnTo>
                <a:lnTo>
                  <a:pt x="219877" y="21600"/>
                </a:lnTo>
                <a:lnTo>
                  <a:pt x="0" y="21600"/>
                </a:lnTo>
                <a:close/>
              </a:path>
              <a:path fill="lightenLess" w="219877" h="21600">
                <a:moveTo>
                  <a:pt x="0" y="0"/>
                </a:moveTo>
                <a:lnTo>
                  <a:pt x="219877" y="0"/>
                </a:lnTo>
                <a:lnTo>
                  <a:pt x="218477" y="1400"/>
                </a:lnTo>
                <a:lnTo>
                  <a:pt x="1400" y="1400"/>
                </a:lnTo>
                <a:close/>
              </a:path>
              <a:path fill="darken" w="219877" h="21600">
                <a:moveTo>
                  <a:pt x="219877" y="0"/>
                </a:moveTo>
                <a:lnTo>
                  <a:pt x="219877" y="21600"/>
                </a:lnTo>
                <a:lnTo>
                  <a:pt x="218477" y="20200"/>
                </a:lnTo>
                <a:lnTo>
                  <a:pt x="218477" y="1400"/>
                </a:lnTo>
                <a:close/>
              </a:path>
              <a:path fill="darkenLess" w="219877" h="21600">
                <a:moveTo>
                  <a:pt x="219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477" y="20200"/>
                </a:lnTo>
                <a:close/>
              </a:path>
              <a:path fill="lighten" w="219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>
            <a:hlinkClick r:id="rId8" action="ppaction://hlinksldjump"/>
          </p:cNvPr>
          <p:cNvSpPr/>
          <p:nvPr/>
        </p:nvSpPr>
        <p:spPr>
          <a:xfrm>
            <a:off x="-4952880" y="4876920"/>
            <a:ext cx="4952880" cy="838080"/>
          </a:xfrm>
          <a:custGeom>
            <a:avLst/>
            <a:gdLst>
              <a:gd name="textAreaLeft" fmla="*/ 54000 w 4952880"/>
              <a:gd name="textAreaRight" fmla="*/ 4898880 w 4952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27606" h="21600">
                <a:moveTo>
                  <a:pt x="0" y="0"/>
                </a:moveTo>
                <a:lnTo>
                  <a:pt x="127606" y="0"/>
                </a:lnTo>
                <a:lnTo>
                  <a:pt x="127606" y="21600"/>
                </a:lnTo>
                <a:lnTo>
                  <a:pt x="0" y="21600"/>
                </a:lnTo>
                <a:close/>
              </a:path>
              <a:path fill="lightenLess" w="127606" h="21600">
                <a:moveTo>
                  <a:pt x="0" y="0"/>
                </a:moveTo>
                <a:lnTo>
                  <a:pt x="127606" y="0"/>
                </a:lnTo>
                <a:lnTo>
                  <a:pt x="126206" y="1400"/>
                </a:lnTo>
                <a:lnTo>
                  <a:pt x="1400" y="1400"/>
                </a:lnTo>
                <a:close/>
              </a:path>
              <a:path fill="darken" w="127606" h="21600">
                <a:moveTo>
                  <a:pt x="127606" y="0"/>
                </a:moveTo>
                <a:lnTo>
                  <a:pt x="127606" y="21600"/>
                </a:lnTo>
                <a:lnTo>
                  <a:pt x="126206" y="20200"/>
                </a:lnTo>
                <a:lnTo>
                  <a:pt x="126206" y="1400"/>
                </a:lnTo>
                <a:close/>
              </a:path>
              <a:path fill="darkenLess" w="127606" h="21600">
                <a:moveTo>
                  <a:pt x="12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206" y="20200"/>
                </a:lnTo>
                <a:close/>
              </a:path>
              <a:path fill="lighten" w="12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534520" y="152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4030560" y="1828800"/>
            <a:ext cx="5113080" cy="3338640"/>
            <a:chOff x="4030560" y="1828800"/>
            <a:chExt cx="5113080" cy="3338640"/>
          </a:xfrm>
        </p:grpSpPr>
        <p:sp>
          <p:nvSpPr>
            <p:cNvPr id="392" name=""/>
            <p:cNvSpPr/>
            <p:nvPr/>
          </p:nvSpPr>
          <p:spPr>
            <a:xfrm>
              <a:off x="4030560" y="3604320"/>
              <a:ext cx="468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 rot="10800000">
              <a:off x="8063640" y="1828800"/>
              <a:ext cx="792000" cy="333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066" y="454"/>
                    <a:pt x="2531" y="5080"/>
                    <a:pt x="2531" y="10800"/>
                  </a:cubicBezTo>
                  <a:cubicBezTo>
                    <a:pt x="2531" y="16520"/>
                    <a:pt x="12066" y="21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135280" y="182880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279640" y="1971000"/>
              <a:ext cx="35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423640" y="2112840"/>
              <a:ext cx="35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495640" y="2254680"/>
              <a:ext cx="35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567640" y="239724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39640" y="2610360"/>
              <a:ext cx="35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11640" y="2752200"/>
              <a:ext cx="35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83640" y="296532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83640" y="296532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783640" y="317844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83640" y="339156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783640" y="360432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83640" y="381744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83640" y="403056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11640" y="4243680"/>
              <a:ext cx="35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567640" y="466992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423640" y="4883040"/>
              <a:ext cx="35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39640" y="4456800"/>
              <a:ext cx="35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135280" y="516744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51280" y="5024880"/>
              <a:ext cx="360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089840" y="3603600"/>
            <a:ext cx="7452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81840" y="3816360"/>
            <a:ext cx="290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289480" y="3603600"/>
            <a:ext cx="7308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10200" y="3816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32520" y="2679840"/>
            <a:ext cx="458640" cy="909360"/>
          </a:xfrm>
          <a:prstGeom prst="upArrow">
            <a:avLst>
              <a:gd name="adj1" fmla="val 50000"/>
              <a:gd name="adj2" fmla="val 49568"/>
            </a:avLst>
          </a:prstGeom>
          <a:solidFill>
            <a:srgbClr val="ff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70560" y="2679840"/>
            <a:ext cx="317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0800000">
            <a:off x="4379400" y="3618000"/>
            <a:ext cx="863640" cy="1347840"/>
          </a:xfrm>
          <a:prstGeom prst="upArrow">
            <a:avLst>
              <a:gd name="adj1" fmla="val 50000"/>
              <a:gd name="adj2" fmla="val 39016"/>
            </a:avLst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22200" y="2679840"/>
            <a:ext cx="4681800" cy="2841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62560" y="2679840"/>
            <a:ext cx="2089440" cy="234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668760" y="4951440"/>
            <a:ext cx="4611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46680" y="220824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9200" y="4114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62560" y="2344680"/>
            <a:ext cx="0" cy="255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62560" y="2344680"/>
            <a:ext cx="23227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585280" y="2344680"/>
            <a:ext cx="0" cy="255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951600" y="191628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33"/>
                </a:solidFill>
                <a:latin typeface="Times New Roman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00600" y="5005440"/>
            <a:ext cx="0" cy="342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5348160"/>
            <a:ext cx="36133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413920" y="5005440"/>
            <a:ext cx="0" cy="342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04080" y="5435640"/>
            <a:ext cx="14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imes New Roman"/>
              </a:rPr>
              <a:t>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4196880" y="3630600"/>
            <a:ext cx="344520" cy="0"/>
          </a:xfrm>
          <a:prstGeom prst="line">
            <a:avLst/>
          </a:prstGeom>
          <a:ln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97240" y="3630600"/>
            <a:ext cx="0" cy="1289160"/>
          </a:xfrm>
          <a:prstGeom prst="line">
            <a:avLst/>
          </a:prstGeom>
          <a:ln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7240" y="4919760"/>
            <a:ext cx="432000" cy="0"/>
          </a:xfrm>
          <a:prstGeom prst="line">
            <a:avLst/>
          </a:prstGeom>
          <a:ln w="1260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57600" y="411480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66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62560" y="2687760"/>
            <a:ext cx="4287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91320" y="2687760"/>
            <a:ext cx="0" cy="858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262200" y="3630600"/>
            <a:ext cx="4287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1480" y="2681280"/>
            <a:ext cx="6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ff"/>
                </a:solidFill>
                <a:latin typeface="Times New Roman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54560" y="3629160"/>
            <a:ext cx="0" cy="271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182000" y="3629160"/>
            <a:ext cx="0" cy="271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54560" y="3913200"/>
            <a:ext cx="97956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8520" y="3798720"/>
            <a:ext cx="8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00"/>
                </a:solidFill>
                <a:latin typeface="Times New Roman"/>
              </a:rPr>
              <a:t>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567320" y="3249360"/>
            <a:ext cx="0" cy="2696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089840" y="3249360"/>
            <a:ext cx="0" cy="2696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67320" y="3249720"/>
            <a:ext cx="252252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54520" y="27766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Times New Roman"/>
              </a:rPr>
              <a:t>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1981080"/>
            <a:ext cx="41148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3399"/>
                </a:solidFill>
                <a:latin typeface="Times New Roman"/>
              </a:rPr>
              <a:t>lf:Distance foca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43800" y="6172200"/>
            <a:ext cx="1295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00"/>
                </a:solidFill>
                <a:latin typeface="Times New Roman"/>
              </a:rPr>
              <a:t>Lab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20120" y="60199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76320" y="259092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di:Distance image-miroi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52280" y="3276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0033"/>
                </a:solidFill>
                <a:latin typeface="Times New Roman"/>
              </a:rPr>
              <a:t>do:Distance objet-miroi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76320" y="457200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ffff"/>
                </a:solidFill>
                <a:latin typeface="Times New Roman"/>
              </a:rPr>
              <a:t>ho:Hauteur de l ’obje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304920" y="5791320"/>
            <a:ext cx="426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ff00"/>
                </a:solidFill>
                <a:latin typeface="Times New Roman"/>
              </a:rPr>
              <a:t>lo:Distance objet-fo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228600" y="518148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6600"/>
                </a:solidFill>
                <a:latin typeface="Times New Roman"/>
              </a:rPr>
              <a:t>li:Distance image-fo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76320" y="3962520"/>
            <a:ext cx="373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cc66ff"/>
                </a:solidFill>
                <a:latin typeface="Times New Roman"/>
              </a:rPr>
              <a:t>hi:Hauteur de l ’im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657600"/>
            <a:ext cx="0" cy="533520"/>
          </a:xfrm>
          <a:prstGeom prst="line">
            <a:avLst/>
          </a:prstGeom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162920" y="4191120"/>
            <a:ext cx="1600200" cy="0"/>
          </a:xfrm>
          <a:prstGeom prst="line">
            <a:avLst/>
          </a:prstGeom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8763120" y="3657600"/>
            <a:ext cx="0" cy="533520"/>
          </a:xfrm>
          <a:prstGeom prst="line">
            <a:avLst/>
          </a:prstGeom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4267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99"/>
                </a:solidFill>
                <a:latin typeface="Times New Roman"/>
              </a:rPr>
              <a:t>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457200"/>
            <a:ext cx="8381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scription des caractères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2152800" y="457200"/>
            <a:ext cx="48384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boratoir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5" name=""/>
          <p:cNvSpPr/>
          <p:nvPr/>
        </p:nvSpPr>
        <p:spPr>
          <a:xfrm>
            <a:off x="228600" y="1828800"/>
            <a:ext cx="868680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Vérifier les hypothèses concernant la formation d ’images par un miroir concave. Tenter d ’identifier les divers types d ’images formé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Source lumineuse                 -Miroir conca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 Règle                                    -Pâte à mode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Écra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1828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B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" y="3962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éri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010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229600" y="61722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228600"/>
            <a:ext cx="8915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0"/>
            <a:ext cx="9144000" cy="71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- Trouver la distance foca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) Mettre la lumière loin du miro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b) Trouver l ’image de la lumière sur l ’écr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) Focaliser cette image sur l ’écr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) Mesurer la distance entre le miroir concave et l ’écr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2-  Trouver si les images sont virtuelles, réelles, droites ou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versé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) Installer la lumière à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b) Mettre le miroir à 2 cm de la lumiè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) Vérifier si l ’image est virtuelle, réelle, droite ou    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versée. Faire cela en augmentant la distance du miroir 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e 5 cm chaque foi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473040" y="-480960"/>
            <a:ext cx="1839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toco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77320" y="640080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29600" y="64008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04920" y="0"/>
            <a:ext cx="4610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stance focale: 10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600200" y="2209680"/>
            <a:ext cx="6248520" cy="4310280"/>
            <a:chOff x="1600200" y="2209680"/>
            <a:chExt cx="6248520" cy="4310280"/>
          </a:xfrm>
        </p:grpSpPr>
        <p:graphicFrame>
          <p:nvGraphicFramePr>
            <p:cNvPr id="478" name=""/>
            <p:cNvGraphicFramePr/>
            <p:nvPr/>
          </p:nvGraphicFramePr>
          <p:xfrm>
            <a:off x="1600200" y="2209680"/>
            <a:ext cx="6247080" cy="4310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2209680"/>
                      <a:ext cx="6247080" cy="431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2514600" y="2232000"/>
              <a:ext cx="0" cy="426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33920" y="2232000"/>
              <a:ext cx="0" cy="426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848720" y="2232000"/>
              <a:ext cx="0" cy="426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24840" y="2232000"/>
              <a:ext cx="0" cy="426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81840" y="2232000"/>
              <a:ext cx="0" cy="426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00200" y="2232000"/>
              <a:ext cx="0" cy="426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0200" y="2232000"/>
              <a:ext cx="624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00200" y="3146400"/>
              <a:ext cx="624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00200" y="3755880"/>
              <a:ext cx="624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00200" y="4365720"/>
              <a:ext cx="624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0200" y="5051520"/>
              <a:ext cx="624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5661000"/>
              <a:ext cx="624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0200" y="6499080"/>
              <a:ext cx="6248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7223040" y="966960"/>
            <a:ext cx="1843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457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ésulta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719840" y="380880"/>
          <a:ext cx="120492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19840" y="380880"/>
                    <a:ext cx="12049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>
            <a:hlinkClick r:id="" action="ppaction://hlinkshowjump?jump=nextslide"/>
            <a:hlinkClick r:id="rId5"/>
          </p:cNvPr>
          <p:cNvSpPr/>
          <p:nvPr/>
        </p:nvSpPr>
        <p:spPr>
          <a:xfrm>
            <a:off x="7620120" y="30492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001000" y="1066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liqu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" y="38088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2819520" y="609480"/>
            <a:ext cx="353052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clusion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1" name=""/>
          <p:cNvSpPr/>
          <p:nvPr/>
        </p:nvSpPr>
        <p:spPr>
          <a:xfrm>
            <a:off x="380880" y="2209680"/>
            <a:ext cx="8458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orsque la distance de la source lumineuse et du miroir est inférieure à la distance focale, l ’image est virtuelle, droite et plus grande que l ’obj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orsque la distance de la source lumineuse et du miroir est supérieure à la distance focale, l ’image est réelle, inversée et plus petite que l ’obj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91320" y="6095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Voir exe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nextslide"/>
            <a:hlinkClick r:id="rId3"/>
          </p:cNvPr>
          <p:cNvSpPr/>
          <p:nvPr/>
        </p:nvSpPr>
        <p:spPr>
          <a:xfrm>
            <a:off x="5715000" y="5943600"/>
            <a:ext cx="3048120" cy="685800"/>
          </a:xfrm>
          <a:custGeom>
            <a:avLst/>
            <a:gdLst>
              <a:gd name="textAreaLeft" fmla="*/ 44280 w 3048120"/>
              <a:gd name="textAreaRight" fmla="*/ 3003840 w 3048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5965" h="21600">
                <a:moveTo>
                  <a:pt x="0" y="0"/>
                </a:moveTo>
                <a:lnTo>
                  <a:pt x="95965" y="0"/>
                </a:lnTo>
                <a:lnTo>
                  <a:pt x="95965" y="21600"/>
                </a:lnTo>
                <a:lnTo>
                  <a:pt x="0" y="21600"/>
                </a:lnTo>
                <a:close/>
              </a:path>
              <a:path fill="lightenLess" w="95965" h="21600">
                <a:moveTo>
                  <a:pt x="0" y="0"/>
                </a:moveTo>
                <a:lnTo>
                  <a:pt x="95965" y="0"/>
                </a:lnTo>
                <a:lnTo>
                  <a:pt x="94565" y="1400"/>
                </a:lnTo>
                <a:lnTo>
                  <a:pt x="1400" y="1400"/>
                </a:lnTo>
                <a:close/>
              </a:path>
              <a:path fill="darken" w="95965" h="21600">
                <a:moveTo>
                  <a:pt x="95965" y="0"/>
                </a:moveTo>
                <a:lnTo>
                  <a:pt x="95965" y="21600"/>
                </a:lnTo>
                <a:lnTo>
                  <a:pt x="94565" y="20200"/>
                </a:lnTo>
                <a:lnTo>
                  <a:pt x="94565" y="1400"/>
                </a:lnTo>
                <a:close/>
              </a:path>
              <a:path fill="darkenLess" w="95965" h="21600">
                <a:moveTo>
                  <a:pt x="95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565" y="20200"/>
                </a:lnTo>
                <a:close/>
              </a:path>
              <a:path fill="lighten" w="95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6095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Miroir conc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>
            <a:hlinkClick r:id="rId4" action="ppaction://hlinksldjump"/>
          </p:cNvPr>
          <p:cNvSpPr/>
          <p:nvPr/>
        </p:nvSpPr>
        <p:spPr>
          <a:xfrm>
            <a:off x="457200" y="5943600"/>
            <a:ext cx="3124080" cy="838080"/>
          </a:xfrm>
          <a:custGeom>
            <a:avLst/>
            <a:gdLst>
              <a:gd name="textAreaLeft" fmla="*/ 54000 w 3124080"/>
              <a:gd name="textAreaRight" fmla="*/ 3070080 w 3124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0492" h="21600">
                <a:moveTo>
                  <a:pt x="0" y="0"/>
                </a:moveTo>
                <a:lnTo>
                  <a:pt x="80492" y="0"/>
                </a:lnTo>
                <a:lnTo>
                  <a:pt x="80492" y="21600"/>
                </a:lnTo>
                <a:lnTo>
                  <a:pt x="0" y="21600"/>
                </a:lnTo>
                <a:close/>
              </a:path>
              <a:path fill="lightenLess" w="80492" h="21600">
                <a:moveTo>
                  <a:pt x="0" y="0"/>
                </a:moveTo>
                <a:lnTo>
                  <a:pt x="80492" y="0"/>
                </a:lnTo>
                <a:lnTo>
                  <a:pt x="79092" y="1400"/>
                </a:lnTo>
                <a:lnTo>
                  <a:pt x="1400" y="1400"/>
                </a:lnTo>
                <a:close/>
              </a:path>
              <a:path fill="darken" w="80492" h="21600">
                <a:moveTo>
                  <a:pt x="80492" y="0"/>
                </a:moveTo>
                <a:lnTo>
                  <a:pt x="80492" y="21600"/>
                </a:lnTo>
                <a:lnTo>
                  <a:pt x="79092" y="20200"/>
                </a:lnTo>
                <a:lnTo>
                  <a:pt x="79092" y="1400"/>
                </a:lnTo>
                <a:close/>
              </a:path>
              <a:path fill="darkenLess" w="80492" h="21600">
                <a:moveTo>
                  <a:pt x="8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2" y="20200"/>
                </a:lnTo>
                <a:close/>
              </a:path>
              <a:path fill="lighten" w="8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286000" y="228600"/>
            <a:ext cx="448308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mages formées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23880" y="1066680"/>
            <a:ext cx="609624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r un miroir concave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1523880" y="2057400"/>
            <a:ext cx="5410440" cy="3581280"/>
            <a:chOff x="1523880" y="2057400"/>
            <a:chExt cx="5410440" cy="3581280"/>
          </a:xfrm>
        </p:grpSpPr>
        <p:sp>
          <p:nvSpPr>
            <p:cNvPr id="509" name=""/>
            <p:cNvSpPr/>
            <p:nvPr/>
          </p:nvSpPr>
          <p:spPr>
            <a:xfrm>
              <a:off x="1523880" y="3962160"/>
              <a:ext cx="495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 rot="10800000">
              <a:off x="5791320" y="2057400"/>
              <a:ext cx="838080" cy="358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066" y="454"/>
                    <a:pt x="2531" y="5080"/>
                    <a:pt x="2531" y="10800"/>
                  </a:cubicBezTo>
                  <a:cubicBezTo>
                    <a:pt x="2531" y="16520"/>
                    <a:pt x="12066" y="21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67280" y="2057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22096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172200" y="23619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48520" y="251424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324480" y="266688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00800" y="28954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77120" y="30477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3080" y="32763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553080" y="32763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53080" y="35049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53080" y="37335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53080" y="39621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3080" y="41907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53080" y="44193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77120" y="46479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24480" y="51051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72200" y="53337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00800" y="48765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67280" y="563868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5880" y="548604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762440" y="39625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4191120"/>
            <a:ext cx="30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857680" y="396252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66880" y="41911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47920" y="2895480"/>
            <a:ext cx="495288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3352320" y="2895480"/>
            <a:ext cx="3048120" cy="20574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57913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Il n ’y a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pas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d ’imag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631960" y="5321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4343400" y="2438280"/>
            <a:ext cx="1143000" cy="1478160"/>
            <a:chOff x="4343400" y="2438280"/>
            <a:chExt cx="1143000" cy="1478160"/>
          </a:xfrm>
        </p:grpSpPr>
        <p:sp>
          <p:nvSpPr>
            <p:cNvPr id="540" name=""/>
            <p:cNvSpPr/>
            <p:nvPr/>
          </p:nvSpPr>
          <p:spPr>
            <a:xfrm>
              <a:off x="4572000" y="29401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43400" y="2438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Obj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2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29600" y="6324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-228600" y="304920"/>
            <a:ext cx="6270480" cy="673200"/>
            <a:chOff x="-228600" y="304920"/>
            <a:chExt cx="6270480" cy="673200"/>
          </a:xfrm>
        </p:grpSpPr>
        <p:grpSp>
          <p:nvGrpSpPr>
            <p:cNvPr id="545" name=""/>
            <p:cNvGrpSpPr/>
            <p:nvPr/>
          </p:nvGrpSpPr>
          <p:grpSpPr>
            <a:xfrm>
              <a:off x="-228600" y="304920"/>
              <a:ext cx="2057400" cy="673200"/>
              <a:chOff x="-228600" y="304920"/>
              <a:chExt cx="2057400" cy="673200"/>
            </a:xfrm>
          </p:grpSpPr>
          <p:sp>
            <p:nvSpPr>
              <p:cNvPr id="546" name=""/>
              <p:cNvSpPr/>
              <p:nvPr/>
            </p:nvSpPr>
            <p:spPr>
              <a:xfrm>
                <a:off x="-228600" y="304920"/>
                <a:ext cx="2057400" cy="67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800" spc="-1" strike="noStrike">
                    <a:solidFill>
                      <a:srgbClr val="ffff00"/>
                    </a:solidFill>
                    <a:latin typeface="Times New Roman"/>
                  </a:rPr>
                  <a:t>1  cas :</a:t>
                </a:r>
                <a:endParaRPr b="0" lang="en-US" sz="3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04920" y="30492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200" spc="-1" strike="noStrike">
                    <a:solidFill>
                      <a:srgbClr val="ffff00"/>
                    </a:solidFill>
                    <a:latin typeface="Times New Roman"/>
                  </a:rPr>
                  <a:t>er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1143000" y="428760"/>
              <a:ext cx="489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99ff"/>
                  </a:solidFill>
                  <a:latin typeface="Times New Roman"/>
                </a:rPr>
                <a:t>L’objet est au foyer princip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228600" y="228600"/>
            <a:ext cx="8534520" cy="1160640"/>
            <a:chOff x="228600" y="228600"/>
            <a:chExt cx="8534520" cy="1160640"/>
          </a:xfrm>
        </p:grpSpPr>
        <p:sp>
          <p:nvSpPr>
            <p:cNvPr id="550" name=""/>
            <p:cNvSpPr/>
            <p:nvPr/>
          </p:nvSpPr>
          <p:spPr>
            <a:xfrm>
              <a:off x="228600" y="228600"/>
              <a:ext cx="85345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800" spc="-1" strike="noStrike">
                  <a:solidFill>
                    <a:srgbClr val="ffff00"/>
                  </a:solidFill>
                  <a:latin typeface="Times New Roman"/>
                </a:rPr>
                <a:t>2  cas:</a:t>
              </a:r>
              <a:r>
                <a:rPr b="0" lang="fr-FR" sz="3600" spc="-1" strike="noStrike">
                  <a:solidFill>
                    <a:srgbClr val="ff66cc"/>
                  </a:solidFill>
                  <a:latin typeface="Times New Roman"/>
                </a:rPr>
                <a:t> 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L ’objet est à 2 lf (au centre de    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	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	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     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	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    courbure)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7200" y="2286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L ’image est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réell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renversé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et de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même grandeur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que l ’obj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1752480" y="1600200"/>
            <a:ext cx="5410440" cy="3581280"/>
            <a:chOff x="1752480" y="1600200"/>
            <a:chExt cx="5410440" cy="3581280"/>
          </a:xfrm>
        </p:grpSpPr>
        <p:sp>
          <p:nvSpPr>
            <p:cNvPr id="554" name=""/>
            <p:cNvSpPr/>
            <p:nvPr/>
          </p:nvSpPr>
          <p:spPr>
            <a:xfrm>
              <a:off x="1752480" y="3504960"/>
              <a:ext cx="495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 rot="10800000">
              <a:off x="6019920" y="1600200"/>
              <a:ext cx="838080" cy="358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066" y="454"/>
                    <a:pt x="2531" y="5080"/>
                    <a:pt x="2531" y="10800"/>
                  </a:cubicBezTo>
                  <a:cubicBezTo>
                    <a:pt x="2531" y="16520"/>
                    <a:pt x="12066" y="21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5880" y="16002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48520" y="17524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00800" y="19047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77120" y="205704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553080" y="220968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400" y="24382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05720" y="25905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81680" y="28191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81680" y="28191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81680" y="30477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81680" y="32763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81680" y="35049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81680" y="37335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81680" y="39621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05720" y="41907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3080" y="464796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00800" y="48765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44193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95880" y="518148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324480" y="502884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800600" y="35053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724280" y="3581280"/>
            <a:ext cx="3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86280" y="350532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95480" y="37339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rot="10800000">
            <a:off x="2880360" y="35053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2514600"/>
            <a:ext cx="502920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400480" y="3505320"/>
            <a:ext cx="723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42840" y="2514600"/>
            <a:ext cx="3886200" cy="22096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66880" y="2286000"/>
            <a:ext cx="3962520" cy="2209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1981080" y="4495680"/>
            <a:ext cx="4572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600200" y="2514600"/>
            <a:ext cx="1766880" cy="976320"/>
            <a:chOff x="1600200" y="2514600"/>
            <a:chExt cx="1766880" cy="976320"/>
          </a:xfrm>
        </p:grpSpPr>
        <p:sp>
          <p:nvSpPr>
            <p:cNvPr id="587" name=""/>
            <p:cNvSpPr/>
            <p:nvPr/>
          </p:nvSpPr>
          <p:spPr>
            <a:xfrm>
              <a:off x="2881440" y="251460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00200" y="25146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Obj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752480" y="3962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229600" y="61722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228600" y="304920"/>
            <a:ext cx="8686800" cy="1160640"/>
            <a:chOff x="228600" y="304920"/>
            <a:chExt cx="8686800" cy="1160640"/>
          </a:xfrm>
        </p:grpSpPr>
        <p:sp>
          <p:nvSpPr>
            <p:cNvPr id="593" name=""/>
            <p:cNvSpPr/>
            <p:nvPr/>
          </p:nvSpPr>
          <p:spPr>
            <a:xfrm>
              <a:off x="228600" y="304920"/>
              <a:ext cx="868680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800" spc="-1" strike="noStrike">
                  <a:solidFill>
                    <a:srgbClr val="ffff00"/>
                  </a:solidFill>
                  <a:latin typeface="Times New Roman"/>
                </a:rPr>
                <a:t>3  cas: 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L ’objet est entre le foyer et le centre de  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	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	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    courbu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7200" y="304920"/>
              <a:ext cx="382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0" y="56386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L ’image est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réell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renversé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et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plus grand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que l ’obj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1828800" y="1523160"/>
            <a:ext cx="5409720" cy="3582360"/>
            <a:chOff x="1828800" y="1523160"/>
            <a:chExt cx="5409720" cy="3582360"/>
          </a:xfrm>
        </p:grpSpPr>
        <p:sp>
          <p:nvSpPr>
            <p:cNvPr id="597" name=""/>
            <p:cNvSpPr/>
            <p:nvPr/>
          </p:nvSpPr>
          <p:spPr>
            <a:xfrm>
              <a:off x="1828800" y="3429000"/>
              <a:ext cx="495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 rot="10800000">
              <a:off x="6095520" y="1522800"/>
              <a:ext cx="837720" cy="358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066" y="454"/>
                    <a:pt x="2531" y="5080"/>
                    <a:pt x="2531" y="10800"/>
                  </a:cubicBezTo>
                  <a:cubicBezTo>
                    <a:pt x="2531" y="16520"/>
                    <a:pt x="12066" y="21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1840" y="15238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24480" y="167652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76760" y="182880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3080" y="198108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29040" y="213372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05360" y="236232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781680" y="251460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57640" y="27432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7640" y="27432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57640" y="29718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57640" y="32004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7640" y="34290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57640" y="36576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57640" y="38862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81680" y="411480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629040" y="45720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6760" y="480060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05360" y="434340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71840" y="510552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400440" y="49528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067360" y="342900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952880" y="3657600"/>
            <a:ext cx="3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62240" y="342900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365760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352680" y="2438280"/>
            <a:ext cx="33530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0800000">
            <a:off x="2209680" y="3429000"/>
            <a:ext cx="914400" cy="1447920"/>
          </a:xfrm>
          <a:prstGeom prst="upArrow">
            <a:avLst>
              <a:gd name="adj1" fmla="val 50000"/>
              <a:gd name="adj2" fmla="val 39587"/>
            </a:avLst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714680" y="2438280"/>
            <a:ext cx="4952880" cy="30481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91120" y="2438280"/>
            <a:ext cx="2209680" cy="2514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447920" y="4876920"/>
            <a:ext cx="48765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971800" y="2438280"/>
            <a:ext cx="1461960" cy="976320"/>
            <a:chOff x="2971800" y="2438280"/>
            <a:chExt cx="1461960" cy="976320"/>
          </a:xfrm>
        </p:grpSpPr>
        <p:sp>
          <p:nvSpPr>
            <p:cNvPr id="629" name=""/>
            <p:cNvSpPr/>
            <p:nvPr/>
          </p:nvSpPr>
          <p:spPr>
            <a:xfrm>
              <a:off x="3948120" y="243828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71800" y="25909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Obj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14300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010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229600" y="61722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209680" y="304920"/>
            <a:ext cx="46738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es miroirs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890720"/>
            <a:ext cx="8915400" cy="49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 miroir sert à réfléchir la lumière, à reproduire l`image de quelqu`un ou de quelque chose.               Il existe trois types de miroirs: 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miroirs plans, miroirs concaves et miroirs convex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ans cette présentation, nous vous expliquerons la réflexion de la lumière avec chaque type de miroir en donnant des exemples, des élaborations de laboratoires et des formules permettant d`obtenir des résulta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6781680" y="3124080"/>
            <a:ext cx="1752840" cy="533520"/>
          </a:xfrm>
          <a:custGeom>
            <a:avLst/>
            <a:gdLst>
              <a:gd name="textAreaLeft" fmla="*/ 34560 w 1752840"/>
              <a:gd name="textAreaRight" fmla="*/ 1718280 w 1752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32" h="21600">
                <a:moveTo>
                  <a:pt x="0" y="0"/>
                </a:moveTo>
                <a:lnTo>
                  <a:pt x="70932" y="0"/>
                </a:lnTo>
                <a:lnTo>
                  <a:pt x="70932" y="21600"/>
                </a:lnTo>
                <a:lnTo>
                  <a:pt x="0" y="21600"/>
                </a:lnTo>
                <a:close/>
              </a:path>
              <a:path fill="lightenLess" w="70932" h="21600">
                <a:moveTo>
                  <a:pt x="0" y="0"/>
                </a:moveTo>
                <a:lnTo>
                  <a:pt x="70932" y="0"/>
                </a:lnTo>
                <a:lnTo>
                  <a:pt x="69532" y="1400"/>
                </a:lnTo>
                <a:lnTo>
                  <a:pt x="1400" y="1400"/>
                </a:lnTo>
                <a:close/>
              </a:path>
              <a:path fill="darken" w="70932" h="21600">
                <a:moveTo>
                  <a:pt x="70932" y="0"/>
                </a:moveTo>
                <a:lnTo>
                  <a:pt x="70932" y="21600"/>
                </a:lnTo>
                <a:lnTo>
                  <a:pt x="69532" y="20200"/>
                </a:lnTo>
                <a:lnTo>
                  <a:pt x="69532" y="1400"/>
                </a:lnTo>
                <a:close/>
              </a:path>
              <a:path fill="darkenLess" w="70932" h="21600">
                <a:moveTo>
                  <a:pt x="70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2" y="20200"/>
                </a:lnTo>
                <a:close/>
              </a:path>
              <a:path fill="lighten" w="70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228600" y="37339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  <a:hlinkClick r:id="rId3"/>
          </p:cNvPr>
          <p:cNvSpPr/>
          <p:nvPr/>
        </p:nvSpPr>
        <p:spPr>
          <a:xfrm>
            <a:off x="3886200" y="3048120"/>
            <a:ext cx="2743200" cy="38088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55442" h="21600">
                <a:moveTo>
                  <a:pt x="0" y="0"/>
                </a:moveTo>
                <a:lnTo>
                  <a:pt x="155442" y="0"/>
                </a:lnTo>
                <a:lnTo>
                  <a:pt x="155442" y="21600"/>
                </a:lnTo>
                <a:lnTo>
                  <a:pt x="0" y="21600"/>
                </a:lnTo>
                <a:close/>
              </a:path>
              <a:path fill="lightenLess" w="155442" h="21600">
                <a:moveTo>
                  <a:pt x="0" y="0"/>
                </a:moveTo>
                <a:lnTo>
                  <a:pt x="155442" y="0"/>
                </a:lnTo>
                <a:lnTo>
                  <a:pt x="154043" y="1400"/>
                </a:lnTo>
                <a:lnTo>
                  <a:pt x="1400" y="1400"/>
                </a:lnTo>
                <a:close/>
              </a:path>
              <a:path fill="darken" w="155442" h="21600">
                <a:moveTo>
                  <a:pt x="155442" y="0"/>
                </a:moveTo>
                <a:lnTo>
                  <a:pt x="155442" y="21600"/>
                </a:lnTo>
                <a:lnTo>
                  <a:pt x="154043" y="20200"/>
                </a:lnTo>
                <a:lnTo>
                  <a:pt x="154043" y="1400"/>
                </a:lnTo>
                <a:close/>
              </a:path>
              <a:path fill="darkenLess" w="155442" h="21600">
                <a:moveTo>
                  <a:pt x="155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043" y="20200"/>
                </a:lnTo>
                <a:close/>
              </a:path>
              <a:path fill="lighten" w="155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2819520" y="3657600"/>
            <a:ext cx="3504960" cy="380880"/>
          </a:xfrm>
          <a:custGeom>
            <a:avLst/>
            <a:gdLst>
              <a:gd name="textAreaLeft" fmla="*/ 24480 w 3504960"/>
              <a:gd name="textAreaRight" fmla="*/ 3480480 w 3504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98602" h="21600">
                <a:moveTo>
                  <a:pt x="0" y="0"/>
                </a:moveTo>
                <a:lnTo>
                  <a:pt x="198602" y="0"/>
                </a:lnTo>
                <a:lnTo>
                  <a:pt x="198602" y="21600"/>
                </a:lnTo>
                <a:lnTo>
                  <a:pt x="0" y="21600"/>
                </a:lnTo>
                <a:close/>
              </a:path>
              <a:path fill="lightenLess" w="198602" h="21600">
                <a:moveTo>
                  <a:pt x="0" y="0"/>
                </a:moveTo>
                <a:lnTo>
                  <a:pt x="198602" y="0"/>
                </a:lnTo>
                <a:lnTo>
                  <a:pt x="197202" y="1400"/>
                </a:lnTo>
                <a:lnTo>
                  <a:pt x="1400" y="1400"/>
                </a:lnTo>
                <a:close/>
              </a:path>
              <a:path fill="darken" w="198602" h="21600">
                <a:moveTo>
                  <a:pt x="198602" y="0"/>
                </a:moveTo>
                <a:lnTo>
                  <a:pt x="198602" y="21600"/>
                </a:lnTo>
                <a:lnTo>
                  <a:pt x="197202" y="20200"/>
                </a:lnTo>
                <a:lnTo>
                  <a:pt x="197202" y="1400"/>
                </a:lnTo>
                <a:close/>
              </a:path>
              <a:path fill="darkenLess" w="198602" h="21600">
                <a:moveTo>
                  <a:pt x="19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202" y="20200"/>
                </a:lnTo>
                <a:close/>
              </a:path>
              <a:path fill="lighten" w="19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228600" y="304920"/>
            <a:ext cx="8610480" cy="1160640"/>
            <a:chOff x="228600" y="304920"/>
            <a:chExt cx="8610480" cy="1160640"/>
          </a:xfrm>
        </p:grpSpPr>
        <p:sp>
          <p:nvSpPr>
            <p:cNvPr id="635" name=""/>
            <p:cNvSpPr/>
            <p:nvPr/>
          </p:nvSpPr>
          <p:spPr>
            <a:xfrm>
              <a:off x="535320" y="30492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28600" y="304920"/>
              <a:ext cx="861048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800" spc="-1" strike="noStrike">
                  <a:solidFill>
                    <a:srgbClr val="ffff00"/>
                  </a:solidFill>
                  <a:latin typeface="Times New Roman"/>
                </a:rPr>
                <a:t>4  cas:  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L ’objet est situé après le centre de 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	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	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	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     courbure.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0" y="571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L ’image est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réell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renversé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et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plus petit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que l ’obj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600200" y="1905120"/>
            <a:ext cx="5409720" cy="3581280"/>
            <a:chOff x="1600200" y="1905120"/>
            <a:chExt cx="5409720" cy="3581280"/>
          </a:xfrm>
        </p:grpSpPr>
        <p:sp>
          <p:nvSpPr>
            <p:cNvPr id="639" name=""/>
            <p:cNvSpPr/>
            <p:nvPr/>
          </p:nvSpPr>
          <p:spPr>
            <a:xfrm>
              <a:off x="1600200" y="3809880"/>
              <a:ext cx="495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 rot="10800000">
              <a:off x="5866920" y="1905120"/>
              <a:ext cx="837720" cy="358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066" y="454"/>
                    <a:pt x="2531" y="5080"/>
                    <a:pt x="2531" y="10800"/>
                  </a:cubicBezTo>
                  <a:cubicBezTo>
                    <a:pt x="2531" y="16520"/>
                    <a:pt x="12066" y="21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43240" y="190512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95880" y="205740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48160" y="220968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24480" y="236196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00440" y="25146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76760" y="274320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53080" y="289548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29040" y="31240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29040" y="31240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29040" y="33526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29040" y="35812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29040" y="38098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629040" y="40384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629040" y="42670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553080" y="449568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00440" y="49528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48160" y="518148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76760" y="4724280"/>
              <a:ext cx="38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43240" y="54864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171840" y="533376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4876920" y="3809880"/>
            <a:ext cx="759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24280" y="4038480"/>
            <a:ext cx="3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33640" y="38098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43200" y="403848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0800000">
            <a:off x="3962520" y="3809880"/>
            <a:ext cx="333360" cy="519120"/>
          </a:xfrm>
          <a:prstGeom prst="upArrow">
            <a:avLst>
              <a:gd name="adj1" fmla="val 50000"/>
              <a:gd name="adj2" fmla="val 38931"/>
            </a:avLst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295280" y="2819520"/>
            <a:ext cx="518184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504960" y="2819520"/>
            <a:ext cx="2971800" cy="19047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2819520"/>
            <a:ext cx="4419360" cy="1523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428640" y="4343400"/>
            <a:ext cx="30481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914400" y="2819520"/>
            <a:ext cx="1476360" cy="976320"/>
            <a:chOff x="914400" y="2819520"/>
            <a:chExt cx="1476360" cy="976320"/>
          </a:xfrm>
        </p:grpSpPr>
        <p:sp>
          <p:nvSpPr>
            <p:cNvPr id="671" name=""/>
            <p:cNvSpPr/>
            <p:nvPr/>
          </p:nvSpPr>
          <p:spPr>
            <a:xfrm>
              <a:off x="1905120" y="28195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14400" y="29718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Obj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88620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00100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229600" y="632448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228600" y="304920"/>
            <a:ext cx="8534520" cy="1160640"/>
            <a:chOff x="228600" y="304920"/>
            <a:chExt cx="8534520" cy="1160640"/>
          </a:xfrm>
        </p:grpSpPr>
        <p:sp>
          <p:nvSpPr>
            <p:cNvPr id="677" name=""/>
            <p:cNvSpPr/>
            <p:nvPr/>
          </p:nvSpPr>
          <p:spPr>
            <a:xfrm>
              <a:off x="228600" y="304920"/>
              <a:ext cx="85345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800" spc="-1" strike="noStrike">
                  <a:solidFill>
                    <a:srgbClr val="ffff00"/>
                  </a:solidFill>
                  <a:latin typeface="Times New Roman"/>
                </a:rPr>
                <a:t>5  cas: 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L ’objet est placé entre le miroir et le foyer  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	</a:t>
              </a:r>
              <a:r>
                <a:rPr b="0" lang="fr-FR" sz="3200" spc="-1" strike="noStrike">
                  <a:solidFill>
                    <a:srgbClr val="ff99ff"/>
                  </a:solidFill>
                  <a:latin typeface="Times New Roman"/>
                </a:rPr>
                <a:t>     principal </a:t>
              </a:r>
              <a:r>
                <a:rPr b="0" lang="fr-FR" sz="32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5320" y="30492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ffff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28600" y="5562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L ’image est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virtuell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droit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et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plus grand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que l ’obj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48520" y="6308640"/>
            <a:ext cx="266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Formu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314880" y="2362320"/>
            <a:ext cx="1143000" cy="1433520"/>
            <a:chOff x="3314880" y="2362320"/>
            <a:chExt cx="1143000" cy="1433520"/>
          </a:xfrm>
        </p:grpSpPr>
        <p:sp>
          <p:nvSpPr>
            <p:cNvPr id="682" name=""/>
            <p:cNvSpPr/>
            <p:nvPr/>
          </p:nvSpPr>
          <p:spPr>
            <a:xfrm>
              <a:off x="3962520" y="2819520"/>
              <a:ext cx="485640" cy="976320"/>
            </a:xfrm>
            <a:prstGeom prst="upArrow">
              <a:avLst>
                <a:gd name="adj1" fmla="val 50000"/>
                <a:gd name="adj2" fmla="val 50259"/>
              </a:avLst>
            </a:prstGeom>
            <a:solidFill>
              <a:srgbClr val="ff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14880" y="2362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Obj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2590920" y="2819520"/>
            <a:ext cx="251460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590560" y="1676160"/>
            <a:ext cx="4343760" cy="2743560"/>
            <a:chOff x="2590560" y="1676160"/>
            <a:chExt cx="4343760" cy="2743560"/>
          </a:xfrm>
        </p:grpSpPr>
        <p:sp>
          <p:nvSpPr>
            <p:cNvPr id="686" name=""/>
            <p:cNvSpPr/>
            <p:nvPr/>
          </p:nvSpPr>
          <p:spPr>
            <a:xfrm flipH="1">
              <a:off x="2590560" y="2819520"/>
              <a:ext cx="2514600" cy="160020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105520" y="1676160"/>
              <a:ext cx="1828800" cy="1143000"/>
            </a:xfrm>
            <a:prstGeom prst="line">
              <a:avLst/>
            </a:prstGeom>
            <a:ln w="1260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 flipV="1">
            <a:off x="2895480" y="2057400"/>
            <a:ext cx="1828800" cy="27432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19920" y="2057400"/>
            <a:ext cx="685800" cy="1752480"/>
          </a:xfrm>
          <a:prstGeom prst="upArrow">
            <a:avLst>
              <a:gd name="adj1" fmla="val 50000"/>
              <a:gd name="adj2" fmla="val 63885"/>
            </a:avLst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228600" y="1905120"/>
            <a:ext cx="8458200" cy="3581280"/>
            <a:chOff x="228600" y="1905120"/>
            <a:chExt cx="8458200" cy="3581280"/>
          </a:xfrm>
        </p:grpSpPr>
        <p:sp>
          <p:nvSpPr>
            <p:cNvPr id="691" name=""/>
            <p:cNvSpPr/>
            <p:nvPr/>
          </p:nvSpPr>
          <p:spPr>
            <a:xfrm>
              <a:off x="228600" y="3809880"/>
              <a:ext cx="495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 rot="10800000">
              <a:off x="4495320" y="1905120"/>
              <a:ext cx="838440" cy="3581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066" y="454"/>
                    <a:pt x="2531" y="5080"/>
                    <a:pt x="2531" y="10800"/>
                  </a:cubicBezTo>
                  <a:cubicBezTo>
                    <a:pt x="2531" y="16520"/>
                    <a:pt x="12066" y="21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72000" y="190512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24280" y="2057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76920" y="22096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52880" y="236232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29200" y="25146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05520" y="27432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81480" y="289548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57800" y="31240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257800" y="31240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257800" y="33526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57800" y="35812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257800" y="38098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57800" y="40384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257800" y="42670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181480" y="449568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029200" y="49528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51814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105520" y="47242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72000" y="548640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00600" y="533412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67160" y="3809880"/>
              <a:ext cx="7632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52680" y="4038480"/>
              <a:ext cx="3049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6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62040" y="3809880"/>
              <a:ext cx="76320" cy="763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371600" y="4038480"/>
              <a:ext cx="457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181480" y="3809880"/>
              <a:ext cx="3505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77120" y="236232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Im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65040" y="4167360"/>
              <a:ext cx="1843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209680" y="2057400"/>
            <a:ext cx="4648320" cy="1440"/>
            <a:chOff x="2209680" y="2057400"/>
            <a:chExt cx="4648320" cy="1440"/>
          </a:xfrm>
        </p:grpSpPr>
        <p:sp>
          <p:nvSpPr>
            <p:cNvPr id="721" name=""/>
            <p:cNvSpPr/>
            <p:nvPr/>
          </p:nvSpPr>
          <p:spPr>
            <a:xfrm flipV="1">
              <a:off x="2209680" y="2057400"/>
              <a:ext cx="243864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648320" y="2057400"/>
              <a:ext cx="2209680" cy="0"/>
            </a:xfrm>
            <a:prstGeom prst="line">
              <a:avLst/>
            </a:prstGeom>
            <a:ln w="12600">
              <a:solidFill>
                <a:srgbClr val="ff00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">
            <a:hlinkClick r:id="" action="ppaction://hlinkshowjump?jump=nextslide"/>
            <a:hlinkClick r:id="rId1"/>
          </p:cNvPr>
          <p:cNvSpPr/>
          <p:nvPr/>
        </p:nvSpPr>
        <p:spPr>
          <a:xfrm>
            <a:off x="6400800" y="6324480"/>
            <a:ext cx="2286000" cy="533520"/>
          </a:xfrm>
          <a:custGeom>
            <a:avLst/>
            <a:gdLst>
              <a:gd name="textAreaLeft" fmla="*/ 34560 w 2286000"/>
              <a:gd name="textAreaRight" fmla="*/ 2251440 w 2286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2503" h="21600">
                <a:moveTo>
                  <a:pt x="0" y="0"/>
                </a:moveTo>
                <a:lnTo>
                  <a:pt x="92503" y="0"/>
                </a:lnTo>
                <a:lnTo>
                  <a:pt x="92503" y="21600"/>
                </a:lnTo>
                <a:lnTo>
                  <a:pt x="0" y="21600"/>
                </a:lnTo>
                <a:close/>
              </a:path>
              <a:path fill="lightenLess" w="92503" h="21600">
                <a:moveTo>
                  <a:pt x="0" y="0"/>
                </a:moveTo>
                <a:lnTo>
                  <a:pt x="92503" y="0"/>
                </a:lnTo>
                <a:lnTo>
                  <a:pt x="91103" y="1400"/>
                </a:lnTo>
                <a:lnTo>
                  <a:pt x="1400" y="1400"/>
                </a:lnTo>
                <a:close/>
              </a:path>
              <a:path fill="darken" w="92503" h="21600">
                <a:moveTo>
                  <a:pt x="92503" y="0"/>
                </a:moveTo>
                <a:lnTo>
                  <a:pt x="92503" y="21600"/>
                </a:lnTo>
                <a:lnTo>
                  <a:pt x="91103" y="20200"/>
                </a:lnTo>
                <a:lnTo>
                  <a:pt x="91103" y="1400"/>
                </a:lnTo>
                <a:close/>
              </a:path>
              <a:path fill="darkenLess" w="92503" h="21600">
                <a:moveTo>
                  <a:pt x="92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103" y="20200"/>
                </a:lnTo>
                <a:close/>
              </a:path>
              <a:path fill="lighten" w="92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624852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Miroir conca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>
            <a:hlinkClick r:id="rId2" action="ppaction://hlinksldjump"/>
          </p:cNvPr>
          <p:cNvSpPr/>
          <p:nvPr/>
        </p:nvSpPr>
        <p:spPr>
          <a:xfrm>
            <a:off x="228600" y="6324480"/>
            <a:ext cx="2438280" cy="381240"/>
          </a:xfrm>
          <a:custGeom>
            <a:avLst/>
            <a:gdLst>
              <a:gd name="textAreaLeft" fmla="*/ 24480 w 2438280"/>
              <a:gd name="textAreaRight" fmla="*/ 2413800 w 24382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38036" h="21600">
                <a:moveTo>
                  <a:pt x="0" y="0"/>
                </a:moveTo>
                <a:lnTo>
                  <a:pt x="138036" y="0"/>
                </a:lnTo>
                <a:lnTo>
                  <a:pt x="138036" y="21600"/>
                </a:lnTo>
                <a:lnTo>
                  <a:pt x="0" y="21600"/>
                </a:lnTo>
                <a:close/>
              </a:path>
              <a:path fill="lightenLess" w="138036" h="21600">
                <a:moveTo>
                  <a:pt x="0" y="0"/>
                </a:moveTo>
                <a:lnTo>
                  <a:pt x="138036" y="0"/>
                </a:lnTo>
                <a:lnTo>
                  <a:pt x="136636" y="1400"/>
                </a:lnTo>
                <a:lnTo>
                  <a:pt x="1400" y="1400"/>
                </a:lnTo>
                <a:close/>
              </a:path>
              <a:path fill="darken" w="138036" h="21600">
                <a:moveTo>
                  <a:pt x="138036" y="0"/>
                </a:moveTo>
                <a:lnTo>
                  <a:pt x="138036" y="21600"/>
                </a:lnTo>
                <a:lnTo>
                  <a:pt x="136636" y="20200"/>
                </a:lnTo>
                <a:lnTo>
                  <a:pt x="136636" y="1400"/>
                </a:lnTo>
                <a:close/>
              </a:path>
              <a:path fill="darkenLess" w="138036" h="21600">
                <a:moveTo>
                  <a:pt x="138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636" y="20200"/>
                </a:lnTo>
                <a:close/>
              </a:path>
              <a:path fill="lighten" w="138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1432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trois principales équations des miroirs concave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088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14400" y="297180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362320" y="2895480"/>
            <a:ext cx="304560" cy="152640"/>
            <a:chOff x="2362320" y="2895480"/>
            <a:chExt cx="304560" cy="152640"/>
          </a:xfrm>
        </p:grpSpPr>
        <p:sp>
          <p:nvSpPr>
            <p:cNvPr id="730" name=""/>
            <p:cNvSpPr/>
            <p:nvPr/>
          </p:nvSpPr>
          <p:spPr>
            <a:xfrm>
              <a:off x="2362320" y="289548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62320" y="30481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3048120" y="297180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495680" y="2895480"/>
            <a:ext cx="304920" cy="152640"/>
            <a:chOff x="4495680" y="2895480"/>
            <a:chExt cx="304920" cy="152640"/>
          </a:xfrm>
        </p:grpSpPr>
        <p:sp>
          <p:nvSpPr>
            <p:cNvPr id="734" name=""/>
            <p:cNvSpPr/>
            <p:nvPr/>
          </p:nvSpPr>
          <p:spPr>
            <a:xfrm>
              <a:off x="4495680" y="2895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95680" y="30481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66680" y="2406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66680" y="3016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200400" y="23623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3016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57800" y="2406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34120" y="3048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3930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2362320" y="4343400"/>
            <a:ext cx="304560" cy="152280"/>
            <a:chOff x="2362320" y="4343400"/>
            <a:chExt cx="304560" cy="152280"/>
          </a:xfrm>
        </p:grpSpPr>
        <p:sp>
          <p:nvSpPr>
            <p:cNvPr id="745" name=""/>
            <p:cNvSpPr/>
            <p:nvPr/>
          </p:nvSpPr>
          <p:spPr>
            <a:xfrm>
              <a:off x="2362320" y="434340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62320" y="449568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04920" y="4006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40514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819520" y="4006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676520" y="40384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373400" y="4050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990720" y="559440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2514600" y="5442120"/>
            <a:ext cx="304560" cy="304560"/>
            <a:chOff x="2514600" y="5442120"/>
            <a:chExt cx="304560" cy="304560"/>
          </a:xfrm>
        </p:grpSpPr>
        <p:sp>
          <p:nvSpPr>
            <p:cNvPr id="754" name=""/>
            <p:cNvSpPr/>
            <p:nvPr/>
          </p:nvSpPr>
          <p:spPr>
            <a:xfrm>
              <a:off x="2514600" y="559404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666880" y="54421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6" name=""/>
          <p:cNvSpPr/>
          <p:nvPr/>
        </p:nvSpPr>
        <p:spPr>
          <a:xfrm>
            <a:off x="3048120" y="559440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4648320" y="5442120"/>
            <a:ext cx="304560" cy="152280"/>
            <a:chOff x="4648320" y="5442120"/>
            <a:chExt cx="304560" cy="152280"/>
          </a:xfrm>
        </p:grpSpPr>
        <p:sp>
          <p:nvSpPr>
            <p:cNvPr id="758" name=""/>
            <p:cNvSpPr/>
            <p:nvPr/>
          </p:nvSpPr>
          <p:spPr>
            <a:xfrm>
              <a:off x="4648320" y="54421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48320" y="559440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0" name=""/>
          <p:cNvSpPr/>
          <p:nvPr/>
        </p:nvSpPr>
        <p:spPr>
          <a:xfrm>
            <a:off x="5334120" y="559440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143000" y="56707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24080" y="56386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2193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04920" y="49528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767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62720" y="5029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86400" y="5594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90160" y="6307920"/>
            <a:ext cx="253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Miroir convex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>
            <a:hlinkClick r:id="" action="ppaction://hlinkshowjump?jump=nextslide"/>
            <a:hlinkClick r:id="rId1"/>
          </p:cNvPr>
          <p:cNvSpPr/>
          <p:nvPr/>
        </p:nvSpPr>
        <p:spPr>
          <a:xfrm>
            <a:off x="3809880" y="6324480"/>
            <a:ext cx="2819520" cy="533520"/>
          </a:xfrm>
          <a:custGeom>
            <a:avLst/>
            <a:gdLst>
              <a:gd name="textAreaLeft" fmla="*/ 34560 w 2819520"/>
              <a:gd name="textAreaRight" fmla="*/ 2784960 w 2819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14088" h="21600">
                <a:moveTo>
                  <a:pt x="0" y="0"/>
                </a:moveTo>
                <a:lnTo>
                  <a:pt x="114088" y="0"/>
                </a:lnTo>
                <a:lnTo>
                  <a:pt x="114088" y="21600"/>
                </a:lnTo>
                <a:lnTo>
                  <a:pt x="0" y="21600"/>
                </a:lnTo>
                <a:close/>
              </a:path>
              <a:path fill="lightenLess" w="114088" h="21600">
                <a:moveTo>
                  <a:pt x="0" y="0"/>
                </a:moveTo>
                <a:lnTo>
                  <a:pt x="114088" y="0"/>
                </a:lnTo>
                <a:lnTo>
                  <a:pt x="112688" y="1400"/>
                </a:lnTo>
                <a:lnTo>
                  <a:pt x="1400" y="1400"/>
                </a:lnTo>
                <a:close/>
              </a:path>
              <a:path fill="darken" w="114088" h="21600">
                <a:moveTo>
                  <a:pt x="114088" y="0"/>
                </a:moveTo>
                <a:lnTo>
                  <a:pt x="114088" y="21600"/>
                </a:lnTo>
                <a:lnTo>
                  <a:pt x="112688" y="20200"/>
                </a:lnTo>
                <a:lnTo>
                  <a:pt x="112688" y="1400"/>
                </a:lnTo>
                <a:close/>
              </a:path>
              <a:path fill="darkenLess" w="114088" h="21600">
                <a:moveTo>
                  <a:pt x="114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688" y="20200"/>
                </a:lnTo>
                <a:close/>
              </a:path>
              <a:path fill="lighten" w="114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6307920"/>
            <a:ext cx="27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Miroir conca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>
            <a:hlinkClick r:id="rId2" action="ppaction://hlinksldjump"/>
          </p:cNvPr>
          <p:cNvSpPr/>
          <p:nvPr/>
        </p:nvSpPr>
        <p:spPr>
          <a:xfrm>
            <a:off x="0" y="6248520"/>
            <a:ext cx="2819520" cy="609480"/>
          </a:xfrm>
          <a:custGeom>
            <a:avLst/>
            <a:gdLst>
              <a:gd name="textAreaLeft" fmla="*/ 39240 w 2819520"/>
              <a:gd name="textAreaRight" fmla="*/ 2780280 w 2819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99878" h="21600">
                <a:moveTo>
                  <a:pt x="0" y="0"/>
                </a:moveTo>
                <a:lnTo>
                  <a:pt x="99878" y="0"/>
                </a:lnTo>
                <a:lnTo>
                  <a:pt x="99878" y="21600"/>
                </a:lnTo>
                <a:lnTo>
                  <a:pt x="0" y="21600"/>
                </a:lnTo>
                <a:close/>
              </a:path>
              <a:path fill="lightenLess" w="99878" h="21600">
                <a:moveTo>
                  <a:pt x="0" y="0"/>
                </a:moveTo>
                <a:lnTo>
                  <a:pt x="99878" y="0"/>
                </a:lnTo>
                <a:lnTo>
                  <a:pt x="98478" y="1400"/>
                </a:lnTo>
                <a:lnTo>
                  <a:pt x="1400" y="1400"/>
                </a:lnTo>
                <a:close/>
              </a:path>
              <a:path fill="darken" w="99878" h="21600">
                <a:moveTo>
                  <a:pt x="99878" y="0"/>
                </a:moveTo>
                <a:lnTo>
                  <a:pt x="99878" y="21600"/>
                </a:lnTo>
                <a:lnTo>
                  <a:pt x="98478" y="20200"/>
                </a:lnTo>
                <a:lnTo>
                  <a:pt x="98478" y="1400"/>
                </a:lnTo>
                <a:close/>
              </a:path>
              <a:path fill="darkenLess" w="99878" h="21600">
                <a:moveTo>
                  <a:pt x="99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478" y="20200"/>
                </a:lnTo>
                <a:close/>
              </a:path>
              <a:path fill="lighten" w="99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2286000" y="228600"/>
            <a:ext cx="448308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ormules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3" name="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1219320" y="228600"/>
            <a:ext cx="6781680" cy="1181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iroir convexe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457200" y="21337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>
            <a:hlinkClick r:id="rId2"/>
          </p:cNvPr>
          <p:cNvSpPr/>
          <p:nvPr/>
        </p:nvSpPr>
        <p:spPr>
          <a:xfrm>
            <a:off x="457200" y="3581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>
            <a:hlinkClick r:id="rId3" action="ppaction://hlinksldjump"/>
          </p:cNvPr>
          <p:cNvSpPr/>
          <p:nvPr/>
        </p:nvSpPr>
        <p:spPr>
          <a:xfrm>
            <a:off x="457200" y="50292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83200" y="5104800"/>
            <a:ext cx="2061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ff"/>
                </a:solidFill>
                <a:latin typeface="Times New Roman"/>
              </a:rPr>
              <a:t>Exercic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165640" y="3740040"/>
            <a:ext cx="1843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12000" y="2285280"/>
            <a:ext cx="729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ff"/>
                </a:solidFill>
                <a:latin typeface="Times New Roman"/>
              </a:rPr>
              <a:t>Image formée par un miroir convexe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509840" y="3733200"/>
            <a:ext cx="200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ff"/>
                </a:solidFill>
                <a:latin typeface="Times New Roman"/>
              </a:rPr>
              <a:t>Formul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2280" y="6172200"/>
            <a:ext cx="198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Miroir pla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019920" y="6232680"/>
            <a:ext cx="3352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Miroir conca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>
            <a:hlinkClick r:id="rId4" action="ppaction://hlinksldjump"/>
          </p:cNvPr>
          <p:cNvSpPr/>
          <p:nvPr/>
        </p:nvSpPr>
        <p:spPr>
          <a:xfrm>
            <a:off x="0" y="60199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>
            <a:hlinkClick r:id="rId5" action="ppaction://hlinksldjump"/>
          </p:cNvPr>
          <p:cNvSpPr/>
          <p:nvPr/>
        </p:nvSpPr>
        <p:spPr>
          <a:xfrm>
            <a:off x="6248520" y="5867280"/>
            <a:ext cx="2666880" cy="990720"/>
          </a:xfrm>
          <a:custGeom>
            <a:avLst/>
            <a:gdLst>
              <a:gd name="textAreaLeft" fmla="*/ 64080 w 2666880"/>
              <a:gd name="textAreaRight" fmla="*/ 2602800 w 26668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8131" h="21600">
                <a:moveTo>
                  <a:pt x="0" y="0"/>
                </a:moveTo>
                <a:lnTo>
                  <a:pt x="58131" y="0"/>
                </a:lnTo>
                <a:lnTo>
                  <a:pt x="58131" y="21600"/>
                </a:lnTo>
                <a:lnTo>
                  <a:pt x="0" y="21600"/>
                </a:lnTo>
                <a:close/>
              </a:path>
              <a:path fill="lightenLess" w="58131" h="21600">
                <a:moveTo>
                  <a:pt x="0" y="0"/>
                </a:moveTo>
                <a:lnTo>
                  <a:pt x="58131" y="0"/>
                </a:lnTo>
                <a:lnTo>
                  <a:pt x="56731" y="1400"/>
                </a:lnTo>
                <a:lnTo>
                  <a:pt x="1400" y="1400"/>
                </a:lnTo>
                <a:close/>
              </a:path>
              <a:path fill="darken" w="58131" h="21600">
                <a:moveTo>
                  <a:pt x="58131" y="0"/>
                </a:moveTo>
                <a:lnTo>
                  <a:pt x="58131" y="21600"/>
                </a:lnTo>
                <a:lnTo>
                  <a:pt x="56731" y="20200"/>
                </a:lnTo>
                <a:lnTo>
                  <a:pt x="56731" y="1400"/>
                </a:lnTo>
                <a:close/>
              </a:path>
              <a:path fill="darkenLess" w="58131" h="21600">
                <a:moveTo>
                  <a:pt x="58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31" y="20200"/>
                </a:lnTo>
                <a:close/>
              </a:path>
              <a:path fill="lighten" w="58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>
            <a:hlinkClick r:id="rId6" action="ppaction://hlinksldjump"/>
          </p:cNvPr>
          <p:cNvSpPr/>
          <p:nvPr/>
        </p:nvSpPr>
        <p:spPr>
          <a:xfrm>
            <a:off x="1447920" y="3657600"/>
            <a:ext cx="2361960" cy="838080"/>
          </a:xfrm>
          <a:custGeom>
            <a:avLst/>
            <a:gdLst>
              <a:gd name="textAreaLeft" fmla="*/ 54000 w 2361960"/>
              <a:gd name="textAreaRight" fmla="*/ 2307960 w 2361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0858" h="21600">
                <a:moveTo>
                  <a:pt x="0" y="0"/>
                </a:moveTo>
                <a:lnTo>
                  <a:pt x="60858" y="0"/>
                </a:lnTo>
                <a:lnTo>
                  <a:pt x="60858" y="21600"/>
                </a:lnTo>
                <a:lnTo>
                  <a:pt x="0" y="21600"/>
                </a:lnTo>
                <a:close/>
              </a:path>
              <a:path fill="lightenLess" w="60858" h="21600">
                <a:moveTo>
                  <a:pt x="0" y="0"/>
                </a:moveTo>
                <a:lnTo>
                  <a:pt x="60858" y="0"/>
                </a:lnTo>
                <a:lnTo>
                  <a:pt x="59458" y="1400"/>
                </a:lnTo>
                <a:lnTo>
                  <a:pt x="1400" y="1400"/>
                </a:lnTo>
                <a:close/>
              </a:path>
              <a:path fill="darken" w="60858" h="21600">
                <a:moveTo>
                  <a:pt x="60858" y="0"/>
                </a:moveTo>
                <a:lnTo>
                  <a:pt x="60858" y="21600"/>
                </a:lnTo>
                <a:lnTo>
                  <a:pt x="59458" y="20200"/>
                </a:lnTo>
                <a:lnTo>
                  <a:pt x="59458" y="1400"/>
                </a:lnTo>
                <a:close/>
              </a:path>
              <a:path fill="darkenLess" w="60858" h="21600">
                <a:moveTo>
                  <a:pt x="60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458" y="20200"/>
                </a:lnTo>
                <a:close/>
              </a:path>
              <a:path fill="lighten" w="60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>
            <a:hlinkClick r:id="rId7"/>
          </p:cNvPr>
          <p:cNvSpPr/>
          <p:nvPr/>
        </p:nvSpPr>
        <p:spPr>
          <a:xfrm>
            <a:off x="1371600" y="5029200"/>
            <a:ext cx="2286000" cy="838080"/>
          </a:xfrm>
          <a:custGeom>
            <a:avLst/>
            <a:gdLst>
              <a:gd name="textAreaLeft" fmla="*/ 54000 w 2286000"/>
              <a:gd name="textAreaRight" fmla="*/ 2232000 w 2286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8902" h="21600">
                <a:moveTo>
                  <a:pt x="0" y="0"/>
                </a:moveTo>
                <a:lnTo>
                  <a:pt x="58902" y="0"/>
                </a:lnTo>
                <a:lnTo>
                  <a:pt x="58902" y="21600"/>
                </a:lnTo>
                <a:lnTo>
                  <a:pt x="0" y="21600"/>
                </a:lnTo>
                <a:close/>
              </a:path>
              <a:path fill="lightenLess" w="58902" h="21600">
                <a:moveTo>
                  <a:pt x="0" y="0"/>
                </a:moveTo>
                <a:lnTo>
                  <a:pt x="58902" y="0"/>
                </a:lnTo>
                <a:lnTo>
                  <a:pt x="57502" y="1400"/>
                </a:lnTo>
                <a:lnTo>
                  <a:pt x="1400" y="1400"/>
                </a:lnTo>
                <a:close/>
              </a:path>
              <a:path fill="darken" w="58902" h="21600">
                <a:moveTo>
                  <a:pt x="58902" y="0"/>
                </a:moveTo>
                <a:lnTo>
                  <a:pt x="58902" y="21600"/>
                </a:lnTo>
                <a:lnTo>
                  <a:pt x="57502" y="20200"/>
                </a:lnTo>
                <a:lnTo>
                  <a:pt x="57502" y="1400"/>
                </a:lnTo>
                <a:close/>
              </a:path>
              <a:path fill="darkenLess" w="58902" h="21600">
                <a:moveTo>
                  <a:pt x="589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502" y="20200"/>
                </a:lnTo>
                <a:close/>
              </a:path>
              <a:path fill="lighten" w="589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8534520" y="152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2178000" y="228600"/>
            <a:ext cx="448308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mages formées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371600" y="914400"/>
            <a:ext cx="609588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r un miroir convexe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1" name=""/>
          <p:cNvSpPr/>
          <p:nvPr/>
        </p:nvSpPr>
        <p:spPr>
          <a:xfrm>
            <a:off x="380880" y="3962520"/>
            <a:ext cx="495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 rot="21525000">
            <a:off x="4951080" y="2052720"/>
            <a:ext cx="838080" cy="358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66" y="454"/>
                  <a:pt x="2531" y="5080"/>
                  <a:pt x="2531" y="10800"/>
                </a:cubicBezTo>
                <a:cubicBezTo>
                  <a:pt x="2531" y="16520"/>
                  <a:pt x="12066" y="2114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791320" y="5631840"/>
            <a:ext cx="380880" cy="4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5105520" y="4650120"/>
            <a:ext cx="38088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5029200" y="4194720"/>
            <a:ext cx="38088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5029200" y="3966120"/>
            <a:ext cx="38088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952520" y="3881880"/>
            <a:ext cx="38124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4952520" y="3508920"/>
            <a:ext cx="38124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5029200" y="3043800"/>
            <a:ext cx="38088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181120" y="2662560"/>
            <a:ext cx="38124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334120" y="2358000"/>
            <a:ext cx="38088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5638320" y="2129400"/>
            <a:ext cx="38124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5409720" y="2203920"/>
            <a:ext cx="381240" cy="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4114800"/>
            <a:ext cx="3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686560" y="3048120"/>
            <a:ext cx="333360" cy="914400"/>
          </a:xfrm>
          <a:prstGeom prst="upArrow">
            <a:avLst>
              <a:gd name="adj1" fmla="val 50000"/>
              <a:gd name="adj2" fmla="val 68575"/>
            </a:avLst>
          </a:prstGeom>
          <a:solidFill>
            <a:srgbClr val="ff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2209680"/>
            <a:ext cx="2514600" cy="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409360" y="2286000"/>
            <a:ext cx="1600200" cy="2514600"/>
          </a:xfrm>
          <a:prstGeom prst="line">
            <a:avLst/>
          </a:prstGeom>
          <a:ln w="1260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4120" y="3962520"/>
            <a:ext cx="350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133360" y="3048120"/>
            <a:ext cx="28191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00400" y="2209680"/>
            <a:ext cx="685800" cy="1752840"/>
          </a:xfrm>
          <a:prstGeom prst="upArrow">
            <a:avLst>
              <a:gd name="adj1" fmla="val 50000"/>
              <a:gd name="adj2" fmla="val 63898"/>
            </a:avLst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8108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63868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 flipV="1">
            <a:off x="4975560" y="2978640"/>
            <a:ext cx="1858680" cy="1204920"/>
          </a:xfrm>
          <a:prstGeom prst="line">
            <a:avLst/>
          </a:prstGeom>
          <a:ln w="12600">
            <a:solidFill>
              <a:srgbClr val="ff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486400" y="5334120"/>
            <a:ext cx="380880" cy="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5257800" y="5029200"/>
            <a:ext cx="380880" cy="3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77120" y="3962520"/>
            <a:ext cx="7596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05320" y="2209680"/>
            <a:ext cx="1523880" cy="83844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5105160" y="1905120"/>
            <a:ext cx="228600" cy="3045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952880" y="3048120"/>
            <a:ext cx="2667240" cy="0"/>
          </a:xfrm>
          <a:prstGeom prst="line">
            <a:avLst/>
          </a:prstGeom>
          <a:ln w="12600">
            <a:solidFill>
              <a:srgbClr val="ff00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-24840" y="5715000"/>
            <a:ext cx="90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L ’image est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virtuell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,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droit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et </a:t>
            </a:r>
            <a:r>
              <a:rPr b="0" lang="fr-FR" sz="3200" spc="-1" strike="noStrike" u="sng">
                <a:solidFill>
                  <a:srgbClr val="ff99ff"/>
                </a:solidFill>
                <a:uFillTx/>
                <a:latin typeface="Times New Roman"/>
              </a:rPr>
              <a:t>plus petite</a:t>
            </a:r>
            <a:r>
              <a:rPr b="0" lang="fr-FR" sz="3200" spc="-1" strike="noStrike">
                <a:solidFill>
                  <a:srgbClr val="ff99ff"/>
                </a:solidFill>
                <a:latin typeface="Times New Roman"/>
              </a:rPr>
              <a:t> que l ’obj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624852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Miroir</a:t>
            </a:r>
            <a:r>
              <a:rPr b="0" lang="fr-FR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convex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nextslide"/>
          </p:cNvPr>
          <p:cNvSpPr/>
          <p:nvPr/>
        </p:nvSpPr>
        <p:spPr>
          <a:xfrm>
            <a:off x="6858000" y="630864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Formu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457200" y="1447920"/>
            <a:ext cx="8458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ffffff"/>
                </a:solidFill>
                <a:latin typeface="Times New Roman"/>
              </a:rPr>
              <a:t>Pour obtenir les résultats, on utilise les mêmes formules que celles du miroir concave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447920" y="26798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7080" y="275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981080" y="336564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429000" y="3289320"/>
            <a:ext cx="304560" cy="152280"/>
            <a:chOff x="3429000" y="3289320"/>
            <a:chExt cx="304560" cy="152280"/>
          </a:xfrm>
        </p:grpSpPr>
        <p:sp>
          <p:nvSpPr>
            <p:cNvPr id="828" name=""/>
            <p:cNvSpPr/>
            <p:nvPr/>
          </p:nvSpPr>
          <p:spPr>
            <a:xfrm>
              <a:off x="3429000" y="32893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29000" y="344160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4114800" y="336564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5562720" y="3289320"/>
            <a:ext cx="304560" cy="152280"/>
            <a:chOff x="5562720" y="3289320"/>
            <a:chExt cx="304560" cy="152280"/>
          </a:xfrm>
        </p:grpSpPr>
        <p:sp>
          <p:nvSpPr>
            <p:cNvPr id="832" name=""/>
            <p:cNvSpPr/>
            <p:nvPr/>
          </p:nvSpPr>
          <p:spPr>
            <a:xfrm>
              <a:off x="5562720" y="32893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562720" y="344160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6248520" y="3365640"/>
            <a:ext cx="990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133720" y="28004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133720" y="3409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67080" y="34099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324480" y="280044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400800" y="3441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67080" y="4324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429000" y="4737240"/>
            <a:ext cx="304560" cy="152280"/>
            <a:chOff x="3429000" y="4737240"/>
            <a:chExt cx="304560" cy="152280"/>
          </a:xfrm>
        </p:grpSpPr>
        <p:sp>
          <p:nvSpPr>
            <p:cNvPr id="842" name=""/>
            <p:cNvSpPr/>
            <p:nvPr/>
          </p:nvSpPr>
          <p:spPr>
            <a:xfrm>
              <a:off x="3429000" y="473724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29000" y="48895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1371600" y="44006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28800" y="4444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86200" y="4400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743200" y="443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440080" y="44445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057400" y="5987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3581280" y="5835600"/>
            <a:ext cx="304560" cy="304920"/>
            <a:chOff x="3581280" y="5835600"/>
            <a:chExt cx="304560" cy="304920"/>
          </a:xfrm>
        </p:grpSpPr>
        <p:sp>
          <p:nvSpPr>
            <p:cNvPr id="851" name=""/>
            <p:cNvSpPr/>
            <p:nvPr/>
          </p:nvSpPr>
          <p:spPr>
            <a:xfrm>
              <a:off x="3581280" y="598788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33560" y="583560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4114800" y="5987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5715000" y="5835600"/>
            <a:ext cx="304920" cy="152280"/>
            <a:chOff x="5715000" y="5835600"/>
            <a:chExt cx="304920" cy="152280"/>
          </a:xfrm>
        </p:grpSpPr>
        <p:sp>
          <p:nvSpPr>
            <p:cNvPr id="855" name=""/>
            <p:cNvSpPr/>
            <p:nvPr/>
          </p:nvSpPr>
          <p:spPr>
            <a:xfrm>
              <a:off x="5715000" y="58356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15000" y="59878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400800" y="5987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209680" y="6064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91120" y="60325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0" y="54230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371600" y="5346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343400" y="54230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629400" y="54230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553080" y="5987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010280" y="601992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00"/>
                </a:solidFill>
                <a:latin typeface="Times New Roman"/>
              </a:rPr>
              <a:t>Exerci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>
            <a:hlinkClick r:id="" action="ppaction://hlinkshowjump?jump=nextslide"/>
            <a:hlinkClick r:id="rId1"/>
          </p:cNvPr>
          <p:cNvSpPr/>
          <p:nvPr/>
        </p:nvSpPr>
        <p:spPr>
          <a:xfrm>
            <a:off x="7467480" y="5943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2178000" y="228600"/>
            <a:ext cx="448308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ormules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57592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Miroir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convex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0" y="175248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Vous placez une bougie de 5 cm de hauteur à 10 cm d ’un miroir convexe dont le rayon de courbure est de 8 c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Déterminez les caractéristiques de l ’image obten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200400" y="5181480"/>
            <a:ext cx="2514600" cy="1143000"/>
            <a:chOff x="3200400" y="5181480"/>
            <a:chExt cx="2514600" cy="1143000"/>
          </a:xfrm>
        </p:grpSpPr>
        <p:sp>
          <p:nvSpPr>
            <p:cNvPr id="871" name=""/>
            <p:cNvSpPr/>
            <p:nvPr/>
          </p:nvSpPr>
          <p:spPr>
            <a:xfrm>
              <a:off x="3200400" y="5181480"/>
              <a:ext cx="2514600" cy="11430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00400" y="5530680"/>
              <a:ext cx="2438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600" spc="-1" strike="noStrike">
                  <a:solidFill>
                    <a:srgbClr val="ff0033"/>
                  </a:solidFill>
                  <a:latin typeface="Times New Roman"/>
                </a:rPr>
                <a:t>Caractéristique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6095880" y="528624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033"/>
                </a:solidFill>
                <a:latin typeface="Times New Roman"/>
              </a:rPr>
              <a:t>Solution graphiq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095880" y="5181480"/>
            <a:ext cx="2514600" cy="1143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>
            <a:hlinkClick r:id="rId1"/>
          </p:cNvPr>
          <p:cNvSpPr/>
          <p:nvPr/>
        </p:nvSpPr>
        <p:spPr>
          <a:xfrm>
            <a:off x="6095880" y="5334120"/>
            <a:ext cx="2362320" cy="914400"/>
          </a:xfrm>
          <a:custGeom>
            <a:avLst/>
            <a:gdLst>
              <a:gd name="textAreaLeft" fmla="*/ 59040 w 2362320"/>
              <a:gd name="textAreaRight" fmla="*/ 2303280 w 2362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5789" h="21600">
                <a:moveTo>
                  <a:pt x="0" y="0"/>
                </a:moveTo>
                <a:lnTo>
                  <a:pt x="55789" y="0"/>
                </a:lnTo>
                <a:lnTo>
                  <a:pt x="55789" y="21600"/>
                </a:lnTo>
                <a:lnTo>
                  <a:pt x="0" y="21600"/>
                </a:lnTo>
                <a:close/>
              </a:path>
              <a:path fill="lightenLess" w="55789" h="21600">
                <a:moveTo>
                  <a:pt x="0" y="0"/>
                </a:moveTo>
                <a:lnTo>
                  <a:pt x="55789" y="0"/>
                </a:lnTo>
                <a:lnTo>
                  <a:pt x="54389" y="1400"/>
                </a:lnTo>
                <a:lnTo>
                  <a:pt x="1400" y="1400"/>
                </a:lnTo>
                <a:close/>
              </a:path>
              <a:path fill="darken" w="55789" h="21600">
                <a:moveTo>
                  <a:pt x="55789" y="0"/>
                </a:moveTo>
                <a:lnTo>
                  <a:pt x="55789" y="21600"/>
                </a:lnTo>
                <a:lnTo>
                  <a:pt x="54389" y="20200"/>
                </a:lnTo>
                <a:lnTo>
                  <a:pt x="54389" y="1400"/>
                </a:lnTo>
                <a:close/>
              </a:path>
              <a:path fill="darkenLess" w="55789" h="21600">
                <a:moveTo>
                  <a:pt x="55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89" y="20200"/>
                </a:lnTo>
                <a:close/>
              </a:path>
              <a:path fill="lighten" w="55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>
            <a:hlinkClick r:id="rId2"/>
          </p:cNvPr>
          <p:cNvSpPr/>
          <p:nvPr/>
        </p:nvSpPr>
        <p:spPr>
          <a:xfrm>
            <a:off x="3352680" y="5334120"/>
            <a:ext cx="2210040" cy="914400"/>
          </a:xfrm>
          <a:custGeom>
            <a:avLst/>
            <a:gdLst>
              <a:gd name="textAreaLeft" fmla="*/ 59040 w 2210040"/>
              <a:gd name="textAreaRight" fmla="*/ 2151000 w 2210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194" h="21600">
                <a:moveTo>
                  <a:pt x="0" y="0"/>
                </a:moveTo>
                <a:lnTo>
                  <a:pt x="52194" y="0"/>
                </a:lnTo>
                <a:lnTo>
                  <a:pt x="52194" y="21600"/>
                </a:lnTo>
                <a:lnTo>
                  <a:pt x="0" y="21600"/>
                </a:lnTo>
                <a:close/>
              </a:path>
              <a:path fill="lightenLess" w="52194" h="21600">
                <a:moveTo>
                  <a:pt x="0" y="0"/>
                </a:moveTo>
                <a:lnTo>
                  <a:pt x="52194" y="0"/>
                </a:lnTo>
                <a:lnTo>
                  <a:pt x="50794" y="1400"/>
                </a:lnTo>
                <a:lnTo>
                  <a:pt x="1400" y="1400"/>
                </a:lnTo>
                <a:close/>
              </a:path>
              <a:path fill="darken" w="52194" h="21600">
                <a:moveTo>
                  <a:pt x="52194" y="0"/>
                </a:moveTo>
                <a:lnTo>
                  <a:pt x="52194" y="21600"/>
                </a:lnTo>
                <a:lnTo>
                  <a:pt x="50794" y="20200"/>
                </a:lnTo>
                <a:lnTo>
                  <a:pt x="50794" y="1400"/>
                </a:lnTo>
                <a:close/>
              </a:path>
              <a:path fill="darkenLess" w="52194" h="21600">
                <a:moveTo>
                  <a:pt x="52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794" y="20200"/>
                </a:lnTo>
                <a:close/>
              </a:path>
              <a:path fill="lighten" w="52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28600" y="5181480"/>
            <a:ext cx="2514600" cy="1143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28600" y="53020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33"/>
                </a:solidFill>
                <a:latin typeface="Times New Roman"/>
              </a:rPr>
              <a:t>Solution algébr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>
            <a:hlinkClick r:id="rId3"/>
          </p:cNvPr>
          <p:cNvSpPr/>
          <p:nvPr/>
        </p:nvSpPr>
        <p:spPr>
          <a:xfrm>
            <a:off x="380880" y="5334120"/>
            <a:ext cx="2057400" cy="99036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44864" h="21600">
                <a:moveTo>
                  <a:pt x="0" y="0"/>
                </a:moveTo>
                <a:lnTo>
                  <a:pt x="44864" y="0"/>
                </a:lnTo>
                <a:lnTo>
                  <a:pt x="44864" y="21600"/>
                </a:lnTo>
                <a:lnTo>
                  <a:pt x="0" y="21600"/>
                </a:lnTo>
                <a:close/>
              </a:path>
              <a:path fill="lightenLess" w="44864" h="21600">
                <a:moveTo>
                  <a:pt x="0" y="0"/>
                </a:moveTo>
                <a:lnTo>
                  <a:pt x="44864" y="0"/>
                </a:lnTo>
                <a:lnTo>
                  <a:pt x="43464" y="1400"/>
                </a:lnTo>
                <a:lnTo>
                  <a:pt x="1400" y="1400"/>
                </a:lnTo>
                <a:close/>
              </a:path>
              <a:path fill="darken" w="44864" h="21600">
                <a:moveTo>
                  <a:pt x="44864" y="0"/>
                </a:moveTo>
                <a:lnTo>
                  <a:pt x="44864" y="21600"/>
                </a:lnTo>
                <a:lnTo>
                  <a:pt x="43464" y="20200"/>
                </a:lnTo>
                <a:lnTo>
                  <a:pt x="43464" y="1400"/>
                </a:lnTo>
                <a:close/>
              </a:path>
              <a:path fill="darkenLess" w="44864" h="21600">
                <a:moveTo>
                  <a:pt x="44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64" y="20200"/>
                </a:lnTo>
                <a:close/>
              </a:path>
              <a:path fill="lighten" w="44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2178000" y="228600"/>
            <a:ext cx="448308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Exercices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339920" y="3614760"/>
            <a:ext cx="3989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 rot="21525000">
            <a:off x="5022000" y="1569960"/>
            <a:ext cx="673200" cy="383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066" y="454"/>
                  <a:pt x="2531" y="5080"/>
                  <a:pt x="2531" y="10800"/>
                </a:cubicBezTo>
                <a:cubicBezTo>
                  <a:pt x="2531" y="16520"/>
                  <a:pt x="12066" y="2114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5697360" y="5398920"/>
            <a:ext cx="308160" cy="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5144760" y="4352760"/>
            <a:ext cx="30780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084280" y="3863880"/>
            <a:ext cx="30636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5084280" y="3619440"/>
            <a:ext cx="30636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022360" y="3530520"/>
            <a:ext cx="30636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5022360" y="3130560"/>
            <a:ext cx="30636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084280" y="2633760"/>
            <a:ext cx="30636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5206680" y="2225520"/>
            <a:ext cx="30636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5329080" y="1900080"/>
            <a:ext cx="30816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574960" y="1655640"/>
            <a:ext cx="30636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5390640" y="1733400"/>
            <a:ext cx="306360" cy="6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62680" y="3745080"/>
            <a:ext cx="24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557680" y="3189240"/>
            <a:ext cx="349560" cy="444600"/>
          </a:xfrm>
          <a:prstGeom prst="upArrow">
            <a:avLst>
              <a:gd name="adj1" fmla="val 50000"/>
              <a:gd name="adj2" fmla="val 31797"/>
            </a:avLst>
          </a:prstGeom>
          <a:solidFill>
            <a:srgbClr val="ff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329080" y="3614760"/>
            <a:ext cx="282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908000" y="2190600"/>
            <a:ext cx="567000" cy="1432080"/>
          </a:xfrm>
          <a:prstGeom prst="upArrow">
            <a:avLst>
              <a:gd name="adj1" fmla="val 50000"/>
              <a:gd name="adj2" fmla="val 63143"/>
            </a:avLst>
          </a:prstGeom>
          <a:solidFill>
            <a:srgbClr val="00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11120" y="152388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Ob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18240" y="274464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52560" y="5082840"/>
            <a:ext cx="306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268600" y="4757400"/>
            <a:ext cx="3063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45120" y="3614760"/>
            <a:ext cx="60480" cy="81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76520" y="3633840"/>
            <a:ext cx="60480" cy="81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475000" y="3411360"/>
            <a:ext cx="325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89600" y="3633840"/>
            <a:ext cx="0" cy="55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2232000" y="4189320"/>
            <a:ext cx="27576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2232000" y="3633480"/>
            <a:ext cx="0" cy="555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62440" y="4189320"/>
            <a:ext cx="12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0 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2637000" y="3188880"/>
            <a:ext cx="0" cy="444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637000" y="3189240"/>
            <a:ext cx="235260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989600" y="3189240"/>
            <a:ext cx="0" cy="444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962440" y="2744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8 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54520" y="3633840"/>
            <a:ext cx="60120" cy="81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664080" y="3633840"/>
            <a:ext cx="51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1663200" y="3633840"/>
            <a:ext cx="406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663560" y="2190240"/>
            <a:ext cx="0" cy="144324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663560" y="2190600"/>
            <a:ext cx="487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633760"/>
            <a:ext cx="13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5 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51000" y="2190600"/>
            <a:ext cx="3083040" cy="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51600" y="2190600"/>
            <a:ext cx="1460160" cy="2330640"/>
          </a:xfrm>
          <a:prstGeom prst="line">
            <a:avLst/>
          </a:prstGeom>
          <a:ln w="3816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4908240" y="1746360"/>
            <a:ext cx="243000" cy="44424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2150640" y="2190240"/>
            <a:ext cx="2838600" cy="1443240"/>
          </a:xfrm>
          <a:prstGeom prst="line">
            <a:avLst/>
          </a:prstGeom>
          <a:ln w="3816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232000" y="3633840"/>
            <a:ext cx="2757600" cy="1442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4989600" y="2522160"/>
            <a:ext cx="1622160" cy="1111320"/>
          </a:xfrm>
          <a:prstGeom prst="line">
            <a:avLst/>
          </a:prstGeom>
          <a:ln w="381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1522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ffff00"/>
                </a:solidFill>
                <a:uFillTx/>
                <a:latin typeface="Times New Roman"/>
              </a:rPr>
              <a:t>Solution graph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6324480" y="5334120"/>
            <a:ext cx="2514600" cy="1143000"/>
            <a:chOff x="6324480" y="5334120"/>
            <a:chExt cx="2514600" cy="1143000"/>
          </a:xfrm>
        </p:grpSpPr>
        <p:sp>
          <p:nvSpPr>
            <p:cNvPr id="927" name=""/>
            <p:cNvSpPr/>
            <p:nvPr/>
          </p:nvSpPr>
          <p:spPr>
            <a:xfrm>
              <a:off x="6324480" y="5334120"/>
              <a:ext cx="2514600" cy="11430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24480" y="5454720"/>
              <a:ext cx="24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0033"/>
                  </a:solidFill>
                  <a:latin typeface="Times New Roman"/>
                </a:rPr>
                <a:t>Solution algébriq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04920" y="5334120"/>
            <a:ext cx="2514600" cy="1143000"/>
            <a:chOff x="304920" y="5334120"/>
            <a:chExt cx="2514600" cy="1143000"/>
          </a:xfrm>
        </p:grpSpPr>
        <p:sp>
          <p:nvSpPr>
            <p:cNvPr id="930" name=""/>
            <p:cNvSpPr/>
            <p:nvPr/>
          </p:nvSpPr>
          <p:spPr>
            <a:xfrm>
              <a:off x="304920" y="5334120"/>
              <a:ext cx="2514600" cy="11430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4920" y="5683320"/>
              <a:ext cx="2438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600" spc="-1" strike="noStrike">
                  <a:solidFill>
                    <a:srgbClr val="ff0033"/>
                  </a:solidFill>
                  <a:latin typeface="Times New Roman"/>
                </a:rPr>
                <a:t>Caractéristique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2" name="">
            <a:hlinkClick r:id="rId1" action="ppaction://hlinksldjump"/>
          </p:cNvPr>
          <p:cNvSpPr/>
          <p:nvPr/>
        </p:nvSpPr>
        <p:spPr>
          <a:xfrm>
            <a:off x="6705720" y="5334120"/>
            <a:ext cx="1752480" cy="1143000"/>
          </a:xfrm>
          <a:custGeom>
            <a:avLst/>
            <a:gdLst>
              <a:gd name="textAreaLeft" fmla="*/ 73800 w 1752480"/>
              <a:gd name="textAreaRight" fmla="*/ 1678680 w 17524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3114" h="21600">
                <a:moveTo>
                  <a:pt x="0" y="0"/>
                </a:moveTo>
                <a:lnTo>
                  <a:pt x="33114" y="0"/>
                </a:lnTo>
                <a:lnTo>
                  <a:pt x="33114" y="21600"/>
                </a:lnTo>
                <a:lnTo>
                  <a:pt x="0" y="21600"/>
                </a:lnTo>
                <a:close/>
              </a:path>
              <a:path fill="lightenLess" w="33114" h="21600">
                <a:moveTo>
                  <a:pt x="0" y="0"/>
                </a:moveTo>
                <a:lnTo>
                  <a:pt x="33114" y="0"/>
                </a:lnTo>
                <a:lnTo>
                  <a:pt x="31714" y="1400"/>
                </a:lnTo>
                <a:lnTo>
                  <a:pt x="1400" y="1400"/>
                </a:lnTo>
                <a:close/>
              </a:path>
              <a:path fill="darken" w="33114" h="21600">
                <a:moveTo>
                  <a:pt x="33114" y="0"/>
                </a:moveTo>
                <a:lnTo>
                  <a:pt x="33114" y="21600"/>
                </a:lnTo>
                <a:lnTo>
                  <a:pt x="31714" y="20200"/>
                </a:lnTo>
                <a:lnTo>
                  <a:pt x="31714" y="1400"/>
                </a:lnTo>
                <a:close/>
              </a:path>
              <a:path fill="darkenLess" w="33114" h="21600">
                <a:moveTo>
                  <a:pt x="3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14" y="20200"/>
                </a:lnTo>
                <a:close/>
              </a:path>
              <a:path fill="lighten" w="3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>
            <a:hlinkClick r:id="rId2" action="ppaction://hlinksldjump"/>
          </p:cNvPr>
          <p:cNvSpPr/>
          <p:nvPr/>
        </p:nvSpPr>
        <p:spPr>
          <a:xfrm>
            <a:off x="380880" y="5410080"/>
            <a:ext cx="2438640" cy="990720"/>
          </a:xfrm>
          <a:custGeom>
            <a:avLst/>
            <a:gdLst>
              <a:gd name="textAreaLeft" fmla="*/ 64080 w 2438640"/>
              <a:gd name="textAreaRight" fmla="*/ 2374560 w 2438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3157" h="21600">
                <a:moveTo>
                  <a:pt x="0" y="0"/>
                </a:moveTo>
                <a:lnTo>
                  <a:pt x="53157" y="0"/>
                </a:lnTo>
                <a:lnTo>
                  <a:pt x="53157" y="21600"/>
                </a:lnTo>
                <a:lnTo>
                  <a:pt x="0" y="21600"/>
                </a:lnTo>
                <a:close/>
              </a:path>
              <a:path fill="lightenLess" w="53157" h="21600">
                <a:moveTo>
                  <a:pt x="0" y="0"/>
                </a:moveTo>
                <a:lnTo>
                  <a:pt x="53157" y="0"/>
                </a:lnTo>
                <a:lnTo>
                  <a:pt x="51757" y="1400"/>
                </a:lnTo>
                <a:lnTo>
                  <a:pt x="1400" y="1400"/>
                </a:lnTo>
                <a:close/>
              </a:path>
              <a:path fill="darken" w="53157" h="21600">
                <a:moveTo>
                  <a:pt x="53157" y="0"/>
                </a:moveTo>
                <a:lnTo>
                  <a:pt x="53157" y="21600"/>
                </a:lnTo>
                <a:lnTo>
                  <a:pt x="51757" y="20200"/>
                </a:lnTo>
                <a:lnTo>
                  <a:pt x="51757" y="1400"/>
                </a:lnTo>
                <a:close/>
              </a:path>
              <a:path fill="darkenLess" w="53157" h="21600">
                <a:moveTo>
                  <a:pt x="5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57" y="20200"/>
                </a:lnTo>
                <a:close/>
              </a:path>
              <a:path fill="lighten" w="5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-304920" y="7632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ffff00"/>
                </a:solidFill>
                <a:uFillTx/>
                <a:latin typeface="Times New Roman"/>
              </a:rPr>
              <a:t>Solution algébr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8600" y="990720"/>
            <a:ext cx="2666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o = 5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o = 10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   = 8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-304920" y="3352680"/>
            <a:ext cx="4496040" cy="520560"/>
            <a:chOff x="-304920" y="3352680"/>
            <a:chExt cx="4496040" cy="520560"/>
          </a:xfrm>
        </p:grpSpPr>
        <p:sp>
          <p:nvSpPr>
            <p:cNvPr id="937" name=""/>
            <p:cNvSpPr/>
            <p:nvPr/>
          </p:nvSpPr>
          <p:spPr>
            <a:xfrm>
              <a:off x="-304920" y="3352680"/>
              <a:ext cx="449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imes New Roman"/>
                </a:rPr>
                <a:t>Lf = C /2        8/2 = 4 cm     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600200" y="35956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6320" y="4052880"/>
            <a:ext cx="5562360" cy="520560"/>
            <a:chOff x="76320" y="4052880"/>
            <a:chExt cx="5562360" cy="520560"/>
          </a:xfrm>
        </p:grpSpPr>
        <p:sp>
          <p:nvSpPr>
            <p:cNvPr id="940" name=""/>
            <p:cNvSpPr/>
            <p:nvPr/>
          </p:nvSpPr>
          <p:spPr>
            <a:xfrm>
              <a:off x="76320" y="4052880"/>
              <a:ext cx="55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Times New Roman"/>
                </a:rPr>
                <a:t>Lo = do-lf             10 cm-4 cm=6 c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33720" y="428148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76320" y="6324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14400" y="6218280"/>
            <a:ext cx="304920" cy="106200"/>
            <a:chOff x="914400" y="6218280"/>
            <a:chExt cx="304920" cy="106200"/>
          </a:xfrm>
        </p:grpSpPr>
        <p:sp>
          <p:nvSpPr>
            <p:cNvPr id="945" name=""/>
            <p:cNvSpPr/>
            <p:nvPr/>
          </p:nvSpPr>
          <p:spPr>
            <a:xfrm>
              <a:off x="914400" y="62182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14400" y="6324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1447920" y="6338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447920" y="5729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914400" y="5137200"/>
            <a:ext cx="304920" cy="152280"/>
            <a:chOff x="914400" y="5137200"/>
            <a:chExt cx="304920" cy="152280"/>
          </a:xfrm>
        </p:grpSpPr>
        <p:sp>
          <p:nvSpPr>
            <p:cNvPr id="950" name=""/>
            <p:cNvSpPr/>
            <p:nvPr/>
          </p:nvSpPr>
          <p:spPr>
            <a:xfrm>
              <a:off x="914400" y="51372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14400" y="5289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52280" y="4648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280" y="52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447920" y="5257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447920" y="4648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286000" y="5181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124080" y="4662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24080" y="5272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4038480" y="5105520"/>
            <a:ext cx="304920" cy="152280"/>
            <a:chOff x="4038480" y="5105520"/>
            <a:chExt cx="304920" cy="152280"/>
          </a:xfrm>
        </p:grpSpPr>
        <p:sp>
          <p:nvSpPr>
            <p:cNvPr id="960" name=""/>
            <p:cNvSpPr/>
            <p:nvPr/>
          </p:nvSpPr>
          <p:spPr>
            <a:xfrm>
              <a:off x="4038480" y="51055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38480" y="52578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4648320" y="5257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572000" y="4648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286000" y="62485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71800" y="5729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048120" y="6338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4038480" y="6172200"/>
            <a:ext cx="304920" cy="152280"/>
            <a:chOff x="4038480" y="6172200"/>
            <a:chExt cx="304920" cy="152280"/>
          </a:xfrm>
        </p:grpSpPr>
        <p:sp>
          <p:nvSpPr>
            <p:cNvPr id="968" name=""/>
            <p:cNvSpPr/>
            <p:nvPr/>
          </p:nvSpPr>
          <p:spPr>
            <a:xfrm>
              <a:off x="4038480" y="617220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38480" y="632448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4572000" y="5729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562720" y="5181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638680" y="4662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4 x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52280" y="51814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095880" y="5257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486400" y="62485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172200" y="5715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4 x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248520" y="6324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47920" y="5181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124080" y="51814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48320" y="5181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324480" y="51814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38880" y="51814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72000" y="62485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124080" y="62485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47920" y="62485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52280" y="62485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48320" y="6324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400800" y="62485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315200" y="62485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924680" y="4724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8001000" y="51814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924680" y="5257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077320" y="62485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924680" y="5791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153280" y="62485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534520" y="48769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53452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553080" y="228600"/>
            <a:ext cx="2514600" cy="1143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553080" y="577800"/>
            <a:ext cx="243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033"/>
                </a:solidFill>
                <a:latin typeface="Times New Roman"/>
              </a:rPr>
              <a:t>Caractéristiq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>
            <a:hlinkClick r:id="rId1" action="ppaction://hlinksldjump"/>
          </p:cNvPr>
          <p:cNvSpPr/>
          <p:nvPr/>
        </p:nvSpPr>
        <p:spPr>
          <a:xfrm>
            <a:off x="6629400" y="53352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>
            <a:hlinkClick r:id="" action="ppaction://hlinkshowjump?jump=nextslide"/>
            <a:hlinkClick r:id="rId2"/>
          </p:cNvPr>
          <p:cNvSpPr/>
          <p:nvPr/>
        </p:nvSpPr>
        <p:spPr>
          <a:xfrm>
            <a:off x="6553080" y="228600"/>
            <a:ext cx="2667240" cy="1371600"/>
          </a:xfrm>
          <a:custGeom>
            <a:avLst/>
            <a:gdLst>
              <a:gd name="textAreaLeft" fmla="*/ 88560 w 2667240"/>
              <a:gd name="textAreaRight" fmla="*/ 2578680 w 266724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41998" h="21600">
                <a:moveTo>
                  <a:pt x="0" y="0"/>
                </a:moveTo>
                <a:lnTo>
                  <a:pt x="41998" y="0"/>
                </a:lnTo>
                <a:lnTo>
                  <a:pt x="41998" y="21600"/>
                </a:lnTo>
                <a:lnTo>
                  <a:pt x="0" y="21600"/>
                </a:lnTo>
                <a:close/>
              </a:path>
              <a:path fill="lightenLess" w="41998" h="21600">
                <a:moveTo>
                  <a:pt x="0" y="0"/>
                </a:moveTo>
                <a:lnTo>
                  <a:pt x="41998" y="0"/>
                </a:lnTo>
                <a:lnTo>
                  <a:pt x="40598" y="1400"/>
                </a:lnTo>
                <a:lnTo>
                  <a:pt x="1400" y="1400"/>
                </a:lnTo>
                <a:close/>
              </a:path>
              <a:path fill="darken" w="41998" h="21600">
                <a:moveTo>
                  <a:pt x="41998" y="0"/>
                </a:moveTo>
                <a:lnTo>
                  <a:pt x="41998" y="21600"/>
                </a:lnTo>
                <a:lnTo>
                  <a:pt x="40598" y="20200"/>
                </a:lnTo>
                <a:lnTo>
                  <a:pt x="40598" y="1400"/>
                </a:lnTo>
                <a:close/>
              </a:path>
              <a:path fill="darkenLess" w="41998" h="21600">
                <a:moveTo>
                  <a:pt x="41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98" y="20200"/>
                </a:lnTo>
                <a:close/>
              </a:path>
              <a:path fill="lighten" w="41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29400" y="223848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033"/>
                </a:solidFill>
                <a:latin typeface="Times New Roman"/>
              </a:rPr>
              <a:t>Solution graphiq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29400" y="2133720"/>
            <a:ext cx="2514600" cy="1143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>
            <a:hlinkClick r:id="rId3" action="ppaction://hlinksldjump"/>
          </p:cNvPr>
          <p:cNvSpPr/>
          <p:nvPr/>
        </p:nvSpPr>
        <p:spPr>
          <a:xfrm>
            <a:off x="6629400" y="2286000"/>
            <a:ext cx="2362320" cy="914400"/>
          </a:xfrm>
          <a:custGeom>
            <a:avLst/>
            <a:gdLst>
              <a:gd name="textAreaLeft" fmla="*/ 59040 w 2362320"/>
              <a:gd name="textAreaRight" fmla="*/ 2303280 w 2362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5789" h="21600">
                <a:moveTo>
                  <a:pt x="0" y="0"/>
                </a:moveTo>
                <a:lnTo>
                  <a:pt x="55789" y="0"/>
                </a:lnTo>
                <a:lnTo>
                  <a:pt x="55789" y="21600"/>
                </a:lnTo>
                <a:lnTo>
                  <a:pt x="0" y="21600"/>
                </a:lnTo>
                <a:close/>
              </a:path>
              <a:path fill="lightenLess" w="55789" h="21600">
                <a:moveTo>
                  <a:pt x="0" y="0"/>
                </a:moveTo>
                <a:lnTo>
                  <a:pt x="55789" y="0"/>
                </a:lnTo>
                <a:lnTo>
                  <a:pt x="54389" y="1400"/>
                </a:lnTo>
                <a:lnTo>
                  <a:pt x="1400" y="1400"/>
                </a:lnTo>
                <a:close/>
              </a:path>
              <a:path fill="darken" w="55789" h="21600">
                <a:moveTo>
                  <a:pt x="55789" y="0"/>
                </a:moveTo>
                <a:lnTo>
                  <a:pt x="55789" y="21600"/>
                </a:lnTo>
                <a:lnTo>
                  <a:pt x="54389" y="20200"/>
                </a:lnTo>
                <a:lnTo>
                  <a:pt x="54389" y="1400"/>
                </a:lnTo>
                <a:close/>
              </a:path>
              <a:path fill="darkenLess" w="55789" h="21600">
                <a:moveTo>
                  <a:pt x="55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89" y="20200"/>
                </a:lnTo>
                <a:close/>
              </a:path>
              <a:path fill="lighten" w="55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">
            <a:hlinkClick r:id="rId4" action="ppaction://hlinksldjump"/>
          </p:cNvPr>
          <p:cNvSpPr/>
          <p:nvPr/>
        </p:nvSpPr>
        <p:spPr>
          <a:xfrm>
            <a:off x="6781680" y="2133720"/>
            <a:ext cx="2362320" cy="1295280"/>
          </a:xfrm>
          <a:custGeom>
            <a:avLst/>
            <a:gdLst>
              <a:gd name="textAreaLeft" fmla="*/ 83880 w 2362320"/>
              <a:gd name="textAreaRight" fmla="*/ 2278440 w 23623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9389" h="21600">
                <a:moveTo>
                  <a:pt x="0" y="0"/>
                </a:moveTo>
                <a:lnTo>
                  <a:pt x="39389" y="0"/>
                </a:lnTo>
                <a:lnTo>
                  <a:pt x="39389" y="21600"/>
                </a:lnTo>
                <a:lnTo>
                  <a:pt x="0" y="21600"/>
                </a:lnTo>
                <a:close/>
              </a:path>
              <a:path fill="lightenLess" w="39389" h="21600">
                <a:moveTo>
                  <a:pt x="0" y="0"/>
                </a:moveTo>
                <a:lnTo>
                  <a:pt x="39389" y="0"/>
                </a:lnTo>
                <a:lnTo>
                  <a:pt x="37989" y="1400"/>
                </a:lnTo>
                <a:lnTo>
                  <a:pt x="1400" y="1400"/>
                </a:lnTo>
                <a:close/>
              </a:path>
              <a:path fill="darken" w="39389" h="21600">
                <a:moveTo>
                  <a:pt x="39389" y="0"/>
                </a:moveTo>
                <a:lnTo>
                  <a:pt x="39389" y="21600"/>
                </a:lnTo>
                <a:lnTo>
                  <a:pt x="37989" y="20200"/>
                </a:lnTo>
                <a:lnTo>
                  <a:pt x="37989" y="1400"/>
                </a:lnTo>
                <a:close/>
              </a:path>
              <a:path fill="darkenLess" w="39389" h="21600">
                <a:moveTo>
                  <a:pt x="39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9" y="20200"/>
                </a:lnTo>
                <a:close/>
              </a:path>
              <a:path fill="lighten" w="39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029200" y="838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1/3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029200" y="2057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2/3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362320" y="762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i = ?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95680" y="10666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95680" y="16765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495680" y="228600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95680" y="297180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52880" y="14479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-4c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029200" y="2666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6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743200" y="1371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f = ?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743200" y="1995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 = ?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90920" y="2681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o = ? 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384120" y="304920"/>
            <a:ext cx="31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ractérist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52280" y="591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Times New Roman"/>
              </a:rPr>
              <a:t>Réfé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5638680"/>
            <a:ext cx="1981080" cy="1067040"/>
          </a:xfrm>
          <a:custGeom>
            <a:avLst/>
            <a:gdLst>
              <a:gd name="textAreaLeft" fmla="*/ 69120 w 1981080"/>
              <a:gd name="textAreaRight" fmla="*/ 1911960 w 1981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40097" h="21600">
                <a:moveTo>
                  <a:pt x="0" y="0"/>
                </a:moveTo>
                <a:lnTo>
                  <a:pt x="40097" y="0"/>
                </a:lnTo>
                <a:lnTo>
                  <a:pt x="40097" y="21600"/>
                </a:lnTo>
                <a:lnTo>
                  <a:pt x="0" y="21600"/>
                </a:lnTo>
                <a:close/>
              </a:path>
              <a:path fill="lightenLess" w="40097" h="21600">
                <a:moveTo>
                  <a:pt x="0" y="0"/>
                </a:moveTo>
                <a:lnTo>
                  <a:pt x="40097" y="0"/>
                </a:lnTo>
                <a:lnTo>
                  <a:pt x="38697" y="1400"/>
                </a:lnTo>
                <a:lnTo>
                  <a:pt x="1400" y="1400"/>
                </a:lnTo>
                <a:close/>
              </a:path>
              <a:path fill="darken" w="40097" h="21600">
                <a:moveTo>
                  <a:pt x="40097" y="0"/>
                </a:moveTo>
                <a:lnTo>
                  <a:pt x="40097" y="21600"/>
                </a:lnTo>
                <a:lnTo>
                  <a:pt x="38697" y="20200"/>
                </a:lnTo>
                <a:lnTo>
                  <a:pt x="38697" y="1400"/>
                </a:lnTo>
                <a:close/>
              </a:path>
              <a:path fill="darkenLess" w="40097" h="21600">
                <a:moveTo>
                  <a:pt x="40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7" y="20200"/>
                </a:lnTo>
                <a:close/>
              </a:path>
              <a:path fill="lighten" w="40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09480" y="1905120"/>
            <a:ext cx="853452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ffffff"/>
                </a:solidFill>
                <a:latin typeface="Times New Roman"/>
              </a:rPr>
              <a:t>1- L ’image est plus petite que l ’objet, droite,                 virtuelle et derrière le miroir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ffffff"/>
                </a:solidFill>
                <a:latin typeface="Times New Roman"/>
              </a:rPr>
              <a:t>2- Le grandissement est compris entre 0 et 1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ffffff"/>
                </a:solidFill>
                <a:latin typeface="Times New Roman"/>
              </a:rPr>
              <a:t>3- Le foyer est virtuel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324480" y="40968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0033"/>
                </a:solidFill>
                <a:latin typeface="Times New Roman"/>
              </a:rPr>
              <a:t>Solution graphiq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324480" y="304920"/>
            <a:ext cx="2514600" cy="1143000"/>
          </a:xfrm>
          <a:prstGeom prst="cloudCallout">
            <a:avLst>
              <a:gd name="adj1" fmla="val -31629"/>
              <a:gd name="adj2" fmla="val 229999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>
            <a:hlinkClick r:id="rId2"/>
          </p:cNvPr>
          <p:cNvSpPr/>
          <p:nvPr/>
        </p:nvSpPr>
        <p:spPr>
          <a:xfrm>
            <a:off x="6324480" y="457200"/>
            <a:ext cx="2362320" cy="914400"/>
          </a:xfrm>
          <a:custGeom>
            <a:avLst/>
            <a:gdLst>
              <a:gd name="textAreaLeft" fmla="*/ 59040 w 2362320"/>
              <a:gd name="textAreaRight" fmla="*/ 2303280 w 2362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5789" h="21600">
                <a:moveTo>
                  <a:pt x="0" y="0"/>
                </a:moveTo>
                <a:lnTo>
                  <a:pt x="55789" y="0"/>
                </a:lnTo>
                <a:lnTo>
                  <a:pt x="55789" y="21600"/>
                </a:lnTo>
                <a:lnTo>
                  <a:pt x="0" y="21600"/>
                </a:lnTo>
                <a:close/>
              </a:path>
              <a:path fill="lightenLess" w="55789" h="21600">
                <a:moveTo>
                  <a:pt x="0" y="0"/>
                </a:moveTo>
                <a:lnTo>
                  <a:pt x="55789" y="0"/>
                </a:lnTo>
                <a:lnTo>
                  <a:pt x="54389" y="1400"/>
                </a:lnTo>
                <a:lnTo>
                  <a:pt x="1400" y="1400"/>
                </a:lnTo>
                <a:close/>
              </a:path>
              <a:path fill="darken" w="55789" h="21600">
                <a:moveTo>
                  <a:pt x="55789" y="0"/>
                </a:moveTo>
                <a:lnTo>
                  <a:pt x="55789" y="21600"/>
                </a:lnTo>
                <a:lnTo>
                  <a:pt x="54389" y="20200"/>
                </a:lnTo>
                <a:lnTo>
                  <a:pt x="54389" y="1400"/>
                </a:lnTo>
                <a:close/>
              </a:path>
              <a:path fill="darkenLess" w="55789" h="21600">
                <a:moveTo>
                  <a:pt x="55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389" y="20200"/>
                </a:lnTo>
                <a:close/>
              </a:path>
              <a:path fill="lighten" w="55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>
            <a:hlinkClick r:id="rId3"/>
          </p:cNvPr>
          <p:cNvSpPr/>
          <p:nvPr/>
        </p:nvSpPr>
        <p:spPr>
          <a:xfrm>
            <a:off x="6477120" y="304920"/>
            <a:ext cx="2361960" cy="1295280"/>
          </a:xfrm>
          <a:custGeom>
            <a:avLst/>
            <a:gdLst>
              <a:gd name="textAreaLeft" fmla="*/ 83880 w 2361960"/>
              <a:gd name="textAreaRight" fmla="*/ 2278080 w 23619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9383" h="21600">
                <a:moveTo>
                  <a:pt x="0" y="0"/>
                </a:moveTo>
                <a:lnTo>
                  <a:pt x="39383" y="0"/>
                </a:lnTo>
                <a:lnTo>
                  <a:pt x="39383" y="21600"/>
                </a:lnTo>
                <a:lnTo>
                  <a:pt x="0" y="21600"/>
                </a:lnTo>
                <a:close/>
              </a:path>
              <a:path fill="lightenLess" w="39383" h="21600">
                <a:moveTo>
                  <a:pt x="0" y="0"/>
                </a:moveTo>
                <a:lnTo>
                  <a:pt x="39383" y="0"/>
                </a:lnTo>
                <a:lnTo>
                  <a:pt x="37983" y="1400"/>
                </a:lnTo>
                <a:lnTo>
                  <a:pt x="1400" y="1400"/>
                </a:lnTo>
                <a:close/>
              </a:path>
              <a:path fill="darken" w="39383" h="21600">
                <a:moveTo>
                  <a:pt x="39383" y="0"/>
                </a:moveTo>
                <a:lnTo>
                  <a:pt x="39383" y="21600"/>
                </a:lnTo>
                <a:lnTo>
                  <a:pt x="37983" y="20200"/>
                </a:lnTo>
                <a:lnTo>
                  <a:pt x="37983" y="1400"/>
                </a:lnTo>
                <a:close/>
              </a:path>
              <a:path fill="darkenLess" w="39383" h="21600">
                <a:moveTo>
                  <a:pt x="39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83" y="20200"/>
                </a:lnTo>
                <a:close/>
              </a:path>
              <a:path fill="lighten" w="39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534520" y="590544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676520" y="304920"/>
            <a:ext cx="59436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243837" dir="2318795" blurRad="0" rotWithShape="0">
                    <a:srgbClr val="000000"/>
                  </a:outerShdw>
                </a:effectLst>
                <a:latin typeface="Arial Black"/>
              </a:rPr>
              <a:t>Menu</a:t>
            </a:r>
            <a:endParaRPr b="0" lang="en-US" sz="6600" spc="1" strike="noStrike">
              <a:ln w="0">
                <a:noFill/>
              </a:ln>
              <a:solidFill>
                <a:srgbClr val="ff3300"/>
              </a:solidFill>
              <a:effectLst>
                <a:outerShdw dist="243837" dir="2318795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-20865960" y="1150920"/>
            <a:ext cx="50875920" cy="2849760"/>
          </a:xfrm>
          <a:custGeom>
            <a:avLst/>
            <a:gdLst>
              <a:gd name="textAreaLeft" fmla="*/ 20962800 w 50875920"/>
              <a:gd name="textAreaRight" fmla="*/ 29913120 w 50875920"/>
              <a:gd name="textAreaTop" fmla="*/ 1174320 h 2849760"/>
              <a:gd name="textAreaBottom" fmla="*/ 1675440 h 284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666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86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4382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Miroirs pla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429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5720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Miroirs concav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638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7913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Bibliograph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495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8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35812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Miroirs convex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0" y="0"/>
            <a:ext cx="9144000" cy="68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00"/>
                </a:solidFill>
                <a:latin typeface="Times New Roman"/>
              </a:rPr>
              <a:t>Références: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Burnie, David.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</a:rPr>
              <a:t>La lumièr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, Paris, Gallimard, 1992, 63 p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Bouchard, Régent.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</a:rPr>
              <a:t>Physique :        phénomènes lumineux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 ,  Montréal, Lidec inc., 1994, Pages 50 à 65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ocities. (Page consultée le 22 janvier 2000). </a:t>
            </a:r>
            <a:r>
              <a:rPr b="0" i="1" lang="fr-FR" sz="3200" spc="-1" strike="noStrike">
                <a:solidFill>
                  <a:srgbClr val="ffffff"/>
                </a:solidFill>
                <a:latin typeface="Times New Roman"/>
              </a:rPr>
              <a:t>Champ de vision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, [En ligne]. Adresse URL : http://www.geocities.com/Cape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naveral/7671/vision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534520" y="152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676520" y="304920"/>
            <a:ext cx="59436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iroirs Plans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-20865960" y="1150920"/>
            <a:ext cx="50875920" cy="2849760"/>
          </a:xfrm>
          <a:custGeom>
            <a:avLst/>
            <a:gdLst>
              <a:gd name="textAreaLeft" fmla="*/ 20962800 w 50875920"/>
              <a:gd name="textAreaRight" fmla="*/ 29913120 w 50875920"/>
              <a:gd name="textAreaTop" fmla="*/ 1174320 h 2849760"/>
              <a:gd name="textAreaBottom" fmla="*/ 1675440 h 284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66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286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2860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Laboratoi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429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5720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Exemp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638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7913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Champ de vi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4956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58128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</a:rPr>
              <a:t>Rayons lumineu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57200" y="2209680"/>
            <a:ext cx="4114800" cy="990720"/>
          </a:xfrm>
          <a:custGeom>
            <a:avLst/>
            <a:gdLst>
              <a:gd name="textAreaLeft" fmla="*/ 64080 w 4114800"/>
              <a:gd name="textAreaRight" fmla="*/ 4050720 w 4114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89687" h="21600">
                <a:moveTo>
                  <a:pt x="0" y="0"/>
                </a:moveTo>
                <a:lnTo>
                  <a:pt x="89687" y="0"/>
                </a:lnTo>
                <a:lnTo>
                  <a:pt x="89687" y="21600"/>
                </a:lnTo>
                <a:lnTo>
                  <a:pt x="0" y="21600"/>
                </a:lnTo>
                <a:close/>
              </a:path>
              <a:path fill="lightenLess" w="89687" h="21600">
                <a:moveTo>
                  <a:pt x="0" y="0"/>
                </a:moveTo>
                <a:lnTo>
                  <a:pt x="89687" y="0"/>
                </a:lnTo>
                <a:lnTo>
                  <a:pt x="88288" y="1400"/>
                </a:lnTo>
                <a:lnTo>
                  <a:pt x="1400" y="1400"/>
                </a:lnTo>
                <a:close/>
              </a:path>
              <a:path fill="darken" w="89687" h="21600">
                <a:moveTo>
                  <a:pt x="89687" y="0"/>
                </a:moveTo>
                <a:lnTo>
                  <a:pt x="89687" y="21600"/>
                </a:lnTo>
                <a:lnTo>
                  <a:pt x="88288" y="20200"/>
                </a:lnTo>
                <a:lnTo>
                  <a:pt x="88288" y="1400"/>
                </a:lnTo>
                <a:close/>
              </a:path>
              <a:path fill="darkenLess" w="89687" h="21600">
                <a:moveTo>
                  <a:pt x="89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288" y="20200"/>
                </a:lnTo>
                <a:close/>
              </a:path>
              <a:path fill="lighten" w="89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685800" y="3429000"/>
            <a:ext cx="4876920" cy="838080"/>
          </a:xfrm>
          <a:custGeom>
            <a:avLst/>
            <a:gdLst>
              <a:gd name="textAreaLeft" fmla="*/ 54000 w 4876920"/>
              <a:gd name="textAreaRight" fmla="*/ 4822920 w 4876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25649" h="21600">
                <a:moveTo>
                  <a:pt x="0" y="0"/>
                </a:moveTo>
                <a:lnTo>
                  <a:pt x="125649" y="0"/>
                </a:lnTo>
                <a:lnTo>
                  <a:pt x="125649" y="21600"/>
                </a:lnTo>
                <a:lnTo>
                  <a:pt x="0" y="21600"/>
                </a:lnTo>
                <a:close/>
              </a:path>
              <a:path fill="lightenLess" w="125649" h="21600">
                <a:moveTo>
                  <a:pt x="0" y="0"/>
                </a:moveTo>
                <a:lnTo>
                  <a:pt x="125649" y="0"/>
                </a:lnTo>
                <a:lnTo>
                  <a:pt x="124249" y="1400"/>
                </a:lnTo>
                <a:lnTo>
                  <a:pt x="1400" y="1400"/>
                </a:lnTo>
                <a:close/>
              </a:path>
              <a:path fill="darken" w="125649" h="21600">
                <a:moveTo>
                  <a:pt x="125649" y="0"/>
                </a:moveTo>
                <a:lnTo>
                  <a:pt x="125649" y="21600"/>
                </a:lnTo>
                <a:lnTo>
                  <a:pt x="124249" y="20200"/>
                </a:lnTo>
                <a:lnTo>
                  <a:pt x="124249" y="1400"/>
                </a:lnTo>
                <a:close/>
              </a:path>
              <a:path fill="darkenLess" w="125649" h="21600">
                <a:moveTo>
                  <a:pt x="125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4249" y="20200"/>
                </a:lnTo>
                <a:close/>
              </a:path>
              <a:path fill="lighten" w="125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533520" y="4495680"/>
            <a:ext cx="3581280" cy="990720"/>
          </a:xfrm>
          <a:custGeom>
            <a:avLst/>
            <a:gdLst>
              <a:gd name="textAreaLeft" fmla="*/ 64080 w 3581280"/>
              <a:gd name="textAreaRight" fmla="*/ 3517200 w 3581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78060" h="21600">
                <a:moveTo>
                  <a:pt x="0" y="0"/>
                </a:moveTo>
                <a:lnTo>
                  <a:pt x="78060" y="0"/>
                </a:lnTo>
                <a:lnTo>
                  <a:pt x="78060" y="21600"/>
                </a:lnTo>
                <a:lnTo>
                  <a:pt x="0" y="21600"/>
                </a:lnTo>
                <a:close/>
              </a:path>
              <a:path fill="lightenLess" w="78060" h="21600">
                <a:moveTo>
                  <a:pt x="0" y="0"/>
                </a:moveTo>
                <a:lnTo>
                  <a:pt x="78060" y="0"/>
                </a:lnTo>
                <a:lnTo>
                  <a:pt x="76660" y="1400"/>
                </a:lnTo>
                <a:lnTo>
                  <a:pt x="1400" y="1400"/>
                </a:lnTo>
                <a:close/>
              </a:path>
              <a:path fill="darken" w="78060" h="21600">
                <a:moveTo>
                  <a:pt x="78060" y="0"/>
                </a:moveTo>
                <a:lnTo>
                  <a:pt x="78060" y="21600"/>
                </a:lnTo>
                <a:lnTo>
                  <a:pt x="76660" y="20200"/>
                </a:lnTo>
                <a:lnTo>
                  <a:pt x="76660" y="1400"/>
                </a:lnTo>
                <a:close/>
              </a:path>
              <a:path fill="darkenLess" w="78060" h="21600">
                <a:moveTo>
                  <a:pt x="7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660" y="20200"/>
                </a:lnTo>
                <a:close/>
              </a:path>
              <a:path fill="lighten" w="7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609480" y="5638680"/>
            <a:ext cx="5181840" cy="914400"/>
          </a:xfrm>
          <a:custGeom>
            <a:avLst/>
            <a:gdLst>
              <a:gd name="textAreaLeft" fmla="*/ 59040 w 5181840"/>
              <a:gd name="textAreaRight" fmla="*/ 5122800 w 5181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2366" h="21600">
                <a:moveTo>
                  <a:pt x="0" y="0"/>
                </a:moveTo>
                <a:lnTo>
                  <a:pt x="122366" y="0"/>
                </a:lnTo>
                <a:lnTo>
                  <a:pt x="122366" y="21600"/>
                </a:lnTo>
                <a:lnTo>
                  <a:pt x="0" y="21600"/>
                </a:lnTo>
                <a:close/>
              </a:path>
              <a:path fill="lightenLess" w="122366" h="21600">
                <a:moveTo>
                  <a:pt x="0" y="0"/>
                </a:moveTo>
                <a:lnTo>
                  <a:pt x="122366" y="0"/>
                </a:lnTo>
                <a:lnTo>
                  <a:pt x="120966" y="1400"/>
                </a:lnTo>
                <a:lnTo>
                  <a:pt x="1400" y="1400"/>
                </a:lnTo>
                <a:close/>
              </a:path>
              <a:path fill="darken" w="122366" h="21600">
                <a:moveTo>
                  <a:pt x="122366" y="0"/>
                </a:moveTo>
                <a:lnTo>
                  <a:pt x="122366" y="21600"/>
                </a:lnTo>
                <a:lnTo>
                  <a:pt x="120966" y="20200"/>
                </a:lnTo>
                <a:lnTo>
                  <a:pt x="120966" y="1400"/>
                </a:lnTo>
                <a:close/>
              </a:path>
              <a:path fill="darkenLess" w="122366" h="21600">
                <a:moveTo>
                  <a:pt x="122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66" y="20200"/>
                </a:lnTo>
                <a:close/>
              </a:path>
              <a:path fill="lighten" w="122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534520" y="152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87800" y="228600"/>
            <a:ext cx="35305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aboratoire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066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Formation d ’une image dans un miroir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905120"/>
            <a:ext cx="891540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éterminer la position d ’une image formée par un miroir p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Un miroir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Objet quelconque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9600" y="617220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ffff00"/>
          </a:solidFill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  <a:hlinkClick r:id="rId1"/>
          </p:cNvPr>
          <p:cNvSpPr/>
          <p:nvPr/>
        </p:nvSpPr>
        <p:spPr>
          <a:xfrm>
            <a:off x="8153280" y="61722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905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éri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toco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066680"/>
            <a:ext cx="9144000" cy="25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1- Placer l`objet devant le miroir à une distance quelconqu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2- Observer l `image formé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3-  Recommencer l `expérience en variant les distan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entre le miroir et l `obje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4- Observer et écrire les résulta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763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ésulta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4419720"/>
            <a:ext cx="4876920" cy="2149200"/>
            <a:chOff x="685800" y="4419720"/>
            <a:chExt cx="4876920" cy="2149200"/>
          </a:xfrm>
        </p:grpSpPr>
        <p:graphicFrame>
          <p:nvGraphicFramePr>
            <p:cNvPr id="141" name=""/>
            <p:cNvGraphicFramePr/>
            <p:nvPr/>
          </p:nvGraphicFramePr>
          <p:xfrm>
            <a:off x="685800" y="4419720"/>
            <a:ext cx="4876920" cy="2149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4419720"/>
                      <a:ext cx="4876920" cy="214920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133720" y="4419720"/>
              <a:ext cx="0" cy="21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6200" y="4419720"/>
              <a:ext cx="0" cy="21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5800" y="6095880"/>
              <a:ext cx="487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5562360"/>
              <a:ext cx="487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800" y="5028840"/>
              <a:ext cx="487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 txBox="1"/>
          <p:nvPr/>
        </p:nvSpPr>
        <p:spPr>
          <a:xfrm>
            <a:off x="4572000" y="502920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Ét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toco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066680"/>
            <a:ext cx="91440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1- Placer l`objet devant le miroir à une distance quelconqu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2- Observer l `image formé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3-  Recommencer l `expérience en variant les distan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entre le miroir et l `obje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4- Observer et écrire les résulta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733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ésulta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495680"/>
            <a:ext cx="63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4419720"/>
          <a:ext cx="4876920" cy="214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19720"/>
                    <a:ext cx="4876920" cy="214920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133720" y="4419720"/>
            <a:ext cx="0" cy="21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419720"/>
            <a:ext cx="0" cy="21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588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56272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029200"/>
            <a:ext cx="4876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638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99"/>
                </a:solidFill>
                <a:latin typeface="Times New Roman"/>
              </a:rPr>
              <a:t>Clique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Ét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toco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066680"/>
            <a:ext cx="914400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1- Placer l`objet devant le miroir à une distance quelconqu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2- Observer l `image formé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3-  Recommencer l `expérience en variant les distanc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entre le miroir et l `obje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4- Observer et écrire les résultat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733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00"/>
                </a:solidFill>
                <a:uFillTx/>
                <a:latin typeface="Times New Roman"/>
              </a:rPr>
              <a:t>Résulta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4419720"/>
            <a:ext cx="4876920" cy="2149200"/>
            <a:chOff x="685800" y="4419720"/>
            <a:chExt cx="4876920" cy="2149200"/>
          </a:xfrm>
        </p:grpSpPr>
        <p:graphicFrame>
          <p:nvGraphicFramePr>
            <p:cNvPr id="167" name=""/>
            <p:cNvGraphicFramePr/>
            <p:nvPr/>
          </p:nvGraphicFramePr>
          <p:xfrm>
            <a:off x="685800" y="4419720"/>
            <a:ext cx="4876920" cy="2149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4419720"/>
                      <a:ext cx="4876920" cy="2149200"/>
                    </a:xfrm>
                    <a:prstGeom prst="rect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9" name=""/>
            <p:cNvSpPr/>
            <p:nvPr/>
          </p:nvSpPr>
          <p:spPr>
            <a:xfrm>
              <a:off x="2133720" y="4419720"/>
              <a:ext cx="0" cy="21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86200" y="4419720"/>
              <a:ext cx="0" cy="213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5800" y="6095880"/>
              <a:ext cx="487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5800" y="5562360"/>
              <a:ext cx="487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5800" y="5028840"/>
              <a:ext cx="487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 txBox="1"/>
          <p:nvPr/>
        </p:nvSpPr>
        <p:spPr>
          <a:xfrm>
            <a:off x="4572000" y="5562720"/>
            <a:ext cx="380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Ét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4T15:38:06Z</dcterms:created>
  <dc:creator>Local_301_01</dc:creator>
  <dc:description/>
  <dc:language>en-US</dc:language>
  <cp:lastModifiedBy>A. Bensaada</cp:lastModifiedBy>
  <dcterms:modified xsi:type="dcterms:W3CDTF">2000-09-27T01:03:57Z</dcterms:modified>
  <cp:revision>73</cp:revision>
  <dc:subject/>
  <dc:title>Aucun titre de diapositive</dc:title>
</cp:coreProperties>
</file>