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Musica%20Restore%20Down.wav" ContentType="audio/x-wav"/>
  <Override PartName="/ppt/media/image7.wmf" ContentType="image/x-wmf"/>
  <Override PartName="/ppt/media/Robotz%20Asterisk.wav" ContentType="audio/x-wav"/>
  <Override PartName="/ppt/media/image10.jpeg" ContentType="image/jpeg"/>
  <Override PartName="/ppt/media/Jungle%20Exclamation.wav" ContentType="audio/x-wav"/>
  <Override PartName="/ppt/media/image1.png" ContentType="image/png"/>
  <Override PartName="/ppt/media/Musica%20Windows%20Start.wav" ContentType="audio/x-wav"/>
  <Override PartName="/ppt/media/image2.png" ContentType="image/png"/>
  <Override PartName="/ppt/media/EXITJAIL.WAV" ContentType="audio/x-wav"/>
  <Override PartName="/ppt/media/image6.png" ContentType="image/png"/>
  <Override PartName="/ppt/media/image5.wmf" ContentType="image/x-wmf"/>
  <Override PartName="/ppt/media/Robotz%20Question.wav" ContentType="audio/x-wav"/>
  <Override PartName="/ppt/media/CHIMES.WAV" ContentType="audio/x-wav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021-36B8-4C55-8624-9FD7712B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1FD-5232-4CA6-883D-57C6F4A6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28A-0183-4D1B-B842-F312B2EC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E8F-5034-4F25-AB35-EB52A3B3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369-9ED1-4532-B88E-2BEA44E8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0826-90E3-4AB6-9BF3-95F16C71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559-0301-4CB9-99C5-CC6101C3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C56-716B-40E6-BB81-273BD030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B8E-7BD6-4D00-8F4E-BDBC14EB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ED9A-38CD-4C0C-982F-6FD2FF63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F00-2A6D-41C2-9A56-93F86FA0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16F-0EC0-4BE5-ABF1-794D947E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9D6B-48E0-4927-B069-37FF6A8B7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1.xml"/><Relationship Id="rId3" Type="http://schemas.openxmlformats.org/officeDocument/2006/relationships/audio" Target="../media/EXITJAI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hyperlink" Target="file:///tmp/home/.config/libreoffice/4/user/gallery/REMINDER.WAV" TargetMode="External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7.xml"/><Relationship Id="rId3" Type="http://schemas.openxmlformats.org/officeDocument/2006/relationships/hyperlink" Target="file:///tmp/home/.config/libreoffice/4/user/gallery/REMINDER.WAV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ITJAI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Jungle%20Exclamation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MINDER.WAV" TargetMode="External"/><Relationship Id="rId2" Type="http://schemas.openxmlformats.org/officeDocument/2006/relationships/audio" Target="../media/Musica%20Restore%20Down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hyperlink" Target="file:///tmp/home/.config/libreoffice/4/user/gallery/REMINDER.WAV" TargetMode="External"/><Relationship Id="rId4" Type="http://schemas.openxmlformats.org/officeDocument/2006/relationships/audio" Target="../media/Musica%20Restore%20Down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Robotz%20Asterisk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MINDER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0.xml"/><Relationship Id="rId3" Type="http://schemas.openxmlformats.org/officeDocument/2006/relationships/slide" Target="slide14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hyperlink" Target="file:///tmp/home/.config/libreoffice/4/user/gallery/REMINDER.WAV" TargetMode="External"/><Relationship Id="rId7" Type="http://schemas.openxmlformats.org/officeDocument/2006/relationships/slide" Target="slide10.xml"/><Relationship Id="rId8" Type="http://schemas.openxmlformats.org/officeDocument/2006/relationships/slide" Target="slide16.xml"/><Relationship Id="rId9" Type="http://schemas.openxmlformats.org/officeDocument/2006/relationships/slide" Target=""/><Relationship Id="rId10" Type="http://schemas.openxmlformats.org/officeDocument/2006/relationships/audio" Target="../media/Musica%20Windows%20Start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7.xml"/><Relationship Id="rId5" Type="http://schemas.openxmlformats.org/officeDocument/2006/relationships/image" Target="../media/image2.png"/><Relationship Id="rId6" Type="http://schemas.openxmlformats.org/officeDocument/2006/relationships/hyperlink" Target="file:///tmp/home/.config/libreoffice/4/user/gallery/REMINDER.WAV" TargetMode="Externa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hyperlink" Target="file:///tmp/home/.config/libreoffice/4/user/gallery/REMINDER.WAV" TargetMode="External"/><Relationship Id="rId12" Type="http://schemas.openxmlformats.org/officeDocument/2006/relationships/audio" Target="../media/EXITJAIL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audio" Target="../media/Robotz%20Question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audio" Target="../media/Robotz%20Question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Robotz%20Question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Robotz%20Question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81200" y="431640"/>
            <a:ext cx="6110280" cy="1843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latin typeface="Alleycat ICG"/>
              </a:rPr>
              <a:t>La masse et le poids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latin typeface="Alleycat ICG"/>
              <a:ea typeface="Alleycat ICG"/>
            </a:endParaRPr>
          </a:p>
        </p:txBody>
      </p:sp>
      <p:sp>
        <p:nvSpPr>
          <p:cNvPr id="42" name=""/>
          <p:cNvSpPr/>
          <p:nvPr/>
        </p:nvSpPr>
        <p:spPr>
          <a:xfrm>
            <a:off x="1044360" y="2818440"/>
            <a:ext cx="7354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Par Lisa Torchia, Félix Cerrato et Joanna Dimitrakopo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4040" y="3809160"/>
            <a:ext cx="4804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La Dauversière, Montréal, juin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95440" y="4785480"/>
            <a:ext cx="649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Stéphane Lamar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402000" y="5943600"/>
            <a:ext cx="2666880" cy="457200"/>
            <a:chOff x="3402000" y="5943600"/>
            <a:chExt cx="2666880" cy="457200"/>
          </a:xfrm>
        </p:grpSpPr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>
              <a:off x="340200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88840" y="601884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Sans%20titre" descr=""/>
          <p:cNvPicPr/>
          <p:nvPr/>
        </p:nvPicPr>
        <p:blipFill>
          <a:blip r:embed="rId1"/>
          <a:srcRect l="0" t="468" r="55574" b="0"/>
          <a:stretch/>
        </p:blipFill>
        <p:spPr>
          <a:xfrm>
            <a:off x="5791320" y="1828800"/>
            <a:ext cx="3124080" cy="4348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914400" y="3049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Georgia"/>
              </a:rPr>
              <a:t>Isaac Newton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Georgia"/>
              <a:ea typeface="Georgia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7200" y="2362320"/>
            <a:ext cx="5410080" cy="3809880"/>
          </a:xfrm>
          <a:prstGeom prst="wedgeEllipseCallout">
            <a:avLst>
              <a:gd name="adj1" fmla="val -66875"/>
              <a:gd name="adj2" fmla="val -19879"/>
            </a:avLst>
          </a:prstGeom>
          <a:solidFill>
            <a:srgbClr val="ff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6095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1642-17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685960"/>
            <a:ext cx="51051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ff"/>
                </a:solidFill>
                <a:latin typeface="Times New Roman"/>
              </a:rPr>
              <a:t>Ayant observé la ch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ff"/>
                </a:solidFill>
                <a:latin typeface="Times New Roman"/>
              </a:rPr>
              <a:t>d ’une pomme sous l ’infl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ff"/>
                </a:solidFill>
                <a:latin typeface="Times New Roman"/>
              </a:rPr>
              <a:t>de son poids, jai pensé que le mouvement pourrait s’expliquer par une force de même n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ff"/>
                </a:solidFill>
                <a:latin typeface="Times New Roman"/>
              </a:rPr>
              <a:t>Suivez-moi à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DÉ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1143000" y="5105520"/>
            <a:ext cx="3962520" cy="685800"/>
          </a:xfrm>
          <a:custGeom>
            <a:avLst/>
            <a:gdLst>
              <a:gd name="textAreaLeft" fmla="*/ 44280 w 3962520"/>
              <a:gd name="textAreaRight" fmla="*/ 3918240 w 3962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24750" h="21600">
                <a:moveTo>
                  <a:pt x="0" y="0"/>
                </a:moveTo>
                <a:lnTo>
                  <a:pt x="124750" y="0"/>
                </a:lnTo>
                <a:lnTo>
                  <a:pt x="124750" y="21600"/>
                </a:lnTo>
                <a:lnTo>
                  <a:pt x="0" y="21600"/>
                </a:lnTo>
                <a:close/>
              </a:path>
              <a:path fill="lightenLess" w="124750" h="21600">
                <a:moveTo>
                  <a:pt x="0" y="0"/>
                </a:moveTo>
                <a:lnTo>
                  <a:pt x="124750" y="0"/>
                </a:lnTo>
                <a:lnTo>
                  <a:pt x="123350" y="1400"/>
                </a:lnTo>
                <a:lnTo>
                  <a:pt x="1400" y="1400"/>
                </a:lnTo>
                <a:close/>
              </a:path>
              <a:path fill="darken" w="124750" h="21600">
                <a:moveTo>
                  <a:pt x="124750" y="0"/>
                </a:moveTo>
                <a:lnTo>
                  <a:pt x="124750" y="21600"/>
                </a:lnTo>
                <a:lnTo>
                  <a:pt x="123350" y="20200"/>
                </a:lnTo>
                <a:lnTo>
                  <a:pt x="123350" y="1400"/>
                </a:lnTo>
                <a:close/>
              </a:path>
              <a:path fill="darkenLess" w="124750" h="21600">
                <a:moveTo>
                  <a:pt x="124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350" y="20200"/>
                </a:lnTo>
                <a:close/>
              </a:path>
              <a:path fill="lighten" w="124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3" name="EXITJAI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Sans%20titre" descr=""/>
          <p:cNvPicPr/>
          <p:nvPr/>
        </p:nvPicPr>
        <p:blipFill>
          <a:blip r:embed="rId1"/>
          <a:srcRect l="0" t="0" r="39735" b="0"/>
          <a:stretch/>
        </p:blipFill>
        <p:spPr>
          <a:xfrm>
            <a:off x="0" y="2286000"/>
            <a:ext cx="4192560" cy="425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3200400" y="2057400"/>
          <a:ext cx="1523880" cy="20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057400"/>
                    <a:ext cx="1523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4419720" y="1905120"/>
            <a:ext cx="4572000" cy="2590560"/>
          </a:xfrm>
          <a:prstGeom prst="wedgeEllipseCallout">
            <a:avLst>
              <a:gd name="adj1" fmla="val -64134"/>
              <a:gd name="adj2" fmla="val -35967"/>
            </a:avLst>
          </a:prstGeom>
          <a:solidFill>
            <a:srgbClr val="ff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228600"/>
            <a:ext cx="6095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Georgia"/>
              </a:rPr>
              <a:t>Démonstration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Georgia"/>
              <a:ea typeface="Georgia"/>
            </a:endParaRPr>
          </a:p>
        </p:txBody>
      </p:sp>
      <p:sp>
        <p:nvSpPr>
          <p:cNvPr id="121" name=""/>
          <p:cNvSpPr/>
          <p:nvPr/>
        </p:nvSpPr>
        <p:spPr>
          <a:xfrm>
            <a:off x="9890280" y="-9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2060640"/>
            <a:ext cx="4038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Gadget"/>
              </a:rPr>
              <a:t>Un astronaute dans    l’espace   n’a  pas de poids. La Terre n’exerce aucune force d’attraction  sur les objets qui sont hors de son champ  gravitationn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972560" y="5033880"/>
            <a:ext cx="1171440" cy="1824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H="1">
            <a:off x="4799880" y="5181480"/>
            <a:ext cx="3048120" cy="1067040"/>
          </a:xfrm>
          <a:prstGeom prst="wedgeEllipseCallout">
            <a:avLst>
              <a:gd name="adj1" fmla="val -64949"/>
              <a:gd name="adj2" fmla="val -19347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808080"/>
                </a:solidFill>
                <a:latin typeface="Times New Roman"/>
              </a:rPr>
              <a:t>Suivez-moi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7543800" y="763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nextslide"/>
            <a:hlinkClick r:id="rId7"/>
          </p:cNvPr>
          <p:cNvSpPr/>
          <p:nvPr/>
        </p:nvSpPr>
        <p:spPr>
          <a:xfrm>
            <a:off x="4572000" y="5105520"/>
            <a:ext cx="3352680" cy="1295280"/>
          </a:xfrm>
          <a:custGeom>
            <a:avLst/>
            <a:gdLst>
              <a:gd name="textAreaLeft" fmla="*/ 83880 w 3352680"/>
              <a:gd name="textAreaRight" fmla="*/ 3268800 w 33526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55900" h="21600">
                <a:moveTo>
                  <a:pt x="0" y="0"/>
                </a:moveTo>
                <a:lnTo>
                  <a:pt x="55900" y="0"/>
                </a:lnTo>
                <a:lnTo>
                  <a:pt x="55900" y="21600"/>
                </a:lnTo>
                <a:lnTo>
                  <a:pt x="0" y="21600"/>
                </a:lnTo>
                <a:close/>
              </a:path>
              <a:path fill="lightenLess" w="55900" h="21600">
                <a:moveTo>
                  <a:pt x="0" y="0"/>
                </a:moveTo>
                <a:lnTo>
                  <a:pt x="55900" y="0"/>
                </a:lnTo>
                <a:lnTo>
                  <a:pt x="54500" y="1400"/>
                </a:lnTo>
                <a:lnTo>
                  <a:pt x="1400" y="1400"/>
                </a:lnTo>
                <a:close/>
              </a:path>
              <a:path fill="darken" w="55900" h="21600">
                <a:moveTo>
                  <a:pt x="55900" y="0"/>
                </a:moveTo>
                <a:lnTo>
                  <a:pt x="55900" y="21600"/>
                </a:lnTo>
                <a:lnTo>
                  <a:pt x="54500" y="20200"/>
                </a:lnTo>
                <a:lnTo>
                  <a:pt x="54500" y="1400"/>
                </a:lnTo>
                <a:close/>
              </a:path>
              <a:path fill="darkenLess" w="55900" h="21600">
                <a:moveTo>
                  <a:pt x="5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0" y="20200"/>
                </a:lnTo>
                <a:close/>
              </a:path>
              <a:path fill="lighten" w="5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8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762120" y="228600"/>
            <a:ext cx="7467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Georgia"/>
              </a:rPr>
              <a:t>Le poids dans l'univers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Georgia"/>
              <a:ea typeface="Georgia"/>
            </a:endParaRPr>
          </a:p>
        </p:txBody>
      </p:sp>
      <p:sp>
        <p:nvSpPr>
          <p:cNvPr id="129" name=""/>
          <p:cNvSpPr/>
          <p:nvPr/>
        </p:nvSpPr>
        <p:spPr>
          <a:xfrm>
            <a:off x="592200" y="5029200"/>
            <a:ext cx="76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Voulez-vous savoir votre poids sur les différents a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de notre système solai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Visitez: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http://perso.wanadoo.fr/c.david/maspoid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362320"/>
            <a:ext cx="762120" cy="1828800"/>
          </a:xfrm>
          <a:custGeom>
            <a:avLst/>
            <a:gdLst>
              <a:gd name="textAreaLeft" fmla="*/ 101880 w 762120"/>
              <a:gd name="textAreaRight" fmla="*/ 660240 w 7621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680" y="26226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66ff"/>
                </a:solidFill>
                <a:latin typeface="Times New Roman"/>
              </a:rPr>
              <a:t>Ret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66ff"/>
                </a:solidFill>
                <a:latin typeface="Times New Roman"/>
              </a:rPr>
              <a:t>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66ff"/>
                </a:solidFill>
                <a:latin typeface="Times New Roman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848720" y="2286000"/>
            <a:ext cx="761760" cy="1828800"/>
          </a:xfrm>
          <a:custGeom>
            <a:avLst/>
            <a:gdLst>
              <a:gd name="textAreaLeft" fmla="*/ 101880 w 761760"/>
              <a:gd name="textAreaRight" fmla="*/ 659880 w 76176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32920" y="2590920"/>
            <a:ext cx="163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66ff"/>
                </a:solidFill>
                <a:latin typeface="Times New Roman"/>
              </a:rPr>
              <a:t>Vo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66ff"/>
                </a:solidFill>
                <a:latin typeface="Times New Roman"/>
              </a:rPr>
              <a:t>Expé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08400" y="430848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6633"/>
                </a:solidFill>
                <a:latin typeface="Times New Roman"/>
              </a:rPr>
              <a:t>Tintin sur la l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0" y="2209680"/>
            <a:ext cx="1295280" cy="198144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981440"/>
              <a:gd name="textAreaBottom" fmla="*/ 1897560 h 1981440"/>
            </a:gdLst>
            <a:ahLst/>
            <a:rect l="textAreaLeft" t="textAreaTop" r="textAreaRight" b="textAreaBottom"/>
            <a:pathLst>
              <a:path w="21600" h="33039">
                <a:moveTo>
                  <a:pt x="0" y="0"/>
                </a:moveTo>
                <a:lnTo>
                  <a:pt x="21600" y="0"/>
                </a:lnTo>
                <a:lnTo>
                  <a:pt x="21600" y="33039"/>
                </a:lnTo>
                <a:lnTo>
                  <a:pt x="0" y="33039"/>
                </a:lnTo>
                <a:close/>
              </a:path>
              <a:path fill="lightenLess" w="21600" h="330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039">
                <a:moveTo>
                  <a:pt x="21600" y="0"/>
                </a:moveTo>
                <a:lnTo>
                  <a:pt x="21600" y="33039"/>
                </a:lnTo>
                <a:lnTo>
                  <a:pt x="20200" y="31639"/>
                </a:lnTo>
                <a:lnTo>
                  <a:pt x="20200" y="1400"/>
                </a:lnTo>
                <a:close/>
              </a:path>
              <a:path fill="darkenLess" w="21600" h="33039">
                <a:moveTo>
                  <a:pt x="21600" y="33039"/>
                </a:moveTo>
                <a:lnTo>
                  <a:pt x="0" y="33039"/>
                </a:lnTo>
                <a:lnTo>
                  <a:pt x="1400" y="31639"/>
                </a:lnTo>
                <a:lnTo>
                  <a:pt x="20200" y="31639"/>
                </a:lnTo>
                <a:close/>
              </a:path>
              <a:path fill="lighten" w="21600" h="33039">
                <a:moveTo>
                  <a:pt x="0" y="33039"/>
                </a:moveTo>
                <a:lnTo>
                  <a:pt x="0" y="0"/>
                </a:lnTo>
                <a:lnTo>
                  <a:pt x="1400" y="1400"/>
                </a:lnTo>
                <a:lnTo>
                  <a:pt x="1400" y="316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7543800" y="2133720"/>
            <a:ext cx="1600200" cy="236196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2361960"/>
              <a:gd name="textAreaBottom" fmla="*/ 2258280 h 2361960"/>
            </a:gdLst>
            <a:ahLst/>
            <a:rect l="textAreaLeft" t="textAreaTop" r="textAreaRight" b="textAreaBottom"/>
            <a:pathLst>
              <a:path w="21600" h="31880">
                <a:moveTo>
                  <a:pt x="0" y="0"/>
                </a:moveTo>
                <a:lnTo>
                  <a:pt x="21600" y="0"/>
                </a:lnTo>
                <a:lnTo>
                  <a:pt x="21600" y="31880"/>
                </a:lnTo>
                <a:lnTo>
                  <a:pt x="0" y="31880"/>
                </a:lnTo>
                <a:close/>
              </a:path>
              <a:path fill="lightenLess" w="21600" h="318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880">
                <a:moveTo>
                  <a:pt x="21600" y="0"/>
                </a:moveTo>
                <a:lnTo>
                  <a:pt x="21600" y="31880"/>
                </a:lnTo>
                <a:lnTo>
                  <a:pt x="20200" y="30480"/>
                </a:lnTo>
                <a:lnTo>
                  <a:pt x="20200" y="1400"/>
                </a:lnTo>
                <a:close/>
              </a:path>
              <a:path fill="darkenLess" w="21600" h="31880">
                <a:moveTo>
                  <a:pt x="21600" y="31880"/>
                </a:moveTo>
                <a:lnTo>
                  <a:pt x="0" y="31880"/>
                </a:lnTo>
                <a:lnTo>
                  <a:pt x="1400" y="30480"/>
                </a:lnTo>
                <a:lnTo>
                  <a:pt x="20200" y="30480"/>
                </a:lnTo>
                <a:close/>
              </a:path>
              <a:path fill="lighten" w="21600" h="31880">
                <a:moveTo>
                  <a:pt x="0" y="31880"/>
                </a:moveTo>
                <a:lnTo>
                  <a:pt x="0" y="0"/>
                </a:lnTo>
                <a:lnTo>
                  <a:pt x="1400" y="1400"/>
                </a:lnTo>
                <a:lnTo>
                  <a:pt x="1400" y="3048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3"/>
          </p:cNvPr>
          <p:cNvSpPr/>
          <p:nvPr/>
        </p:nvSpPr>
        <p:spPr>
          <a:xfrm>
            <a:off x="7543800" y="2133720"/>
            <a:ext cx="1600200" cy="20574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2057400"/>
              <a:gd name="textAreaBottom" fmla="*/ 1953720 h 2057400"/>
            </a:gdLst>
            <a:ahLst/>
            <a:rect l="textAreaLeft" t="textAreaTop" r="textAreaRight" b="textAreaBottom"/>
            <a:pathLst>
              <a:path w="21600" h="27770">
                <a:moveTo>
                  <a:pt x="0" y="0"/>
                </a:moveTo>
                <a:lnTo>
                  <a:pt x="21600" y="0"/>
                </a:lnTo>
                <a:lnTo>
                  <a:pt x="21600" y="27770"/>
                </a:lnTo>
                <a:lnTo>
                  <a:pt x="0" y="27770"/>
                </a:lnTo>
                <a:close/>
              </a:path>
              <a:path fill="lightenLess" w="21600" h="277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0">
                <a:moveTo>
                  <a:pt x="21600" y="0"/>
                </a:moveTo>
                <a:lnTo>
                  <a:pt x="21600" y="27770"/>
                </a:lnTo>
                <a:lnTo>
                  <a:pt x="20200" y="26370"/>
                </a:lnTo>
                <a:lnTo>
                  <a:pt x="20200" y="1400"/>
                </a:lnTo>
                <a:close/>
              </a:path>
              <a:path fill="darkenLess" w="21600" h="27770">
                <a:moveTo>
                  <a:pt x="21600" y="27770"/>
                </a:moveTo>
                <a:lnTo>
                  <a:pt x="0" y="27770"/>
                </a:lnTo>
                <a:lnTo>
                  <a:pt x="1400" y="26370"/>
                </a:lnTo>
                <a:lnTo>
                  <a:pt x="20200" y="26370"/>
                </a:lnTo>
                <a:close/>
              </a:path>
              <a:path fill="lighten" w="21600" h="27770">
                <a:moveTo>
                  <a:pt x="0" y="277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Sans%20titre" descr=""/>
          <p:cNvPicPr/>
          <p:nvPr/>
        </p:nvPicPr>
        <p:blipFill>
          <a:blip r:embed="rId4"/>
          <a:srcRect l="0" t="0" r="0" b="27635"/>
          <a:stretch/>
        </p:blipFill>
        <p:spPr>
          <a:xfrm>
            <a:off x="1600200" y="1523880"/>
            <a:ext cx="67057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66680" y="2286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Georgia"/>
              </a:rPr>
              <a:t>Expérience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Georgia"/>
              <a:ea typeface="Georgi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4080" y="3765600"/>
            <a:ext cx="2800440" cy="3016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943600" y="3124080"/>
            <a:ext cx="685800" cy="762120"/>
          </a:xfrm>
          <a:prstGeom prst="ellipse">
            <a:avLst/>
          </a:prstGeom>
          <a:solidFill>
            <a:srgbClr val="ff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981080" y="2057400"/>
            <a:ext cx="1981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sse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971800"/>
            <a:ext cx="1219320" cy="990720"/>
          </a:xfrm>
          <a:prstGeom prst="irregularSeal1">
            <a:avLst/>
          </a:prstGeom>
          <a:solidFill>
            <a:srgbClr val="ff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46000" y="3352680"/>
            <a:ext cx="297000" cy="2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4191120"/>
            <a:ext cx="1219320" cy="990360"/>
          </a:xfrm>
          <a:prstGeom prst="irregularSeal1">
            <a:avLst/>
          </a:prstGeom>
          <a:solidFill>
            <a:srgbClr val="ff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46000" y="4572000"/>
            <a:ext cx="297000" cy="2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5334120"/>
            <a:ext cx="1218960" cy="990360"/>
          </a:xfrm>
          <a:prstGeom prst="irregularSeal1">
            <a:avLst/>
          </a:prstGeom>
          <a:solidFill>
            <a:srgbClr val="ff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70040" y="5715000"/>
            <a:ext cx="296640" cy="2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49" name=""/>
          <p:cNvSpPr/>
          <p:nvPr/>
        </p:nvSpPr>
        <p:spPr>
          <a:xfrm>
            <a:off x="1754280" y="3168720"/>
            <a:ext cx="36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Times New Roman"/>
              </a:rPr>
              <a:t>100 g ---&gt;  0,1 K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4280" y="4343400"/>
            <a:ext cx="36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Times New Roman"/>
              </a:rPr>
              <a:t>200 g ---&gt;  0,2 K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4280" y="5486400"/>
            <a:ext cx="36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Times New Roman"/>
              </a:rPr>
              <a:t>300 g ---&gt;  0,3 K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3200400"/>
            <a:ext cx="685800" cy="76212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2514600"/>
            <a:ext cx="685800" cy="7621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480" y="1523880"/>
            <a:ext cx="746784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ccff"/>
                </a:solidFill>
                <a:latin typeface="Arial Black"/>
              </a:rPr>
              <a:t>Déterminez la masse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ccff"/>
              </a:solidFill>
              <a:latin typeface="Arial Black"/>
              <a:ea typeface="Arial Black"/>
            </a:endParaRPr>
          </a:p>
        </p:txBody>
      </p:sp>
    </p:spTree>
  </p:cSld>
  <p:transition spd="med" advTm="8000">
    <p:zoom dir="out"/>
    <p:sndAc>
      <p:stSnd>
        <p:snd r:embed="rId2" name="EXITJAIL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4100760" y="1828800"/>
            <a:ext cx="942480" cy="4578840"/>
            <a:chOff x="4100760" y="1828800"/>
            <a:chExt cx="942480" cy="4578840"/>
          </a:xfrm>
        </p:grpSpPr>
        <p:sp>
          <p:nvSpPr>
            <p:cNvPr id="156" name=""/>
            <p:cNvSpPr txBox="1"/>
            <p:nvPr/>
          </p:nvSpPr>
          <p:spPr>
            <a:xfrm rot="10749000">
              <a:off x="4114440" y="4495680"/>
              <a:ext cx="914400" cy="1905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3300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?</a:t>
              </a:r>
              <a:endParaRPr b="0" lang="en-US" sz="24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343400" y="1828800"/>
              <a:ext cx="609480" cy="3124080"/>
              <a:chOff x="4343400" y="1828800"/>
              <a:chExt cx="609480" cy="31240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4343400" y="1905120"/>
                <a:ext cx="609480" cy="3047760"/>
                <a:chOff x="4343400" y="1905120"/>
                <a:chExt cx="609480" cy="30477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343400" y="1905120"/>
                  <a:ext cx="609480" cy="3047760"/>
                </a:xfrm>
                <a:custGeom>
                  <a:avLst/>
                  <a:gdLst>
                    <a:gd name="textAreaLeft" fmla="*/ 29520 w 609480"/>
                    <a:gd name="textAreaRight" fmla="*/ 579960 w 609480"/>
                    <a:gd name="textAreaTop" fmla="*/ 29520 h 3047760"/>
                    <a:gd name="textAreaBottom" fmla="*/ 3018240 h 3047760"/>
                  </a:gdLst>
                  <a:ahLst/>
                  <a:rect l="textAreaLeft" t="textAreaTop" r="textAreaRight" b="textAreaBottom"/>
                  <a:pathLst>
                    <a:path w="21600" h="107962">
                      <a:moveTo>
                        <a:pt x="3600" y="0"/>
                      </a:moveTo>
                      <a:arcTo wR="3600" hR="3600" stAng="16200000" swAng="-5400000"/>
                      <a:lnTo>
                        <a:pt x="0" y="104362"/>
                      </a:lnTo>
                      <a:arcTo wR="3600" hR="3600" stAng="10800000" swAng="-5400000"/>
                      <a:lnTo>
                        <a:pt x="18000" y="10796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cec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343400" y="236196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343400" y="259056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343400" y="281916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343400" y="304776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343400" y="327636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343400" y="358128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343400" y="380988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343400" y="403848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343400" y="426708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343400" y="449568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4419360" y="1828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80808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6767640" y="1828800"/>
            <a:ext cx="942480" cy="4578840"/>
            <a:chOff x="6767640" y="1828800"/>
            <a:chExt cx="942480" cy="4578840"/>
          </a:xfrm>
        </p:grpSpPr>
        <p:sp>
          <p:nvSpPr>
            <p:cNvPr id="172" name=""/>
            <p:cNvSpPr txBox="1"/>
            <p:nvPr/>
          </p:nvSpPr>
          <p:spPr>
            <a:xfrm rot="10749000">
              <a:off x="6781320" y="4495680"/>
              <a:ext cx="914400" cy="1905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3300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?</a:t>
              </a:r>
              <a:endParaRPr b="0" lang="en-US" sz="24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7010280" y="1828800"/>
              <a:ext cx="609480" cy="3124080"/>
              <a:chOff x="7010280" y="1828800"/>
              <a:chExt cx="609480" cy="312408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7010280" y="1905120"/>
                <a:ext cx="609480" cy="3047760"/>
                <a:chOff x="7010280" y="1905120"/>
                <a:chExt cx="609480" cy="30477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010280" y="1905120"/>
                  <a:ext cx="609480" cy="3047760"/>
                </a:xfrm>
                <a:custGeom>
                  <a:avLst/>
                  <a:gdLst>
                    <a:gd name="textAreaLeft" fmla="*/ 29520 w 609480"/>
                    <a:gd name="textAreaRight" fmla="*/ 579960 w 609480"/>
                    <a:gd name="textAreaTop" fmla="*/ 29520 h 3047760"/>
                    <a:gd name="textAreaBottom" fmla="*/ 3018240 h 3047760"/>
                  </a:gdLst>
                  <a:ahLst/>
                  <a:rect l="textAreaLeft" t="textAreaTop" r="textAreaRight" b="textAreaBottom"/>
                  <a:pathLst>
                    <a:path w="21600" h="107962">
                      <a:moveTo>
                        <a:pt x="3600" y="0"/>
                      </a:moveTo>
                      <a:arcTo wR="3600" hR="3600" stAng="16200000" swAng="-5400000"/>
                      <a:lnTo>
                        <a:pt x="0" y="104362"/>
                      </a:lnTo>
                      <a:arcTo wR="3600" hR="3600" stAng="10800000" swAng="-5400000"/>
                      <a:lnTo>
                        <a:pt x="18000" y="10796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cec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010280" y="236196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010280" y="259056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010280" y="281916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010280" y="304776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010280" y="327636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010280" y="358128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010280" y="380988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010280" y="403848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010280" y="426708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010280" y="449568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086600" y="1828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80808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1203480" y="1905120"/>
            <a:ext cx="942480" cy="4498920"/>
            <a:chOff x="1203480" y="1905120"/>
            <a:chExt cx="942480" cy="4498920"/>
          </a:xfrm>
        </p:grpSpPr>
        <p:sp>
          <p:nvSpPr>
            <p:cNvPr id="188" name=""/>
            <p:cNvSpPr txBox="1"/>
            <p:nvPr/>
          </p:nvSpPr>
          <p:spPr>
            <a:xfrm rot="10749000">
              <a:off x="1217160" y="4492440"/>
              <a:ext cx="914400" cy="190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cc3300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?</a:t>
              </a:r>
              <a:endParaRPr b="0" lang="en-US" sz="24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1371600" y="1905120"/>
              <a:ext cx="609480" cy="3047760"/>
              <a:chOff x="1371600" y="1905120"/>
              <a:chExt cx="609480" cy="304776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1371600" y="1905120"/>
                <a:ext cx="609480" cy="3047760"/>
                <a:chOff x="1371600" y="1905120"/>
                <a:chExt cx="609480" cy="30477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371600" y="1905120"/>
                  <a:ext cx="609480" cy="3047760"/>
                </a:xfrm>
                <a:custGeom>
                  <a:avLst/>
                  <a:gdLst>
                    <a:gd name="textAreaLeft" fmla="*/ 29520 w 609480"/>
                    <a:gd name="textAreaRight" fmla="*/ 579960 w 609480"/>
                    <a:gd name="textAreaTop" fmla="*/ 29520 h 3047760"/>
                    <a:gd name="textAreaBottom" fmla="*/ 3018240 h 3047760"/>
                  </a:gdLst>
                  <a:ahLst/>
                  <a:rect l="textAreaLeft" t="textAreaTop" r="textAreaRight" b="textAreaBottom"/>
                  <a:pathLst>
                    <a:path w="21600" h="107962">
                      <a:moveTo>
                        <a:pt x="3600" y="0"/>
                      </a:moveTo>
                      <a:arcTo wR="3600" hR="3600" stAng="16200000" swAng="-5400000"/>
                      <a:lnTo>
                        <a:pt x="0" y="104362"/>
                      </a:lnTo>
                      <a:arcTo wR="3600" hR="3600" stAng="10800000" swAng="-5400000"/>
                      <a:lnTo>
                        <a:pt x="18000" y="10796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cec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371600" y="236196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371600" y="259056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371600" y="281916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371600" y="304776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371600" y="327636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371600" y="358128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71600" y="380988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371600" y="403848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371600" y="426708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371600" y="449568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1447920" y="1905120"/>
                <a:ext cx="457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80808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1295280" y="4267080"/>
            <a:ext cx="762120" cy="0"/>
          </a:xfrm>
          <a:prstGeom prst="line">
            <a:avLst/>
          </a:prstGeom>
          <a:ln cap="sq"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4267080"/>
            <a:ext cx="0" cy="685800"/>
          </a:xfrm>
          <a:prstGeom prst="line">
            <a:avLst/>
          </a:prstGeom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7080" y="3809880"/>
            <a:ext cx="762120" cy="0"/>
          </a:xfrm>
          <a:prstGeom prst="line">
            <a:avLst/>
          </a:prstGeom>
          <a:ln cap="sq"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3276720"/>
            <a:ext cx="761760" cy="0"/>
          </a:xfrm>
          <a:prstGeom prst="line">
            <a:avLst/>
          </a:prstGeom>
          <a:ln cap="sq"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15200" y="3276720"/>
            <a:ext cx="0" cy="1600200"/>
          </a:xfrm>
          <a:prstGeom prst="line">
            <a:avLst/>
          </a:prstGeom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48320" y="3809880"/>
            <a:ext cx="0" cy="1143000"/>
          </a:xfrm>
          <a:prstGeom prst="line">
            <a:avLst/>
          </a:prstGeom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2743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3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5486400"/>
            <a:ext cx="685800" cy="762120"/>
          </a:xfrm>
          <a:prstGeom prst="ellipse">
            <a:avLst/>
          </a:prstGeom>
          <a:solidFill>
            <a:srgbClr val="ff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5257800"/>
            <a:ext cx="685800" cy="762120"/>
          </a:xfrm>
          <a:prstGeom prst="ellipse">
            <a:avLst/>
          </a:prstGeom>
          <a:solidFill>
            <a:srgbClr val="ff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5334120"/>
            <a:ext cx="685800" cy="76176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5257800"/>
            <a:ext cx="685800" cy="762120"/>
          </a:xfrm>
          <a:prstGeom prst="ellipse">
            <a:avLst/>
          </a:prstGeom>
          <a:solidFill>
            <a:srgbClr val="ff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5334120"/>
            <a:ext cx="685800" cy="76176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4724280"/>
            <a:ext cx="685800" cy="7621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62120" y="1828800"/>
            <a:ext cx="746748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ccff"/>
                </a:solidFill>
                <a:latin typeface="Arial Black"/>
              </a:rPr>
              <a:t>Déterminez le poid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ccff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 rot="5400000">
            <a:off x="-1009800" y="3105000"/>
            <a:ext cx="28958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33c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Poids</a:t>
            </a:r>
            <a:endParaRPr b="0" i="1" lang="en-US" sz="2400" spc="1" strike="noStrike">
              <a:ln cap="sq"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100000">
                    <a:srgbClr val="ff33cc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66680" y="2286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Georgia"/>
              </a:rPr>
              <a:t>Expérience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Georgia"/>
              <a:ea typeface="Georgia"/>
            </a:endParaRPr>
          </a:p>
        </p:txBody>
      </p:sp>
    </p:spTree>
  </p:cSld>
  <p:transition spd="med" advTm="3000">
    <p:blinds dir="vert"/>
    <p:sndAc>
      <p:stSnd>
        <p:snd r:embed="rId1" name="Jungle%20Exclamation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-76320" y="281952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66ffff"/>
                </a:solidFill>
                <a:latin typeface="Times New Roman"/>
              </a:rPr>
              <a:t>Mass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2320" y="2743200"/>
            <a:ext cx="1218960" cy="1295280"/>
          </a:xfrm>
          <a:prstGeom prst="upArrow">
            <a:avLst>
              <a:gd name="adj1" fmla="val 50000"/>
              <a:gd name="adj2" fmla="val 26565"/>
            </a:avLst>
          </a:prstGeom>
          <a:solidFill>
            <a:srgbClr val="ffccff"/>
          </a:solidFill>
          <a:ln cap="sq" w="1260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280368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66ffff"/>
                </a:solidFill>
                <a:latin typeface="Times New Roman"/>
              </a:rPr>
              <a:t>Poi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3124080"/>
            <a:ext cx="1143000" cy="60984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72400" y="2743200"/>
            <a:ext cx="1219320" cy="1295280"/>
          </a:xfrm>
          <a:prstGeom prst="upArrow">
            <a:avLst>
              <a:gd name="adj1" fmla="val 50000"/>
              <a:gd name="adj2" fmla="val 26557"/>
            </a:avLst>
          </a:prstGeom>
          <a:solidFill>
            <a:srgbClr val="ffccff"/>
          </a:solidFill>
          <a:ln cap="sq" w="1260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066680" y="2286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Georgia"/>
              </a:rPr>
              <a:t>Graphique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Georgia"/>
              <a:ea typeface="Georgia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752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800" spc="-1" strike="noStrike" u="sng">
                <a:solidFill>
                  <a:srgbClr val="00ffff"/>
                </a:solidFill>
                <a:uFillTx/>
                <a:latin typeface="Times New Roman"/>
              </a:rPr>
              <a:t>Le poids en fonction de la mas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86160" y="5791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33cc"/>
                </a:solidFill>
                <a:latin typeface="Times New Roman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7800" y="5791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33cc"/>
                </a:solidFill>
                <a:latin typeface="Times New Roman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920" y="5791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33cc"/>
                </a:solidFill>
                <a:latin typeface="Times New Roman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62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914400" y="2971800"/>
            <a:ext cx="3200400" cy="2895480"/>
            <a:chOff x="914400" y="2971800"/>
            <a:chExt cx="3200400" cy="2895480"/>
          </a:xfrm>
        </p:grpSpPr>
        <p:sp>
          <p:nvSpPr>
            <p:cNvPr id="233" name=""/>
            <p:cNvSpPr/>
            <p:nvPr/>
          </p:nvSpPr>
          <p:spPr>
            <a:xfrm>
              <a:off x="1066680" y="2971800"/>
              <a:ext cx="0" cy="2743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66680" y="5715000"/>
              <a:ext cx="30481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28800" y="5715000"/>
              <a:ext cx="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90920" y="5715000"/>
              <a:ext cx="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52680" y="5715000"/>
              <a:ext cx="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495288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4400" y="419112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4400" y="342900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5592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92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559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12400" y="579132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c66ff"/>
                </a:solidFill>
                <a:latin typeface="Times New Roman"/>
              </a:rPr>
              <a:t>Masse (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-313920" y="396792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c66ff"/>
                </a:solidFill>
                <a:latin typeface="Times New Roman"/>
              </a:rPr>
              <a:t>Poids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066680" y="3123720"/>
            <a:ext cx="2590920" cy="2590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4800600"/>
            <a:ext cx="304560" cy="304920"/>
          </a:xfrm>
          <a:custGeom>
            <a:avLst/>
            <a:gdLst>
              <a:gd name="textAreaLeft" fmla="*/ 125280 w 304560"/>
              <a:gd name="textAreaRight" fmla="*/ 179280 w 30456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8280" y="403848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3276720"/>
            <a:ext cx="304920" cy="30456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22760" y="2743200"/>
            <a:ext cx="3621240" cy="3886200"/>
          </a:xfrm>
          <a:prstGeom prst="verticalScroll">
            <a:avLst>
              <a:gd name="adj" fmla="val 12500"/>
            </a:avLst>
          </a:prstGeom>
          <a:solidFill>
            <a:srgbClr val="00ffcc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660066"/>
                </a:solidFill>
                <a:latin typeface="Times New Roman"/>
              </a:rPr>
              <a:t>Pente</a:t>
            </a:r>
            <a:r>
              <a:rPr b="1" lang="fr-CA" sz="1600" spc="-1" strike="noStrike">
                <a:solidFill>
                  <a:srgbClr val="660066"/>
                </a:solidFill>
                <a:latin typeface="Times New Roman"/>
              </a:rPr>
              <a:t> = </a:t>
            </a:r>
            <a:r>
              <a:rPr b="1" lang="fr-CA" sz="1600" spc="-1" strike="noStrike" u="sng">
                <a:solidFill>
                  <a:srgbClr val="660066"/>
                </a:solidFill>
                <a:uFillTx/>
                <a:latin typeface="Times New Roman"/>
              </a:rPr>
              <a:t>y2-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660066"/>
                </a:solidFill>
                <a:latin typeface="Times New Roman"/>
              </a:rPr>
              <a:t>               </a:t>
            </a:r>
            <a:r>
              <a:rPr b="1" lang="fr-CA" sz="1600" spc="-1" strike="noStrike">
                <a:solidFill>
                  <a:srgbClr val="660066"/>
                </a:solidFill>
                <a:latin typeface="Times New Roman"/>
              </a:rPr>
              <a:t>x2-x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660066"/>
                </a:solidFill>
                <a:latin typeface="Times New Roman"/>
              </a:rPr>
              <a:t>                  </a:t>
            </a:r>
            <a:r>
              <a:rPr b="1" lang="fr-CA" sz="1600" spc="-1" strike="noStrike">
                <a:solidFill>
                  <a:srgbClr val="660066"/>
                </a:solidFill>
                <a:latin typeface="Times New Roman"/>
              </a:rPr>
              <a:t>=</a:t>
            </a:r>
            <a:r>
              <a:rPr b="1" lang="fr-CA" sz="1600" spc="-1" strike="noStrike" u="sng">
                <a:solidFill>
                  <a:srgbClr val="660066"/>
                </a:solidFill>
                <a:uFillTx/>
                <a:latin typeface="Times New Roman"/>
              </a:rPr>
              <a:t>    2 - 1   </a:t>
            </a:r>
            <a:r>
              <a:rPr b="1" lang="fr-CA" sz="16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660066"/>
                </a:solidFill>
                <a:latin typeface="Times New Roman"/>
              </a:rPr>
              <a:t>                   </a:t>
            </a:r>
            <a:r>
              <a:rPr b="1" lang="fr-CA" sz="1600" spc="-1" strike="noStrike">
                <a:solidFill>
                  <a:srgbClr val="660066"/>
                </a:solidFill>
                <a:latin typeface="Times New Roman"/>
              </a:rPr>
              <a:t>0,2 - 0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660066"/>
                </a:solidFill>
                <a:latin typeface="Times New Roman"/>
              </a:rPr>
              <a:t>                  </a:t>
            </a:r>
            <a:r>
              <a:rPr b="1" lang="fr-CA" sz="1600" spc="-1" strike="noStrike">
                <a:solidFill>
                  <a:srgbClr val="660066"/>
                </a:solidFill>
                <a:latin typeface="Times New Roman"/>
              </a:rPr>
              <a:t>= 10 N/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59440" y="3200400"/>
            <a:ext cx="28036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300" spc="-1" strike="noStrike">
                <a:solidFill>
                  <a:srgbClr val="cc99ff"/>
                </a:solidFill>
                <a:latin typeface="Times New Roman"/>
              </a:rPr>
              <a:t>Relation direct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300" spc="-1" strike="noStrike">
                <a:solidFill>
                  <a:srgbClr val="cc99ff"/>
                </a:solidFill>
                <a:latin typeface="Times New Roman"/>
              </a:rPr>
              <a:t> </a:t>
            </a:r>
            <a:r>
              <a:rPr b="1" lang="fr-CA" sz="2300" spc="-1" strike="noStrike">
                <a:solidFill>
                  <a:srgbClr val="cc99ff"/>
                </a:solidFill>
                <a:latin typeface="Times New Roman"/>
              </a:rPr>
              <a:t>proportionnelle</a:t>
            </a:r>
            <a:r>
              <a:rPr b="1" lang="fr-CA" sz="2400" spc="-1" strike="noStrike">
                <a:solidFill>
                  <a:srgbClr val="cc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019920"/>
            <a:ext cx="1143000" cy="609480"/>
          </a:xfrm>
          <a:prstGeom prst="rightArrow">
            <a:avLst>
              <a:gd name="adj1" fmla="val 50000"/>
              <a:gd name="adj2" fmla="val 46884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0" y="60958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808080"/>
                </a:solidFill>
                <a:latin typeface="Times New Roman"/>
              </a:rPr>
              <a:t>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nextslide"/>
            <a:hlinkClick r:id="rId1"/>
          </p:cNvPr>
          <p:cNvSpPr/>
          <p:nvPr/>
        </p:nvSpPr>
        <p:spPr>
          <a:xfrm>
            <a:off x="7391520" y="5943600"/>
            <a:ext cx="1218960" cy="914400"/>
          </a:xfrm>
          <a:custGeom>
            <a:avLst/>
            <a:gdLst>
              <a:gd name="textAreaLeft" fmla="*/ 59040 w 1218960"/>
              <a:gd name="textAreaRight" fmla="*/ 1159920 w 1218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791" h="21600">
                <a:moveTo>
                  <a:pt x="0" y="0"/>
                </a:moveTo>
                <a:lnTo>
                  <a:pt x="28791" y="0"/>
                </a:lnTo>
                <a:lnTo>
                  <a:pt x="28791" y="21600"/>
                </a:lnTo>
                <a:lnTo>
                  <a:pt x="0" y="21600"/>
                </a:lnTo>
                <a:close/>
              </a:path>
              <a:path fill="lightenLess" w="28791" h="21600">
                <a:moveTo>
                  <a:pt x="0" y="0"/>
                </a:moveTo>
                <a:lnTo>
                  <a:pt x="28791" y="0"/>
                </a:lnTo>
                <a:lnTo>
                  <a:pt x="27392" y="1400"/>
                </a:lnTo>
                <a:lnTo>
                  <a:pt x="1400" y="1400"/>
                </a:lnTo>
                <a:close/>
              </a:path>
              <a:path fill="darken" w="28791" h="21600">
                <a:moveTo>
                  <a:pt x="28791" y="0"/>
                </a:moveTo>
                <a:lnTo>
                  <a:pt x="28791" y="21600"/>
                </a:lnTo>
                <a:lnTo>
                  <a:pt x="27392" y="20200"/>
                </a:lnTo>
                <a:lnTo>
                  <a:pt x="27392" y="1400"/>
                </a:lnTo>
                <a:close/>
              </a:path>
              <a:path fill="darkenLess" w="28791" h="21600">
                <a:moveTo>
                  <a:pt x="28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2" y="20200"/>
                </a:lnTo>
                <a:close/>
              </a:path>
              <a:path fill="lighten" w="28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2" name="Musica%20Restore%20Down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295280" y="2362320"/>
            <a:ext cx="630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</a:rPr>
              <a:t>D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à des erreurs possibles en laboratoire (instruments de mesures, erreurs de calculs, etc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us arrivons à une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constan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10 N/k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soit environ le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9,8 N/K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énoncé par New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50080" y="61722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Retour au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1371600" y="6095880"/>
            <a:ext cx="2438280" cy="609840"/>
          </a:xfrm>
          <a:custGeom>
            <a:avLst/>
            <a:gdLst>
              <a:gd name="textAreaLeft" fmla="*/ 39240 w 2438280"/>
              <a:gd name="textAreaRight" fmla="*/ 2399040 w 24382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6324" h="21600">
                <a:moveTo>
                  <a:pt x="0" y="0"/>
                </a:moveTo>
                <a:lnTo>
                  <a:pt x="86324" y="0"/>
                </a:lnTo>
                <a:lnTo>
                  <a:pt x="86324" y="21600"/>
                </a:lnTo>
                <a:lnTo>
                  <a:pt x="0" y="21600"/>
                </a:lnTo>
                <a:close/>
              </a:path>
              <a:path fill="lightenLess" w="86324" h="21600">
                <a:moveTo>
                  <a:pt x="0" y="0"/>
                </a:moveTo>
                <a:lnTo>
                  <a:pt x="86324" y="0"/>
                </a:lnTo>
                <a:lnTo>
                  <a:pt x="84924" y="1400"/>
                </a:lnTo>
                <a:lnTo>
                  <a:pt x="1400" y="1400"/>
                </a:lnTo>
                <a:close/>
              </a:path>
              <a:path fill="darken" w="86324" h="21600">
                <a:moveTo>
                  <a:pt x="86324" y="0"/>
                </a:moveTo>
                <a:lnTo>
                  <a:pt x="86324" y="21600"/>
                </a:lnTo>
                <a:lnTo>
                  <a:pt x="84924" y="20200"/>
                </a:lnTo>
                <a:lnTo>
                  <a:pt x="84924" y="1400"/>
                </a:lnTo>
                <a:close/>
              </a:path>
              <a:path fill="darkenLess" w="86324" h="21600">
                <a:moveTo>
                  <a:pt x="86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24" y="20200"/>
                </a:lnTo>
                <a:close/>
              </a:path>
              <a:path fill="lighten" w="86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Sans%20titre" descr=""/>
          <p:cNvPicPr/>
          <p:nvPr/>
        </p:nvPicPr>
        <p:blipFill>
          <a:blip r:embed="rId2"/>
          <a:srcRect l="0" t="5315" r="87672" b="3341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477120" y="6172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Biblio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3"/>
          </p:cNvPr>
          <p:cNvSpPr/>
          <p:nvPr/>
        </p:nvSpPr>
        <p:spPr>
          <a:xfrm>
            <a:off x="6400800" y="6095880"/>
            <a:ext cx="2438280" cy="609840"/>
          </a:xfrm>
          <a:custGeom>
            <a:avLst/>
            <a:gdLst>
              <a:gd name="textAreaLeft" fmla="*/ 39240 w 2438280"/>
              <a:gd name="textAreaRight" fmla="*/ 2399040 w 24382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6324" h="21600">
                <a:moveTo>
                  <a:pt x="0" y="0"/>
                </a:moveTo>
                <a:lnTo>
                  <a:pt x="86324" y="0"/>
                </a:lnTo>
                <a:lnTo>
                  <a:pt x="86324" y="21600"/>
                </a:lnTo>
                <a:lnTo>
                  <a:pt x="0" y="21600"/>
                </a:lnTo>
                <a:close/>
              </a:path>
              <a:path fill="lightenLess" w="86324" h="21600">
                <a:moveTo>
                  <a:pt x="0" y="0"/>
                </a:moveTo>
                <a:lnTo>
                  <a:pt x="86324" y="0"/>
                </a:lnTo>
                <a:lnTo>
                  <a:pt x="84924" y="1400"/>
                </a:lnTo>
                <a:lnTo>
                  <a:pt x="1400" y="1400"/>
                </a:lnTo>
                <a:close/>
              </a:path>
              <a:path fill="darken" w="86324" h="21600">
                <a:moveTo>
                  <a:pt x="86324" y="0"/>
                </a:moveTo>
                <a:lnTo>
                  <a:pt x="86324" y="21600"/>
                </a:lnTo>
                <a:lnTo>
                  <a:pt x="84924" y="20200"/>
                </a:lnTo>
                <a:lnTo>
                  <a:pt x="84924" y="1400"/>
                </a:lnTo>
                <a:close/>
              </a:path>
              <a:path fill="darkenLess" w="86324" h="21600">
                <a:moveTo>
                  <a:pt x="86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24" y="20200"/>
                </a:lnTo>
                <a:close/>
              </a:path>
              <a:path fill="lighten" w="86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75438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371600" y="304920"/>
            <a:ext cx="5410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Georgia"/>
              </a:rPr>
              <a:t>Bibliographie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Georgia"/>
              <a:ea typeface="Georgia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1066680" y="4267080"/>
            <a:ext cx="5181840" cy="838440"/>
          </a:xfrm>
          <a:custGeom>
            <a:avLst/>
            <a:gdLst>
              <a:gd name="textAreaLeft" fmla="*/ 54360 w 5181840"/>
              <a:gd name="textAreaRight" fmla="*/ 5127480 w 51818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133447" h="21600">
                <a:moveTo>
                  <a:pt x="0" y="0"/>
                </a:moveTo>
                <a:lnTo>
                  <a:pt x="133447" y="0"/>
                </a:lnTo>
                <a:lnTo>
                  <a:pt x="133447" y="21600"/>
                </a:lnTo>
                <a:lnTo>
                  <a:pt x="0" y="21600"/>
                </a:lnTo>
                <a:close/>
              </a:path>
              <a:path fill="lightenLess" w="133447" h="21600">
                <a:moveTo>
                  <a:pt x="0" y="0"/>
                </a:moveTo>
                <a:lnTo>
                  <a:pt x="133447" y="0"/>
                </a:lnTo>
                <a:lnTo>
                  <a:pt x="132047" y="1400"/>
                </a:lnTo>
                <a:lnTo>
                  <a:pt x="1400" y="1400"/>
                </a:lnTo>
                <a:close/>
              </a:path>
              <a:path fill="darken" w="133447" h="21600">
                <a:moveTo>
                  <a:pt x="133447" y="0"/>
                </a:moveTo>
                <a:lnTo>
                  <a:pt x="133447" y="21600"/>
                </a:lnTo>
                <a:lnTo>
                  <a:pt x="132047" y="20200"/>
                </a:lnTo>
                <a:lnTo>
                  <a:pt x="132047" y="1400"/>
                </a:lnTo>
                <a:close/>
              </a:path>
              <a:path fill="darkenLess" w="133447" h="21600">
                <a:moveTo>
                  <a:pt x="133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047" y="20200"/>
                </a:lnTo>
                <a:close/>
              </a:path>
              <a:path fill="lighten" w="133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920" y="633888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66"/>
                </a:solidFill>
                <a:latin typeface="Times New Roman"/>
              </a:rPr>
              <a:t>M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3" action="ppaction://hlinksldjump"/>
          </p:cNvPr>
          <p:cNvSpPr/>
          <p:nvPr/>
        </p:nvSpPr>
        <p:spPr>
          <a:xfrm>
            <a:off x="1143000" y="4191120"/>
            <a:ext cx="5181480" cy="1143000"/>
          </a:xfrm>
          <a:custGeom>
            <a:avLst/>
            <a:gdLst>
              <a:gd name="textAreaLeft" fmla="*/ 73800 w 5181480"/>
              <a:gd name="textAreaRight" fmla="*/ 5107680 w 51814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97894" h="21600">
                <a:moveTo>
                  <a:pt x="0" y="0"/>
                </a:moveTo>
                <a:lnTo>
                  <a:pt x="97894" y="0"/>
                </a:lnTo>
                <a:lnTo>
                  <a:pt x="97894" y="21600"/>
                </a:lnTo>
                <a:lnTo>
                  <a:pt x="0" y="21600"/>
                </a:lnTo>
                <a:close/>
              </a:path>
              <a:path fill="lightenLess" w="97894" h="21600">
                <a:moveTo>
                  <a:pt x="0" y="0"/>
                </a:moveTo>
                <a:lnTo>
                  <a:pt x="97894" y="0"/>
                </a:lnTo>
                <a:lnTo>
                  <a:pt x="96494" y="1400"/>
                </a:lnTo>
                <a:lnTo>
                  <a:pt x="1400" y="1400"/>
                </a:lnTo>
                <a:close/>
              </a:path>
              <a:path fill="darken" w="97894" h="21600">
                <a:moveTo>
                  <a:pt x="97894" y="0"/>
                </a:moveTo>
                <a:lnTo>
                  <a:pt x="97894" y="21600"/>
                </a:lnTo>
                <a:lnTo>
                  <a:pt x="96494" y="20200"/>
                </a:lnTo>
                <a:lnTo>
                  <a:pt x="96494" y="1400"/>
                </a:lnTo>
                <a:close/>
              </a:path>
              <a:path fill="darkenLess" w="97894" h="21600">
                <a:moveTo>
                  <a:pt x="97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494" y="20200"/>
                </a:lnTo>
                <a:close/>
              </a:path>
              <a:path fill="lighten" w="97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914400"/>
            <a:ext cx="685800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ff"/>
                </a:solidFill>
                <a:latin typeface="Times New Roman"/>
              </a:rPr>
              <a:t>Bouchard, Régent. </a:t>
            </a:r>
            <a:r>
              <a:rPr b="1" i="1" lang="fr-FR" sz="2800" spc="-1" strike="noStrike">
                <a:solidFill>
                  <a:srgbClr val="ff99ff"/>
                </a:solidFill>
                <a:latin typeface="Times New Roman"/>
              </a:rPr>
              <a:t>Physique: phénomènes    mécaniques, </a:t>
            </a:r>
            <a:r>
              <a:rPr b="1" lang="fr-FR" sz="2800" spc="-1" strike="noStrike">
                <a:solidFill>
                  <a:srgbClr val="ff99ff"/>
                </a:solidFill>
                <a:latin typeface="Times New Roman"/>
              </a:rPr>
              <a:t>Montréal</a:t>
            </a:r>
            <a:r>
              <a:rPr b="1" i="1" lang="fr-FR" sz="2800" spc="-1" strike="noStrike">
                <a:solidFill>
                  <a:srgbClr val="ff99ff"/>
                </a:solidFill>
                <a:latin typeface="Times New Roman"/>
              </a:rPr>
              <a:t>, </a:t>
            </a:r>
            <a:r>
              <a:rPr b="1" lang="fr-FR" sz="2800" spc="-1" strike="noStrike">
                <a:solidFill>
                  <a:srgbClr val="ff99ff"/>
                </a:solidFill>
                <a:latin typeface="Times New Roman"/>
              </a:rPr>
              <a:t>Lidec inc., 1993, 348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1371600"/>
            <a:ext cx="1295280" cy="990720"/>
          </a:xfrm>
          <a:prstGeom prst="irregularSeal1">
            <a:avLst/>
          </a:prstGeom>
          <a:solidFill>
            <a:srgbClr val="ff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2895480"/>
            <a:ext cx="1295640" cy="990720"/>
          </a:xfrm>
          <a:prstGeom prst="irregularSeal1">
            <a:avLst/>
          </a:prstGeom>
          <a:solidFill>
            <a:srgbClr val="ff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4343400"/>
            <a:ext cx="1295640" cy="990720"/>
          </a:xfrm>
          <a:prstGeom prst="irregularSeal1">
            <a:avLst/>
          </a:prstGeom>
          <a:solidFill>
            <a:srgbClr val="ff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05120" y="304812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ff"/>
                </a:solidFill>
                <a:latin typeface="Times New Roman"/>
              </a:rPr>
              <a:t>Infoscience. (Page consultée le 8 mars 2000). </a:t>
            </a:r>
            <a:r>
              <a:rPr b="1" i="1" lang="fr-FR" sz="2800" spc="-1" strike="noStrike">
                <a:solidFill>
                  <a:srgbClr val="ff99ff"/>
                </a:solidFill>
                <a:latin typeface="Times New Roman"/>
              </a:rPr>
              <a:t>Portrait</a:t>
            </a:r>
            <a:r>
              <a:rPr b="1" lang="fr-FR" sz="2800" spc="-1" strike="noStrike">
                <a:solidFill>
                  <a:srgbClr val="ff99ff"/>
                </a:solidFill>
                <a:latin typeface="Times New Roman"/>
              </a:rPr>
              <a:t>, [En ligne]. Adresse URL : www.infoscience.f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4572000"/>
            <a:ext cx="716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99ff"/>
                </a:solidFill>
                <a:latin typeface="Times New Roman"/>
              </a:rPr>
              <a:t>David, Christophe. (Page consultée le 11 mai 2000). </a:t>
            </a:r>
            <a:r>
              <a:rPr b="1" i="1" lang="fr-CA" sz="2800" spc="-1" strike="noStrike">
                <a:solidFill>
                  <a:srgbClr val="ff99ff"/>
                </a:solidFill>
                <a:latin typeface="Times New Roman"/>
              </a:rPr>
              <a:t>La physique c ’est fantastique</a:t>
            </a:r>
            <a:r>
              <a:rPr b="1" lang="fr-CA" sz="2800" spc="-1" strike="noStrike">
                <a:solidFill>
                  <a:srgbClr val="ff99ff"/>
                </a:solidFill>
                <a:latin typeface="Times New Roman"/>
              </a:rPr>
              <a:t>, [En ligne]. Adresse URL :  http://perso.wanadoo. fr/c.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4" name="Robotz%20Asteris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52480" y="6858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76520" y="609480"/>
            <a:ext cx="60577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a Masse et le Poi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2971800"/>
            <a:ext cx="2247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isa Torchia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95480" y="4267080"/>
            <a:ext cx="23716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élix Cerrato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86200" y="5638680"/>
            <a:ext cx="4543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oanna Dimitrakopoulo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-2324160" y="2857320"/>
            <a:ext cx="64008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Avant de commencer</a:t>
            </a:r>
            <a:endParaRPr b="0" lang="en-US" sz="2400" spc="1" strike="noStrike">
              <a:ln w="0">
                <a:noFill/>
              </a:ln>
              <a:solidFill>
                <a:srgbClr val="00ffff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66880" y="457200"/>
            <a:ext cx="4724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Zurich BlkEx BT"/>
              </a:rPr>
              <a:t>Savoir que:</a:t>
            </a:r>
            <a:endParaRPr b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Zurich BlkEx BT"/>
              <a:ea typeface="Zurich BlkEx BT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1523880"/>
            <a:ext cx="556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8f8f8"/>
                </a:solidFill>
                <a:latin typeface="Capitals"/>
              </a:rPr>
              <a:t>Tous les éléments</a:t>
            </a:r>
            <a:r>
              <a:rPr b="1" lang="fr-FR" sz="4000" spc="-1" strike="noStrike">
                <a:solidFill>
                  <a:srgbClr val="000000"/>
                </a:solidFill>
                <a:latin typeface="Capital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Capitals"/>
              </a:rPr>
              <a:t>(mots, flèches ou bouton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pitals"/>
              </a:rPr>
              <a:t> </a:t>
            </a:r>
            <a:r>
              <a:rPr b="1" lang="fr-FR" sz="4000" spc="-1" strike="noStrike">
                <a:solidFill>
                  <a:srgbClr val="f8f8f8"/>
                </a:solidFill>
                <a:latin typeface="Capitals"/>
              </a:rPr>
              <a:t>en</a:t>
            </a:r>
            <a:r>
              <a:rPr b="1" lang="fr-FR" sz="4000" spc="-1" strike="noStrike">
                <a:solidFill>
                  <a:srgbClr val="000000"/>
                </a:solidFill>
                <a:latin typeface="Capitals"/>
              </a:rPr>
              <a:t> </a:t>
            </a:r>
            <a:r>
              <a:rPr b="1" lang="fr-FR" sz="4000" spc="-1" strike="noStrike" u="sng">
                <a:solidFill>
                  <a:srgbClr val="ffff00"/>
                </a:solidFill>
                <a:uFillTx/>
                <a:latin typeface="Capitals"/>
              </a:rPr>
              <a:t>JA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8f8f8"/>
                </a:solidFill>
                <a:latin typeface="Capitals"/>
              </a:rPr>
              <a:t>peuvent êt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8f8f8"/>
                </a:solidFill>
                <a:latin typeface="Capitals"/>
              </a:rPr>
              <a:t>sélectionné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410080" y="5867280"/>
            <a:ext cx="341640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Wide Latin"/>
              </a:rPr>
              <a:t>Allons-y!</a:t>
            </a:r>
            <a:endParaRPr b="0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Wide Latin"/>
              <a:ea typeface="Wide Latin"/>
            </a:endParaRPr>
          </a:p>
        </p:txBody>
      </p:sp>
      <p:sp>
        <p:nvSpPr>
          <p:cNvPr id="58" name="">
            <a:hlinkClick r:id="" action="ppaction://hlinkshowjump?jump=nextslide"/>
            <a:hlinkClick r:id="rId1"/>
          </p:cNvPr>
          <p:cNvSpPr/>
          <p:nvPr/>
        </p:nvSpPr>
        <p:spPr>
          <a:xfrm>
            <a:off x="5486400" y="5638680"/>
            <a:ext cx="3657600" cy="1219320"/>
          </a:xfrm>
          <a:custGeom>
            <a:avLst/>
            <a:gdLst>
              <a:gd name="textAreaLeft" fmla="*/ 78840 w 3657600"/>
              <a:gd name="textAreaRight" fmla="*/ 3578760 w 36576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64781" h="21600">
                <a:moveTo>
                  <a:pt x="0" y="0"/>
                </a:moveTo>
                <a:lnTo>
                  <a:pt x="64781" y="0"/>
                </a:lnTo>
                <a:lnTo>
                  <a:pt x="64781" y="21600"/>
                </a:lnTo>
                <a:lnTo>
                  <a:pt x="0" y="21600"/>
                </a:lnTo>
                <a:close/>
              </a:path>
              <a:path fill="lightenLess" w="64781" h="21600">
                <a:moveTo>
                  <a:pt x="0" y="0"/>
                </a:moveTo>
                <a:lnTo>
                  <a:pt x="64781" y="0"/>
                </a:lnTo>
                <a:lnTo>
                  <a:pt x="63381" y="1400"/>
                </a:lnTo>
                <a:lnTo>
                  <a:pt x="1400" y="1400"/>
                </a:lnTo>
                <a:close/>
              </a:path>
              <a:path fill="darken" w="64781" h="21600">
                <a:moveTo>
                  <a:pt x="64781" y="0"/>
                </a:moveTo>
                <a:lnTo>
                  <a:pt x="64781" y="21600"/>
                </a:lnTo>
                <a:lnTo>
                  <a:pt x="63381" y="20200"/>
                </a:lnTo>
                <a:lnTo>
                  <a:pt x="63381" y="1400"/>
                </a:lnTo>
                <a:close/>
              </a:path>
              <a:path fill="darkenLess" w="64781" h="21600">
                <a:moveTo>
                  <a:pt x="64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1" y="20200"/>
                </a:lnTo>
                <a:close/>
              </a:path>
              <a:path fill="lighten" w="64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00200" y="457200"/>
            <a:ext cx="4114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Georgia"/>
              </a:rPr>
              <a:t>Menu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Georgia"/>
              <a:ea typeface="Georgia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304920" y="19810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42670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548640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306396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5783400" y="4267080"/>
            <a:ext cx="3360600" cy="2590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676520" y="2119320"/>
            <a:ext cx="488628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ff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Glossaire et origine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66800" y="3200400"/>
            <a:ext cx="5114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ff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Recherche de Newton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76520" y="426708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ff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Expérience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76520" y="5472000"/>
            <a:ext cx="1981080" cy="5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ff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Quitter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9" name="">
            <a:hlinkClick r:id="" action="ppaction://hlinkshowjump?jump=nextslide"/>
            <a:hlinkClick r:id="rId6"/>
          </p:cNvPr>
          <p:cNvSpPr/>
          <p:nvPr/>
        </p:nvSpPr>
        <p:spPr>
          <a:xfrm>
            <a:off x="0" y="2057400"/>
            <a:ext cx="6781680" cy="762120"/>
          </a:xfrm>
          <a:custGeom>
            <a:avLst/>
            <a:gdLst>
              <a:gd name="textAreaLeft" fmla="*/ 49320 w 6781680"/>
              <a:gd name="textAreaRight" fmla="*/ 6732360 w 6781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92126" h="21600">
                <a:moveTo>
                  <a:pt x="0" y="0"/>
                </a:moveTo>
                <a:lnTo>
                  <a:pt x="192126" y="0"/>
                </a:lnTo>
                <a:lnTo>
                  <a:pt x="192126" y="21600"/>
                </a:lnTo>
                <a:lnTo>
                  <a:pt x="0" y="21600"/>
                </a:lnTo>
                <a:close/>
              </a:path>
              <a:path fill="lightenLess" w="192126" h="21600">
                <a:moveTo>
                  <a:pt x="0" y="0"/>
                </a:moveTo>
                <a:lnTo>
                  <a:pt x="192126" y="0"/>
                </a:lnTo>
                <a:lnTo>
                  <a:pt x="190726" y="1400"/>
                </a:lnTo>
                <a:lnTo>
                  <a:pt x="1400" y="1400"/>
                </a:lnTo>
                <a:close/>
              </a:path>
              <a:path fill="darken" w="192126" h="21600">
                <a:moveTo>
                  <a:pt x="192126" y="0"/>
                </a:moveTo>
                <a:lnTo>
                  <a:pt x="192126" y="21600"/>
                </a:lnTo>
                <a:lnTo>
                  <a:pt x="190726" y="20200"/>
                </a:lnTo>
                <a:lnTo>
                  <a:pt x="190726" y="1400"/>
                </a:lnTo>
                <a:close/>
              </a:path>
              <a:path fill="darkenLess" w="192126" h="21600">
                <a:moveTo>
                  <a:pt x="192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0726" y="20200"/>
                </a:lnTo>
                <a:close/>
              </a:path>
              <a:path fill="lighten" w="192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7" action="ppaction://hlinksldjump"/>
          </p:cNvPr>
          <p:cNvSpPr/>
          <p:nvPr/>
        </p:nvSpPr>
        <p:spPr>
          <a:xfrm>
            <a:off x="0" y="2971800"/>
            <a:ext cx="6934320" cy="914400"/>
          </a:xfrm>
          <a:custGeom>
            <a:avLst/>
            <a:gdLst>
              <a:gd name="textAreaLeft" fmla="*/ 59040 w 6934320"/>
              <a:gd name="textAreaRight" fmla="*/ 6875280 w 6934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63747" h="21600">
                <a:moveTo>
                  <a:pt x="0" y="0"/>
                </a:moveTo>
                <a:lnTo>
                  <a:pt x="163747" y="0"/>
                </a:lnTo>
                <a:lnTo>
                  <a:pt x="163747" y="21600"/>
                </a:lnTo>
                <a:lnTo>
                  <a:pt x="0" y="21600"/>
                </a:lnTo>
                <a:close/>
              </a:path>
              <a:path fill="lightenLess" w="163747" h="21600">
                <a:moveTo>
                  <a:pt x="0" y="0"/>
                </a:moveTo>
                <a:lnTo>
                  <a:pt x="163747" y="0"/>
                </a:lnTo>
                <a:lnTo>
                  <a:pt x="162347" y="1400"/>
                </a:lnTo>
                <a:lnTo>
                  <a:pt x="1400" y="1400"/>
                </a:lnTo>
                <a:close/>
              </a:path>
              <a:path fill="darken" w="163747" h="21600">
                <a:moveTo>
                  <a:pt x="163747" y="0"/>
                </a:moveTo>
                <a:lnTo>
                  <a:pt x="163747" y="21600"/>
                </a:lnTo>
                <a:lnTo>
                  <a:pt x="162347" y="20200"/>
                </a:lnTo>
                <a:lnTo>
                  <a:pt x="162347" y="1400"/>
                </a:lnTo>
                <a:close/>
              </a:path>
              <a:path fill="darkenLess" w="163747" h="21600">
                <a:moveTo>
                  <a:pt x="163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2347" y="20200"/>
                </a:lnTo>
                <a:close/>
              </a:path>
              <a:path fill="lighten" w="163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8" action="ppaction://hlinksldjump"/>
          </p:cNvPr>
          <p:cNvSpPr/>
          <p:nvPr/>
        </p:nvSpPr>
        <p:spPr>
          <a:xfrm>
            <a:off x="0" y="4267080"/>
            <a:ext cx="4800600" cy="762120"/>
          </a:xfrm>
          <a:custGeom>
            <a:avLst/>
            <a:gdLst>
              <a:gd name="textAreaLeft" fmla="*/ 49320 w 4800600"/>
              <a:gd name="textAreaRight" fmla="*/ 4751280 w 4800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36005" h="21600">
                <a:moveTo>
                  <a:pt x="0" y="0"/>
                </a:moveTo>
                <a:lnTo>
                  <a:pt x="136005" y="0"/>
                </a:lnTo>
                <a:lnTo>
                  <a:pt x="136005" y="21600"/>
                </a:lnTo>
                <a:lnTo>
                  <a:pt x="0" y="21600"/>
                </a:lnTo>
                <a:close/>
              </a:path>
              <a:path fill="lightenLess" w="136005" h="21600">
                <a:moveTo>
                  <a:pt x="0" y="0"/>
                </a:moveTo>
                <a:lnTo>
                  <a:pt x="136005" y="0"/>
                </a:lnTo>
                <a:lnTo>
                  <a:pt x="134605" y="1400"/>
                </a:lnTo>
                <a:lnTo>
                  <a:pt x="1400" y="1400"/>
                </a:lnTo>
                <a:close/>
              </a:path>
              <a:path fill="darken" w="136005" h="21600">
                <a:moveTo>
                  <a:pt x="136005" y="0"/>
                </a:moveTo>
                <a:lnTo>
                  <a:pt x="136005" y="21600"/>
                </a:lnTo>
                <a:lnTo>
                  <a:pt x="134605" y="20200"/>
                </a:lnTo>
                <a:lnTo>
                  <a:pt x="134605" y="1400"/>
                </a:lnTo>
                <a:close/>
              </a:path>
              <a:path fill="darkenLess" w="136005" h="21600">
                <a:moveTo>
                  <a:pt x="1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605" y="20200"/>
                </a:lnTo>
                <a:close/>
              </a:path>
              <a:path fill="lighten" w="1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9" action="ppaction://hlinksldjump"/>
          </p:cNvPr>
          <p:cNvSpPr/>
          <p:nvPr/>
        </p:nvSpPr>
        <p:spPr>
          <a:xfrm>
            <a:off x="0" y="5334120"/>
            <a:ext cx="3962520" cy="838080"/>
          </a:xfrm>
          <a:custGeom>
            <a:avLst/>
            <a:gdLst>
              <a:gd name="textAreaLeft" fmla="*/ 54000 w 3962520"/>
              <a:gd name="textAreaRight" fmla="*/ 3908520 w 3962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02092" h="21600">
                <a:moveTo>
                  <a:pt x="0" y="0"/>
                </a:moveTo>
                <a:lnTo>
                  <a:pt x="102092" y="0"/>
                </a:lnTo>
                <a:lnTo>
                  <a:pt x="102092" y="21600"/>
                </a:lnTo>
                <a:lnTo>
                  <a:pt x="0" y="21600"/>
                </a:lnTo>
                <a:close/>
              </a:path>
              <a:path fill="lightenLess" w="102092" h="21600">
                <a:moveTo>
                  <a:pt x="0" y="0"/>
                </a:moveTo>
                <a:lnTo>
                  <a:pt x="102092" y="0"/>
                </a:lnTo>
                <a:lnTo>
                  <a:pt x="100692" y="1400"/>
                </a:lnTo>
                <a:lnTo>
                  <a:pt x="1400" y="1400"/>
                </a:lnTo>
                <a:close/>
              </a:path>
              <a:path fill="darken" w="102092" h="21600">
                <a:moveTo>
                  <a:pt x="102092" y="0"/>
                </a:moveTo>
                <a:lnTo>
                  <a:pt x="102092" y="21600"/>
                </a:lnTo>
                <a:lnTo>
                  <a:pt x="100692" y="20200"/>
                </a:lnTo>
                <a:lnTo>
                  <a:pt x="100692" y="1400"/>
                </a:lnTo>
                <a:close/>
              </a:path>
              <a:path fill="darkenLess" w="102092" h="21600">
                <a:moveTo>
                  <a:pt x="102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692" y="20200"/>
                </a:lnTo>
                <a:close/>
              </a:path>
              <a:path fill="lighten" w="102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  <p:sndAc>
      <p:stSnd>
        <p:snd r:embed="rId10" name="Musica%20Windows%20Start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838080" y="304920"/>
            <a:ext cx="6858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Georgia"/>
              </a:rPr>
              <a:t>Glossaire et Origine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Georgia"/>
              <a:ea typeface="Georgia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396720" y="2147760"/>
            <a:ext cx="530280" cy="435240"/>
          </a:xfrm>
          <a:custGeom>
            <a:avLst/>
            <a:gdLst>
              <a:gd name="textAreaLeft" fmla="*/ 218520 w 530280"/>
              <a:gd name="textAreaRight" fmla="*/ 311760 w 530280"/>
              <a:gd name="textAreaTop" fmla="*/ 179280 h 435240"/>
              <a:gd name="textAreaBottom" fmla="*/ 255960 h 435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380880" y="4289400"/>
            <a:ext cx="530280" cy="434880"/>
          </a:xfrm>
          <a:custGeom>
            <a:avLst/>
            <a:gdLst>
              <a:gd name="textAreaLeft" fmla="*/ 218520 w 530280"/>
              <a:gd name="textAreaRight" fmla="*/ 311760 w 530280"/>
              <a:gd name="textAreaTop" fmla="*/ 179280 h 434880"/>
              <a:gd name="textAreaBottom" fmla="*/ 255600 h 43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384120" y="5280120"/>
            <a:ext cx="530280" cy="434880"/>
          </a:xfrm>
          <a:custGeom>
            <a:avLst/>
            <a:gdLst>
              <a:gd name="textAreaLeft" fmla="*/ 218520 w 530280"/>
              <a:gd name="textAreaRight" fmla="*/ 311760 w 530280"/>
              <a:gd name="textAreaTop" fmla="*/ 179280 h 434880"/>
              <a:gd name="textAreaBottom" fmla="*/ 255600 h 43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4" action="ppaction://hlinksldjump"/>
          </p:cNvPr>
          <p:cNvSpPr/>
          <p:nvPr/>
        </p:nvSpPr>
        <p:spPr>
          <a:xfrm>
            <a:off x="380880" y="3222720"/>
            <a:ext cx="530280" cy="434880"/>
          </a:xfrm>
          <a:custGeom>
            <a:avLst/>
            <a:gdLst>
              <a:gd name="textAreaLeft" fmla="*/ 218520 w 530280"/>
              <a:gd name="textAreaRight" fmla="*/ 311760 w 530280"/>
              <a:gd name="textAreaTop" fmla="*/ 179280 h 434880"/>
              <a:gd name="textAreaBottom" fmla="*/ 255600 h 43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95280" y="2133720"/>
            <a:ext cx="4822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808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ubular"/>
              </a:rPr>
              <a:t>Que veut dire la masse?</a:t>
            </a:r>
            <a:endParaRPr b="0" lang="en-US" sz="2400" spc="1" strike="noStrike">
              <a:ln cap="sq" w="9360">
                <a:solidFill>
                  <a:srgbClr val="808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ubular"/>
              <a:ea typeface="Tubular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49280" y="3200400"/>
            <a:ext cx="4822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808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ubular"/>
              </a:rPr>
              <a:t>Que veut dire le poids?</a:t>
            </a:r>
            <a:endParaRPr b="0" lang="en-US" sz="2400" spc="1" strike="noStrike">
              <a:ln cap="sq" w="9360">
                <a:solidFill>
                  <a:srgbClr val="808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ubular"/>
              <a:ea typeface="Tubular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371600" y="4267080"/>
            <a:ext cx="4822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808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ubular"/>
              </a:rPr>
              <a:t>Origine de la masse</a:t>
            </a:r>
            <a:endParaRPr b="0" lang="en-US" sz="2400" spc="1" strike="noStrike">
              <a:ln cap="sq" w="9360">
                <a:solidFill>
                  <a:srgbClr val="808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ubular"/>
              <a:ea typeface="Tubular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17600" y="5257800"/>
            <a:ext cx="363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808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ubular"/>
              </a:rPr>
              <a:t>Que veut dire la </a:t>
            </a:r>
            <a:endParaRPr b="0" lang="en-US" sz="2400" spc="1" strike="noStrike">
              <a:ln cap="sq" w="9360">
                <a:solidFill>
                  <a:srgbClr val="808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ubular"/>
              <a:ea typeface="Tubular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371600" y="5867280"/>
            <a:ext cx="5638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808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ubular"/>
              </a:rPr>
              <a:t>force gravitationnelle?</a:t>
            </a:r>
            <a:endParaRPr b="0" lang="en-US" sz="2400" spc="1" strike="noStrike">
              <a:ln cap="sq" w="9360">
                <a:solidFill>
                  <a:srgbClr val="808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ubular"/>
              <a:ea typeface="Tubular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4724280"/>
            <a:ext cx="990720" cy="1905120"/>
          </a:xfrm>
          <a:custGeom>
            <a:avLst/>
            <a:gdLst>
              <a:gd name="textAreaLeft" fmla="*/ 132480 w 990720"/>
              <a:gd name="textAreaRight" fmla="*/ 858240 w 99072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65840" y="5105520"/>
            <a:ext cx="11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Ret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629400" y="2514600"/>
            <a:ext cx="2243160" cy="15368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86" name="">
            <a:hlinkClick r:id="" action="ppaction://hlinkshowjump?jump=nextslide"/>
            <a:hlinkClick r:id="rId6"/>
          </p:cNvPr>
          <p:cNvSpPr/>
          <p:nvPr/>
        </p:nvSpPr>
        <p:spPr>
          <a:xfrm>
            <a:off x="0" y="2057400"/>
            <a:ext cx="6248520" cy="533520"/>
          </a:xfrm>
          <a:custGeom>
            <a:avLst/>
            <a:gdLst>
              <a:gd name="textAreaLeft" fmla="*/ 34560 w 6248520"/>
              <a:gd name="textAreaRight" fmla="*/ 6213960 w 6248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52820" h="21600">
                <a:moveTo>
                  <a:pt x="0" y="0"/>
                </a:moveTo>
                <a:lnTo>
                  <a:pt x="252820" y="0"/>
                </a:lnTo>
                <a:lnTo>
                  <a:pt x="252820" y="21600"/>
                </a:lnTo>
                <a:lnTo>
                  <a:pt x="0" y="21600"/>
                </a:lnTo>
                <a:close/>
              </a:path>
              <a:path fill="lightenLess" w="252820" h="21600">
                <a:moveTo>
                  <a:pt x="0" y="0"/>
                </a:moveTo>
                <a:lnTo>
                  <a:pt x="252820" y="0"/>
                </a:lnTo>
                <a:lnTo>
                  <a:pt x="251421" y="1400"/>
                </a:lnTo>
                <a:lnTo>
                  <a:pt x="1400" y="1400"/>
                </a:lnTo>
                <a:close/>
              </a:path>
              <a:path fill="darken" w="252820" h="21600">
                <a:moveTo>
                  <a:pt x="252820" y="0"/>
                </a:moveTo>
                <a:lnTo>
                  <a:pt x="252820" y="21600"/>
                </a:lnTo>
                <a:lnTo>
                  <a:pt x="251421" y="20200"/>
                </a:lnTo>
                <a:lnTo>
                  <a:pt x="251421" y="1400"/>
                </a:lnTo>
                <a:close/>
              </a:path>
              <a:path fill="darkenLess" w="252820" h="21600">
                <a:moveTo>
                  <a:pt x="252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421" y="20200"/>
                </a:lnTo>
                <a:close/>
              </a:path>
              <a:path fill="lighten" w="252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7" action="ppaction://hlinksldjump"/>
          </p:cNvPr>
          <p:cNvSpPr/>
          <p:nvPr/>
        </p:nvSpPr>
        <p:spPr>
          <a:xfrm>
            <a:off x="0" y="2133720"/>
            <a:ext cx="6248520" cy="533160"/>
          </a:xfrm>
          <a:custGeom>
            <a:avLst/>
            <a:gdLst>
              <a:gd name="textAreaLeft" fmla="*/ 34560 w 6248520"/>
              <a:gd name="textAreaRight" fmla="*/ 6213960 w 6248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52991" h="21600">
                <a:moveTo>
                  <a:pt x="0" y="0"/>
                </a:moveTo>
                <a:lnTo>
                  <a:pt x="252991" y="0"/>
                </a:lnTo>
                <a:lnTo>
                  <a:pt x="252991" y="21600"/>
                </a:lnTo>
                <a:lnTo>
                  <a:pt x="0" y="21600"/>
                </a:lnTo>
                <a:close/>
              </a:path>
              <a:path fill="lightenLess" w="252991" h="21600">
                <a:moveTo>
                  <a:pt x="0" y="0"/>
                </a:moveTo>
                <a:lnTo>
                  <a:pt x="252991" y="0"/>
                </a:lnTo>
                <a:lnTo>
                  <a:pt x="251591" y="1400"/>
                </a:lnTo>
                <a:lnTo>
                  <a:pt x="1400" y="1400"/>
                </a:lnTo>
                <a:close/>
              </a:path>
              <a:path fill="darken" w="252991" h="21600">
                <a:moveTo>
                  <a:pt x="252991" y="0"/>
                </a:moveTo>
                <a:lnTo>
                  <a:pt x="252991" y="21600"/>
                </a:lnTo>
                <a:lnTo>
                  <a:pt x="251591" y="20200"/>
                </a:lnTo>
                <a:lnTo>
                  <a:pt x="251591" y="1400"/>
                </a:lnTo>
                <a:close/>
              </a:path>
              <a:path fill="darkenLess" w="252991" h="21600">
                <a:moveTo>
                  <a:pt x="252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591" y="20200"/>
                </a:lnTo>
                <a:close/>
              </a:path>
              <a:path fill="lighten" w="252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8" action="ppaction://hlinksldjump"/>
          </p:cNvPr>
          <p:cNvSpPr/>
          <p:nvPr/>
        </p:nvSpPr>
        <p:spPr>
          <a:xfrm>
            <a:off x="0" y="3276720"/>
            <a:ext cx="6248520" cy="533160"/>
          </a:xfrm>
          <a:custGeom>
            <a:avLst/>
            <a:gdLst>
              <a:gd name="textAreaLeft" fmla="*/ 34560 w 6248520"/>
              <a:gd name="textAreaRight" fmla="*/ 6213960 w 6248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52991" h="21600">
                <a:moveTo>
                  <a:pt x="0" y="0"/>
                </a:moveTo>
                <a:lnTo>
                  <a:pt x="252991" y="0"/>
                </a:lnTo>
                <a:lnTo>
                  <a:pt x="252991" y="21600"/>
                </a:lnTo>
                <a:lnTo>
                  <a:pt x="0" y="21600"/>
                </a:lnTo>
                <a:close/>
              </a:path>
              <a:path fill="lightenLess" w="252991" h="21600">
                <a:moveTo>
                  <a:pt x="0" y="0"/>
                </a:moveTo>
                <a:lnTo>
                  <a:pt x="252991" y="0"/>
                </a:lnTo>
                <a:lnTo>
                  <a:pt x="251591" y="1400"/>
                </a:lnTo>
                <a:lnTo>
                  <a:pt x="1400" y="1400"/>
                </a:lnTo>
                <a:close/>
              </a:path>
              <a:path fill="darken" w="252991" h="21600">
                <a:moveTo>
                  <a:pt x="252991" y="0"/>
                </a:moveTo>
                <a:lnTo>
                  <a:pt x="252991" y="21600"/>
                </a:lnTo>
                <a:lnTo>
                  <a:pt x="251591" y="20200"/>
                </a:lnTo>
                <a:lnTo>
                  <a:pt x="251591" y="1400"/>
                </a:lnTo>
                <a:close/>
              </a:path>
              <a:path fill="darkenLess" w="252991" h="21600">
                <a:moveTo>
                  <a:pt x="252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591" y="20200"/>
                </a:lnTo>
                <a:close/>
              </a:path>
              <a:path fill="lighten" w="252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9" action="ppaction://hlinksldjump"/>
          </p:cNvPr>
          <p:cNvSpPr/>
          <p:nvPr/>
        </p:nvSpPr>
        <p:spPr>
          <a:xfrm>
            <a:off x="0" y="4191120"/>
            <a:ext cx="6477120" cy="609480"/>
          </a:xfrm>
          <a:custGeom>
            <a:avLst/>
            <a:gdLst>
              <a:gd name="textAreaLeft" fmla="*/ 39240 w 6477120"/>
              <a:gd name="textAreaRight" fmla="*/ 6437880 w 6477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29427" h="21600">
                <a:moveTo>
                  <a:pt x="0" y="0"/>
                </a:moveTo>
                <a:lnTo>
                  <a:pt x="229427" y="0"/>
                </a:lnTo>
                <a:lnTo>
                  <a:pt x="229427" y="21600"/>
                </a:lnTo>
                <a:lnTo>
                  <a:pt x="0" y="21600"/>
                </a:lnTo>
                <a:close/>
              </a:path>
              <a:path fill="lightenLess" w="229427" h="21600">
                <a:moveTo>
                  <a:pt x="0" y="0"/>
                </a:moveTo>
                <a:lnTo>
                  <a:pt x="229427" y="0"/>
                </a:lnTo>
                <a:lnTo>
                  <a:pt x="228027" y="1400"/>
                </a:lnTo>
                <a:lnTo>
                  <a:pt x="1400" y="1400"/>
                </a:lnTo>
                <a:close/>
              </a:path>
              <a:path fill="darken" w="229427" h="21600">
                <a:moveTo>
                  <a:pt x="229427" y="0"/>
                </a:moveTo>
                <a:lnTo>
                  <a:pt x="229427" y="21600"/>
                </a:lnTo>
                <a:lnTo>
                  <a:pt x="228027" y="20200"/>
                </a:lnTo>
                <a:lnTo>
                  <a:pt x="228027" y="1400"/>
                </a:lnTo>
                <a:close/>
              </a:path>
              <a:path fill="darkenLess" w="229427" h="21600">
                <a:moveTo>
                  <a:pt x="229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027" y="20200"/>
                </a:lnTo>
                <a:close/>
              </a:path>
              <a:path fill="lighten" w="229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0" action="ppaction://hlinksldjump"/>
          </p:cNvPr>
          <p:cNvSpPr/>
          <p:nvPr/>
        </p:nvSpPr>
        <p:spPr>
          <a:xfrm>
            <a:off x="0" y="5257800"/>
            <a:ext cx="7162920" cy="1066680"/>
          </a:xfrm>
          <a:custGeom>
            <a:avLst/>
            <a:gdLst>
              <a:gd name="textAreaLeft" fmla="*/ 69120 w 7162920"/>
              <a:gd name="textAreaRight" fmla="*/ 7093800 w 7162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45006" h="21600">
                <a:moveTo>
                  <a:pt x="0" y="0"/>
                </a:moveTo>
                <a:lnTo>
                  <a:pt x="145006" y="0"/>
                </a:lnTo>
                <a:lnTo>
                  <a:pt x="145006" y="21600"/>
                </a:lnTo>
                <a:lnTo>
                  <a:pt x="0" y="21600"/>
                </a:lnTo>
                <a:close/>
              </a:path>
              <a:path fill="lightenLess" w="145006" h="21600">
                <a:moveTo>
                  <a:pt x="0" y="0"/>
                </a:moveTo>
                <a:lnTo>
                  <a:pt x="145006" y="0"/>
                </a:lnTo>
                <a:lnTo>
                  <a:pt x="143606" y="1400"/>
                </a:lnTo>
                <a:lnTo>
                  <a:pt x="1400" y="1400"/>
                </a:lnTo>
                <a:close/>
              </a:path>
              <a:path fill="darken" w="145006" h="21600">
                <a:moveTo>
                  <a:pt x="145006" y="0"/>
                </a:moveTo>
                <a:lnTo>
                  <a:pt x="145006" y="21600"/>
                </a:lnTo>
                <a:lnTo>
                  <a:pt x="143606" y="20200"/>
                </a:lnTo>
                <a:lnTo>
                  <a:pt x="143606" y="1400"/>
                </a:lnTo>
                <a:close/>
              </a:path>
              <a:path fill="darkenLess" w="145006" h="21600">
                <a:moveTo>
                  <a:pt x="145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3606" y="20200"/>
                </a:lnTo>
                <a:close/>
              </a:path>
              <a:path fill="lighten" w="145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  <a:hlinkClick r:id="rId11"/>
          </p:cNvPr>
          <p:cNvSpPr/>
          <p:nvPr/>
        </p:nvSpPr>
        <p:spPr>
          <a:xfrm>
            <a:off x="7620120" y="4648320"/>
            <a:ext cx="1523880" cy="22096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2209680"/>
              <a:gd name="textAreaBottom" fmla="*/ 2111040 h 2209680"/>
            </a:gdLst>
            <a:ahLst/>
            <a:rect l="textAreaLeft" t="textAreaTop" r="textAreaRight" b="textAreaBottom"/>
            <a:pathLst>
              <a:path w="21600" h="31318">
                <a:moveTo>
                  <a:pt x="0" y="0"/>
                </a:moveTo>
                <a:lnTo>
                  <a:pt x="21600" y="0"/>
                </a:lnTo>
                <a:lnTo>
                  <a:pt x="21600" y="31318"/>
                </a:lnTo>
                <a:lnTo>
                  <a:pt x="0" y="31318"/>
                </a:lnTo>
                <a:close/>
              </a:path>
              <a:path fill="lightenLess" w="21600" h="313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318">
                <a:moveTo>
                  <a:pt x="21600" y="0"/>
                </a:moveTo>
                <a:lnTo>
                  <a:pt x="21600" y="31318"/>
                </a:lnTo>
                <a:lnTo>
                  <a:pt x="20200" y="29919"/>
                </a:lnTo>
                <a:lnTo>
                  <a:pt x="20200" y="1400"/>
                </a:lnTo>
                <a:close/>
              </a:path>
              <a:path fill="darkenLess" w="21600" h="31318">
                <a:moveTo>
                  <a:pt x="21600" y="31318"/>
                </a:moveTo>
                <a:lnTo>
                  <a:pt x="0" y="31318"/>
                </a:lnTo>
                <a:lnTo>
                  <a:pt x="1400" y="29919"/>
                </a:lnTo>
                <a:lnTo>
                  <a:pt x="20200" y="29919"/>
                </a:lnTo>
                <a:close/>
              </a:path>
              <a:path fill="lighten" w="21600" h="31318">
                <a:moveTo>
                  <a:pt x="0" y="313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99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2" name="EXITJAI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371600" y="457200"/>
            <a:ext cx="4267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Georgia"/>
              </a:rPr>
              <a:t>Masse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Georgia"/>
              <a:ea typeface="Georgia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800360"/>
            <a:ext cx="80773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La quantité de matière contenue dans un objet détermine la masse de celui-ci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Cette quantité de matière demeurera identique quelle que soit la situation de cet objet dans l’espace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L’ unité de mesure de la masse est le kilogramm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(ex: Une personne pesant 60kg sur terre aura une masse de 60 kg sur la lune aussi. La force gravitationnelle         n’ affectera donc pas la quantité de matière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5410080" y="4876920"/>
            <a:ext cx="3048120" cy="380880"/>
          </a:xfrm>
          <a:custGeom>
            <a:avLst/>
            <a:gdLst>
              <a:gd name="textAreaLeft" fmla="*/ 24480 w 3048120"/>
              <a:gd name="textAreaRight" fmla="*/ 3023640 w 3048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72718" h="21600">
                <a:moveTo>
                  <a:pt x="0" y="0"/>
                </a:moveTo>
                <a:lnTo>
                  <a:pt x="172718" y="0"/>
                </a:lnTo>
                <a:lnTo>
                  <a:pt x="172718" y="21600"/>
                </a:lnTo>
                <a:lnTo>
                  <a:pt x="0" y="21600"/>
                </a:lnTo>
                <a:close/>
              </a:path>
              <a:path fill="lightenLess" w="172718" h="21600">
                <a:moveTo>
                  <a:pt x="0" y="0"/>
                </a:moveTo>
                <a:lnTo>
                  <a:pt x="172718" y="0"/>
                </a:lnTo>
                <a:lnTo>
                  <a:pt x="171318" y="1400"/>
                </a:lnTo>
                <a:lnTo>
                  <a:pt x="1400" y="1400"/>
                </a:lnTo>
                <a:close/>
              </a:path>
              <a:path fill="darken" w="172718" h="21600">
                <a:moveTo>
                  <a:pt x="172718" y="0"/>
                </a:moveTo>
                <a:lnTo>
                  <a:pt x="172718" y="21600"/>
                </a:lnTo>
                <a:lnTo>
                  <a:pt x="171318" y="20200"/>
                </a:lnTo>
                <a:lnTo>
                  <a:pt x="171318" y="1400"/>
                </a:lnTo>
                <a:close/>
              </a:path>
              <a:path fill="darkenLess" w="172718" h="21600">
                <a:moveTo>
                  <a:pt x="172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318" y="20200"/>
                </a:lnTo>
                <a:close/>
              </a:path>
              <a:path fill="lighten" w="172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187560" y="6397560"/>
            <a:ext cx="38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Gadget"/>
              </a:rPr>
              <a:t>Retour au glossaire et à l’ori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  <p:sndAc>
      <p:stSnd>
        <p:snd r:embed="rId2" name="Robotz%20Questio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371600" y="457200"/>
            <a:ext cx="4267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Georgia"/>
              </a:rPr>
              <a:t>Poids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Georgia"/>
              <a:ea typeface="Georgia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981080"/>
            <a:ext cx="807732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Le poids mesure la force d’attraction qu ’exer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un astre sur un objet. Cette force est proportionnel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à la masse de l’ astre. Contrairement à la masse, le poids d ’un objet varie dans l’univers et dépend  de l ’astre où il se trouv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L ’unité de mesure du poids est le Newton (N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(ex:  Une personne qui a une masse de 60kg et un poids de 588 N sur Terre aura un poids de 96 N sur la Lune. La force gravitationnelle affecte donc le poid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086600" y="617220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1905120" y="5410080"/>
            <a:ext cx="3047760" cy="457200"/>
          </a:xfrm>
          <a:custGeom>
            <a:avLst/>
            <a:gdLst>
              <a:gd name="textAreaLeft" fmla="*/ 29520 w 3047760"/>
              <a:gd name="textAreaRight" fmla="*/ 3018240 w 3047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892" h="21600">
                <a:moveTo>
                  <a:pt x="0" y="0"/>
                </a:moveTo>
                <a:lnTo>
                  <a:pt x="143892" y="0"/>
                </a:lnTo>
                <a:lnTo>
                  <a:pt x="143892" y="21600"/>
                </a:lnTo>
                <a:lnTo>
                  <a:pt x="0" y="21600"/>
                </a:lnTo>
                <a:close/>
              </a:path>
              <a:path fill="lightenLess" w="143892" h="21600">
                <a:moveTo>
                  <a:pt x="0" y="0"/>
                </a:moveTo>
                <a:lnTo>
                  <a:pt x="143892" y="0"/>
                </a:lnTo>
                <a:lnTo>
                  <a:pt x="142492" y="1400"/>
                </a:lnTo>
                <a:lnTo>
                  <a:pt x="1400" y="1400"/>
                </a:lnTo>
                <a:close/>
              </a:path>
              <a:path fill="darken" w="143892" h="21600">
                <a:moveTo>
                  <a:pt x="143892" y="0"/>
                </a:moveTo>
                <a:lnTo>
                  <a:pt x="143892" y="21600"/>
                </a:lnTo>
                <a:lnTo>
                  <a:pt x="142492" y="20200"/>
                </a:lnTo>
                <a:lnTo>
                  <a:pt x="142492" y="1400"/>
                </a:lnTo>
                <a:close/>
              </a:path>
              <a:path fill="darkenLess" w="143892" h="21600">
                <a:moveTo>
                  <a:pt x="143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492" y="20200"/>
                </a:lnTo>
                <a:close/>
              </a:path>
              <a:path fill="lighten" w="143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0" y="6319800"/>
            <a:ext cx="3733920" cy="533520"/>
          </a:xfrm>
          <a:custGeom>
            <a:avLst/>
            <a:gdLst>
              <a:gd name="textAreaLeft" fmla="*/ 34560 w 3733920"/>
              <a:gd name="textAreaRight" fmla="*/ 3699360 w 3733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51083" h="21600">
                <a:moveTo>
                  <a:pt x="0" y="0"/>
                </a:moveTo>
                <a:lnTo>
                  <a:pt x="151083" y="0"/>
                </a:lnTo>
                <a:lnTo>
                  <a:pt x="151083" y="21600"/>
                </a:lnTo>
                <a:lnTo>
                  <a:pt x="0" y="21600"/>
                </a:lnTo>
                <a:close/>
              </a:path>
              <a:path fill="lightenLess" w="151083" h="21600">
                <a:moveTo>
                  <a:pt x="0" y="0"/>
                </a:moveTo>
                <a:lnTo>
                  <a:pt x="151083" y="0"/>
                </a:lnTo>
                <a:lnTo>
                  <a:pt x="149684" y="1400"/>
                </a:lnTo>
                <a:lnTo>
                  <a:pt x="1400" y="1400"/>
                </a:lnTo>
                <a:close/>
              </a:path>
              <a:path fill="darken" w="151083" h="21600">
                <a:moveTo>
                  <a:pt x="151083" y="0"/>
                </a:moveTo>
                <a:lnTo>
                  <a:pt x="151083" y="21600"/>
                </a:lnTo>
                <a:lnTo>
                  <a:pt x="149684" y="20200"/>
                </a:lnTo>
                <a:lnTo>
                  <a:pt x="149684" y="1400"/>
                </a:lnTo>
                <a:close/>
              </a:path>
              <a:path fill="darkenLess" w="151083" h="21600">
                <a:moveTo>
                  <a:pt x="151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684" y="20200"/>
                </a:lnTo>
                <a:close/>
              </a:path>
              <a:path fill="lighten" w="151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187560" y="6397560"/>
            <a:ext cx="38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Gadget"/>
              </a:rPr>
              <a:t>Retour au glossaire et à l’ori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  <p:sndAc>
      <p:stSnd>
        <p:snd r:embed="rId4" name="Robotz%20Questio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14400" y="3049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Georgia"/>
              </a:rPr>
              <a:t>Origine de la masse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Georgia"/>
              <a:ea typeface="Georgia"/>
            </a:endParaRPr>
          </a:p>
        </p:txBody>
      </p:sp>
      <p:sp>
        <p:nvSpPr>
          <p:cNvPr id="103" name=""/>
          <p:cNvSpPr/>
          <p:nvPr/>
        </p:nvSpPr>
        <p:spPr>
          <a:xfrm>
            <a:off x="-187560" y="6397560"/>
            <a:ext cx="38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Gadget"/>
              </a:rPr>
              <a:t>Retour au glossaire et à l’ori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057400"/>
            <a:ext cx="80773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Comme toute chose, l ’unité de la masse a une origine. Après plusieurs recherches, le kilogramme  a été choisi après qu’on ait voulu  relier la masse à une constante naturelle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630600"/>
            <a:ext cx="784872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Depuis 1889, le kilogramme étalon sert de référence pour déterminer la masse. Ce derni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est composé d ’un alliage de platine ainsi que d ’iridium et est conservé au Bureau international des poids et mesur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(BIPM) à Sèvres, près de Par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0" y="6319800"/>
            <a:ext cx="3733920" cy="533520"/>
          </a:xfrm>
          <a:custGeom>
            <a:avLst/>
            <a:gdLst>
              <a:gd name="textAreaLeft" fmla="*/ 34560 w 3733920"/>
              <a:gd name="textAreaRight" fmla="*/ 3699360 w 3733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51083" h="21600">
                <a:moveTo>
                  <a:pt x="0" y="0"/>
                </a:moveTo>
                <a:lnTo>
                  <a:pt x="151083" y="0"/>
                </a:lnTo>
                <a:lnTo>
                  <a:pt x="151083" y="21600"/>
                </a:lnTo>
                <a:lnTo>
                  <a:pt x="0" y="21600"/>
                </a:lnTo>
                <a:close/>
              </a:path>
              <a:path fill="lightenLess" w="151083" h="21600">
                <a:moveTo>
                  <a:pt x="0" y="0"/>
                </a:moveTo>
                <a:lnTo>
                  <a:pt x="151083" y="0"/>
                </a:lnTo>
                <a:lnTo>
                  <a:pt x="149684" y="1400"/>
                </a:lnTo>
                <a:lnTo>
                  <a:pt x="1400" y="1400"/>
                </a:lnTo>
                <a:close/>
              </a:path>
              <a:path fill="darken" w="151083" h="21600">
                <a:moveTo>
                  <a:pt x="151083" y="0"/>
                </a:moveTo>
                <a:lnTo>
                  <a:pt x="151083" y="21600"/>
                </a:lnTo>
                <a:lnTo>
                  <a:pt x="149684" y="20200"/>
                </a:lnTo>
                <a:lnTo>
                  <a:pt x="149684" y="1400"/>
                </a:lnTo>
                <a:close/>
              </a:path>
              <a:path fill="darkenLess" w="151083" h="21600">
                <a:moveTo>
                  <a:pt x="151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684" y="20200"/>
                </a:lnTo>
                <a:close/>
              </a:path>
              <a:path fill="lighten" w="151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  <p:sndAc>
      <p:stSnd>
        <p:snd r:embed="rId2" name="Robotz%20Questio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-304920" y="228600"/>
            <a:ext cx="8458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Georgia"/>
              </a:rPr>
              <a:t>Force gravitationnelle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Georgia"/>
              <a:ea typeface="Georgia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996920"/>
            <a:ext cx="838224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La force gravitationnelle (Fg) est la force exercée par une planète sur un corp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Le poids d ’un objet est relié à sa masse (m) par la rel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Fg = m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g  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Sur la terre, l ’intensité du champ gravitationnel (la constante </a:t>
            </a: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) vaut 9,8 N/kg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De ce fait, on peut dire que le poids d ’un objet de 5,0 kg est de 49 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187560" y="6397560"/>
            <a:ext cx="38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Gadget"/>
              </a:rPr>
              <a:t>Retour au glossaire et à l’ori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  <p:sndAc>
      <p:stSnd>
        <p:snd r:embed="rId1" name="Robotz%20Ques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21:49:06Z</dcterms:created>
  <dc:creator>Lado</dc:creator>
  <dc:description/>
  <dc:language>en-US</dc:language>
  <cp:lastModifiedBy>Lado</cp:lastModifiedBy>
  <dcterms:modified xsi:type="dcterms:W3CDTF">2000-09-26T17:29:30Z</dcterms:modified>
  <cp:revision>15</cp:revision>
  <dc:subject/>
  <dc:title>Aucun titre de diapositive</dc:title>
</cp:coreProperties>
</file>