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sp011.wav" ContentType="audio/x-wav"/>
  <Override PartName="/ppt/media/image11.wmf" ContentType="image/x-wmf"/>
  <Override PartName="/ppt/media/image26.png" ContentType="image/png"/>
  <Override PartName="/ppt/media/image3.wmf" ContentType="image/x-wmf"/>
  <Override PartName="/ppt/media/image10.wmf" ContentType="image/x-wmf"/>
  <Override PartName="/ppt/media/image5.wmf" ContentType="image/x-wmf"/>
  <Override PartName="/ppt/media/image30.wmf" ContentType="image/x-wmf"/>
  <Override PartName="/ppt/media/image27.png" ContentType="image/png"/>
  <Override PartName="/ppt/media/image12.wmf" ContentType="image/x-wmf"/>
  <Override PartName="/ppt/media/sp015.wav" ContentType="audio/x-wav"/>
  <Override PartName="/ppt/media/image7.jpeg" ContentType="image/jpeg"/>
  <Override PartName="/ppt/media/image28.png" ContentType="image/png"/>
  <Override PartName="/ppt/media/image13.wmf" ContentType="image/x-wmf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png" ContentType="image/png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9E64-E38B-4785-B665-FCC1265E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544-A8BD-4E49-9F64-3A8C123A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B61-C11D-4432-908C-A914C429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1C23-7F5E-4460-BAFB-8D7F2DCD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0A1F-97CE-4D04-89EA-87C85328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432-9C60-4E4E-9AF3-21F03FDE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55F-0BF7-4DB8-A65C-31F7C85C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D720-D317-4582-A213-A717E4E6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71A-E100-44DC-AA9E-3F6E73F8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F0A-C2B2-4C35-9C37-461B978C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A1C-CBF3-4C57-8678-49C78805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7FD4-C004-4431-BE82-E198E55E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DD54-8C1E-40A2-AEA3-5DE116226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dm.qc.ca/ladauversiere/scienc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9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9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9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9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9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9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9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9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19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19.wmf"/><Relationship Id="rId4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slide" Target="slide5.xml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2.bin"/><Relationship Id="rId6" Type="http://schemas.openxmlformats.org/officeDocument/2006/relationships/slide" Target="slide14.xml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audio" Target="../media/sp015.wav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1.bin"/><Relationship Id="rId6" Type="http://schemas.openxmlformats.org/officeDocument/2006/relationships/hyperlink" Target="file:///tmp/home/.config/libreoffice/4/user/gallery/Ricochet" TargetMode="External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tmp/home/.config/libreoffice/4/user/gallery/Carillon" TargetMode="External"/><Relationship Id="rId3" Type="http://schemas.openxmlformats.org/officeDocument/2006/relationships/image" Target="../media/image6.wmf"/><Relationship Id="rId4" Type="http://schemas.openxmlformats.org/officeDocument/2006/relationships/audio" Target="../media/sp015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.xml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file:///tmp/home/.config/libreoffice/4/user/gallery/Appareil%20photo" TargetMode="External"/><Relationship Id="rId4" Type="http://schemas.openxmlformats.org/officeDocument/2006/relationships/audio" Target="../media/sp011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oleObject" Target="../embeddings/oleObject2.bin"/><Relationship Id="rId11" Type="http://schemas.openxmlformats.org/officeDocument/2006/relationships/hyperlink" Target="file:///tmp/home/.config/libreoffice/4/user/gallery/Laser" TargetMode="External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tmp/home/.config/libreoffice/4/user/gallery/Carillon" TargetMode="External"/><Relationship Id="rId3" Type="http://schemas.openxmlformats.org/officeDocument/2006/relationships/image" Target="../media/image6.wmf"/><Relationship Id="rId4" Type="http://schemas.openxmlformats.org/officeDocument/2006/relationships/audio" Target="../media/sp015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oleObject" Target="../embeddings/oleObject1.bin"/><Relationship Id="rId6" Type="http://schemas.openxmlformats.org/officeDocument/2006/relationships/hyperlink" Target="file:///tmp/home/.config/libreoffice/4/user/gallery/Carillon" TargetMode="External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slide" Target="slide5.xml"/><Relationship Id="rId5" Type="http://schemas.openxmlformats.org/officeDocument/2006/relationships/image" Target="../media/image11.wm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567b"/>
            </a:gs>
            <a:gs pos="50000">
              <a:srgbClr val="000000"/>
            </a:gs>
            <a:gs pos="100000">
              <a:srgbClr val="f256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304920"/>
            <a:ext cx="77724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a loi de Graham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285200" y="2879640"/>
            <a:ext cx="6726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Par Anna Faramazyan et Ana Avil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6040" y="373284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La Dauversière, Montréal, juin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314880" y="5867280"/>
            <a:ext cx="2666880" cy="457200"/>
            <a:chOff x="3314880" y="5867280"/>
            <a:chExt cx="2666880" cy="457200"/>
          </a:xfrm>
        </p:grpSpPr>
        <p:sp>
          <p:nvSpPr>
            <p:cNvPr id="45" name=""/>
            <p:cNvSpPr/>
            <p:nvPr/>
          </p:nvSpPr>
          <p:spPr>
            <a:xfrm>
              <a:off x="3314880" y="586728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03520" y="59421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634040" y="4617000"/>
            <a:ext cx="60300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</a:t>
            </a:r>
            <a:r>
              <a:rPr b="0" lang="fr-CA" sz="16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Myriam D ’Avr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4495680" y="0"/>
          <a:ext cx="3036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0"/>
                    <a:ext cx="3036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523880" y="2057400"/>
            <a:ext cx="5105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66"/>
                </a:solidFill>
                <a:latin typeface="Times New Roman"/>
              </a:rPr>
              <a:t>Sachant que l ’énergie cinétique d ’un système de particules dépend de sa température, des particules de masses différentes voyagent donc à des vitesses différ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-360" y="762120"/>
            <a:ext cx="9144360" cy="5336280"/>
            <a:chOff x="-360" y="762120"/>
            <a:chExt cx="9144360" cy="5336280"/>
          </a:xfrm>
        </p:grpSpPr>
        <p:graphicFrame>
          <p:nvGraphicFramePr>
            <p:cNvPr id="114" name=""/>
            <p:cNvGraphicFramePr/>
            <p:nvPr/>
          </p:nvGraphicFramePr>
          <p:xfrm>
            <a:off x="7748640" y="1066680"/>
            <a:ext cx="1395360" cy="457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" name="" descr="">
                      <a:hlinkClick r:id="" action="ppaction://hlinkshowjump?jump=nextslide"/>
                    </p:cNvPr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48640" y="1066680"/>
                      <a:ext cx="1395360" cy="45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"/>
            <p:cNvGraphicFramePr/>
            <p:nvPr/>
          </p:nvGraphicFramePr>
          <p:xfrm>
            <a:off x="-360" y="762120"/>
            <a:ext cx="1484280" cy="4267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-360" y="762120"/>
                      <a:ext cx="148428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7772400" y="5638680"/>
              <a:ext cx="104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cliq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98560" y="66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2240" y="746280"/>
            <a:ext cx="75585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La vitesse de la diffusion des molécules varie selon la m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de ces derniè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Donc, une particule lourde voyage plus lent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2971800"/>
          <a:ext cx="1425600" cy="116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71800"/>
                    <a:ext cx="14256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133720" y="3048120"/>
          <a:ext cx="1425600" cy="1166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3048120"/>
                    <a:ext cx="14256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908520" y="3024360"/>
          <a:ext cx="1425600" cy="1166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08520" y="3024360"/>
                    <a:ext cx="14256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813280" y="3048120"/>
          <a:ext cx="1425600" cy="1166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13280" y="3048120"/>
                    <a:ext cx="14256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391520" y="3048120"/>
          <a:ext cx="1425600" cy="1166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391520" y="3048120"/>
                    <a:ext cx="14256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57200" y="5867280"/>
          <a:ext cx="892080" cy="493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200" y="5867280"/>
                    <a:ext cx="8920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350360" y="4556160"/>
            <a:ext cx="57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Une particule légère voyage très rapid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90720" y="5867280"/>
          <a:ext cx="892080" cy="493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90720" y="5867280"/>
                    <a:ext cx="8920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371600" y="5867280"/>
          <a:ext cx="892080" cy="493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371600" y="5867280"/>
                    <a:ext cx="8920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752480" y="5943600"/>
          <a:ext cx="892440" cy="4935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752480" y="5943600"/>
                    <a:ext cx="8924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133720" y="5867280"/>
          <a:ext cx="892080" cy="4939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133720" y="5867280"/>
                    <a:ext cx="8920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590920" y="5943600"/>
          <a:ext cx="892080" cy="4935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590920" y="5943600"/>
                    <a:ext cx="8920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200400" y="5943600"/>
          <a:ext cx="892080" cy="4935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200400" y="5943600"/>
                    <a:ext cx="8920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962520" y="5943600"/>
          <a:ext cx="892080" cy="493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962520" y="5943600"/>
                    <a:ext cx="8920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648320" y="5943600"/>
          <a:ext cx="892080" cy="4935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648320" y="5943600"/>
                    <a:ext cx="8920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203800" y="5867280"/>
          <a:ext cx="892080" cy="4939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203800" y="5867280"/>
                    <a:ext cx="8920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867280" y="5907240"/>
          <a:ext cx="892440" cy="4935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867280" y="5907240"/>
                    <a:ext cx="8924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575400" y="5907240"/>
          <a:ext cx="892080" cy="4935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575400" y="5907240"/>
                    <a:ext cx="8920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7337520" y="5943600"/>
          <a:ext cx="892080" cy="4935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7337520" y="5943600"/>
                    <a:ext cx="8920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8175600" y="5943600"/>
          <a:ext cx="892080" cy="4935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8175600" y="5943600"/>
                    <a:ext cx="8920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8404200" y="5943600"/>
          <a:ext cx="892080" cy="4935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8404200" y="5943600"/>
                    <a:ext cx="8920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28600" y="5280120"/>
          <a:ext cx="2514600" cy="15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5280120"/>
                    <a:ext cx="251460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763440" y="1965240"/>
            <a:ext cx="1557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E</a:t>
            </a:r>
            <a:r>
              <a:rPr b="0" i="1" lang="fr-FR" sz="2400" spc="-1" strike="noStrike" baseline="-25000">
                <a:solidFill>
                  <a:srgbClr val="990099"/>
                </a:solidFill>
                <a:latin typeface="Times New Roman"/>
              </a:rPr>
              <a:t>k(1)</a:t>
            </a: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 = E</a:t>
            </a:r>
            <a:r>
              <a:rPr b="0" i="1" lang="fr-FR" sz="2400" spc="-1" strike="noStrike" baseline="-25000">
                <a:solidFill>
                  <a:srgbClr val="990099"/>
                </a:solidFill>
                <a:latin typeface="Times New Roman"/>
              </a:rPr>
              <a:t>k(2)</a:t>
            </a: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08720" y="3021120"/>
            <a:ext cx="23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baseline="30000">
                <a:solidFill>
                  <a:srgbClr val="990099"/>
                </a:solidFill>
                <a:latin typeface="Times New Roman"/>
              </a:rPr>
              <a:t>1</a:t>
            </a: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/</a:t>
            </a:r>
            <a:r>
              <a:rPr b="0" i="1" lang="fr-FR" sz="2400" spc="-1" strike="noStrike" baseline="-25000">
                <a:solidFill>
                  <a:srgbClr val="990099"/>
                </a:solidFill>
                <a:latin typeface="Times New Roman"/>
              </a:rPr>
              <a:t>2</a:t>
            </a: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m</a:t>
            </a:r>
            <a:r>
              <a:rPr b="0" i="1" lang="fr-FR" sz="2400" spc="-1" strike="noStrike" baseline="-25000">
                <a:solidFill>
                  <a:srgbClr val="990099"/>
                </a:solidFill>
                <a:latin typeface="Times New Roman"/>
              </a:rPr>
              <a:t>1</a:t>
            </a:r>
            <a:r>
              <a:rPr b="0" i="1" lang="fr-FR" sz="2400" spc="-1" strike="noStrike">
                <a:solidFill>
                  <a:srgbClr val="990099"/>
                </a:solidFill>
                <a:latin typeface="Arial"/>
              </a:rPr>
              <a:t>v</a:t>
            </a:r>
            <a:r>
              <a:rPr b="0" i="1" lang="fr-FR" sz="2400" spc="-1" strike="noStrike" baseline="30000">
                <a:solidFill>
                  <a:srgbClr val="990099"/>
                </a:solidFill>
                <a:latin typeface="Times New Roman"/>
              </a:rPr>
              <a:t>2</a:t>
            </a:r>
            <a:r>
              <a:rPr b="0" i="1" lang="fr-FR" sz="2400" spc="-1" strike="noStrike" baseline="-25000">
                <a:solidFill>
                  <a:srgbClr val="990099"/>
                </a:solidFill>
                <a:latin typeface="Times New Roman"/>
              </a:rPr>
              <a:t>1</a:t>
            </a: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 = </a:t>
            </a:r>
            <a:r>
              <a:rPr b="0" i="1" lang="fr-FR" sz="2400" spc="-1" strike="noStrike" baseline="30000">
                <a:solidFill>
                  <a:srgbClr val="990099"/>
                </a:solidFill>
                <a:latin typeface="Times New Roman"/>
              </a:rPr>
              <a:t>1</a:t>
            </a: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/</a:t>
            </a:r>
            <a:r>
              <a:rPr b="0" i="1" lang="fr-FR" sz="2400" spc="-1" strike="noStrike" baseline="-25000">
                <a:solidFill>
                  <a:srgbClr val="990099"/>
                </a:solidFill>
                <a:latin typeface="Times New Roman"/>
              </a:rPr>
              <a:t>2</a:t>
            </a: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m</a:t>
            </a:r>
            <a:r>
              <a:rPr b="0" i="1" lang="fr-FR" sz="2400" spc="-1" strike="noStrike" baseline="-25000">
                <a:solidFill>
                  <a:srgbClr val="990099"/>
                </a:solidFill>
                <a:latin typeface="Times New Roman"/>
              </a:rPr>
              <a:t>2</a:t>
            </a:r>
            <a:r>
              <a:rPr b="0" i="1" lang="fr-FR" sz="2400" spc="-1" strike="noStrike">
                <a:solidFill>
                  <a:srgbClr val="990099"/>
                </a:solidFill>
                <a:latin typeface="Arial"/>
              </a:rPr>
              <a:t>v</a:t>
            </a:r>
            <a:r>
              <a:rPr b="0" i="1" lang="fr-FR" sz="2400" spc="-1" strike="noStrike" baseline="30000">
                <a:solidFill>
                  <a:srgbClr val="990099"/>
                </a:solidFill>
                <a:latin typeface="Times New Roman"/>
              </a:rPr>
              <a:t>2</a:t>
            </a:r>
            <a:r>
              <a:rPr b="0" i="1" lang="fr-FR" sz="2400" spc="-1" strike="noStrike" baseline="-25000">
                <a:solidFill>
                  <a:srgbClr val="9900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55640" y="3630600"/>
            <a:ext cx="181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m</a:t>
            </a:r>
            <a:r>
              <a:rPr b="0" i="1" lang="fr-FR" sz="2400" spc="-1" strike="noStrike" baseline="-25000">
                <a:solidFill>
                  <a:srgbClr val="990099"/>
                </a:solidFill>
                <a:latin typeface="Times New Roman"/>
              </a:rPr>
              <a:t>1</a:t>
            </a:r>
            <a:r>
              <a:rPr b="0" i="1" lang="fr-FR" sz="2400" spc="-1" strike="noStrike">
                <a:solidFill>
                  <a:srgbClr val="990099"/>
                </a:solidFill>
                <a:latin typeface="Arial"/>
              </a:rPr>
              <a:t>v</a:t>
            </a:r>
            <a:r>
              <a:rPr b="0" i="1" lang="fr-FR" sz="2400" spc="-1" strike="noStrike" baseline="30000">
                <a:solidFill>
                  <a:srgbClr val="990099"/>
                </a:solidFill>
                <a:latin typeface="Times New Roman"/>
              </a:rPr>
              <a:t>2</a:t>
            </a:r>
            <a:r>
              <a:rPr b="0" i="1" lang="fr-FR" sz="2400" spc="-1" strike="noStrike" baseline="-25000">
                <a:solidFill>
                  <a:srgbClr val="990099"/>
                </a:solidFill>
                <a:latin typeface="Times New Roman"/>
              </a:rPr>
              <a:t>1</a:t>
            </a: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 = m</a:t>
            </a:r>
            <a:r>
              <a:rPr b="0" i="1" lang="fr-FR" sz="2400" spc="-1" strike="noStrike" baseline="-25000">
                <a:solidFill>
                  <a:srgbClr val="990099"/>
                </a:solidFill>
                <a:latin typeface="Times New Roman"/>
              </a:rPr>
              <a:t>2</a:t>
            </a:r>
            <a:r>
              <a:rPr b="0" i="1" lang="fr-FR" sz="2400" spc="-1" strike="noStrike">
                <a:solidFill>
                  <a:srgbClr val="990099"/>
                </a:solidFill>
                <a:latin typeface="Arial"/>
              </a:rPr>
              <a:t>v</a:t>
            </a:r>
            <a:r>
              <a:rPr b="0" i="1" lang="fr-FR" sz="2400" spc="-1" strike="noStrike" baseline="30000">
                <a:solidFill>
                  <a:srgbClr val="990099"/>
                </a:solidFill>
                <a:latin typeface="Times New Roman"/>
              </a:rPr>
              <a:t>2</a:t>
            </a:r>
            <a:r>
              <a:rPr b="0" i="1" lang="fr-FR" sz="2400" spc="-1" strike="noStrike" baseline="-25000">
                <a:solidFill>
                  <a:srgbClr val="9900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48320" y="3641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02000" y="3630600"/>
            <a:ext cx="1046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990099"/>
                </a:solidFill>
                <a:latin typeface="Arial"/>
              </a:rPr>
              <a:t>v</a:t>
            </a:r>
            <a:r>
              <a:rPr b="0" i="1" lang="fr-FR" sz="2400" spc="-1" strike="noStrike" baseline="30000">
                <a:solidFill>
                  <a:srgbClr val="990099"/>
                </a:solidFill>
                <a:latin typeface="Times New Roman"/>
              </a:rPr>
              <a:t>2</a:t>
            </a:r>
            <a:r>
              <a:rPr b="0" i="1" lang="fr-FR" sz="2400" spc="-1" strike="noStrike" baseline="-25000">
                <a:solidFill>
                  <a:srgbClr val="990099"/>
                </a:solidFill>
                <a:latin typeface="Times New Roman"/>
              </a:rPr>
              <a:t>1</a:t>
            </a: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   m</a:t>
            </a:r>
            <a:r>
              <a:rPr b="0" i="1" lang="fr-FR" sz="2400" spc="-1" strike="noStrike" baseline="-25000">
                <a:solidFill>
                  <a:srgbClr val="9900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990099"/>
                </a:solidFill>
                <a:latin typeface="Arial"/>
              </a:rPr>
              <a:t>v</a:t>
            </a:r>
            <a:r>
              <a:rPr b="0" i="1" lang="fr-FR" sz="2400" spc="-1" strike="noStrike" baseline="30000">
                <a:solidFill>
                  <a:srgbClr val="990099"/>
                </a:solidFill>
                <a:latin typeface="Times New Roman"/>
              </a:rPr>
              <a:t>2</a:t>
            </a:r>
            <a:r>
              <a:rPr b="0" i="1" lang="fr-FR" sz="2400" spc="-1" strike="noStrike" baseline="-25000">
                <a:solidFill>
                  <a:srgbClr val="990099"/>
                </a:solidFill>
                <a:latin typeface="Times New Roman"/>
              </a:rPr>
              <a:t>2</a:t>
            </a: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   m</a:t>
            </a:r>
            <a:r>
              <a:rPr b="0" i="1" lang="fr-FR" sz="2400" spc="-1" strike="noStrike" baseline="-25000">
                <a:solidFill>
                  <a:srgbClr val="99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4038480"/>
            <a:ext cx="457200" cy="0"/>
          </a:xfrm>
          <a:prstGeom prst="line">
            <a:avLst/>
          </a:prstGeom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4038480"/>
            <a:ext cx="457200" cy="0"/>
          </a:xfrm>
          <a:prstGeom prst="line">
            <a:avLst/>
          </a:prstGeom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65800" y="472428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Ce qui équivaut 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0040" y="52214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990099"/>
                </a:solidFill>
                <a:latin typeface="Arial"/>
              </a:rPr>
              <a:t>v</a:t>
            </a:r>
            <a:r>
              <a:rPr b="0" i="1" lang="fr-FR" sz="2400" spc="-1" strike="noStrike" baseline="-25000">
                <a:solidFill>
                  <a:srgbClr val="99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0040" y="5678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990099"/>
                </a:solidFill>
                <a:latin typeface="Arial"/>
              </a:rPr>
              <a:t>v</a:t>
            </a:r>
            <a:r>
              <a:rPr b="0" i="1" lang="fr-FR" sz="2400" spc="-1" strike="noStrike" baseline="-25000">
                <a:solidFill>
                  <a:srgbClr val="9900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48480" y="539424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7080" y="5638680"/>
            <a:ext cx="228600" cy="0"/>
          </a:xfrm>
          <a:prstGeom prst="line">
            <a:avLst/>
          </a:prstGeom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5638680"/>
            <a:ext cx="76320" cy="304920"/>
          </a:xfrm>
          <a:prstGeom prst="line">
            <a:avLst/>
          </a:prstGeom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572000" y="5333760"/>
            <a:ext cx="76320" cy="609480"/>
          </a:xfrm>
          <a:prstGeom prst="line">
            <a:avLst/>
          </a:prstGeom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5334120"/>
            <a:ext cx="380880" cy="0"/>
          </a:xfrm>
          <a:prstGeom prst="line">
            <a:avLst/>
          </a:prstGeom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64800" y="5318280"/>
            <a:ext cx="5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m</a:t>
            </a:r>
            <a:r>
              <a:rPr b="0" i="1" lang="fr-FR" sz="2400" spc="-1" strike="noStrike" baseline="-25000">
                <a:solidFill>
                  <a:srgbClr val="9900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64800" y="5699160"/>
            <a:ext cx="5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m</a:t>
            </a:r>
            <a:r>
              <a:rPr b="0" i="1" lang="fr-FR" sz="2400" spc="-1" strike="noStrike" baseline="-25000">
                <a:solidFill>
                  <a:srgbClr val="99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4200" y="441360"/>
            <a:ext cx="81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À partir de ce moment,  on conclut que la vitesse de diffusion 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gaz à la même température et à la même pression donn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formule suiv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78920" y="3794040"/>
            <a:ext cx="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990099"/>
                </a:solidFill>
                <a:latin typeface="Times New Roman"/>
              </a:rPr>
              <a:t>=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53341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li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9999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038400" y="-762120"/>
            <a:ext cx="4657680" cy="29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roblème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2209680"/>
            <a:ext cx="6400800" cy="50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100" spc="-1" strike="noStrike">
                <a:solidFill>
                  <a:srgbClr val="000000"/>
                </a:solidFill>
                <a:latin typeface="Times New Roman"/>
              </a:rPr>
              <a:t>En insérant deux gaz, HCl et NH</a:t>
            </a:r>
            <a:r>
              <a:rPr b="1" i="1" lang="fr-FR" sz="31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1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3100" spc="-1" strike="noStrike">
                <a:solidFill>
                  <a:srgbClr val="000000"/>
                </a:solidFill>
                <a:latin typeface="Times New Roman"/>
              </a:rPr>
              <a:t>chacun dans une extrémité d’un tube, on constate par le calcul suivant que l’un d’eux a une masse molaire plus faible que l’autre. L ’expérience  montre que ce dernier rencontre le second plus rapidement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100" spc="-1" strike="noStrike">
                <a:solidFill>
                  <a:srgbClr val="000000"/>
                </a:solidFill>
                <a:latin typeface="Times New Roman"/>
              </a:rPr>
              <a:t>La vitesse de HCl est 50 ml/mi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100" spc="-1" strike="noStrike">
                <a:solidFill>
                  <a:srgbClr val="000000"/>
                </a:solidFill>
                <a:latin typeface="Times New Roman"/>
              </a:rPr>
              <a:t>Quelle est la vitesse du NH</a:t>
            </a:r>
            <a:r>
              <a:rPr b="1" i="1" lang="fr-FR" sz="3100" spc="-1" strike="noStrike" baseline="-25000">
                <a:solidFill>
                  <a:srgbClr val="000000"/>
                </a:solidFill>
                <a:latin typeface="Times New Roman"/>
              </a:rPr>
              <a:t>3  </a:t>
            </a:r>
            <a:r>
              <a:rPr b="1" i="1" lang="fr-FR" sz="31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228600"/>
          <a:ext cx="205740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"/>
                    <a:ext cx="20574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6858000" y="2438280"/>
          <a:ext cx="1766880" cy="441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>
                    <a:hlinkClick r:id="rId6" action="ppaction://hlinksldjump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0" y="2438280"/>
                    <a:ext cx="17668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7696080" y="524196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li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66ffff"/>
            </a:gs>
            <a:gs pos="100000">
              <a:srgbClr val="00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62940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54880" y="5029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36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304920"/>
            <a:ext cx="9144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Times New Roman"/>
              </a:rPr>
              <a:t>Exemple de calcul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74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47320" y="30430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54520" y="3460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47320" y="35002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5400" y="321624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64360" y="3460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92960" y="3460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568920" y="315576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45240" y="3156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61720" y="3139920"/>
            <a:ext cx="5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21560" y="3537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28600" y="3444840"/>
            <a:ext cx="5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2520" y="4038480"/>
            <a:ext cx="1227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 36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5120" y="4724280"/>
            <a:ext cx="18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50 ml/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8480" y="2530440"/>
            <a:ext cx="1304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= 17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800" y="3352680"/>
            <a:ext cx="85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58880" y="46483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50 ml/m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49960" y="4511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26520" y="396252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31200" y="426708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16680" y="4375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45280" y="43750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221600" y="407016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97560" y="4070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07200" y="4054320"/>
            <a:ext cx="71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36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17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73880" y="4451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95400" y="5170320"/>
            <a:ext cx="79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64360" y="5365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92960" y="536580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21560" y="5442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7880" y="5425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17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39600" y="51814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 50 ml/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94320" y="5932440"/>
            <a:ext cx="238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= 72,76 ml/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895480" y="1828800"/>
          <a:ext cx="16765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828800"/>
                    <a:ext cx="1676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380880" y="5257800"/>
          <a:ext cx="19814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257800"/>
                    <a:ext cx="19814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609480" y="64008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li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553080" y="510516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228600" y="1143000"/>
            <a:ext cx="8915400" cy="4952880"/>
            <a:chOff x="228600" y="1143000"/>
            <a:chExt cx="8915400" cy="4952880"/>
          </a:xfrm>
        </p:grpSpPr>
        <p:sp>
          <p:nvSpPr>
            <p:cNvPr id="236" name=""/>
            <p:cNvSpPr/>
            <p:nvPr/>
          </p:nvSpPr>
          <p:spPr>
            <a:xfrm flipV="1">
              <a:off x="4267080" y="3733200"/>
              <a:ext cx="609840" cy="75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>
              <a:hlinkClick r:id="" action="ppaction://hlinkshowjump?jump=nextslide"/>
            </p:cNvPr>
            <p:cNvSpPr/>
            <p:nvPr/>
          </p:nvSpPr>
          <p:spPr>
            <a:xfrm>
              <a:off x="3009960" y="5867280"/>
              <a:ext cx="312408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95680" y="3733920"/>
              <a:ext cx="152640" cy="213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6e6e6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52560" y="2781360"/>
              <a:ext cx="7696080" cy="91440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1143000"/>
              <a:ext cx="152640" cy="1752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6e6e6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267080" y="2818800"/>
              <a:ext cx="609840" cy="75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3009960"/>
              <a:ext cx="60948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534520" y="3009960"/>
              <a:ext cx="60948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05920" y="2743200"/>
              <a:ext cx="380880" cy="1066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2120" y="2743200"/>
              <a:ext cx="533160" cy="1066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66840" y="4952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9880" y="5638680"/>
            <a:ext cx="76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5181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286000" y="5638680"/>
            <a:ext cx="609120" cy="609840"/>
            <a:chOff x="2286000" y="5638680"/>
            <a:chExt cx="609120" cy="609840"/>
          </a:xfrm>
        </p:grpSpPr>
        <p:sp>
          <p:nvSpPr>
            <p:cNvPr id="250" name=""/>
            <p:cNvSpPr/>
            <p:nvPr/>
          </p:nvSpPr>
          <p:spPr>
            <a:xfrm>
              <a:off x="2514240" y="5791320"/>
              <a:ext cx="380880" cy="304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86000" y="5867280"/>
              <a:ext cx="228240" cy="152640"/>
            </a:xfrm>
            <a:prstGeom prst="ellipse">
              <a:avLst/>
            </a:prstGeom>
            <a:gradFill rotWithShape="0">
              <a:gsLst>
                <a:gs pos="0">
                  <a:srgbClr val="d1c39f"/>
                </a:gs>
                <a:gs pos="100000">
                  <a:srgbClr val="ffefd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90560" y="6095880"/>
              <a:ext cx="228240" cy="152640"/>
            </a:xfrm>
            <a:prstGeom prst="ellipse">
              <a:avLst/>
            </a:prstGeom>
            <a:gradFill rotWithShape="0">
              <a:gsLst>
                <a:gs pos="0">
                  <a:srgbClr val="d1c39f"/>
                </a:gs>
                <a:gs pos="100000">
                  <a:srgbClr val="ffefd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90560" y="5638680"/>
              <a:ext cx="228240" cy="152640"/>
            </a:xfrm>
            <a:prstGeom prst="ellipse">
              <a:avLst/>
            </a:prstGeom>
            <a:gradFill rotWithShape="0">
              <a:gsLst>
                <a:gs pos="0">
                  <a:srgbClr val="d1c39f"/>
                </a:gs>
                <a:gs pos="100000">
                  <a:srgbClr val="ffefd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362320" y="4952880"/>
            <a:ext cx="532800" cy="380880"/>
            <a:chOff x="2362320" y="4952880"/>
            <a:chExt cx="532800" cy="380880"/>
          </a:xfrm>
        </p:grpSpPr>
        <p:sp>
          <p:nvSpPr>
            <p:cNvPr id="255" name=""/>
            <p:cNvSpPr/>
            <p:nvPr/>
          </p:nvSpPr>
          <p:spPr>
            <a:xfrm>
              <a:off x="2362320" y="5029200"/>
              <a:ext cx="380520" cy="3045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66880" y="4952880"/>
              <a:ext cx="228240" cy="152280"/>
            </a:xfrm>
            <a:prstGeom prst="ellipse">
              <a:avLst/>
            </a:prstGeom>
            <a:gradFill rotWithShape="0">
              <a:gsLst>
                <a:gs pos="0">
                  <a:srgbClr val="d1c39f"/>
                </a:gs>
                <a:gs pos="100000">
                  <a:srgbClr val="ffefd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219320" y="5943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098800" y="30492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50000">
                      <a:srgbClr val="fc9fcb"/>
                    </a:gs>
                    <a:gs pos="100000">
                      <a:srgbClr val="f8b049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Bookman Old Style"/>
              </a:rPr>
              <a:t>DÉMONSTRATION</a:t>
            </a:r>
            <a:endParaRPr b="1" i="1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50000">
                    <a:srgbClr val="fc9fcb"/>
                  </a:gs>
                  <a:gs pos="100000">
                    <a:srgbClr val="f8b049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59" name=""/>
          <p:cNvSpPr/>
          <p:nvPr/>
        </p:nvSpPr>
        <p:spPr>
          <a:xfrm>
            <a:off x="3983040" y="62485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li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334120" y="3048120"/>
            <a:ext cx="1143000" cy="609120"/>
            <a:chOff x="5334120" y="3048120"/>
            <a:chExt cx="1143000" cy="609120"/>
          </a:xfrm>
        </p:grpSpPr>
        <p:grpSp>
          <p:nvGrpSpPr>
            <p:cNvPr id="261" name=""/>
            <p:cNvGrpSpPr/>
            <p:nvPr/>
          </p:nvGrpSpPr>
          <p:grpSpPr>
            <a:xfrm>
              <a:off x="5943600" y="3162240"/>
              <a:ext cx="533520" cy="380880"/>
              <a:chOff x="5943600" y="3162240"/>
              <a:chExt cx="533520" cy="380880"/>
            </a:xfrm>
          </p:grpSpPr>
          <p:sp>
            <p:nvSpPr>
              <p:cNvPr id="262" name=""/>
              <p:cNvSpPr/>
              <p:nvPr/>
            </p:nvSpPr>
            <p:spPr>
              <a:xfrm>
                <a:off x="5943600" y="3238560"/>
                <a:ext cx="380880" cy="30456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248520" y="3162240"/>
                <a:ext cx="228600" cy="152280"/>
              </a:xfrm>
              <a:prstGeom prst="ellipse">
                <a:avLst/>
              </a:prstGeom>
              <a:gradFill rotWithShape="0">
                <a:gsLst>
                  <a:gs pos="0">
                    <a:srgbClr val="d1c39f"/>
                  </a:gs>
                  <a:gs pos="100000">
                    <a:srgbClr val="ffefd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334120" y="3048120"/>
              <a:ext cx="609120" cy="609120"/>
              <a:chOff x="5334120" y="3048120"/>
              <a:chExt cx="609120" cy="609120"/>
            </a:xfrm>
          </p:grpSpPr>
          <p:sp>
            <p:nvSpPr>
              <p:cNvPr id="265" name=""/>
              <p:cNvSpPr/>
              <p:nvPr/>
            </p:nvSpPr>
            <p:spPr>
              <a:xfrm>
                <a:off x="5562360" y="3200400"/>
                <a:ext cx="380880" cy="3042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34120" y="3276360"/>
                <a:ext cx="228240" cy="152280"/>
              </a:xfrm>
              <a:prstGeom prst="ellipse">
                <a:avLst/>
              </a:prstGeom>
              <a:gradFill rotWithShape="0">
                <a:gsLst>
                  <a:gs pos="0">
                    <a:srgbClr val="d1c39f"/>
                  </a:gs>
                  <a:gs pos="100000">
                    <a:srgbClr val="ffefd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8680" y="3504960"/>
                <a:ext cx="228240" cy="152280"/>
              </a:xfrm>
              <a:prstGeom prst="ellipse">
                <a:avLst/>
              </a:prstGeom>
              <a:gradFill rotWithShape="0">
                <a:gsLst>
                  <a:gs pos="0">
                    <a:srgbClr val="d1c39f"/>
                  </a:gs>
                  <a:gs pos="100000">
                    <a:srgbClr val="ffefd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638680" y="3048120"/>
                <a:ext cx="228240" cy="152280"/>
              </a:xfrm>
              <a:prstGeom prst="ellipse">
                <a:avLst/>
              </a:prstGeom>
              <a:gradFill rotWithShape="0">
                <a:gsLst>
                  <a:gs pos="0">
                    <a:srgbClr val="d1c39f"/>
                  </a:gs>
                  <a:gs pos="100000">
                    <a:srgbClr val="ffefd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4267080" y="3048120"/>
            <a:ext cx="2590920" cy="609120"/>
            <a:chOff x="4267080" y="3048120"/>
            <a:chExt cx="2590920" cy="609120"/>
          </a:xfrm>
        </p:grpSpPr>
        <p:grpSp>
          <p:nvGrpSpPr>
            <p:cNvPr id="270" name=""/>
            <p:cNvGrpSpPr/>
            <p:nvPr/>
          </p:nvGrpSpPr>
          <p:grpSpPr>
            <a:xfrm>
              <a:off x="6324480" y="3162240"/>
              <a:ext cx="533520" cy="380880"/>
              <a:chOff x="6324480" y="3162240"/>
              <a:chExt cx="533520" cy="380880"/>
            </a:xfrm>
          </p:grpSpPr>
          <p:sp>
            <p:nvSpPr>
              <p:cNvPr id="271" name=""/>
              <p:cNvSpPr/>
              <p:nvPr/>
            </p:nvSpPr>
            <p:spPr>
              <a:xfrm>
                <a:off x="6324480" y="3238560"/>
                <a:ext cx="380880" cy="30456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629400" y="3162240"/>
                <a:ext cx="228600" cy="152280"/>
              </a:xfrm>
              <a:prstGeom prst="ellipse">
                <a:avLst/>
              </a:prstGeom>
              <a:gradFill rotWithShape="0">
                <a:gsLst>
                  <a:gs pos="0">
                    <a:srgbClr val="d1c39f"/>
                  </a:gs>
                  <a:gs pos="100000">
                    <a:srgbClr val="ffefd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267080" y="3048120"/>
              <a:ext cx="609840" cy="609120"/>
              <a:chOff x="4267080" y="3048120"/>
              <a:chExt cx="609840" cy="609120"/>
            </a:xfrm>
          </p:grpSpPr>
          <p:sp>
            <p:nvSpPr>
              <p:cNvPr id="274" name=""/>
              <p:cNvSpPr/>
              <p:nvPr/>
            </p:nvSpPr>
            <p:spPr>
              <a:xfrm>
                <a:off x="4495680" y="3200400"/>
                <a:ext cx="381240" cy="30420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267080" y="3276360"/>
                <a:ext cx="228600" cy="152280"/>
              </a:xfrm>
              <a:prstGeom prst="ellipse">
                <a:avLst/>
              </a:prstGeom>
              <a:gradFill rotWithShape="0">
                <a:gsLst>
                  <a:gs pos="0">
                    <a:srgbClr val="d1c39f"/>
                  </a:gs>
                  <a:gs pos="100000">
                    <a:srgbClr val="ffefd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572000" y="3504960"/>
                <a:ext cx="228600" cy="152280"/>
              </a:xfrm>
              <a:prstGeom prst="ellipse">
                <a:avLst/>
              </a:prstGeom>
              <a:gradFill rotWithShape="0">
                <a:gsLst>
                  <a:gs pos="0">
                    <a:srgbClr val="d1c39f"/>
                  </a:gs>
                  <a:gs pos="100000">
                    <a:srgbClr val="ffefd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572000" y="3048120"/>
                <a:ext cx="228600" cy="152280"/>
              </a:xfrm>
              <a:prstGeom prst="ellipse">
                <a:avLst/>
              </a:prstGeom>
              <a:gradFill rotWithShape="0">
                <a:gsLst>
                  <a:gs pos="0">
                    <a:srgbClr val="d1c39f"/>
                  </a:gs>
                  <a:gs pos="100000">
                    <a:srgbClr val="ffefd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2209680" y="3048120"/>
            <a:ext cx="5562720" cy="609120"/>
            <a:chOff x="2209680" y="3048120"/>
            <a:chExt cx="5562720" cy="609120"/>
          </a:xfrm>
        </p:grpSpPr>
        <p:grpSp>
          <p:nvGrpSpPr>
            <p:cNvPr id="279" name=""/>
            <p:cNvGrpSpPr/>
            <p:nvPr/>
          </p:nvGrpSpPr>
          <p:grpSpPr>
            <a:xfrm>
              <a:off x="7238880" y="3162240"/>
              <a:ext cx="533520" cy="380880"/>
              <a:chOff x="7238880" y="3162240"/>
              <a:chExt cx="533520" cy="380880"/>
            </a:xfrm>
          </p:grpSpPr>
          <p:sp>
            <p:nvSpPr>
              <p:cNvPr id="280" name=""/>
              <p:cNvSpPr/>
              <p:nvPr/>
            </p:nvSpPr>
            <p:spPr>
              <a:xfrm>
                <a:off x="7238880" y="3238560"/>
                <a:ext cx="380880" cy="30456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43800" y="3162240"/>
                <a:ext cx="228600" cy="152280"/>
              </a:xfrm>
              <a:prstGeom prst="ellipse">
                <a:avLst/>
              </a:prstGeom>
              <a:gradFill rotWithShape="0">
                <a:gsLst>
                  <a:gs pos="0">
                    <a:srgbClr val="d1c39f"/>
                  </a:gs>
                  <a:gs pos="100000">
                    <a:srgbClr val="ffefd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209680" y="3048120"/>
              <a:ext cx="609840" cy="609120"/>
              <a:chOff x="2209680" y="3048120"/>
              <a:chExt cx="609840" cy="609120"/>
            </a:xfrm>
          </p:grpSpPr>
          <p:sp>
            <p:nvSpPr>
              <p:cNvPr id="283" name=""/>
              <p:cNvSpPr/>
              <p:nvPr/>
            </p:nvSpPr>
            <p:spPr>
              <a:xfrm>
                <a:off x="2438280" y="3200400"/>
                <a:ext cx="381240" cy="30420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09680" y="3276360"/>
                <a:ext cx="228600" cy="152280"/>
              </a:xfrm>
              <a:prstGeom prst="ellipse">
                <a:avLst/>
              </a:prstGeom>
              <a:gradFill rotWithShape="0">
                <a:gsLst>
                  <a:gs pos="0">
                    <a:srgbClr val="d1c39f"/>
                  </a:gs>
                  <a:gs pos="100000">
                    <a:srgbClr val="ffefd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14600" y="3504960"/>
                <a:ext cx="228600" cy="152280"/>
              </a:xfrm>
              <a:prstGeom prst="ellipse">
                <a:avLst/>
              </a:prstGeom>
              <a:gradFill rotWithShape="0">
                <a:gsLst>
                  <a:gs pos="0">
                    <a:srgbClr val="d1c39f"/>
                  </a:gs>
                  <a:gs pos="100000">
                    <a:srgbClr val="ffefd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514600" y="3048120"/>
                <a:ext cx="228600" cy="152280"/>
              </a:xfrm>
              <a:prstGeom prst="ellipse">
                <a:avLst/>
              </a:prstGeom>
              <a:gradFill rotWithShape="0">
                <a:gsLst>
                  <a:gs pos="0">
                    <a:srgbClr val="d1c39f"/>
                  </a:gs>
                  <a:gs pos="100000">
                    <a:srgbClr val="ffefd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1143000" y="3048120"/>
            <a:ext cx="7086600" cy="609120"/>
            <a:chOff x="1143000" y="3048120"/>
            <a:chExt cx="7086600" cy="609120"/>
          </a:xfrm>
        </p:grpSpPr>
        <p:grpSp>
          <p:nvGrpSpPr>
            <p:cNvPr id="288" name=""/>
            <p:cNvGrpSpPr/>
            <p:nvPr/>
          </p:nvGrpSpPr>
          <p:grpSpPr>
            <a:xfrm>
              <a:off x="7696080" y="3162240"/>
              <a:ext cx="533520" cy="380880"/>
              <a:chOff x="7696080" y="3162240"/>
              <a:chExt cx="533520" cy="380880"/>
            </a:xfrm>
          </p:grpSpPr>
          <p:sp>
            <p:nvSpPr>
              <p:cNvPr id="289" name=""/>
              <p:cNvSpPr/>
              <p:nvPr/>
            </p:nvSpPr>
            <p:spPr>
              <a:xfrm>
                <a:off x="7696080" y="3238560"/>
                <a:ext cx="380880" cy="30456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001000" y="3162240"/>
                <a:ext cx="228600" cy="152280"/>
              </a:xfrm>
              <a:prstGeom prst="ellipse">
                <a:avLst/>
              </a:prstGeom>
              <a:gradFill rotWithShape="0">
                <a:gsLst>
                  <a:gs pos="0">
                    <a:srgbClr val="d1c39f"/>
                  </a:gs>
                  <a:gs pos="100000">
                    <a:srgbClr val="ffefd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1143000" y="3048120"/>
              <a:ext cx="609120" cy="609120"/>
              <a:chOff x="1143000" y="3048120"/>
              <a:chExt cx="609120" cy="609120"/>
            </a:xfrm>
          </p:grpSpPr>
          <p:sp>
            <p:nvSpPr>
              <p:cNvPr id="292" name=""/>
              <p:cNvSpPr/>
              <p:nvPr/>
            </p:nvSpPr>
            <p:spPr>
              <a:xfrm>
                <a:off x="1371240" y="3200400"/>
                <a:ext cx="380880" cy="3042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43000" y="3276360"/>
                <a:ext cx="228240" cy="152280"/>
              </a:xfrm>
              <a:prstGeom prst="ellipse">
                <a:avLst/>
              </a:prstGeom>
              <a:gradFill rotWithShape="0">
                <a:gsLst>
                  <a:gs pos="0">
                    <a:srgbClr val="d1c39f"/>
                  </a:gs>
                  <a:gs pos="100000">
                    <a:srgbClr val="ffefd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447560" y="3504960"/>
                <a:ext cx="228240" cy="152280"/>
              </a:xfrm>
              <a:prstGeom prst="ellipse">
                <a:avLst/>
              </a:prstGeom>
              <a:gradFill rotWithShape="0">
                <a:gsLst>
                  <a:gs pos="0">
                    <a:srgbClr val="d1c39f"/>
                  </a:gs>
                  <a:gs pos="100000">
                    <a:srgbClr val="ffefd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447560" y="3048120"/>
                <a:ext cx="228240" cy="152280"/>
              </a:xfrm>
              <a:prstGeom prst="ellipse">
                <a:avLst/>
              </a:prstGeom>
              <a:gradFill rotWithShape="0">
                <a:gsLst>
                  <a:gs pos="0">
                    <a:srgbClr val="d1c39f"/>
                  </a:gs>
                  <a:gs pos="100000">
                    <a:srgbClr val="ffefd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3276720" y="3048120"/>
            <a:ext cx="3961800" cy="609120"/>
            <a:chOff x="3276720" y="3048120"/>
            <a:chExt cx="3961800" cy="609120"/>
          </a:xfrm>
        </p:grpSpPr>
        <p:grpSp>
          <p:nvGrpSpPr>
            <p:cNvPr id="297" name=""/>
            <p:cNvGrpSpPr/>
            <p:nvPr/>
          </p:nvGrpSpPr>
          <p:grpSpPr>
            <a:xfrm>
              <a:off x="6705720" y="3162240"/>
              <a:ext cx="532800" cy="380880"/>
              <a:chOff x="6705720" y="3162240"/>
              <a:chExt cx="532800" cy="380880"/>
            </a:xfrm>
          </p:grpSpPr>
          <p:sp>
            <p:nvSpPr>
              <p:cNvPr id="298" name=""/>
              <p:cNvSpPr/>
              <p:nvPr/>
            </p:nvSpPr>
            <p:spPr>
              <a:xfrm>
                <a:off x="6705720" y="3238560"/>
                <a:ext cx="380520" cy="3045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010280" y="3162240"/>
                <a:ext cx="228240" cy="152280"/>
              </a:xfrm>
              <a:prstGeom prst="ellipse">
                <a:avLst/>
              </a:prstGeom>
              <a:gradFill rotWithShape="0">
                <a:gsLst>
                  <a:gs pos="0">
                    <a:srgbClr val="d1c39f"/>
                  </a:gs>
                  <a:gs pos="100000">
                    <a:srgbClr val="ffefd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276720" y="3048120"/>
              <a:ext cx="609120" cy="609120"/>
              <a:chOff x="3276720" y="3048120"/>
              <a:chExt cx="609120" cy="609120"/>
            </a:xfrm>
          </p:grpSpPr>
          <p:sp>
            <p:nvSpPr>
              <p:cNvPr id="301" name=""/>
              <p:cNvSpPr/>
              <p:nvPr/>
            </p:nvSpPr>
            <p:spPr>
              <a:xfrm>
                <a:off x="3504960" y="3200400"/>
                <a:ext cx="380880" cy="3042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76720" y="3276360"/>
                <a:ext cx="228240" cy="152280"/>
              </a:xfrm>
              <a:prstGeom prst="ellipse">
                <a:avLst/>
              </a:prstGeom>
              <a:gradFill rotWithShape="0">
                <a:gsLst>
                  <a:gs pos="0">
                    <a:srgbClr val="d1c39f"/>
                  </a:gs>
                  <a:gs pos="100000">
                    <a:srgbClr val="ffefd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581280" y="3504960"/>
                <a:ext cx="228240" cy="152280"/>
              </a:xfrm>
              <a:prstGeom prst="ellipse">
                <a:avLst/>
              </a:prstGeom>
              <a:gradFill rotWithShape="0">
                <a:gsLst>
                  <a:gs pos="0">
                    <a:srgbClr val="d1c39f"/>
                  </a:gs>
                  <a:gs pos="100000">
                    <a:srgbClr val="ffefd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581280" y="3048120"/>
                <a:ext cx="228240" cy="152280"/>
              </a:xfrm>
              <a:prstGeom prst="ellipse">
                <a:avLst/>
              </a:prstGeom>
              <a:gradFill rotWithShape="0">
                <a:gsLst>
                  <a:gs pos="0">
                    <a:srgbClr val="d1c39f"/>
                  </a:gs>
                  <a:gs pos="100000">
                    <a:srgbClr val="ffefd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2971800" y="6095880"/>
            <a:ext cx="3124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19720" y="3962520"/>
            <a:ext cx="152280" cy="21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191120" y="3961800"/>
            <a:ext cx="60948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3048120"/>
            <a:ext cx="7696080" cy="91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1219320"/>
            <a:ext cx="15228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191120" y="2971800"/>
            <a:ext cx="60948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3124080"/>
            <a:ext cx="609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NH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05920" y="3124080"/>
            <a:ext cx="609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77320" y="3048120"/>
            <a:ext cx="3808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2120" y="3048120"/>
            <a:ext cx="3808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3048120"/>
            <a:ext cx="3808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098800" y="30492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50000">
                      <a:srgbClr val="fc9fcb"/>
                    </a:gs>
                    <a:gs pos="100000">
                      <a:srgbClr val="f8b049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Bookman Old Style"/>
              </a:rPr>
              <a:t>DEMONSTRATION</a:t>
            </a:r>
            <a:endParaRPr b="1" i="1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50000">
                    <a:srgbClr val="fc9fcb"/>
                  </a:gs>
                  <a:gs pos="100000">
                    <a:srgbClr val="f8b049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17" name=""/>
          <p:cNvSpPr/>
          <p:nvPr/>
        </p:nvSpPr>
        <p:spPr>
          <a:xfrm>
            <a:off x="746280" y="249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800" y="2590920"/>
            <a:ext cx="69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986960" y="25750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1148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00560" y="41752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40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672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41148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310440" y="41752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10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36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5345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59360" y="62485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li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5867280" y="6019920"/>
            <a:ext cx="533520" cy="380880"/>
            <a:chOff x="5867280" y="6019920"/>
            <a:chExt cx="533520" cy="380880"/>
          </a:xfrm>
        </p:grpSpPr>
        <p:sp>
          <p:nvSpPr>
            <p:cNvPr id="330" name=""/>
            <p:cNvSpPr/>
            <p:nvPr/>
          </p:nvSpPr>
          <p:spPr>
            <a:xfrm>
              <a:off x="5867280" y="6096240"/>
              <a:ext cx="380880" cy="304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72200" y="6019920"/>
              <a:ext cx="228600" cy="152280"/>
            </a:xfrm>
            <a:prstGeom prst="ellipse">
              <a:avLst/>
            </a:prstGeom>
            <a:gradFill rotWithShape="0">
              <a:gsLst>
                <a:gs pos="0">
                  <a:srgbClr val="d1c39f"/>
                </a:gs>
                <a:gs pos="100000">
                  <a:srgbClr val="ffefd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856400" y="5380200"/>
            <a:ext cx="414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Voyage plus rapid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76520" y="7477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9920" y="3230640"/>
            <a:ext cx="96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i="1" lang="fr-F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29000" y="1066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9000" y="3549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572000" y="3352680"/>
            <a:ext cx="609120" cy="609840"/>
            <a:chOff x="4572000" y="3352680"/>
            <a:chExt cx="609120" cy="609840"/>
          </a:xfrm>
        </p:grpSpPr>
        <p:sp>
          <p:nvSpPr>
            <p:cNvPr id="338" name=""/>
            <p:cNvSpPr/>
            <p:nvPr/>
          </p:nvSpPr>
          <p:spPr>
            <a:xfrm>
              <a:off x="4800240" y="3505320"/>
              <a:ext cx="380880" cy="3045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72000" y="3581280"/>
              <a:ext cx="228240" cy="152640"/>
            </a:xfrm>
            <a:prstGeom prst="ellipse">
              <a:avLst/>
            </a:prstGeom>
            <a:gradFill rotWithShape="0">
              <a:gsLst>
                <a:gs pos="0">
                  <a:srgbClr val="d1c39f"/>
                </a:gs>
                <a:gs pos="100000">
                  <a:srgbClr val="ffefd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76560" y="3809880"/>
              <a:ext cx="228240" cy="152640"/>
            </a:xfrm>
            <a:prstGeom prst="ellipse">
              <a:avLst/>
            </a:prstGeom>
            <a:gradFill rotWithShape="0">
              <a:gsLst>
                <a:gs pos="0">
                  <a:srgbClr val="d1c39f"/>
                </a:gs>
                <a:gs pos="100000">
                  <a:srgbClr val="ffefd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76560" y="3352680"/>
              <a:ext cx="228240" cy="152640"/>
            </a:xfrm>
            <a:prstGeom prst="ellipse">
              <a:avLst/>
            </a:prstGeom>
            <a:gradFill rotWithShape="0">
              <a:gsLst>
                <a:gs pos="0">
                  <a:srgbClr val="d1c39f"/>
                </a:gs>
                <a:gs pos="100000">
                  <a:srgbClr val="ffefd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572000" y="838080"/>
            <a:ext cx="533520" cy="380880"/>
            <a:chOff x="4572000" y="838080"/>
            <a:chExt cx="533520" cy="380880"/>
          </a:xfrm>
        </p:grpSpPr>
        <p:sp>
          <p:nvSpPr>
            <p:cNvPr id="343" name=""/>
            <p:cNvSpPr/>
            <p:nvPr/>
          </p:nvSpPr>
          <p:spPr>
            <a:xfrm>
              <a:off x="4572000" y="914400"/>
              <a:ext cx="380880" cy="3045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838080"/>
              <a:ext cx="228600" cy="152280"/>
            </a:xfrm>
            <a:prstGeom prst="ellipse">
              <a:avLst/>
            </a:prstGeom>
            <a:gradFill rotWithShape="0">
              <a:gsLst>
                <a:gs pos="0">
                  <a:srgbClr val="d1c39f"/>
                </a:gs>
                <a:gs pos="100000">
                  <a:srgbClr val="ffefd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512800" y="1509840"/>
            <a:ext cx="332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masse (HCl) = 36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80760" y="4114800"/>
            <a:ext cx="3324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masse (NH</a:t>
            </a:r>
            <a:r>
              <a:rPr b="0" i="1" lang="fr-F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) = 17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46120" y="538020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36g &gt; 17g =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267080" y="5334120"/>
            <a:ext cx="609840" cy="609120"/>
            <a:chOff x="4267080" y="5334120"/>
            <a:chExt cx="609840" cy="609120"/>
          </a:xfrm>
        </p:grpSpPr>
        <p:sp>
          <p:nvSpPr>
            <p:cNvPr id="349" name=""/>
            <p:cNvSpPr/>
            <p:nvPr/>
          </p:nvSpPr>
          <p:spPr>
            <a:xfrm>
              <a:off x="4495680" y="5486400"/>
              <a:ext cx="381240" cy="3042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67080" y="5562360"/>
              <a:ext cx="228600" cy="152280"/>
            </a:xfrm>
            <a:prstGeom prst="ellipse">
              <a:avLst/>
            </a:prstGeom>
            <a:gradFill rotWithShape="0">
              <a:gsLst>
                <a:gs pos="0">
                  <a:srgbClr val="d1c39f"/>
                </a:gs>
                <a:gs pos="100000">
                  <a:srgbClr val="ffefd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72000" y="5790960"/>
              <a:ext cx="228600" cy="152280"/>
            </a:xfrm>
            <a:prstGeom prst="ellipse">
              <a:avLst/>
            </a:prstGeom>
            <a:gradFill rotWithShape="0">
              <a:gsLst>
                <a:gs pos="0">
                  <a:srgbClr val="d1c39f"/>
                </a:gs>
                <a:gs pos="100000">
                  <a:srgbClr val="ffefd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72000" y="5334120"/>
              <a:ext cx="228600" cy="152280"/>
            </a:xfrm>
            <a:prstGeom prst="ellipse">
              <a:avLst/>
            </a:prstGeom>
            <a:gradFill rotWithShape="0">
              <a:gsLst>
                <a:gs pos="0">
                  <a:srgbClr val="d1c39f"/>
                </a:gs>
                <a:gs pos="100000">
                  <a:srgbClr val="ffefd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53" name=""/>
          <p:cNvGraphicFramePr/>
          <p:nvPr/>
        </p:nvGraphicFramePr>
        <p:xfrm>
          <a:off x="7238880" y="380880"/>
          <a:ext cx="1219320" cy="111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4" name="" descr="">
                    <a:hlinkClick r:id="" action="ppaction://hlinkshowjump?jump=nextslide"/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38880" y="380880"/>
                    <a:ext cx="12193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7451640" y="14320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li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575080" y="303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219320" y="380880"/>
            <a:ext cx="8915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conclusion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58" name=""/>
          <p:cNvSpPr/>
          <p:nvPr/>
        </p:nvSpPr>
        <p:spPr>
          <a:xfrm>
            <a:off x="627840" y="2438280"/>
            <a:ext cx="8161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Comme vous avez pu le constater, les gaz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ne diffusent pas à la même vitesse dans l’a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ambiant. La masse des molécules représente 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facteur important de la vitesse de diffu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C’est pourquoi certaines odeurs voyagent 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rapidement que d’aut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7620120" y="5486400"/>
          <a:ext cx="92052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>
                    <a:hlinkClick r:id="" action="ppaction://hlinkshowjump?jump=nextslide"/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5486400"/>
                    <a:ext cx="9205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7680240" y="615636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li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 rot="5400000">
            <a:off x="-2210040" y="2666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askerville Old Face"/>
              </a:rPr>
              <a:t>Référen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askerville Old Face"/>
              <a:ea typeface="Baskerville Old Face"/>
            </a:endParaRPr>
          </a:p>
        </p:txBody>
      </p:sp>
      <p:sp>
        <p:nvSpPr>
          <p:cNvPr id="365" name=""/>
          <p:cNvSpPr/>
          <p:nvPr/>
        </p:nvSpPr>
        <p:spPr>
          <a:xfrm>
            <a:off x="3122280" y="1371600"/>
            <a:ext cx="51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De Galiana, Thomas, et Michel Ri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Dictionnaire des inventeurs 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Invention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 , Paris, Larousse, 1996. 824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2879640"/>
            <a:ext cx="481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achand, L., G. Petit , et P. Van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himie 534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 , Montréal, Lidec, 199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44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52480" y="5670720"/>
          <a:ext cx="1447920" cy="42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5670720"/>
                    <a:ext cx="144792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1828800" y="60199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li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1200" y="4267080"/>
            <a:ext cx="470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id Henri. </a:t>
            </a:r>
            <a:r>
              <a:rPr b="0" i="1" lang="fr-CA" sz="2400" spc="-1" strike="noStrike">
                <a:solidFill>
                  <a:srgbClr val="000000"/>
                </a:solidFill>
                <a:latin typeface="Times New Roman"/>
              </a:rPr>
              <a:t>La chimie par le concret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Montréal, Lidec, 1998. 480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 txBox="1"/>
          <p:nvPr/>
        </p:nvSpPr>
        <p:spPr>
          <a:xfrm>
            <a:off x="762120" y="990720"/>
            <a:ext cx="7391160" cy="2590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8100000"/>
                </a:gradFill>
                <a:latin typeface="Lucida Handwriting"/>
              </a:rPr>
              <a:t>BIENVENUE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8100000"/>
              </a:gradFill>
              <a:latin typeface="Lucida Handwriting"/>
              <a:ea typeface="Lucida Handwriting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14400" y="1752480"/>
            <a:ext cx="72388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Monotype Corsiva"/>
              </a:rPr>
              <a:t>À LA MAISON 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Monotype Corsiva"/>
              </a:rPr>
              <a:t>DE 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Monotype Corsiva"/>
              </a:rPr>
              <a:t>L'ÉVOLUTION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Monotype Corsiva"/>
              </a:rPr>
              <a:t>SCIENTIFIQUE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2" name="">
            <a:hlinkClick r:id="" action="ppaction://hlinkshowjump?jump=nextslide"/>
            <a:hlinkClick r:id="rId3"/>
          </p:cNvPr>
          <p:cNvSpPr/>
          <p:nvPr/>
        </p:nvSpPr>
        <p:spPr>
          <a:xfrm>
            <a:off x="8481960" y="63244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3794"/>
                </a:moveTo>
                <a:lnTo>
                  <a:pt x="20406" y="10800"/>
                </a:lnTo>
                <a:lnTo>
                  <a:pt x="6393" y="17806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 txBox="1"/>
          <p:nvPr/>
        </p:nvSpPr>
        <p:spPr>
          <a:xfrm>
            <a:off x="609480" y="380880"/>
            <a:ext cx="777240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Harrington"/>
              </a:rPr>
              <a:t>LOI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Harrington"/>
              <a:ea typeface="Harringt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Harrington"/>
              </a:rPr>
              <a:t> </a:t>
            </a: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Harrington"/>
              </a:rPr>
              <a:t>de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Harrington"/>
              <a:ea typeface="Harringt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Harrington"/>
              </a:rPr>
              <a:t>GRAHAM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480060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Colonna MT"/>
              </a:rPr>
              <a:t>Par:Anna et Ana</a:t>
            </a:r>
            <a:endParaRPr b="0" i="1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Colonna MT"/>
              <a:ea typeface="Colonna MT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48720" y="304920"/>
          <a:ext cx="946080" cy="83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>
                    <a:hlinkClick r:id="" action="ppaction://hlinkshowjump?jump=nextslide"/>
                    <a:hlinkClick r:id="rId11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48720" y="304920"/>
                    <a:ext cx="946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7908840" y="10666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li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75080" y="303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380880"/>
            <a:ext cx="9372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INTRODUCTION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352680"/>
            <a:ext cx="7216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Vous êtes-vous déjà demandé si t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les gaz  voyageaient à la même vitesse dans l’air ambiant? La loi de Graham vous apportera une répo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620120" y="5486400"/>
          <a:ext cx="92052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>
                    <a:hlinkClick r:id="" action="ppaction://hlinkshowjump?jump=nextslide"/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5486400"/>
                    <a:ext cx="9205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7680240" y="615636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li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457200"/>
            <a:ext cx="8077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99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Mistral"/>
              </a:rPr>
              <a:t>Table des matières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380880" y="2133720"/>
            <a:ext cx="990720" cy="9144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1371600" y="3352680"/>
            <a:ext cx="914400" cy="91440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f2567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2438280" y="4572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3505320" y="5791320"/>
            <a:ext cx="914400" cy="91440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12960" y="225576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La biographie de Graham et sa lo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6760" y="342900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Théorie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44956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Problème et démon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34280" y="6018120"/>
            <a:ext cx="29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Les références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209680" y="38088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Monotype Corsiva"/>
              </a:rPr>
              <a:t>Thom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219320"/>
            <a:ext cx="76960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Monotype Corsiva"/>
              </a:rPr>
              <a:t>Graham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7" name=""/>
          <p:cNvSpPr/>
          <p:nvPr/>
        </p:nvSpPr>
        <p:spPr>
          <a:xfrm>
            <a:off x="54720" y="2895480"/>
            <a:ext cx="9015840" cy="3537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Il était chimiste et il a enseigné la chimie à Glasg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en 1830. En 1837, il continue son travail à Londres 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evient le directeur des Monnaies d ’Angleterre. I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étudié la diffusion des gaz et en 1846, il étab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« La loi de Graham » sur la vitesse de diffusion 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ga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438280"/>
            <a:ext cx="65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(Glasgow 1805- Londres 186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620120" y="152280"/>
          <a:ext cx="806400" cy="7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>
                    <a:hlinkClick r:id="" action="ppaction://hlinkshowjump?jump=nextslide"/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0120" y="152280"/>
                    <a:ext cx="8064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7680240" y="8222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li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380880" y="457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143000" y="0"/>
          <a:ext cx="8001000" cy="67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0"/>
                    <a:ext cx="8001000" cy="67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 txBox="1"/>
          <p:nvPr/>
        </p:nvSpPr>
        <p:spPr>
          <a:xfrm rot="5400000">
            <a:off x="-1364400" y="2202480"/>
            <a:ext cx="6324480" cy="2528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oi de Graha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2586960" y="968400"/>
            <a:ext cx="5095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Celle- ci stipule que « 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vitesses de diffusion de deu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gaz aux mêmes condi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de température et de 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sont inversement proportion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nelles à la racine carré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leurs masses mola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ou de leurs m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volumiques 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94040" y="600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001000" y="5181480"/>
          <a:ext cx="105876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01000" y="5181480"/>
                    <a:ext cx="10587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8021520" y="615636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li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9296280" y="76212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14080" y="2819520"/>
            <a:ext cx="8417880" cy="33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Selon 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théorie cinétique  moléculaire, l ’énerg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inétique (E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) est proportionnelle à la tempéra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bso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C,    E</a:t>
            </a:r>
            <a:r>
              <a:rPr b="0" lang="fr-FR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124080" y="4800600"/>
            <a:ext cx="0" cy="457200"/>
          </a:xfrm>
          <a:prstGeom prst="line">
            <a:avLst/>
          </a:prstGeom>
          <a:ln w="7632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19720" y="4800600"/>
            <a:ext cx="0" cy="457200"/>
          </a:xfrm>
          <a:prstGeom prst="line">
            <a:avLst/>
          </a:prstGeom>
          <a:ln w="7632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838080"/>
            <a:ext cx="6553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La Théori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4760" y="3886200"/>
          <a:ext cx="197172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4760" y="3886200"/>
                    <a:ext cx="19717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7756560" y="56228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li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696080" y="4419720"/>
            <a:ext cx="228600" cy="228600"/>
            <a:chOff x="7696080" y="4419720"/>
            <a:chExt cx="228600" cy="228600"/>
          </a:xfrm>
        </p:grpSpPr>
        <p:sp>
          <p:nvSpPr>
            <p:cNvPr id="100" name=""/>
            <p:cNvSpPr/>
            <p:nvPr/>
          </p:nvSpPr>
          <p:spPr>
            <a:xfrm>
              <a:off x="7696080" y="4419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96080" y="4419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7696080" y="4419720"/>
            <a:ext cx="228600" cy="228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96080" y="4419720"/>
            <a:ext cx="228600" cy="228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4419720"/>
            <a:ext cx="228600" cy="228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560" y="4749840"/>
            <a:ext cx="258840" cy="71280"/>
          </a:xfrm>
          <a:custGeom>
            <a:avLst/>
            <a:gdLst/>
            <a:ahLst/>
            <a:rect l="l" t="t" r="r" b="b"/>
            <a:pathLst>
              <a:path w="163" h="45">
                <a:moveTo>
                  <a:pt x="0" y="45"/>
                </a:moveTo>
                <a:cubicBezTo>
                  <a:pt x="50" y="37"/>
                  <a:pt x="123" y="39"/>
                  <a:pt x="163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20760" y="944640"/>
            <a:ext cx="7750440" cy="52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La physique n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enseigne que l ’énergi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cinétique d ’un  cor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possédant une masse (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et une vitesse (v) 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calcule à l’aide 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l’équation suivan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fr-FR" sz="4400" spc="-1" strike="noStrike">
                <a:solidFill>
                  <a:srgbClr val="cc3300"/>
                </a:solidFill>
                <a:latin typeface="Times New Roman"/>
              </a:rPr>
              <a:t>E</a:t>
            </a:r>
            <a:r>
              <a:rPr b="1" lang="fr-FR" sz="4400" spc="-1" strike="noStrike" baseline="-25000">
                <a:solidFill>
                  <a:srgbClr val="cc3300"/>
                </a:solidFill>
                <a:latin typeface="Times New Roman"/>
              </a:rPr>
              <a:t>k </a:t>
            </a:r>
            <a:r>
              <a:rPr b="1" lang="fr-FR" sz="44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lang="fr-FR" sz="4400" spc="-1" strike="noStrike" baseline="30000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fr-FR" sz="4400" spc="-1" strike="noStrike">
                <a:solidFill>
                  <a:srgbClr val="cc3300"/>
                </a:solidFill>
                <a:latin typeface="Times New Roman"/>
              </a:rPr>
              <a:t>/</a:t>
            </a:r>
            <a:r>
              <a:rPr b="1" lang="fr-FR" sz="4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fr-FR" sz="4400" spc="-1" strike="noStrike">
                <a:solidFill>
                  <a:srgbClr val="cc3300"/>
                </a:solidFill>
                <a:latin typeface="Times New Roman"/>
              </a:rPr>
              <a:t>mv</a:t>
            </a:r>
            <a:r>
              <a:rPr b="1" lang="fr-FR" sz="4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0"/>
          <a:ext cx="403848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0384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914400" y="28954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li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4T16:37:53Z</dcterms:created>
  <dc:creator>La Dauversière</dc:creator>
  <dc:description/>
  <dc:language>en-US</dc:language>
  <cp:lastModifiedBy>A. Bensaada</cp:lastModifiedBy>
  <dcterms:modified xsi:type="dcterms:W3CDTF">2000-09-21T00:29:57Z</dcterms:modified>
  <cp:revision>123</cp:revision>
  <dc:subject/>
  <dc:title>Aucun titre de diapositive</dc:title>
</cp:coreProperties>
</file>