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EAE-F2FA-47CD-8CAD-88FD80A4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230-290D-4B65-ABB8-F3D3222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769-FA44-48E2-9B3F-943C35C9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631-FBE1-4BA6-AD0A-72FE8AA2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EC0-A30A-4109-9F9D-69B76F31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9B6-582E-42B9-B8A4-F46A0701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E4E-5DD2-4B17-B599-2406443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DB3-CAA5-49CC-B647-D8C78AC7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E39-AD6C-4FD3-846E-521FD0F6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399-832B-4C1A-AFB9-450E7A5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E2A-4BF8-4B28-9558-D723C0D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E71-3B16-42D7-AB8B-55CC221A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7F8-0342-4FAF-932A-51560ACC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dm.qc.ca/ladauversiere/scienc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file:///tmp/home/.config/libreoffice/4/user/gallery/APPPHOTO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5.xml"/><Relationship Id="rId6" Type="http://schemas.openxmlformats.org/officeDocument/2006/relationships/slide" Target="slide23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6964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manipulations génétiques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098360" y="2895480"/>
            <a:ext cx="68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Kamaljit  Singh et Laura Gagn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4440" y="358056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99680" y="4312080"/>
            <a:ext cx="60922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</a:t>
            </a: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Karine Lefev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12920" y="5532480"/>
            <a:ext cx="2666880" cy="457200"/>
            <a:chOff x="3112920" y="5532480"/>
            <a:chExt cx="2666880" cy="457200"/>
          </a:xfrm>
        </p:grpSpPr>
        <p:sp>
          <p:nvSpPr>
            <p:cNvPr id="46" name=""/>
            <p:cNvSpPr/>
            <p:nvPr/>
          </p:nvSpPr>
          <p:spPr>
            <a:xfrm>
              <a:off x="3112920" y="55324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1560" y="56073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3352680" y="914040"/>
            <a:ext cx="2590560" cy="205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4866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486625"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732120" y="1294200"/>
            <a:ext cx="1828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1878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187871"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85840" y="2514600"/>
            <a:ext cx="150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44800" y="2436840"/>
            <a:ext cx="857520" cy="573120"/>
          </a:xfrm>
          <a:custGeom>
            <a:avLst/>
            <a:gdLst/>
            <a:ahLst/>
            <a:rect l="l" t="t" r="r" b="b"/>
            <a:pathLst>
              <a:path w="540" h="361">
                <a:moveTo>
                  <a:pt x="101" y="33"/>
                </a:moveTo>
                <a:cubicBezTo>
                  <a:pt x="239" y="63"/>
                  <a:pt x="351" y="99"/>
                  <a:pt x="490" y="114"/>
                </a:cubicBezTo>
                <a:cubicBezTo>
                  <a:pt x="516" y="192"/>
                  <a:pt x="540" y="241"/>
                  <a:pt x="490" y="341"/>
                </a:cubicBezTo>
                <a:cubicBezTo>
                  <a:pt x="480" y="361"/>
                  <a:pt x="447" y="330"/>
                  <a:pt x="425" y="325"/>
                </a:cubicBezTo>
                <a:cubicBezTo>
                  <a:pt x="334" y="231"/>
                  <a:pt x="441" y="327"/>
                  <a:pt x="166" y="276"/>
                </a:cubicBezTo>
                <a:cubicBezTo>
                  <a:pt x="151" y="273"/>
                  <a:pt x="148" y="249"/>
                  <a:pt x="133" y="244"/>
                </a:cubicBezTo>
                <a:cubicBezTo>
                  <a:pt x="97" y="232"/>
                  <a:pt x="58" y="233"/>
                  <a:pt x="20" y="227"/>
                </a:cubicBezTo>
                <a:cubicBezTo>
                  <a:pt x="14" y="211"/>
                  <a:pt x="0" y="196"/>
                  <a:pt x="3" y="179"/>
                </a:cubicBezTo>
                <a:cubicBezTo>
                  <a:pt x="9" y="146"/>
                  <a:pt x="64" y="137"/>
                  <a:pt x="85" y="130"/>
                </a:cubicBezTo>
                <a:cubicBezTo>
                  <a:pt x="102" y="79"/>
                  <a:pt x="97" y="78"/>
                  <a:pt x="133" y="33"/>
                </a:cubicBezTo>
                <a:cubicBezTo>
                  <a:pt x="143" y="21"/>
                  <a:pt x="182" y="0"/>
                  <a:pt x="166" y="0"/>
                </a:cubicBezTo>
                <a:cubicBezTo>
                  <a:pt x="142" y="0"/>
                  <a:pt x="123" y="22"/>
                  <a:pt x="101" y="33"/>
                </a:cubicBezTo>
                <a:close/>
              </a:path>
            </a:pathLst>
          </a:custGeom>
          <a:solidFill>
            <a:srgbClr val="6600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33640" y="3521160"/>
            <a:ext cx="46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 Narrow"/>
              </a:rPr>
              <a:t>ADN recomb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 Narrow"/>
              </a:rPr>
              <a:t>(ADN vecteur +ADN étrang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85800" y="2666880"/>
            <a:ext cx="2590200" cy="2057400"/>
            <a:chOff x="685800" y="2666880"/>
            <a:chExt cx="2590200" cy="2057400"/>
          </a:xfrm>
        </p:grpSpPr>
        <p:grpSp>
          <p:nvGrpSpPr>
            <p:cNvPr id="143" name=""/>
            <p:cNvGrpSpPr/>
            <p:nvPr/>
          </p:nvGrpSpPr>
          <p:grpSpPr>
            <a:xfrm>
              <a:off x="685800" y="2666880"/>
              <a:ext cx="2590200" cy="2057040"/>
              <a:chOff x="685800" y="2666880"/>
              <a:chExt cx="2590200" cy="205704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685800" y="2666880"/>
                <a:ext cx="2590200" cy="20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4866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486625"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065240" y="3047040"/>
                <a:ext cx="18284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1878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187871"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140840" y="4267080"/>
                <a:ext cx="228600" cy="304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981080" y="4419360"/>
              <a:ext cx="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77920" y="4189320"/>
            <a:ext cx="857160" cy="573120"/>
          </a:xfrm>
          <a:custGeom>
            <a:avLst/>
            <a:gdLst/>
            <a:ahLst/>
            <a:rect l="l" t="t" r="r" b="b"/>
            <a:pathLst>
              <a:path w="540" h="361">
                <a:moveTo>
                  <a:pt x="101" y="33"/>
                </a:moveTo>
                <a:cubicBezTo>
                  <a:pt x="239" y="63"/>
                  <a:pt x="351" y="99"/>
                  <a:pt x="490" y="114"/>
                </a:cubicBezTo>
                <a:cubicBezTo>
                  <a:pt x="516" y="192"/>
                  <a:pt x="540" y="241"/>
                  <a:pt x="490" y="341"/>
                </a:cubicBezTo>
                <a:cubicBezTo>
                  <a:pt x="480" y="361"/>
                  <a:pt x="447" y="330"/>
                  <a:pt x="425" y="325"/>
                </a:cubicBezTo>
                <a:cubicBezTo>
                  <a:pt x="334" y="231"/>
                  <a:pt x="441" y="327"/>
                  <a:pt x="166" y="276"/>
                </a:cubicBezTo>
                <a:cubicBezTo>
                  <a:pt x="151" y="273"/>
                  <a:pt x="148" y="249"/>
                  <a:pt x="133" y="244"/>
                </a:cubicBezTo>
                <a:cubicBezTo>
                  <a:pt x="97" y="232"/>
                  <a:pt x="58" y="233"/>
                  <a:pt x="20" y="227"/>
                </a:cubicBezTo>
                <a:cubicBezTo>
                  <a:pt x="14" y="211"/>
                  <a:pt x="0" y="196"/>
                  <a:pt x="3" y="179"/>
                </a:cubicBezTo>
                <a:cubicBezTo>
                  <a:pt x="9" y="146"/>
                  <a:pt x="64" y="137"/>
                  <a:pt x="85" y="130"/>
                </a:cubicBezTo>
                <a:cubicBezTo>
                  <a:pt x="102" y="79"/>
                  <a:pt x="97" y="78"/>
                  <a:pt x="133" y="33"/>
                </a:cubicBezTo>
                <a:cubicBezTo>
                  <a:pt x="143" y="21"/>
                  <a:pt x="182" y="0"/>
                  <a:pt x="166" y="0"/>
                </a:cubicBezTo>
                <a:cubicBezTo>
                  <a:pt x="142" y="0"/>
                  <a:pt x="123" y="22"/>
                  <a:pt x="101" y="33"/>
                </a:cubicBezTo>
                <a:close/>
              </a:path>
            </a:pathLst>
          </a:custGeom>
          <a:solidFill>
            <a:srgbClr val="6600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22320" y="1116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60033"/>
                </a:solidFill>
                <a:uFillTx/>
                <a:latin typeface="Comic Sans MS"/>
              </a:rPr>
              <a:t>Étap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0760" y="968400"/>
            <a:ext cx="72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 Narrow"/>
              </a:rPr>
              <a:t>Introduire l’ADN recombinant dans une bacté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7760" y="504504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 Narrow"/>
              </a:rPr>
              <a:t>ADN recomb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960" y="60958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bacté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286000"/>
            <a:ext cx="4876920" cy="3809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3505320"/>
            <a:ext cx="1058760" cy="1638360"/>
          </a:xfrm>
          <a:custGeom>
            <a:avLst/>
            <a:gdLst/>
            <a:ahLst/>
            <a:rect l="l" t="t" r="r" b="b"/>
            <a:pathLst>
              <a:path w="667" h="1032">
                <a:moveTo>
                  <a:pt x="465" y="105"/>
                </a:moveTo>
                <a:cubicBezTo>
                  <a:pt x="393" y="87"/>
                  <a:pt x="324" y="77"/>
                  <a:pt x="270" y="24"/>
                </a:cubicBezTo>
                <a:cubicBezTo>
                  <a:pt x="169" y="176"/>
                  <a:pt x="274" y="0"/>
                  <a:pt x="222" y="413"/>
                </a:cubicBezTo>
                <a:cubicBezTo>
                  <a:pt x="215" y="470"/>
                  <a:pt x="149" y="502"/>
                  <a:pt x="108" y="543"/>
                </a:cubicBezTo>
                <a:cubicBezTo>
                  <a:pt x="77" y="574"/>
                  <a:pt x="72" y="601"/>
                  <a:pt x="59" y="640"/>
                </a:cubicBezTo>
                <a:cubicBezTo>
                  <a:pt x="85" y="1032"/>
                  <a:pt x="0" y="851"/>
                  <a:pt x="189" y="900"/>
                </a:cubicBezTo>
                <a:cubicBezTo>
                  <a:pt x="267" y="822"/>
                  <a:pt x="246" y="693"/>
                  <a:pt x="254" y="591"/>
                </a:cubicBezTo>
                <a:cubicBezTo>
                  <a:pt x="286" y="602"/>
                  <a:pt x="320" y="609"/>
                  <a:pt x="351" y="624"/>
                </a:cubicBezTo>
                <a:cubicBezTo>
                  <a:pt x="365" y="631"/>
                  <a:pt x="369" y="661"/>
                  <a:pt x="384" y="656"/>
                </a:cubicBezTo>
                <a:cubicBezTo>
                  <a:pt x="400" y="651"/>
                  <a:pt x="395" y="624"/>
                  <a:pt x="400" y="608"/>
                </a:cubicBezTo>
                <a:cubicBezTo>
                  <a:pt x="405" y="516"/>
                  <a:pt x="375" y="414"/>
                  <a:pt x="416" y="332"/>
                </a:cubicBezTo>
                <a:cubicBezTo>
                  <a:pt x="436" y="293"/>
                  <a:pt x="524" y="354"/>
                  <a:pt x="546" y="316"/>
                </a:cubicBezTo>
                <a:cubicBezTo>
                  <a:pt x="667" y="109"/>
                  <a:pt x="525" y="165"/>
                  <a:pt x="465" y="105"/>
                </a:cubicBez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265720" cy="4219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10640" y="5513400"/>
            <a:ext cx="397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ff6600"/>
                </a:solidFill>
                <a:latin typeface="Balloon XBd BT"/>
              </a:rPr>
              <a:t>Choc élect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914400" y="2133720"/>
            <a:ext cx="2590200" cy="2057400"/>
            <a:chOff x="914400" y="2133720"/>
            <a:chExt cx="2590200" cy="2057400"/>
          </a:xfrm>
        </p:grpSpPr>
        <p:grpSp>
          <p:nvGrpSpPr>
            <p:cNvPr id="158" name=""/>
            <p:cNvGrpSpPr/>
            <p:nvPr/>
          </p:nvGrpSpPr>
          <p:grpSpPr>
            <a:xfrm>
              <a:off x="914400" y="2133720"/>
              <a:ext cx="2590200" cy="2057040"/>
              <a:chOff x="914400" y="2133720"/>
              <a:chExt cx="2590200" cy="20570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914400" y="2133720"/>
                <a:ext cx="2590200" cy="20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4866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486625"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293840" y="2513880"/>
                <a:ext cx="18284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1878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187871"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369440" y="3733920"/>
                <a:ext cx="228600" cy="304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209680" y="3886200"/>
              <a:ext cx="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06520" y="3656160"/>
            <a:ext cx="857160" cy="573120"/>
          </a:xfrm>
          <a:custGeom>
            <a:avLst/>
            <a:gdLst/>
            <a:ahLst/>
            <a:rect l="l" t="t" r="r" b="b"/>
            <a:pathLst>
              <a:path w="540" h="361">
                <a:moveTo>
                  <a:pt x="101" y="33"/>
                </a:moveTo>
                <a:cubicBezTo>
                  <a:pt x="239" y="63"/>
                  <a:pt x="351" y="99"/>
                  <a:pt x="490" y="114"/>
                </a:cubicBezTo>
                <a:cubicBezTo>
                  <a:pt x="516" y="192"/>
                  <a:pt x="540" y="241"/>
                  <a:pt x="490" y="341"/>
                </a:cubicBezTo>
                <a:cubicBezTo>
                  <a:pt x="480" y="361"/>
                  <a:pt x="447" y="330"/>
                  <a:pt x="425" y="325"/>
                </a:cubicBezTo>
                <a:cubicBezTo>
                  <a:pt x="334" y="231"/>
                  <a:pt x="441" y="327"/>
                  <a:pt x="166" y="276"/>
                </a:cubicBezTo>
                <a:cubicBezTo>
                  <a:pt x="151" y="273"/>
                  <a:pt x="148" y="249"/>
                  <a:pt x="133" y="244"/>
                </a:cubicBezTo>
                <a:cubicBezTo>
                  <a:pt x="97" y="232"/>
                  <a:pt x="58" y="233"/>
                  <a:pt x="20" y="227"/>
                </a:cubicBezTo>
                <a:cubicBezTo>
                  <a:pt x="14" y="211"/>
                  <a:pt x="0" y="196"/>
                  <a:pt x="3" y="179"/>
                </a:cubicBezTo>
                <a:cubicBezTo>
                  <a:pt x="9" y="146"/>
                  <a:pt x="64" y="137"/>
                  <a:pt x="85" y="130"/>
                </a:cubicBezTo>
                <a:cubicBezTo>
                  <a:pt x="102" y="79"/>
                  <a:pt x="97" y="78"/>
                  <a:pt x="133" y="33"/>
                </a:cubicBezTo>
                <a:cubicBezTo>
                  <a:pt x="143" y="21"/>
                  <a:pt x="182" y="0"/>
                  <a:pt x="166" y="0"/>
                </a:cubicBezTo>
                <a:cubicBezTo>
                  <a:pt x="142" y="0"/>
                  <a:pt x="123" y="22"/>
                  <a:pt x="101" y="33"/>
                </a:cubicBezTo>
                <a:close/>
              </a:path>
            </a:pathLst>
          </a:custGeom>
          <a:solidFill>
            <a:srgbClr val="6600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600200"/>
            <a:ext cx="4876920" cy="3809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2819520"/>
            <a:ext cx="1058760" cy="1638360"/>
          </a:xfrm>
          <a:custGeom>
            <a:avLst/>
            <a:gdLst/>
            <a:ahLst/>
            <a:rect l="l" t="t" r="r" b="b"/>
            <a:pathLst>
              <a:path w="667" h="1032">
                <a:moveTo>
                  <a:pt x="465" y="105"/>
                </a:moveTo>
                <a:cubicBezTo>
                  <a:pt x="393" y="87"/>
                  <a:pt x="324" y="77"/>
                  <a:pt x="270" y="24"/>
                </a:cubicBezTo>
                <a:cubicBezTo>
                  <a:pt x="169" y="176"/>
                  <a:pt x="274" y="0"/>
                  <a:pt x="222" y="413"/>
                </a:cubicBezTo>
                <a:cubicBezTo>
                  <a:pt x="215" y="470"/>
                  <a:pt x="149" y="502"/>
                  <a:pt x="108" y="543"/>
                </a:cubicBezTo>
                <a:cubicBezTo>
                  <a:pt x="77" y="574"/>
                  <a:pt x="72" y="601"/>
                  <a:pt x="59" y="640"/>
                </a:cubicBezTo>
                <a:cubicBezTo>
                  <a:pt x="85" y="1032"/>
                  <a:pt x="0" y="851"/>
                  <a:pt x="189" y="900"/>
                </a:cubicBezTo>
                <a:cubicBezTo>
                  <a:pt x="267" y="822"/>
                  <a:pt x="246" y="693"/>
                  <a:pt x="254" y="591"/>
                </a:cubicBezTo>
                <a:cubicBezTo>
                  <a:pt x="286" y="602"/>
                  <a:pt x="320" y="609"/>
                  <a:pt x="351" y="624"/>
                </a:cubicBezTo>
                <a:cubicBezTo>
                  <a:pt x="365" y="631"/>
                  <a:pt x="369" y="661"/>
                  <a:pt x="384" y="656"/>
                </a:cubicBezTo>
                <a:cubicBezTo>
                  <a:pt x="400" y="651"/>
                  <a:pt x="395" y="624"/>
                  <a:pt x="400" y="608"/>
                </a:cubicBezTo>
                <a:cubicBezTo>
                  <a:pt x="405" y="516"/>
                  <a:pt x="375" y="414"/>
                  <a:pt x="416" y="332"/>
                </a:cubicBezTo>
                <a:cubicBezTo>
                  <a:pt x="436" y="293"/>
                  <a:pt x="524" y="354"/>
                  <a:pt x="546" y="316"/>
                </a:cubicBezTo>
                <a:cubicBezTo>
                  <a:pt x="667" y="109"/>
                  <a:pt x="525" y="165"/>
                  <a:pt x="465" y="105"/>
                </a:cubicBez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724280" y="1752480"/>
            <a:ext cx="1059120" cy="1638360"/>
          </a:xfrm>
          <a:custGeom>
            <a:avLst/>
            <a:gdLst/>
            <a:ahLst/>
            <a:rect l="l" t="t" r="r" b="b"/>
            <a:pathLst>
              <a:path w="667" h="1032">
                <a:moveTo>
                  <a:pt x="465" y="105"/>
                </a:moveTo>
                <a:cubicBezTo>
                  <a:pt x="393" y="87"/>
                  <a:pt x="324" y="77"/>
                  <a:pt x="270" y="24"/>
                </a:cubicBezTo>
                <a:cubicBezTo>
                  <a:pt x="169" y="176"/>
                  <a:pt x="274" y="0"/>
                  <a:pt x="222" y="413"/>
                </a:cubicBezTo>
                <a:cubicBezTo>
                  <a:pt x="215" y="470"/>
                  <a:pt x="149" y="502"/>
                  <a:pt x="108" y="543"/>
                </a:cubicBezTo>
                <a:cubicBezTo>
                  <a:pt x="77" y="574"/>
                  <a:pt x="72" y="601"/>
                  <a:pt x="59" y="640"/>
                </a:cubicBezTo>
                <a:cubicBezTo>
                  <a:pt x="85" y="1032"/>
                  <a:pt x="0" y="851"/>
                  <a:pt x="189" y="900"/>
                </a:cubicBezTo>
                <a:cubicBezTo>
                  <a:pt x="267" y="822"/>
                  <a:pt x="246" y="693"/>
                  <a:pt x="254" y="591"/>
                </a:cubicBezTo>
                <a:cubicBezTo>
                  <a:pt x="286" y="602"/>
                  <a:pt x="320" y="609"/>
                  <a:pt x="351" y="624"/>
                </a:cubicBezTo>
                <a:cubicBezTo>
                  <a:pt x="365" y="631"/>
                  <a:pt x="369" y="661"/>
                  <a:pt x="384" y="656"/>
                </a:cubicBezTo>
                <a:cubicBezTo>
                  <a:pt x="400" y="651"/>
                  <a:pt x="395" y="624"/>
                  <a:pt x="400" y="608"/>
                </a:cubicBezTo>
                <a:cubicBezTo>
                  <a:pt x="405" y="516"/>
                  <a:pt x="375" y="414"/>
                  <a:pt x="416" y="332"/>
                </a:cubicBezTo>
                <a:cubicBezTo>
                  <a:pt x="436" y="293"/>
                  <a:pt x="524" y="354"/>
                  <a:pt x="546" y="316"/>
                </a:cubicBezTo>
                <a:cubicBezTo>
                  <a:pt x="667" y="109"/>
                  <a:pt x="525" y="165"/>
                  <a:pt x="465" y="105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7720" y="525780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bactérie transform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990720"/>
            <a:ext cx="4876560" cy="3809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286000"/>
            <a:ext cx="1059120" cy="1638360"/>
          </a:xfrm>
          <a:custGeom>
            <a:avLst/>
            <a:gdLst/>
            <a:ahLst/>
            <a:rect l="l" t="t" r="r" b="b"/>
            <a:pathLst>
              <a:path w="667" h="1032">
                <a:moveTo>
                  <a:pt x="465" y="105"/>
                </a:moveTo>
                <a:cubicBezTo>
                  <a:pt x="393" y="87"/>
                  <a:pt x="324" y="77"/>
                  <a:pt x="270" y="24"/>
                </a:cubicBezTo>
                <a:cubicBezTo>
                  <a:pt x="169" y="176"/>
                  <a:pt x="274" y="0"/>
                  <a:pt x="222" y="413"/>
                </a:cubicBezTo>
                <a:cubicBezTo>
                  <a:pt x="215" y="470"/>
                  <a:pt x="149" y="502"/>
                  <a:pt x="108" y="543"/>
                </a:cubicBezTo>
                <a:cubicBezTo>
                  <a:pt x="77" y="574"/>
                  <a:pt x="72" y="601"/>
                  <a:pt x="59" y="640"/>
                </a:cubicBezTo>
                <a:cubicBezTo>
                  <a:pt x="85" y="1032"/>
                  <a:pt x="0" y="851"/>
                  <a:pt x="189" y="900"/>
                </a:cubicBezTo>
                <a:cubicBezTo>
                  <a:pt x="267" y="822"/>
                  <a:pt x="246" y="693"/>
                  <a:pt x="254" y="591"/>
                </a:cubicBezTo>
                <a:cubicBezTo>
                  <a:pt x="286" y="602"/>
                  <a:pt x="320" y="609"/>
                  <a:pt x="351" y="624"/>
                </a:cubicBezTo>
                <a:cubicBezTo>
                  <a:pt x="365" y="631"/>
                  <a:pt x="369" y="661"/>
                  <a:pt x="384" y="656"/>
                </a:cubicBezTo>
                <a:cubicBezTo>
                  <a:pt x="400" y="651"/>
                  <a:pt x="395" y="624"/>
                  <a:pt x="400" y="608"/>
                </a:cubicBezTo>
                <a:cubicBezTo>
                  <a:pt x="405" y="516"/>
                  <a:pt x="375" y="414"/>
                  <a:pt x="416" y="332"/>
                </a:cubicBezTo>
                <a:cubicBezTo>
                  <a:pt x="436" y="293"/>
                  <a:pt x="524" y="354"/>
                  <a:pt x="546" y="316"/>
                </a:cubicBezTo>
                <a:cubicBezTo>
                  <a:pt x="667" y="109"/>
                  <a:pt x="525" y="165"/>
                  <a:pt x="465" y="105"/>
                </a:cubicBez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200" y="1600200"/>
            <a:ext cx="2590200" cy="2057400"/>
            <a:chOff x="2743200" y="1600200"/>
            <a:chExt cx="2590200" cy="2057400"/>
          </a:xfrm>
        </p:grpSpPr>
        <p:grpSp>
          <p:nvGrpSpPr>
            <p:cNvPr id="171" name=""/>
            <p:cNvGrpSpPr/>
            <p:nvPr/>
          </p:nvGrpSpPr>
          <p:grpSpPr>
            <a:xfrm>
              <a:off x="2743200" y="1600200"/>
              <a:ext cx="2590200" cy="2057040"/>
              <a:chOff x="2743200" y="1600200"/>
              <a:chExt cx="2590200" cy="205704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2743200" y="1600200"/>
                <a:ext cx="2590200" cy="20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4866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486625"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122640" y="1980360"/>
                <a:ext cx="18284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1878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187871"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198240" y="3200400"/>
                <a:ext cx="228600" cy="304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038480" y="3352680"/>
              <a:ext cx="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76720" y="3124080"/>
            <a:ext cx="857160" cy="573120"/>
          </a:xfrm>
          <a:custGeom>
            <a:avLst/>
            <a:gdLst/>
            <a:ahLst/>
            <a:rect l="l" t="t" r="r" b="b"/>
            <a:pathLst>
              <a:path w="540" h="361">
                <a:moveTo>
                  <a:pt x="101" y="33"/>
                </a:moveTo>
                <a:cubicBezTo>
                  <a:pt x="239" y="63"/>
                  <a:pt x="351" y="99"/>
                  <a:pt x="490" y="114"/>
                </a:cubicBezTo>
                <a:cubicBezTo>
                  <a:pt x="516" y="192"/>
                  <a:pt x="540" y="241"/>
                  <a:pt x="490" y="341"/>
                </a:cubicBezTo>
                <a:cubicBezTo>
                  <a:pt x="480" y="361"/>
                  <a:pt x="447" y="330"/>
                  <a:pt x="425" y="325"/>
                </a:cubicBezTo>
                <a:cubicBezTo>
                  <a:pt x="334" y="231"/>
                  <a:pt x="441" y="327"/>
                  <a:pt x="166" y="276"/>
                </a:cubicBezTo>
                <a:cubicBezTo>
                  <a:pt x="151" y="273"/>
                  <a:pt x="148" y="249"/>
                  <a:pt x="133" y="244"/>
                </a:cubicBezTo>
                <a:cubicBezTo>
                  <a:pt x="97" y="232"/>
                  <a:pt x="58" y="233"/>
                  <a:pt x="20" y="227"/>
                </a:cubicBezTo>
                <a:cubicBezTo>
                  <a:pt x="14" y="211"/>
                  <a:pt x="0" y="196"/>
                  <a:pt x="3" y="179"/>
                </a:cubicBezTo>
                <a:cubicBezTo>
                  <a:pt x="9" y="146"/>
                  <a:pt x="64" y="137"/>
                  <a:pt x="85" y="130"/>
                </a:cubicBezTo>
                <a:cubicBezTo>
                  <a:pt x="102" y="79"/>
                  <a:pt x="97" y="78"/>
                  <a:pt x="133" y="33"/>
                </a:cubicBezTo>
                <a:cubicBezTo>
                  <a:pt x="143" y="21"/>
                  <a:pt x="182" y="0"/>
                  <a:pt x="166" y="0"/>
                </a:cubicBezTo>
                <a:cubicBezTo>
                  <a:pt x="142" y="0"/>
                  <a:pt x="123" y="22"/>
                  <a:pt x="101" y="33"/>
                </a:cubicBezTo>
                <a:close/>
              </a:path>
            </a:pathLst>
          </a:custGeom>
          <a:solidFill>
            <a:srgbClr val="6600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153280" y="152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70880" y="2057400"/>
            <a:ext cx="616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La manipulation génétique 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utilisée dans plusieurs doma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35053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dans la médecin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334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5720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29292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Comic Sans MS"/>
              </a:rPr>
              <a:t>Utilisations possibles</a:t>
            </a:r>
            <a:endParaRPr b="0" i="1" lang="en-US" sz="2400" spc="1" strike="noStrike">
              <a:ln w="9360">
                <a:solidFill>
                  <a:srgbClr val="29292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121560" y="403848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00"/>
                </a:solidFill>
                <a:latin typeface="Times New Roman"/>
              </a:rPr>
              <a:t>dans l’aliment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57200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00"/>
                </a:solidFill>
                <a:latin typeface="Times New Roman"/>
              </a:rPr>
              <a:t>dans l’élevag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105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00"/>
                </a:solidFill>
                <a:latin typeface="Times New Roman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8006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4267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37339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4880" y="308916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66880" y="228600"/>
            <a:ext cx="361980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Comic Sans MS"/>
              </a:rPr>
              <a:t>Dans la médecine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840240" y="411480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Créer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médica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5560" y="5562720"/>
            <a:ext cx="18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Fabri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de l’insu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15280" y="41148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Prod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des antigè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bol" descr=""/>
          <p:cNvPicPr/>
          <p:nvPr/>
        </p:nvPicPr>
        <p:blipFill>
          <a:blip r:embed="rId2"/>
          <a:srcRect l="0" t="0" r="78003" b="68006"/>
          <a:stretch/>
        </p:blipFill>
        <p:spPr>
          <a:xfrm>
            <a:off x="1219320" y="2286000"/>
            <a:ext cx="167616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seringue" descr=""/>
          <p:cNvPicPr/>
          <p:nvPr/>
        </p:nvPicPr>
        <p:blipFill>
          <a:blip r:embed="rId3"/>
          <a:srcRect l="0" t="0" r="77002" b="60674"/>
          <a:stretch/>
        </p:blipFill>
        <p:spPr>
          <a:xfrm>
            <a:off x="3733920" y="3505320"/>
            <a:ext cx="1752480" cy="2247840"/>
          </a:xfrm>
          <a:prstGeom prst="rect">
            <a:avLst/>
          </a:prstGeom>
          <a:ln w="0">
            <a:noFill/>
          </a:ln>
        </p:spPr>
      </p:pic>
      <p:pic>
        <p:nvPicPr>
          <p:cNvPr id="197" name="malade" descr=""/>
          <p:cNvPicPr/>
          <p:nvPr/>
        </p:nvPicPr>
        <p:blipFill>
          <a:blip r:embed="rId4"/>
          <a:srcRect l="0" t="0" r="79005" b="70003"/>
          <a:stretch/>
        </p:blipFill>
        <p:spPr>
          <a:xfrm>
            <a:off x="6781680" y="2286000"/>
            <a:ext cx="1600200" cy="171468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666880" y="0"/>
            <a:ext cx="3581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Comic Sans MS"/>
              </a:rPr>
              <a:t>Dans l'élevage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61520" y="4648320"/>
            <a:ext cx="32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Des vaches produis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plus de l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vache" descr=""/>
          <p:cNvPicPr/>
          <p:nvPr/>
        </p:nvPicPr>
        <p:blipFill>
          <a:blip r:embed="rId2"/>
          <a:srcRect l="0" t="0" r="65002" b="66003"/>
          <a:stretch/>
        </p:blipFill>
        <p:spPr>
          <a:xfrm>
            <a:off x="838080" y="2514600"/>
            <a:ext cx="2667240" cy="1943280"/>
          </a:xfrm>
          <a:prstGeom prst="rect">
            <a:avLst/>
          </a:prstGeom>
          <a:ln w="0">
            <a:noFill/>
          </a:ln>
        </p:spPr>
      </p:pic>
      <p:pic>
        <p:nvPicPr>
          <p:cNvPr id="201" name="poule2" descr=""/>
          <p:cNvPicPr/>
          <p:nvPr/>
        </p:nvPicPr>
        <p:blipFill>
          <a:blip r:embed="rId3"/>
          <a:srcRect l="0" t="0" r="71002" b="71339"/>
          <a:stretch/>
        </p:blipFill>
        <p:spPr>
          <a:xfrm>
            <a:off x="5257800" y="2590920"/>
            <a:ext cx="2209680" cy="1638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7400" y="4648320"/>
            <a:ext cx="33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Des poules qui po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plus d’œu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886200"/>
            <a:ext cx="38124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4191120"/>
            <a:ext cx="38124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38088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038480"/>
            <a:ext cx="38088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733920"/>
            <a:ext cx="38088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496960" y="0"/>
            <a:ext cx="41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Comic Sans MS"/>
              </a:rPr>
              <a:t>Dans l'alimentation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991400" y="272736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Des fruits capables d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conserver plus longte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720" y="26510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Gène de 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124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9000" y="356544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Introduit dans la f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1640" y="525780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Pour des fra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résistantes au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80880" y="5257800"/>
            <a:ext cx="38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Des noix débarrassé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Arial"/>
              </a:rPr>
              <a:t>leurs protéines allergè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oisson" descr=""/>
          <p:cNvPicPr/>
          <p:nvPr/>
        </p:nvPicPr>
        <p:blipFill>
          <a:blip r:embed="rId2"/>
          <a:srcRect l="0" t="0" r="72004" b="83339"/>
          <a:stretch/>
        </p:blipFill>
        <p:spPr>
          <a:xfrm>
            <a:off x="990720" y="1812960"/>
            <a:ext cx="2133360" cy="952560"/>
          </a:xfrm>
          <a:prstGeom prst="rect">
            <a:avLst/>
          </a:prstGeom>
          <a:ln w="0">
            <a:noFill/>
          </a:ln>
        </p:spPr>
      </p:pic>
      <p:pic>
        <p:nvPicPr>
          <p:cNvPr id="216" name="banane" descr=""/>
          <p:cNvPicPr/>
          <p:nvPr/>
        </p:nvPicPr>
        <p:blipFill>
          <a:blip r:embed="rId3"/>
          <a:srcRect l="0" t="0" r="61001" b="80674"/>
          <a:stretch/>
        </p:blipFill>
        <p:spPr>
          <a:xfrm>
            <a:off x="5486400" y="1660680"/>
            <a:ext cx="297180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fraises" descr=""/>
          <p:cNvPicPr/>
          <p:nvPr/>
        </p:nvPicPr>
        <p:blipFill>
          <a:blip r:embed="rId4"/>
          <a:srcRect l="0" t="0" r="70005" b="76674"/>
          <a:stretch/>
        </p:blipFill>
        <p:spPr>
          <a:xfrm>
            <a:off x="838080" y="4098960"/>
            <a:ext cx="2286000" cy="1257120"/>
          </a:xfrm>
          <a:prstGeom prst="rect">
            <a:avLst/>
          </a:prstGeom>
          <a:ln w="0">
            <a:noFill/>
          </a:ln>
        </p:spPr>
      </p:pic>
      <p:pic>
        <p:nvPicPr>
          <p:cNvPr id="218" name="noix" descr=""/>
          <p:cNvPicPr/>
          <p:nvPr/>
        </p:nvPicPr>
        <p:blipFill>
          <a:blip r:embed="rId5"/>
          <a:srcRect l="0" t="0" r="78003" b="80006"/>
          <a:stretch/>
        </p:blipFill>
        <p:spPr>
          <a:xfrm>
            <a:off x="6019920" y="4175280"/>
            <a:ext cx="1676160" cy="114300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35160" y="228600"/>
            <a:ext cx="65725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66cc"/>
                </a:solidFill>
                <a:latin typeface="Comic Sans MS"/>
              </a:rPr>
              <a:t>La technique du génie génét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66cc"/>
                </a:solidFill>
                <a:latin typeface="Comic Sans MS"/>
              </a:rPr>
              <a:t>est utilisée pour produire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66cc"/>
                </a:solidFill>
                <a:latin typeface="Comic Sans MS"/>
              </a:rPr>
              <a:t>meilleurs aliments pour la sant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56160" y="2971800"/>
            <a:ext cx="14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café s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café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50480" y="502920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lait s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7720" y="26668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laitue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faible ten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n n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tasse" descr=""/>
          <p:cNvPicPr/>
          <p:nvPr/>
        </p:nvPicPr>
        <p:blipFill>
          <a:blip r:embed="rId1"/>
          <a:srcRect l="0" t="0" r="79203" b="58935"/>
          <a:stretch/>
        </p:blipFill>
        <p:spPr>
          <a:xfrm>
            <a:off x="457200" y="251460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224" name="laitue" descr=""/>
          <p:cNvPicPr/>
          <p:nvPr/>
        </p:nvPicPr>
        <p:blipFill>
          <a:blip r:embed="rId2"/>
          <a:srcRect l="0" t="0" r="83202" b="62913"/>
          <a:stretch/>
        </p:blipFill>
        <p:spPr>
          <a:xfrm>
            <a:off x="4343400" y="2514600"/>
            <a:ext cx="1295280" cy="1752480"/>
          </a:xfrm>
          <a:prstGeom prst="rect">
            <a:avLst/>
          </a:prstGeom>
          <a:ln w="0">
            <a:noFill/>
          </a:ln>
        </p:spPr>
      </p:pic>
      <p:pic>
        <p:nvPicPr>
          <p:cNvPr id="225" name="lait" descr=""/>
          <p:cNvPicPr/>
          <p:nvPr/>
        </p:nvPicPr>
        <p:blipFill>
          <a:blip r:embed="rId3"/>
          <a:srcRect l="0" t="0" r="82102" b="59833"/>
          <a:stretch/>
        </p:blipFill>
        <p:spPr>
          <a:xfrm>
            <a:off x="571680" y="4876920"/>
            <a:ext cx="1218960" cy="1676160"/>
          </a:xfrm>
          <a:prstGeom prst="rect">
            <a:avLst/>
          </a:prstGeom>
          <a:ln w="0">
            <a:noFill/>
          </a:ln>
        </p:spPr>
      </p:pic>
      <p:pic>
        <p:nvPicPr>
          <p:cNvPr id="226" name="légumes" descr=""/>
          <p:cNvPicPr/>
          <p:nvPr/>
        </p:nvPicPr>
        <p:blipFill>
          <a:blip r:embed="rId4"/>
          <a:srcRect l="0" t="0" r="74928" b="78886"/>
          <a:stretch/>
        </p:blipFill>
        <p:spPr>
          <a:xfrm>
            <a:off x="3657600" y="5181480"/>
            <a:ext cx="2362320" cy="1219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095880" y="463536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légumes a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lycopène pour réd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le cancer de la pro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380880"/>
            <a:ext cx="79250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ffcc66"/>
                  </a:outerShdw>
                </a:effectLst>
                <a:latin typeface="Comic Sans MS"/>
              </a:rPr>
              <a:t>Les manipulations</a:t>
            </a:r>
            <a:endParaRPr b="1" i="1" lang="en-US" sz="24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ffcc66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ffcc66"/>
                  </a:outerShdw>
                </a:effectLst>
                <a:latin typeface="Comic Sans MS"/>
              </a:rPr>
              <a:t>génétiques</a:t>
            </a:r>
            <a:endParaRPr b="1" i="1" lang="en-US" sz="24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ffcc6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4343400"/>
            <a:ext cx="670572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91658" dir="2017659" blurRad="0" rotWithShape="0">
                    <a:srgbClr val="000000"/>
                  </a:outerShdw>
                </a:effectLst>
                <a:latin typeface="Comic Sans MS"/>
              </a:rPr>
              <a:t>Kamaljit Singh</a:t>
            </a:r>
            <a:endParaRPr b="1" i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91658" dir="2017659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91658" dir="2017659" blurRad="0" rotWithShape="0">
                    <a:srgbClr val="000000"/>
                  </a:outerShdw>
                </a:effectLst>
                <a:latin typeface="Comic Sans MS"/>
              </a:rPr>
              <a:t>et</a:t>
            </a:r>
            <a:endParaRPr b="1" i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91658" dir="2017659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91658" dir="2017659" blurRad="0" rotWithShape="0">
                    <a:srgbClr val="000000"/>
                  </a:outerShdw>
                </a:effectLst>
                <a:latin typeface="Comic Sans MS"/>
              </a:rPr>
              <a:t>Laura Gagnon</a:t>
            </a:r>
            <a:endParaRPr b="1" i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91658" dir="2017659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7960" y="2894760"/>
            <a:ext cx="866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Les organismes génétiquement modifi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peuvent engendrer des problèmes de san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533520"/>
            <a:ext cx="28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Ce jeune garç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allergique aux noix, a consommé 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2840" y="320040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qui conten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une proté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dérivée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dormeur" descr=""/>
          <p:cNvPicPr/>
          <p:nvPr/>
        </p:nvPicPr>
        <p:blipFill>
          <a:blip r:embed="rId1"/>
          <a:srcRect l="0" t="0" r="73828" b="50020"/>
          <a:stretch/>
        </p:blipFill>
        <p:spPr>
          <a:xfrm>
            <a:off x="4952880" y="2819520"/>
            <a:ext cx="21481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1940040" y="1905120"/>
            <a:ext cx="914400" cy="1218960"/>
            <a:chOff x="1940040" y="1905120"/>
            <a:chExt cx="914400" cy="1218960"/>
          </a:xfrm>
        </p:grpSpPr>
        <p:sp>
          <p:nvSpPr>
            <p:cNvPr id="233" name=""/>
            <p:cNvSpPr/>
            <p:nvPr/>
          </p:nvSpPr>
          <p:spPr>
            <a:xfrm>
              <a:off x="1940040" y="1905120"/>
              <a:ext cx="914400" cy="12189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6320" y="2418480"/>
              <a:ext cx="749160" cy="45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Arial Narrow"/>
                </a:rPr>
                <a:t>Soy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486400" y="1066680"/>
            <a:ext cx="3276360" cy="1599840"/>
            <a:chOff x="5486400" y="1066680"/>
            <a:chExt cx="3276360" cy="1599840"/>
          </a:xfrm>
        </p:grpSpPr>
        <p:sp>
          <p:nvSpPr>
            <p:cNvPr id="236" name=""/>
            <p:cNvSpPr/>
            <p:nvPr/>
          </p:nvSpPr>
          <p:spPr>
            <a:xfrm>
              <a:off x="5486400" y="1066680"/>
              <a:ext cx="3276360" cy="1599840"/>
            </a:xfrm>
            <a:prstGeom prst="cloudCallout">
              <a:avLst>
                <a:gd name="adj1" fmla="val -33106"/>
                <a:gd name="adj2" fmla="val 6744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21880" y="1366560"/>
              <a:ext cx="165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000000"/>
                  </a:solidFill>
                  <a:latin typeface="Comic Sans MS"/>
                </a:rPr>
                <a:t>Pas enc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000000"/>
                  </a:solidFill>
                  <a:latin typeface="Comic Sans MS"/>
                </a:rPr>
                <a:t>mes aller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2000" spc="-1" strike="noStrike">
                  <a:solidFill>
                    <a:srgbClr val="000000"/>
                  </a:solidFill>
                  <a:latin typeface="Comic Sans MS"/>
                </a:rPr>
                <a:t>aux noix!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63720" y="4495680"/>
            <a:ext cx="1066680" cy="1677960"/>
            <a:chOff x="1863720" y="4495680"/>
            <a:chExt cx="1066680" cy="1677960"/>
          </a:xfrm>
        </p:grpSpPr>
        <p:pic>
          <p:nvPicPr>
            <p:cNvPr id="239" name="peanuts" descr=""/>
            <p:cNvPicPr/>
            <p:nvPr/>
          </p:nvPicPr>
          <p:blipFill>
            <a:blip r:embed="rId2"/>
            <a:srcRect l="0" t="-4304" r="85277" b="67279"/>
            <a:stretch/>
          </p:blipFill>
          <p:spPr>
            <a:xfrm>
              <a:off x="1863720" y="4495680"/>
              <a:ext cx="106668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60280" y="571392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Arial"/>
                </a:rPr>
                <a:t>no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8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07240" y="304920"/>
            <a:ext cx="782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66cc"/>
                </a:solidFill>
                <a:latin typeface="Comic Sans MS"/>
              </a:rPr>
              <a:t>Les gènes utilisés pour 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66cc"/>
                </a:solidFill>
                <a:latin typeface="Comic Sans MS"/>
              </a:rPr>
              <a:t>manipulations génétiques provienn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71720" y="2209680"/>
            <a:ext cx="1440" cy="324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1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9800" y="297180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des bacté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8960" y="2819520"/>
            <a:ext cx="12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des ê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hu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440" y="49528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et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insec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4040" y="4952880"/>
            <a:ext cx="11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d’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rial Narrow"/>
              </a:rPr>
              <a:t>anim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enfants" descr=""/>
          <p:cNvPicPr/>
          <p:nvPr/>
        </p:nvPicPr>
        <p:blipFill>
          <a:blip r:embed="rId1"/>
          <a:srcRect l="0" t="0" r="81215" b="48368"/>
          <a:stretch/>
        </p:blipFill>
        <p:spPr>
          <a:xfrm>
            <a:off x="4572000" y="16002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248" name="cocc" descr=""/>
          <p:cNvPicPr/>
          <p:nvPr/>
        </p:nvPicPr>
        <p:blipFill>
          <a:blip r:embed="rId2"/>
          <a:srcRect l="0" t="0" r="79178" b="50020"/>
          <a:stretch/>
        </p:blipFill>
        <p:spPr>
          <a:xfrm>
            <a:off x="2209680" y="441972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animaux" descr=""/>
          <p:cNvPicPr/>
          <p:nvPr/>
        </p:nvPicPr>
        <p:blipFill>
          <a:blip r:embed="rId3"/>
          <a:srcRect l="0" t="0" r="71179" b="37067"/>
          <a:stretch/>
        </p:blipFill>
        <p:spPr>
          <a:xfrm>
            <a:off x="6858000" y="3962520"/>
            <a:ext cx="1935000" cy="2590560"/>
          </a:xfrm>
          <a:prstGeom prst="rect">
            <a:avLst/>
          </a:prstGeom>
          <a:ln w="0">
            <a:noFill/>
          </a:ln>
        </p:spPr>
      </p:pic>
      <p:pic>
        <p:nvPicPr>
          <p:cNvPr id="250" name="bohn2" descr=""/>
          <p:cNvPicPr/>
          <p:nvPr/>
        </p:nvPicPr>
        <p:blipFill>
          <a:blip r:embed="rId4"/>
          <a:srcRect l="0" t="0" r="81003" b="71339"/>
          <a:stretch/>
        </p:blipFill>
        <p:spPr>
          <a:xfrm>
            <a:off x="457200" y="2209680"/>
            <a:ext cx="1447920" cy="163836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8153280" y="152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20280" y="457200"/>
            <a:ext cx="39373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00"/>
                </a:solidFill>
                <a:latin typeface="Comic Sans MS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2000" y="1833480"/>
            <a:ext cx="86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1- Stanton, Danielle. « Les aliments mutants » 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Actualité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 août 199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. 20-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680" y="3048120"/>
            <a:ext cx="81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2- Hawkes, Nigel, et François, Cartier. 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Le génie Génétiqu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 St-Louis, Éditions Gamma, 1991, 32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3- Ciocciooppo,Sébastien. (Page consultée le 22 avril 2000).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Le français à centennial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  [En ligne].  Adresse URL: http://www.centennial.qc.ca/ciccocioppo/nouv115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153280" y="152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9372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066"/>
            </a:gs>
            <a:gs pos="50000">
              <a:srgbClr val="3333cc"/>
            </a:gs>
            <a:gs pos="100000">
              <a:srgbClr val="141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914400" y="1981080"/>
            <a:ext cx="2678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ccccff"/>
                </a:solidFill>
                <a:uFillTx/>
                <a:latin typeface="Garamond"/>
                <a:hlinkClick r:id="rId2" action="ppaction://hlinksldjump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914400" y="2774880"/>
            <a:ext cx="2852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ccccff"/>
                </a:solidFill>
                <a:uFillTx/>
                <a:latin typeface="Garamond"/>
                <a:hlinkClick r:id="rId4" action="ppaction://hlinksldjump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733920"/>
            <a:ext cx="4532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ccccff"/>
                </a:solidFill>
                <a:uFillTx/>
                <a:latin typeface="Garamond"/>
                <a:hlinkClick r:id="rId5" action="ppaction://hlinksldjump"/>
              </a:rPr>
              <a:t>Utilisations poss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648320"/>
            <a:ext cx="2876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ccccff"/>
                </a:solidFill>
                <a:uFillTx/>
                <a:latin typeface="Garamond"/>
                <a:hlinkClick r:id="rId6" action="ppaction://hlinksldjump"/>
              </a:rPr>
              <a:t>Bibli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380880"/>
            <a:ext cx="4514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</a:rPr>
              <a:t>Table des matièr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9372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438280" y="838080"/>
            <a:ext cx="4496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9900"/>
                  </a:outerShdw>
                </a:effectLst>
                <a:latin typeface="Comic Sans MS"/>
              </a:rPr>
              <a:t>Introduction</a:t>
            </a:r>
            <a:endParaRPr b="1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7" name="jongleur" descr=""/>
          <p:cNvPicPr/>
          <p:nvPr/>
        </p:nvPicPr>
        <p:blipFill>
          <a:blip r:embed="rId2"/>
          <a:srcRect l="0" t="0" r="78996" b="61991"/>
          <a:stretch/>
        </p:blipFill>
        <p:spPr>
          <a:xfrm>
            <a:off x="76320" y="228600"/>
            <a:ext cx="160020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26658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Grâce au génie génétique, nous sommes en mesure de créer de nouveaux organis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en changeant un seul gè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Par ce processus, nous pouvons produire des microbes modifiés. Cette nouvelle technologie soulève, évidemment, des problèmes d’éth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91440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505320"/>
            <a:ext cx="38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 gène occ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écise sur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romos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stitu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l’AD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28800" y="228600"/>
            <a:ext cx="58197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9900"/>
                  </a:outerShdw>
                </a:effectLst>
                <a:latin typeface="Comic Sans MS"/>
              </a:rPr>
              <a:t>Qu'est-ce qu'un gène?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17120" y="1335960"/>
            <a:ext cx="1155240" cy="5534640"/>
            <a:chOff x="2517120" y="1335960"/>
            <a:chExt cx="1155240" cy="5534640"/>
          </a:xfrm>
        </p:grpSpPr>
        <p:grpSp>
          <p:nvGrpSpPr>
            <p:cNvPr id="64" name=""/>
            <p:cNvGrpSpPr/>
            <p:nvPr/>
          </p:nvGrpSpPr>
          <p:grpSpPr>
            <a:xfrm>
              <a:off x="2804040" y="4871520"/>
              <a:ext cx="868320" cy="1999080"/>
              <a:chOff x="2804040" y="4871520"/>
              <a:chExt cx="868320" cy="1999080"/>
            </a:xfrm>
          </p:grpSpPr>
          <p:sp>
            <p:nvSpPr>
              <p:cNvPr id="65" name=""/>
              <p:cNvSpPr/>
              <p:nvPr/>
            </p:nvSpPr>
            <p:spPr>
              <a:xfrm rot="16090800">
                <a:off x="2741760" y="6214680"/>
                <a:ext cx="76176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700600">
                <a:off x="2721960" y="5606280"/>
                <a:ext cx="76140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090800">
                <a:off x="2779200" y="4993560"/>
                <a:ext cx="761760" cy="533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090800">
                <a:off x="3121560" y="6289920"/>
                <a:ext cx="75600" cy="304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6090800">
                <a:off x="3342960" y="6054120"/>
                <a:ext cx="75600" cy="3049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090800">
                <a:off x="3411720" y="5823000"/>
                <a:ext cx="75600" cy="304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6090800">
                <a:off x="3480480" y="5592240"/>
                <a:ext cx="75600" cy="3049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6090800">
                <a:off x="3318480" y="5292360"/>
                <a:ext cx="7596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090800">
                <a:off x="3158640" y="5069160"/>
                <a:ext cx="75960" cy="304560"/>
              </a:xfrm>
              <a:prstGeom prst="rect">
                <a:avLst/>
              </a:prstGeom>
              <a:solidFill>
                <a:srgbClr val="cc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783520" y="1335960"/>
              <a:ext cx="868320" cy="1999080"/>
              <a:chOff x="2783520" y="1335960"/>
              <a:chExt cx="868320" cy="1999080"/>
            </a:xfrm>
          </p:grpSpPr>
          <p:sp>
            <p:nvSpPr>
              <p:cNvPr id="75" name=""/>
              <p:cNvSpPr/>
              <p:nvPr/>
            </p:nvSpPr>
            <p:spPr>
              <a:xfrm rot="16090800">
                <a:off x="2721240" y="2679120"/>
                <a:ext cx="76176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5700600">
                <a:off x="2701440" y="2070720"/>
                <a:ext cx="76140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6090800">
                <a:off x="2758680" y="1458000"/>
                <a:ext cx="761760" cy="533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6090800">
                <a:off x="3101040" y="2754360"/>
                <a:ext cx="75600" cy="304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090800">
                <a:off x="3322440" y="2518560"/>
                <a:ext cx="75600" cy="3049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6090800">
                <a:off x="3391200" y="2287440"/>
                <a:ext cx="75600" cy="304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090800">
                <a:off x="3459960" y="2056680"/>
                <a:ext cx="75600" cy="3049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090800">
                <a:off x="3297960" y="1756800"/>
                <a:ext cx="7596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090800">
                <a:off x="3138120" y="1533600"/>
                <a:ext cx="75960" cy="304560"/>
              </a:xfrm>
              <a:prstGeom prst="rect">
                <a:avLst/>
              </a:prstGeom>
              <a:solidFill>
                <a:srgbClr val="cc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517120" y="3133440"/>
              <a:ext cx="868320" cy="1999080"/>
              <a:chOff x="2517120" y="3133440"/>
              <a:chExt cx="868320" cy="1999080"/>
            </a:xfrm>
          </p:grpSpPr>
          <p:sp>
            <p:nvSpPr>
              <p:cNvPr id="85" name=""/>
              <p:cNvSpPr/>
              <p:nvPr/>
            </p:nvSpPr>
            <p:spPr>
              <a:xfrm rot="5290800">
                <a:off x="2685600" y="3255840"/>
                <a:ext cx="76176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6500600">
                <a:off x="2705760" y="3864240"/>
                <a:ext cx="761400" cy="533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5290800">
                <a:off x="2648160" y="4476600"/>
                <a:ext cx="761760" cy="5335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290800">
                <a:off x="2991960" y="3408840"/>
                <a:ext cx="75600" cy="304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5290800">
                <a:off x="2770560" y="3644640"/>
                <a:ext cx="75600" cy="3049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5290800">
                <a:off x="2701800" y="3876120"/>
                <a:ext cx="75600" cy="304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5290800">
                <a:off x="2633040" y="4106520"/>
                <a:ext cx="75600" cy="3049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290800">
                <a:off x="2794680" y="4406400"/>
                <a:ext cx="75960" cy="30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290800">
                <a:off x="2954520" y="4629960"/>
                <a:ext cx="75960" cy="304560"/>
              </a:xfrm>
              <a:prstGeom prst="rect">
                <a:avLst/>
              </a:prstGeom>
              <a:solidFill>
                <a:srgbClr val="cc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3886200" y="129528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600" spc="-1" strike="noStrike">
                <a:solidFill>
                  <a:srgbClr val="003300"/>
                </a:solidFill>
                <a:latin typeface="Arial"/>
              </a:rPr>
              <a:t>Séqu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600" spc="-1" strike="noStrike">
                <a:solidFill>
                  <a:srgbClr val="003300"/>
                </a:solidFill>
                <a:latin typeface="Arial"/>
              </a:rPr>
              <a:t>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fr-CA" sz="2600" spc="-1" strike="noStrike">
                <a:solidFill>
                  <a:srgbClr val="003300"/>
                </a:solidFill>
                <a:latin typeface="Arial"/>
              </a:rPr>
              <a:t>nucléotides</a:t>
            </a:r>
            <a:r>
              <a:rPr b="0" lang="fr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160020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09520" y="2133720"/>
            <a:ext cx="7621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10552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304920"/>
          <a:ext cx="14652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1465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8153280" y="152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50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4720" y="2438280"/>
            <a:ext cx="5965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mment introduire un gè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étranger dans une autre espè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66880" y="0"/>
            <a:ext cx="35816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9900"/>
                  </a:outerShdw>
                </a:effectLst>
                <a:latin typeface="Comic Sans MS"/>
              </a:rPr>
              <a:t>Manipulation</a:t>
            </a:r>
            <a:endParaRPr b="1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9900"/>
                  </a:outerShdw>
                </a:effectLst>
                <a:latin typeface="Comic Sans MS"/>
              </a:rPr>
              <a:t>génétique</a:t>
            </a:r>
            <a:endParaRPr b="1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3200400" cy="182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14600" y="2133720"/>
            <a:ext cx="2590200" cy="2095560"/>
            <a:chOff x="2514600" y="2133720"/>
            <a:chExt cx="2590200" cy="2095560"/>
          </a:xfrm>
        </p:grpSpPr>
        <p:grpSp>
          <p:nvGrpSpPr>
            <p:cNvPr id="107" name=""/>
            <p:cNvGrpSpPr/>
            <p:nvPr/>
          </p:nvGrpSpPr>
          <p:grpSpPr>
            <a:xfrm>
              <a:off x="2514600" y="2133720"/>
              <a:ext cx="2590200" cy="2057400"/>
              <a:chOff x="2514600" y="2133720"/>
              <a:chExt cx="2590200" cy="20574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514600" y="2133720"/>
                <a:ext cx="2590200" cy="2057040"/>
                <a:chOff x="2514600" y="2133720"/>
                <a:chExt cx="2590200" cy="2057040"/>
              </a:xfrm>
            </p:grpSpPr>
            <p:sp>
              <p:nvSpPr>
                <p:cNvPr id="109" name=""/>
                <p:cNvSpPr/>
                <p:nvPr/>
              </p:nvSpPr>
              <p:spPr>
                <a:xfrm flipV="1">
                  <a:off x="2514600" y="2133720"/>
                  <a:ext cx="2590200" cy="205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94866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9486625"/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2894040" y="2513880"/>
                  <a:ext cx="18284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9187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9187871"/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969640" y="3733920"/>
                  <a:ext cx="228600" cy="3049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3809880" y="3886200"/>
                <a:ext cx="0" cy="304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006720" y="3656160"/>
              <a:ext cx="857160" cy="573120"/>
            </a:xfrm>
            <a:custGeom>
              <a:avLst/>
              <a:gdLst/>
              <a:ahLst/>
              <a:rect l="l" t="t" r="r" b="b"/>
              <a:pathLst>
                <a:path w="540" h="361">
                  <a:moveTo>
                    <a:pt x="101" y="33"/>
                  </a:moveTo>
                  <a:cubicBezTo>
                    <a:pt x="239" y="63"/>
                    <a:pt x="351" y="99"/>
                    <a:pt x="490" y="114"/>
                  </a:cubicBezTo>
                  <a:cubicBezTo>
                    <a:pt x="516" y="192"/>
                    <a:pt x="540" y="241"/>
                    <a:pt x="490" y="341"/>
                  </a:cubicBezTo>
                  <a:cubicBezTo>
                    <a:pt x="480" y="361"/>
                    <a:pt x="447" y="330"/>
                    <a:pt x="425" y="325"/>
                  </a:cubicBezTo>
                  <a:cubicBezTo>
                    <a:pt x="334" y="231"/>
                    <a:pt x="441" y="327"/>
                    <a:pt x="166" y="276"/>
                  </a:cubicBezTo>
                  <a:cubicBezTo>
                    <a:pt x="151" y="273"/>
                    <a:pt x="148" y="249"/>
                    <a:pt x="133" y="244"/>
                  </a:cubicBezTo>
                  <a:cubicBezTo>
                    <a:pt x="97" y="232"/>
                    <a:pt x="58" y="233"/>
                    <a:pt x="20" y="227"/>
                  </a:cubicBezTo>
                  <a:cubicBezTo>
                    <a:pt x="14" y="211"/>
                    <a:pt x="0" y="196"/>
                    <a:pt x="3" y="179"/>
                  </a:cubicBezTo>
                  <a:cubicBezTo>
                    <a:pt x="9" y="146"/>
                    <a:pt x="64" y="137"/>
                    <a:pt x="85" y="130"/>
                  </a:cubicBezTo>
                  <a:cubicBezTo>
                    <a:pt x="102" y="79"/>
                    <a:pt x="97" y="78"/>
                    <a:pt x="133" y="33"/>
                  </a:cubicBezTo>
                  <a:cubicBezTo>
                    <a:pt x="143" y="21"/>
                    <a:pt x="182" y="0"/>
                    <a:pt x="166" y="0"/>
                  </a:cubicBezTo>
                  <a:cubicBezTo>
                    <a:pt x="142" y="0"/>
                    <a:pt x="123" y="22"/>
                    <a:pt x="101" y="33"/>
                  </a:cubicBezTo>
                  <a:close/>
                </a:path>
              </a:pathLst>
            </a:custGeom>
            <a:solidFill>
              <a:srgbClr val="ffcc99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47880" y="52560"/>
            <a:ext cx="1851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660033"/>
                </a:solidFill>
                <a:uFillTx/>
                <a:latin typeface="Comic Sans MS"/>
              </a:rPr>
              <a:t>Étap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21280" y="1044720"/>
            <a:ext cx="63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 Narrow"/>
              </a:rPr>
              <a:t>Introduire l’ADN étranger dans le vec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5181120" y="266652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3920" y="2111400"/>
            <a:ext cx="29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DN du vec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(plasm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 rot="5400000">
            <a:off x="3009960" y="468648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7280" y="5257800"/>
            <a:ext cx="438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 Narrow"/>
              </a:rPr>
              <a:t>Site de polyclonage serv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 Narrow"/>
              </a:rPr>
              <a:t>à insérer l`ADN étr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909880" y="838080"/>
            <a:ext cx="2590560" cy="2057400"/>
            <a:chOff x="2909880" y="838080"/>
            <a:chExt cx="2590560" cy="2057400"/>
          </a:xfrm>
        </p:grpSpPr>
        <p:sp>
          <p:nvSpPr>
            <p:cNvPr id="121" name=""/>
            <p:cNvSpPr/>
            <p:nvPr/>
          </p:nvSpPr>
          <p:spPr>
            <a:xfrm flipV="1">
              <a:off x="2909880" y="837720"/>
              <a:ext cx="2590560" cy="205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3539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353903"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89320" y="1218240"/>
              <a:ext cx="18284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1095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109587"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428640" y="2438280"/>
              <a:ext cx="16524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5160" y="2590920"/>
              <a:ext cx="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138480" y="2971800"/>
            <a:ext cx="857160" cy="573120"/>
          </a:xfrm>
          <a:custGeom>
            <a:avLst/>
            <a:gdLst/>
            <a:ahLst/>
            <a:rect l="l" t="t" r="r" b="b"/>
            <a:pathLst>
              <a:path w="540" h="361">
                <a:moveTo>
                  <a:pt x="101" y="33"/>
                </a:moveTo>
                <a:cubicBezTo>
                  <a:pt x="239" y="63"/>
                  <a:pt x="351" y="99"/>
                  <a:pt x="490" y="114"/>
                </a:cubicBezTo>
                <a:cubicBezTo>
                  <a:pt x="516" y="192"/>
                  <a:pt x="540" y="241"/>
                  <a:pt x="490" y="341"/>
                </a:cubicBezTo>
                <a:cubicBezTo>
                  <a:pt x="480" y="361"/>
                  <a:pt x="447" y="330"/>
                  <a:pt x="425" y="325"/>
                </a:cubicBezTo>
                <a:cubicBezTo>
                  <a:pt x="334" y="231"/>
                  <a:pt x="441" y="327"/>
                  <a:pt x="166" y="276"/>
                </a:cubicBezTo>
                <a:cubicBezTo>
                  <a:pt x="151" y="273"/>
                  <a:pt x="148" y="249"/>
                  <a:pt x="133" y="244"/>
                </a:cubicBezTo>
                <a:cubicBezTo>
                  <a:pt x="97" y="232"/>
                  <a:pt x="58" y="233"/>
                  <a:pt x="20" y="227"/>
                </a:cubicBezTo>
                <a:cubicBezTo>
                  <a:pt x="14" y="211"/>
                  <a:pt x="0" y="196"/>
                  <a:pt x="3" y="179"/>
                </a:cubicBezTo>
                <a:cubicBezTo>
                  <a:pt x="9" y="146"/>
                  <a:pt x="64" y="137"/>
                  <a:pt x="85" y="130"/>
                </a:cubicBezTo>
                <a:cubicBezTo>
                  <a:pt x="102" y="79"/>
                  <a:pt x="97" y="78"/>
                  <a:pt x="133" y="33"/>
                </a:cubicBezTo>
                <a:cubicBezTo>
                  <a:pt x="143" y="21"/>
                  <a:pt x="182" y="0"/>
                  <a:pt x="166" y="0"/>
                </a:cubicBezTo>
                <a:cubicBezTo>
                  <a:pt x="142" y="0"/>
                  <a:pt x="123" y="22"/>
                  <a:pt x="101" y="33"/>
                </a:cubicBez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3862440" y="331488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640" y="3886200"/>
            <a:ext cx="76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Enzyme de 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(coupe une partie spécifique de l`ADN du vecte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24080" y="3048120"/>
            <a:ext cx="857520" cy="573120"/>
          </a:xfrm>
          <a:custGeom>
            <a:avLst/>
            <a:gdLst/>
            <a:ahLst/>
            <a:rect l="l" t="t" r="r" b="b"/>
            <a:pathLst>
              <a:path w="540" h="361">
                <a:moveTo>
                  <a:pt x="101" y="33"/>
                </a:moveTo>
                <a:cubicBezTo>
                  <a:pt x="239" y="63"/>
                  <a:pt x="351" y="99"/>
                  <a:pt x="490" y="114"/>
                </a:cubicBezTo>
                <a:cubicBezTo>
                  <a:pt x="516" y="192"/>
                  <a:pt x="540" y="241"/>
                  <a:pt x="490" y="341"/>
                </a:cubicBezTo>
                <a:cubicBezTo>
                  <a:pt x="480" y="361"/>
                  <a:pt x="447" y="330"/>
                  <a:pt x="425" y="325"/>
                </a:cubicBezTo>
                <a:cubicBezTo>
                  <a:pt x="334" y="231"/>
                  <a:pt x="441" y="327"/>
                  <a:pt x="166" y="276"/>
                </a:cubicBezTo>
                <a:cubicBezTo>
                  <a:pt x="151" y="273"/>
                  <a:pt x="148" y="249"/>
                  <a:pt x="133" y="244"/>
                </a:cubicBezTo>
                <a:cubicBezTo>
                  <a:pt x="97" y="232"/>
                  <a:pt x="58" y="233"/>
                  <a:pt x="20" y="227"/>
                </a:cubicBezTo>
                <a:cubicBezTo>
                  <a:pt x="14" y="211"/>
                  <a:pt x="0" y="196"/>
                  <a:pt x="3" y="179"/>
                </a:cubicBezTo>
                <a:cubicBezTo>
                  <a:pt x="9" y="146"/>
                  <a:pt x="64" y="137"/>
                  <a:pt x="85" y="130"/>
                </a:cubicBezTo>
                <a:cubicBezTo>
                  <a:pt x="102" y="79"/>
                  <a:pt x="97" y="78"/>
                  <a:pt x="133" y="33"/>
                </a:cubicBezTo>
                <a:cubicBezTo>
                  <a:pt x="143" y="21"/>
                  <a:pt x="182" y="0"/>
                  <a:pt x="166" y="0"/>
                </a:cubicBezTo>
                <a:cubicBezTo>
                  <a:pt x="142" y="0"/>
                  <a:pt x="123" y="22"/>
                  <a:pt x="101" y="33"/>
                </a:cubicBezTo>
                <a:close/>
              </a:path>
            </a:pathLst>
          </a:custGeom>
          <a:solidFill>
            <a:srgbClr val="6600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095200">
            <a:off x="4114440" y="36576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1080" y="3733920"/>
            <a:ext cx="297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DN étr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(lié à l ’aide d ’u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enzyme de liai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09880" y="838080"/>
            <a:ext cx="2590560" cy="2057400"/>
            <a:chOff x="2909880" y="838080"/>
            <a:chExt cx="2590560" cy="2057400"/>
          </a:xfrm>
        </p:grpSpPr>
        <p:sp>
          <p:nvSpPr>
            <p:cNvPr id="132" name=""/>
            <p:cNvSpPr/>
            <p:nvPr/>
          </p:nvSpPr>
          <p:spPr>
            <a:xfrm flipV="1">
              <a:off x="2909880" y="837720"/>
              <a:ext cx="2590560" cy="205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3539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353903"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89320" y="1218240"/>
              <a:ext cx="18284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1095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109587"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8640" y="2438280"/>
              <a:ext cx="16524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05160" y="2590920"/>
              <a:ext cx="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4:46:38Z</dcterms:created>
  <dc:creator>LaDauversiere</dc:creator>
  <dc:description/>
  <dc:language>en-US</dc:language>
  <cp:lastModifiedBy>A. Bensaada</cp:lastModifiedBy>
  <dcterms:modified xsi:type="dcterms:W3CDTF">2000-09-18T00:40:52Z</dcterms:modified>
  <cp:revision>189</cp:revision>
  <dc:subject/>
  <dc:title>Aucun titre de diapositive</dc:title>
</cp:coreProperties>
</file>