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money033.wav" ContentType="audio/x-wav"/>
  <Override PartName="/ppt/media/image13.wmf" ContentType="image/x-wmf"/>
  <Override PartName="/ppt/media/image15.wmf" ContentType="image/x-wmf"/>
  <Override PartName="/ppt/media/BRAND.WAV" ContentType="audio/x-wav"/>
  <Override PartName="/ppt/media/image12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sp011.wav" ContentType="audio/x-wav"/>
  <Override PartName="/ppt/media/image11.wmf" ContentType="image/x-wmf"/>
  <Override PartName="/ppt/media/AK001.WAV" ContentType="audio/x-wav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789-5DBB-4A4C-8DD7-49C476F2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062-ED28-4436-BC8B-F359625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4C6-0F5B-4E06-811D-147121A5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8AC-7A27-466A-8207-F673459A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019-7389-486C-A4A1-14B2F5A1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7E7-62D1-45AF-9823-A1015C75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D6C-7FEA-4A44-B09B-C9CAB331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CBE-3A96-404D-9A00-9704B74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896-149F-4D9E-ABC1-6F97ABBE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426-6D0E-4E39-AD71-C44A2E7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AD7-0724-4666-BB0A-B74E81B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DF6-2D51-4522-8CBB-E3EE439D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3F6-B31B-4832-AD3E-EB71DFA00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RAND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RAND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AK00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AK001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sp011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money033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31640"/>
            <a:ext cx="754380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e frottement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2078640" y="2818440"/>
            <a:ext cx="534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r Nathalie El-Habr et Stéphanie Kho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0760" y="4785480"/>
            <a:ext cx="64929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Stéphane Lamar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286000" y="304920"/>
            <a:ext cx="6248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A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9880" y="2362320"/>
            <a:ext cx="17528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&amp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4572000"/>
            <a:ext cx="6629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Inconvéni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228600" y="380880"/>
            <a:ext cx="1828800" cy="10670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660066"/>
                </a:solidFill>
                <a:latin typeface="Balloon XBd BT"/>
              </a:rPr>
              <a:t>Cliq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 flipH="1">
            <a:off x="7086600" y="5181480"/>
            <a:ext cx="1828800" cy="10670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660066"/>
                </a:solidFill>
                <a:latin typeface="Balloon XBd BT"/>
              </a:rPr>
              <a:t>Cliq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28600"/>
            <a:ext cx="5943600" cy="205740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660066"/>
                </a:solidFill>
                <a:latin typeface="Britannic Bold"/>
              </a:rPr>
              <a:t>Avantag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362320"/>
            <a:ext cx="85345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66"/>
                </a:solidFill>
                <a:latin typeface="Times New Roman"/>
              </a:rPr>
              <a:t>-Permet de saisir des ob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66"/>
                </a:solidFill>
                <a:latin typeface="Times New Roman"/>
              </a:rPr>
              <a:t>-Permet de marcher sans que </a:t>
            </a:r>
            <a:r>
              <a:rPr b="0" lang="fr-FR" sz="5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fr-FR" sz="5400" spc="-1" strike="noStrike">
                <a:solidFill>
                  <a:srgbClr val="660066"/>
                </a:solidFill>
                <a:latin typeface="Times New Roman"/>
              </a:rPr>
              <a:t>     nos pieds glissent sur le s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6934320" y="5791320"/>
            <a:ext cx="16002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8100000"/>
          </a:gradFill>
          <a:ln cap="rnd" w="38160">
            <a:solidFill>
              <a:srgbClr val="660066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0066"/>
                </a:solidFill>
                <a:latin typeface="Bookman Old Style"/>
              </a:rPr>
              <a:t>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  <p:sndAc>
      <p:stSnd>
        <p:snd r:embed="rId1" name="BRA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457200"/>
            <a:ext cx="7162560" cy="1828800"/>
          </a:xfrm>
          <a:prstGeom prst="ellipse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660066"/>
                </a:solidFill>
                <a:latin typeface="Britannic Bold"/>
              </a:rPr>
              <a:t>Inconvéni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66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66"/>
                </a:solidFill>
                <a:latin typeface="Times New Roman"/>
              </a:rPr>
              <a:t>-Ralentit tout mouvement.      Par exemple, sans le frottement de l’air, une voiture roulerait plus vi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858000" y="5867280"/>
            <a:ext cx="16002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8100000"/>
          </a:gradFill>
          <a:ln cap="rnd" w="38160">
            <a:solidFill>
              <a:srgbClr val="660066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0066"/>
                </a:solidFill>
                <a:latin typeface="Bookman Old Style"/>
              </a:rPr>
              <a:t>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  <p:sndAc>
      <p:stSnd>
        <p:snd r:embed="rId1" name="BRA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457200"/>
            <a:ext cx="5943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4d4d4d"/>
                  </a:outerShdw>
                </a:effectLst>
                <a:latin typeface="Matisse ITC"/>
              </a:rPr>
              <a:t>Résolu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07932" dir="13500000" blurRad="0" rotWithShape="0">
                  <a:srgbClr val="4d4d4d"/>
                </a:outerShdw>
              </a:effectLst>
              <a:latin typeface="Matisse ITC"/>
              <a:ea typeface="Matisse IT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4800600"/>
            <a:ext cx="4876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4d4d4d"/>
                  </a:outerShdw>
                </a:effectLst>
                <a:latin typeface="Matisse ITC"/>
              </a:rPr>
              <a:t>Problèm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07932" dir="13500000" blurRad="0" rotWithShape="0">
                  <a:srgbClr val="4d4d4d"/>
                </a:outerShdw>
              </a:effectLst>
              <a:latin typeface="Matisse ITC"/>
              <a:ea typeface="Matisse IT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2590920"/>
            <a:ext cx="2361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4d4d4d"/>
                  </a:outerShdw>
                </a:effectLst>
                <a:latin typeface="Matisse ITC"/>
              </a:rPr>
              <a:t>D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07932" dir="13500000" blurRad="0" rotWithShape="0">
                  <a:srgbClr val="4d4d4d"/>
                </a:outerShdw>
              </a:effectLst>
              <a:latin typeface="Matisse ITC"/>
              <a:ea typeface="Matisse ITC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800" y="609480"/>
            <a:ext cx="2766600" cy="5880240"/>
            <a:chOff x="6400800" y="609480"/>
            <a:chExt cx="2766600" cy="5880240"/>
          </a:xfrm>
        </p:grpSpPr>
        <p:graphicFrame>
          <p:nvGraphicFramePr>
            <p:cNvPr id="120" name=""/>
            <p:cNvGraphicFramePr/>
            <p:nvPr/>
          </p:nvGraphicFramePr>
          <p:xfrm>
            <a:off x="6400800" y="609480"/>
            <a:ext cx="2743200" cy="588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00800" y="609480"/>
                      <a:ext cx="2743200" cy="588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 rot="21322200">
              <a:off x="7243920" y="1447920"/>
              <a:ext cx="1676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96200">
              <a:off x="7154640" y="2819520"/>
              <a:ext cx="19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23000">
              <a:off x="6692400" y="988920"/>
              <a:ext cx="1676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>
            <a:hlinkClick r:id="" action="ppaction://hlinkshowjump?jump=nextslide"/>
          </p:cNvPr>
          <p:cNvSpPr/>
          <p:nvPr/>
        </p:nvSpPr>
        <p:spPr>
          <a:xfrm rot="21316800">
            <a:off x="7234200" y="1440000"/>
            <a:ext cx="1604880" cy="463320"/>
          </a:xfrm>
          <a:custGeom>
            <a:avLst/>
            <a:gdLst>
              <a:gd name="textAreaLeft" fmla="*/ 29880 w 1604880"/>
              <a:gd name="textAreaRight" fmla="*/ 1575000 w 1604880"/>
              <a:gd name="textAreaTop" fmla="*/ 29880 h 463320"/>
              <a:gd name="textAreaBottom" fmla="*/ 433440 h 463320"/>
            </a:gdLst>
            <a:ahLst/>
            <a:rect l="textAreaLeft" t="textAreaTop" r="textAreaRight" b="textAreaBottom"/>
            <a:pathLst>
              <a:path w="74778" h="21600">
                <a:moveTo>
                  <a:pt x="0" y="0"/>
                </a:moveTo>
                <a:lnTo>
                  <a:pt x="74778" y="0"/>
                </a:lnTo>
                <a:lnTo>
                  <a:pt x="74778" y="21600"/>
                </a:lnTo>
                <a:lnTo>
                  <a:pt x="0" y="21600"/>
                </a:lnTo>
                <a:close/>
              </a:path>
              <a:path fill="lightenLess" w="74778" h="21600">
                <a:moveTo>
                  <a:pt x="0" y="0"/>
                </a:moveTo>
                <a:lnTo>
                  <a:pt x="74778" y="0"/>
                </a:lnTo>
                <a:lnTo>
                  <a:pt x="73378" y="1400"/>
                </a:lnTo>
                <a:lnTo>
                  <a:pt x="1400" y="1400"/>
                </a:lnTo>
                <a:close/>
              </a:path>
              <a:path fill="darken" w="74778" h="21600">
                <a:moveTo>
                  <a:pt x="74778" y="0"/>
                </a:moveTo>
                <a:lnTo>
                  <a:pt x="74778" y="21600"/>
                </a:lnTo>
                <a:lnTo>
                  <a:pt x="73378" y="20200"/>
                </a:lnTo>
                <a:lnTo>
                  <a:pt x="73378" y="1400"/>
                </a:lnTo>
                <a:close/>
              </a:path>
              <a:path fill="darkenLess" w="74778" h="21600">
                <a:moveTo>
                  <a:pt x="747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78" y="20200"/>
                </a:lnTo>
                <a:close/>
              </a:path>
              <a:path fill="lighten" w="747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ème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 rot="456000">
            <a:off x="7162560" y="2819520"/>
            <a:ext cx="1523880" cy="4554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72239" h="21600">
                <a:moveTo>
                  <a:pt x="0" y="0"/>
                </a:moveTo>
                <a:lnTo>
                  <a:pt x="72239" y="0"/>
                </a:lnTo>
                <a:lnTo>
                  <a:pt x="72239" y="21600"/>
                </a:lnTo>
                <a:lnTo>
                  <a:pt x="0" y="21600"/>
                </a:lnTo>
                <a:close/>
              </a:path>
              <a:path fill="lightenLess" w="72239" h="21600">
                <a:moveTo>
                  <a:pt x="0" y="0"/>
                </a:moveTo>
                <a:lnTo>
                  <a:pt x="72239" y="0"/>
                </a:lnTo>
                <a:lnTo>
                  <a:pt x="70839" y="1400"/>
                </a:lnTo>
                <a:lnTo>
                  <a:pt x="1400" y="1400"/>
                </a:lnTo>
                <a:close/>
              </a:path>
              <a:path fill="darken" w="72239" h="21600">
                <a:moveTo>
                  <a:pt x="72239" y="0"/>
                </a:moveTo>
                <a:lnTo>
                  <a:pt x="72239" y="21600"/>
                </a:lnTo>
                <a:lnTo>
                  <a:pt x="70839" y="20200"/>
                </a:lnTo>
                <a:lnTo>
                  <a:pt x="70839" y="1400"/>
                </a:lnTo>
                <a:close/>
              </a:path>
              <a:path fill="darkenLess" w="72239" h="21600">
                <a:moveTo>
                  <a:pt x="7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839" y="20200"/>
                </a:lnTo>
                <a:close/>
              </a:path>
              <a:path fill="lighten" w="7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è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62120" y="457200"/>
            <a:ext cx="7543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Problème 1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312408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00400" y="1981080"/>
            <a:ext cx="2971800" cy="1143000"/>
            <a:chOff x="3200400" y="1981080"/>
            <a:chExt cx="2971800" cy="1143000"/>
          </a:xfrm>
        </p:grpSpPr>
        <p:sp>
          <p:nvSpPr>
            <p:cNvPr id="130" name=""/>
            <p:cNvSpPr/>
            <p:nvPr/>
          </p:nvSpPr>
          <p:spPr>
            <a:xfrm>
              <a:off x="3200400" y="2362320"/>
              <a:ext cx="297180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1560" y="2743200"/>
              <a:ext cx="32256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7760" y="2743200"/>
              <a:ext cx="32292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1960" y="1981080"/>
              <a:ext cx="4521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920" y="3276720"/>
            <a:ext cx="85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Masse = 100 kg    Accélération = 2 N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2743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962520" y="5334120"/>
            <a:ext cx="5181480" cy="648720"/>
            <a:chOff x="3962520" y="5334120"/>
            <a:chExt cx="5181480" cy="648720"/>
          </a:xfrm>
        </p:grpSpPr>
        <p:sp>
          <p:nvSpPr>
            <p:cNvPr id="138" name=""/>
            <p:cNvSpPr/>
            <p:nvPr/>
          </p:nvSpPr>
          <p:spPr>
            <a:xfrm>
              <a:off x="3962520" y="5334120"/>
              <a:ext cx="5181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200 N - 175 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38480" y="5410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962520" y="5943600"/>
            <a:ext cx="4876560" cy="648720"/>
            <a:chOff x="3962520" y="5943600"/>
            <a:chExt cx="4876560" cy="648720"/>
          </a:xfrm>
        </p:grpSpPr>
        <p:sp>
          <p:nvSpPr>
            <p:cNvPr id="141" name=""/>
            <p:cNvSpPr/>
            <p:nvPr/>
          </p:nvSpPr>
          <p:spPr>
            <a:xfrm>
              <a:off x="3962520" y="5943600"/>
              <a:ext cx="487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60199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62520" y="4038480"/>
            <a:ext cx="4190760" cy="648720"/>
            <a:chOff x="3962520" y="4038480"/>
            <a:chExt cx="4190760" cy="648720"/>
          </a:xfrm>
        </p:grpSpPr>
        <p:sp>
          <p:nvSpPr>
            <p:cNvPr id="144" name=""/>
            <p:cNvSpPr/>
            <p:nvPr/>
          </p:nvSpPr>
          <p:spPr>
            <a:xfrm>
              <a:off x="3962520" y="4038480"/>
              <a:ext cx="419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 = 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+ 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41148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8480" y="4114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4114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62520" y="4724280"/>
            <a:ext cx="4572000" cy="648720"/>
            <a:chOff x="3962520" y="4724280"/>
            <a:chExt cx="4572000" cy="648720"/>
          </a:xfrm>
        </p:grpSpPr>
        <p:sp>
          <p:nvSpPr>
            <p:cNvPr id="149" name=""/>
            <p:cNvSpPr/>
            <p:nvPr/>
          </p:nvSpPr>
          <p:spPr>
            <a:xfrm>
              <a:off x="3962520" y="4724280"/>
              <a:ext cx="457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Fr - 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4800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7120" y="4800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400800" y="2057400"/>
            <a:ext cx="2361960" cy="581400"/>
            <a:chOff x="6400800" y="2057400"/>
            <a:chExt cx="2361960" cy="581400"/>
          </a:xfrm>
        </p:grpSpPr>
        <p:sp>
          <p:nvSpPr>
            <p:cNvPr id="154" name=""/>
            <p:cNvSpPr/>
            <p:nvPr/>
          </p:nvSpPr>
          <p:spPr>
            <a:xfrm>
              <a:off x="6400800" y="20574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 = 175 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2133720"/>
              <a:ext cx="49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0" y="4800600"/>
            <a:ext cx="4800600" cy="581400"/>
            <a:chOff x="0" y="4800600"/>
            <a:chExt cx="4800600" cy="581400"/>
          </a:xfrm>
        </p:grpSpPr>
        <p:sp>
          <p:nvSpPr>
            <p:cNvPr id="157" name=""/>
            <p:cNvSpPr/>
            <p:nvPr/>
          </p:nvSpPr>
          <p:spPr>
            <a:xfrm>
              <a:off x="0" y="4800600"/>
              <a:ext cx="480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 = 100 kg x 2 N/k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920" y="4876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0" y="5486400"/>
            <a:ext cx="3733920" cy="581400"/>
            <a:chOff x="0" y="5486400"/>
            <a:chExt cx="3733920" cy="581400"/>
          </a:xfrm>
        </p:grpSpPr>
        <p:sp>
          <p:nvSpPr>
            <p:cNvPr id="160" name=""/>
            <p:cNvSpPr/>
            <p:nvPr/>
          </p:nvSpPr>
          <p:spPr>
            <a:xfrm>
              <a:off x="0" y="548640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 = 200 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5562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4114800"/>
            <a:ext cx="4952880" cy="581400"/>
            <a:chOff x="0" y="4114800"/>
            <a:chExt cx="4952880" cy="581400"/>
          </a:xfrm>
        </p:grpSpPr>
        <p:sp>
          <p:nvSpPr>
            <p:cNvPr id="163" name=""/>
            <p:cNvSpPr/>
            <p:nvPr/>
          </p:nvSpPr>
          <p:spPr>
            <a:xfrm>
              <a:off x="0" y="411480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8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 = m x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4267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92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380520" y="30481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2438280"/>
            <a:ext cx="2971800" cy="648720"/>
            <a:chOff x="380880" y="2438280"/>
            <a:chExt cx="2971800" cy="648720"/>
          </a:xfrm>
        </p:grpSpPr>
        <p:sp>
          <p:nvSpPr>
            <p:cNvPr id="168" name=""/>
            <p:cNvSpPr/>
            <p:nvPr/>
          </p:nvSpPr>
          <p:spPr>
            <a:xfrm>
              <a:off x="380880" y="2438280"/>
              <a:ext cx="297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2438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867640" y="5919120"/>
            <a:ext cx="985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5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800100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3" name="AK00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0"/>
            <a:ext cx="7543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Problème 2 </a:t>
            </a:r>
            <a:endParaRPr b="0" lang="en-US" sz="2400" spc="1" strike="noStrike">
              <a:ln w="9360">
                <a:solidFill>
                  <a:srgbClr val="ffcc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276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00400" y="1752480"/>
            <a:ext cx="2971800" cy="1523520"/>
            <a:chOff x="3200400" y="1752480"/>
            <a:chExt cx="2971800" cy="1523520"/>
          </a:xfrm>
        </p:grpSpPr>
        <p:sp>
          <p:nvSpPr>
            <p:cNvPr id="175" name=""/>
            <p:cNvSpPr/>
            <p:nvPr/>
          </p:nvSpPr>
          <p:spPr>
            <a:xfrm>
              <a:off x="3200400" y="2260800"/>
              <a:ext cx="2971800" cy="710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61560" y="2768400"/>
              <a:ext cx="322560" cy="50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7760" y="2768400"/>
              <a:ext cx="322920" cy="50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1960" y="1752480"/>
              <a:ext cx="452160" cy="508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62520" y="5334120"/>
            <a:ext cx="5181480" cy="648720"/>
            <a:chOff x="3962520" y="5334120"/>
            <a:chExt cx="5181480" cy="648720"/>
          </a:xfrm>
        </p:grpSpPr>
        <p:sp>
          <p:nvSpPr>
            <p:cNvPr id="181" name=""/>
            <p:cNvSpPr/>
            <p:nvPr/>
          </p:nvSpPr>
          <p:spPr>
            <a:xfrm>
              <a:off x="3962520" y="5334120"/>
              <a:ext cx="5181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200 N - 87,5 N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54100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62520" y="5943600"/>
            <a:ext cx="4876560" cy="648720"/>
            <a:chOff x="3962520" y="5943600"/>
            <a:chExt cx="4876560" cy="648720"/>
          </a:xfrm>
        </p:grpSpPr>
        <p:sp>
          <p:nvSpPr>
            <p:cNvPr id="184" name=""/>
            <p:cNvSpPr/>
            <p:nvPr/>
          </p:nvSpPr>
          <p:spPr>
            <a:xfrm>
              <a:off x="3962520" y="5943600"/>
              <a:ext cx="487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60199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962520" y="4038480"/>
            <a:ext cx="4190760" cy="648720"/>
            <a:chOff x="3962520" y="4038480"/>
            <a:chExt cx="4190760" cy="648720"/>
          </a:xfrm>
        </p:grpSpPr>
        <p:sp>
          <p:nvSpPr>
            <p:cNvPr id="187" name=""/>
            <p:cNvSpPr/>
            <p:nvPr/>
          </p:nvSpPr>
          <p:spPr>
            <a:xfrm>
              <a:off x="3962520" y="4038480"/>
              <a:ext cx="419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r = 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+ 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effica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41148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4114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53080" y="4114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962520" y="4724280"/>
            <a:ext cx="4572000" cy="648720"/>
            <a:chOff x="3962520" y="4724280"/>
            <a:chExt cx="4572000" cy="648720"/>
          </a:xfrm>
        </p:grpSpPr>
        <p:sp>
          <p:nvSpPr>
            <p:cNvPr id="192" name=""/>
            <p:cNvSpPr/>
            <p:nvPr/>
          </p:nvSpPr>
          <p:spPr>
            <a:xfrm>
              <a:off x="3962520" y="4724280"/>
              <a:ext cx="457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Fr - 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eff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4800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7120" y="4800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257800" y="1219320"/>
            <a:ext cx="1904760" cy="581400"/>
            <a:chOff x="5257800" y="1219320"/>
            <a:chExt cx="1904760" cy="581400"/>
          </a:xfrm>
        </p:grpSpPr>
        <p:sp>
          <p:nvSpPr>
            <p:cNvPr id="197" name=""/>
            <p:cNvSpPr/>
            <p:nvPr/>
          </p:nvSpPr>
          <p:spPr>
            <a:xfrm>
              <a:off x="5257800" y="121932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 = 175 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1295280"/>
              <a:ext cx="39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0" y="4800600"/>
            <a:ext cx="4800600" cy="648720"/>
            <a:chOff x="0" y="4800600"/>
            <a:chExt cx="4800600" cy="648720"/>
          </a:xfrm>
        </p:grpSpPr>
        <p:sp>
          <p:nvSpPr>
            <p:cNvPr id="200" name=""/>
            <p:cNvSpPr/>
            <p:nvPr/>
          </p:nvSpPr>
          <p:spPr>
            <a:xfrm>
              <a:off x="0" y="4800600"/>
              <a:ext cx="480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eff.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175 N x cos 6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4876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0" y="5562720"/>
            <a:ext cx="3733920" cy="648720"/>
            <a:chOff x="0" y="5562720"/>
            <a:chExt cx="3733920" cy="648720"/>
          </a:xfrm>
        </p:grpSpPr>
        <p:sp>
          <p:nvSpPr>
            <p:cNvPr id="203" name=""/>
            <p:cNvSpPr/>
            <p:nvPr/>
          </p:nvSpPr>
          <p:spPr>
            <a:xfrm>
              <a:off x="0" y="5562720"/>
              <a:ext cx="373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eff.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87, 5 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920" y="5638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>
            <a:off x="380520" y="30481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2438280"/>
            <a:ext cx="2971800" cy="648720"/>
            <a:chOff x="380880" y="2438280"/>
            <a:chExt cx="2971800" cy="648720"/>
          </a:xfrm>
        </p:grpSpPr>
        <p:sp>
          <p:nvSpPr>
            <p:cNvPr id="207" name=""/>
            <p:cNvSpPr/>
            <p:nvPr/>
          </p:nvSpPr>
          <p:spPr>
            <a:xfrm>
              <a:off x="380880" y="2438280"/>
              <a:ext cx="297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frottement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2438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6172200" y="1143000"/>
            <a:ext cx="12952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25909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00800" y="2057400"/>
            <a:ext cx="1066680" cy="581400"/>
            <a:chOff x="6400800" y="2057400"/>
            <a:chExt cx="1066680" cy="581400"/>
          </a:xfrm>
        </p:grpSpPr>
        <p:sp>
          <p:nvSpPr>
            <p:cNvPr id="212" name=""/>
            <p:cNvSpPr/>
            <p:nvPr/>
          </p:nvSpPr>
          <p:spPr>
            <a:xfrm>
              <a:off x="6400800" y="2286000"/>
              <a:ext cx="165240" cy="304920"/>
            </a:xfrm>
            <a:custGeom>
              <a:avLst/>
              <a:gdLst/>
              <a:ahLst/>
              <a:rect l="l" t="t" r="r" b="b"/>
              <a:pathLst>
                <a:path w="104" h="192">
                  <a:moveTo>
                    <a:pt x="0" y="0"/>
                  </a:moveTo>
                  <a:cubicBezTo>
                    <a:pt x="44" y="32"/>
                    <a:pt x="88" y="64"/>
                    <a:pt x="96" y="96"/>
                  </a:cubicBezTo>
                  <a:cubicBezTo>
                    <a:pt x="104" y="128"/>
                    <a:pt x="64" y="176"/>
                    <a:pt x="48" y="1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20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400800" y="2666880"/>
            <a:ext cx="1905120" cy="648720"/>
            <a:chOff x="6400800" y="2666880"/>
            <a:chExt cx="1905120" cy="648720"/>
          </a:xfrm>
        </p:grpSpPr>
        <p:sp>
          <p:nvSpPr>
            <p:cNvPr id="215" name=""/>
            <p:cNvSpPr/>
            <p:nvPr/>
          </p:nvSpPr>
          <p:spPr>
            <a:xfrm>
              <a:off x="6400800" y="2666880"/>
              <a:ext cx="1905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efficac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00800" y="2743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4114800"/>
            <a:ext cx="4952880" cy="648720"/>
            <a:chOff x="0" y="4114800"/>
            <a:chExt cx="4952880" cy="648720"/>
          </a:xfrm>
        </p:grpSpPr>
        <p:sp>
          <p:nvSpPr>
            <p:cNvPr id="218" name=""/>
            <p:cNvSpPr/>
            <p:nvPr/>
          </p:nvSpPr>
          <p:spPr>
            <a:xfrm>
              <a:off x="0" y="4114800"/>
              <a:ext cx="4952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008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efficac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F x c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2880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92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114800"/>
              <a:ext cx="3049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4080" y="4343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04920" y="3276720"/>
            <a:ext cx="8534160" cy="520560"/>
            <a:chOff x="304920" y="3276720"/>
            <a:chExt cx="8534160" cy="520560"/>
          </a:xfrm>
        </p:grpSpPr>
        <p:sp>
          <p:nvSpPr>
            <p:cNvPr id="224" name=""/>
            <p:cNvSpPr/>
            <p:nvPr/>
          </p:nvSpPr>
          <p:spPr>
            <a:xfrm>
              <a:off x="304920" y="3276720"/>
              <a:ext cx="853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Masse = 100 kg    Accélération = 2 N/kg    Fr = 200 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3352680"/>
              <a:ext cx="5335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866200" y="594288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12, 5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3" name="AK00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 rot="5400000">
            <a:off x="-2400120" y="2705040"/>
            <a:ext cx="624816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latin typeface="Times New Roman"/>
              </a:rPr>
              <a:t>Conclusion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7327200">
            <a:off x="612000" y="-281520"/>
            <a:ext cx="8553600" cy="8421840"/>
          </a:xfrm>
          <a:prstGeom prst="cloudCallout">
            <a:avLst>
              <a:gd name="adj1" fmla="val -19092"/>
              <a:gd name="adj2" fmla="val -16231"/>
            </a:avLst>
          </a:prstGeom>
          <a:noFill/>
          <a:ln w="57240">
            <a:solidFill>
              <a:srgbClr val="33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1143000"/>
            <a:ext cx="69343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99"/>
                </a:solidFill>
                <a:latin typeface="Times New Roman"/>
              </a:rPr>
              <a:t>Comme vous avez pu le constater, peu importe où l’on est et quoi que l’on fasse, une force de frottement se manifeste.  Contrairement à ce que l’on peut croire, le frottement existe depuis le début des temps.  À travers toutes les découvertes technologiques qui nous ont permis d’évoluer de siècle en siècle, le frottement a toujours été présent.</a:t>
            </a:r>
            <a:br>
              <a:rPr sz="3000"/>
            </a:br>
            <a:r>
              <a:rPr b="0" lang="fr-CA" sz="3000" spc="-1" strike="noStrike">
                <a:solidFill>
                  <a:srgbClr val="000099"/>
                </a:solidFill>
                <a:latin typeface="Times New Roman"/>
              </a:rPr>
              <a:t>  On ne peut y échapper 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50000">
              <a:srgbClr val="ffccff"/>
            </a:gs>
            <a:gs pos="100000">
              <a:srgbClr val="75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671920"/>
            <a:ext cx="9144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* Kane, Joseph et Sternheim, Morton. </a:t>
            </a:r>
            <a:r>
              <a:rPr b="0" i="1" lang="fr-FR" sz="2400" spc="-1" strike="noStrike">
                <a:solidFill>
                  <a:srgbClr val="800080"/>
                </a:solidFill>
                <a:latin typeface="Times New Roman"/>
              </a:rPr>
              <a:t>Physique</a:t>
            </a: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, Paris, InterÉditions, 1986, 775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* Breuer, Hans. </a:t>
            </a:r>
            <a:r>
              <a:rPr b="0" i="1" lang="fr-FR" sz="2400" spc="-1" strike="noStrike">
                <a:solidFill>
                  <a:srgbClr val="800080"/>
                </a:solidFill>
                <a:latin typeface="Times New Roman"/>
              </a:rPr>
              <a:t>Atlas de la physique</a:t>
            </a: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, France, La Pochothèque, 1997,  402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* Cégep de St-Jérôme. (Page consultée le 9 février). </a:t>
            </a:r>
            <a:r>
              <a:rPr b="0" i="1" lang="fr-FR" sz="2400" spc="-1" strike="noStrike">
                <a:solidFill>
                  <a:srgbClr val="800080"/>
                </a:solidFill>
                <a:latin typeface="Times New Roman"/>
              </a:rPr>
              <a:t>Mécanique   Classique</a:t>
            </a: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, [En ligne]. Adresse URL :  http://cours.cegep-st-jerome.qc.ca/phy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 rot="1777200">
            <a:off x="2688840" y="-441360"/>
            <a:ext cx="3297240" cy="2614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Onyx"/>
              </a:rPr>
              <a:t>Bibliographie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Onyx"/>
              <a:ea typeface="Onyx"/>
            </a:endParaRPr>
          </a:p>
        </p:txBody>
      </p:sp>
    </p:spTree>
  </p:cSld>
  <p:transition spd="med" advTm="10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1523880"/>
            <a:ext cx="8001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Frottemen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17524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athalie Alieh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828800"/>
            <a:ext cx="7162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athalie El-Hab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29000" y="2209680"/>
            <a:ext cx="2286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&amp;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81080"/>
            <a:ext cx="74678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éphanie Khou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1752480"/>
            <a:ext cx="54104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résente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57600" y="1371600"/>
            <a:ext cx="16765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2000">
    <p:split dir="out" orient="horz"/>
    <p:sndAc>
      <p:stSnd>
        <p:snd r:embed="rId4" name="sp01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-2019240" y="2705040"/>
            <a:ext cx="624816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latin typeface="Times New Roman"/>
              </a:rPr>
              <a:t>Introduction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0"/>
            <a:ext cx="7238880" cy="6858000"/>
          </a:xfrm>
          <a:prstGeom prst="cloudCallout">
            <a:avLst>
              <a:gd name="adj1" fmla="val -33708"/>
              <a:gd name="adj2" fmla="val 37060"/>
            </a:avLst>
          </a:prstGeom>
          <a:noFill/>
          <a:ln w="57240">
            <a:solidFill>
              <a:srgbClr val="33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143000"/>
            <a:ext cx="48769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ritannic Bold"/>
              </a:rPr>
              <a:t>Chacun de nos mouvements subit une force de frottement.  Cependant, il ne suffit pas simplement de le savoir, mais il faut aussi en comprendre tous les aspects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Britannic Bold"/>
              </a:rPr>
              <a:t>Ce projet tentera de montrer le frottement sous toutes ses facettes</a:t>
            </a:r>
            <a:r>
              <a:rPr b="1" lang="fr-FR" sz="3200" spc="-1" strike="noStrike">
                <a:solidFill>
                  <a:srgbClr val="000000"/>
                </a:solidFill>
                <a:latin typeface="Britannic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nextslide"/>
          </p:cNvPr>
          <p:cNvSpPr/>
          <p:nvPr/>
        </p:nvSpPr>
        <p:spPr>
          <a:xfrm rot="891000">
            <a:off x="3240" y="-448920"/>
            <a:ext cx="8834400" cy="7683480"/>
          </a:xfrm>
          <a:prstGeom prst="irregularSeal2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 rot="21151800">
            <a:off x="990720" y="2971800"/>
            <a:ext cx="66038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Lucida Bright"/>
              </a:rPr>
              <a:t>Qu'est- ce que le frottement?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Lucida Bright"/>
              <a:ea typeface="Lucida Bright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8640" y="309960"/>
            <a:ext cx="8276040" cy="6272280"/>
            <a:chOff x="458640" y="309960"/>
            <a:chExt cx="8276040" cy="6272280"/>
          </a:xfrm>
        </p:grpSpPr>
        <p:sp>
          <p:nvSpPr>
            <p:cNvPr id="61" name=""/>
            <p:cNvSpPr txBox="1"/>
            <p:nvPr/>
          </p:nvSpPr>
          <p:spPr>
            <a:xfrm rot="955200">
              <a:off x="7543440" y="4876920"/>
              <a:ext cx="99072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100000">
                        <a:srgbClr val="ff99ff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Bernard MT Condensed"/>
                </a:rPr>
                <a:t>?</a:t>
              </a:r>
              <a:endParaRPr b="0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Bernard MT Condensed"/>
                <a:ea typeface="Bernard MT Condensed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 rot="955200">
              <a:off x="609480" y="380880"/>
              <a:ext cx="685800" cy="11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100000">
                        <a:srgbClr val="ff99ff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Bernard MT Condensed"/>
                </a:rPr>
                <a:t>?</a:t>
              </a:r>
              <a:endParaRPr b="0" i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atin typeface="Bernard MT Condensed"/>
                <a:ea typeface="Bernard MT Condensed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q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609480"/>
            <a:ext cx="807732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3300"/>
                </a:solidFill>
                <a:latin typeface="Goudy Old Style"/>
              </a:rPr>
              <a:t>L</a:t>
            </a:r>
            <a:r>
              <a:rPr b="1" i="1" lang="fr-FR" sz="3600" spc="-1" strike="noStrike">
                <a:solidFill>
                  <a:srgbClr val="ff3300"/>
                </a:solidFill>
                <a:latin typeface="Goudy Old Style"/>
              </a:rPr>
              <a:t>e frottement est la résistance qui s’oppose au mouvement  lorsqu’on essaye de faire glisser une surface sur une autr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3300"/>
                </a:solidFill>
                <a:latin typeface="Goudy Old Style"/>
              </a:rPr>
              <a:t>Cette résistance n’est créée que par réaction, soit au mouvement relatif de deux corps se touchant physiquement, soit à la force qui essaye de provoquer un tel mouvement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9000">
    <p:wipe dir="r"/>
    <p:sndAc>
      <p:stSnd>
        <p:snd r:embed="rId2" name="money033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0" y="2514600"/>
            <a:ext cx="5181480" cy="2438280"/>
          </a:xfrm>
          <a:prstGeom prst="irregularSeal1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99"/>
                </a:solidFill>
                <a:latin typeface="Engravers MT"/>
              </a:rPr>
              <a:t>Rou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5029200" y="0"/>
            <a:ext cx="4114800" cy="2438280"/>
          </a:xfrm>
          <a:prstGeom prst="irregularSeal1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99"/>
                </a:solidFill>
                <a:latin typeface="Engravers MT"/>
              </a:rPr>
              <a:t>Glis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029200" y="4724280"/>
            <a:ext cx="4114800" cy="2133720"/>
          </a:xfrm>
          <a:prstGeom prst="irregularSeal1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99"/>
                </a:solidFill>
                <a:latin typeface="Engravers MT"/>
              </a:rPr>
              <a:t>Pivo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80880"/>
            <a:ext cx="4724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itannic Bold"/>
              </a:rPr>
              <a:t>Types</a:t>
            </a:r>
            <a:endParaRPr b="0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itannic Bold"/>
              <a:ea typeface="Britannic 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4419720"/>
            <a:ext cx="5105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itannic Bold"/>
              </a:rPr>
              <a:t>Frottement</a:t>
            </a:r>
            <a:endParaRPr b="0" i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itannic Bold"/>
              <a:ea typeface="Britannic Bold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19720" y="2438280"/>
            <a:ext cx="4343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ritannic Bold"/>
              </a:rPr>
              <a:t>de</a:t>
            </a:r>
            <a:endParaRPr b="0" i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ritannic Bold"/>
              <a:ea typeface="Britannic Bold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5800" y="2666880"/>
          <a:ext cx="43434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4343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57200" y="2286000"/>
            <a:ext cx="8458200" cy="4254480"/>
          </a:xfrm>
          <a:custGeom>
            <a:avLst/>
            <a:gdLst/>
            <a:ahLst/>
            <a:rect l="l" t="t" r="r" b="b"/>
            <a:pathLst>
              <a:path w="5328" h="2680">
                <a:moveTo>
                  <a:pt x="5328" y="112"/>
                </a:moveTo>
                <a:cubicBezTo>
                  <a:pt x="5128" y="56"/>
                  <a:pt x="4928" y="0"/>
                  <a:pt x="4656" y="256"/>
                </a:cubicBezTo>
                <a:cubicBezTo>
                  <a:pt x="4384" y="512"/>
                  <a:pt x="4368" y="1272"/>
                  <a:pt x="3696" y="1648"/>
                </a:cubicBezTo>
                <a:cubicBezTo>
                  <a:pt x="3024" y="2024"/>
                  <a:pt x="1240" y="2344"/>
                  <a:pt x="624" y="2512"/>
                </a:cubicBezTo>
                <a:cubicBezTo>
                  <a:pt x="8" y="2680"/>
                  <a:pt x="4" y="2668"/>
                  <a:pt x="0" y="26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</p:cNvCxnSpPr>
          <p:nvPr/>
        </p:nvCxnSpPr>
        <p:spPr>
          <a:xfrm flipH="1" flipV="1" rot="10800000">
            <a:off x="1437120" y="6273360"/>
            <a:ext cx="1686600" cy="356400"/>
          </a:xfrm>
          <a:prstGeom prst="bentConnector3">
            <a:avLst>
              <a:gd name="adj1" fmla="val -717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3276720" y="62784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s 2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: ne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114800" y="35812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2971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s 1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: 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57200"/>
            <a:ext cx="6477120" cy="2057400"/>
          </a:xfrm>
          <a:custGeom>
            <a:avLst/>
            <a:gdLst>
              <a:gd name="textAreaLeft" fmla="*/ 0 w 6477120"/>
              <a:gd name="textAreaRight" fmla="*/ 6477480 w 6477120"/>
              <a:gd name="textAreaTop" fmla="*/ 266400 h 2057400"/>
              <a:gd name="textAreaBottom" fmla="*/ 1791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00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ccff"/>
                </a:solidFill>
                <a:latin typeface="Balloon XBd BT"/>
              </a:rPr>
              <a:t>Deux corps glissant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ccff"/>
                </a:solidFill>
                <a:latin typeface="Balloon XBd BT"/>
              </a:rPr>
              <a:t>par rapport à l’au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6934320" y="609588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0066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 flipH="1">
            <a:off x="6626160" y="5483160"/>
            <a:ext cx="1984320" cy="457200"/>
          </a:xfrm>
          <a:custGeom>
            <a:avLst/>
            <a:gdLst>
              <a:gd name="textAreaLeft" fmla="*/ 360 w 1984320"/>
              <a:gd name="textAreaRight" fmla="*/ 1985040 w 19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0066"/>
                </a:solidFill>
                <a:latin typeface="Times New Roman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743200"/>
          <a:ext cx="51814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51814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 rot="21150000">
            <a:off x="5105520" y="2057040"/>
            <a:ext cx="220968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645400">
            <a:off x="5943240" y="3200400"/>
            <a:ext cx="2438280" cy="1676520"/>
          </a:xfrm>
          <a:prstGeom prst="cloudCallout">
            <a:avLst>
              <a:gd name="adj1" fmla="val -38064"/>
              <a:gd name="adj2" fmla="val 6812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562720" y="4647600"/>
            <a:ext cx="1218960" cy="685800"/>
          </a:xfrm>
          <a:prstGeom prst="cloudCallout">
            <a:avLst>
              <a:gd name="adj1" fmla="val -58722"/>
              <a:gd name="adj2" fmla="val 6087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>
            <a:off x="1143000" y="4876920"/>
            <a:ext cx="4197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H="1">
            <a:off x="3809160" y="5181120"/>
            <a:ext cx="76284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0" y="5638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s 1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: ro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334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s 2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: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0880"/>
            <a:ext cx="8153640" cy="1447920"/>
          </a:xfrm>
          <a:custGeom>
            <a:avLst/>
            <a:gdLst>
              <a:gd name="textAreaLeft" fmla="*/ 0 w 8153640"/>
              <a:gd name="textAreaRight" fmla="*/ 8154000 w 815364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6600"/>
                </a:solidFill>
                <a:latin typeface="Balloon XBd BT"/>
              </a:rPr>
              <a:t>Un corps roulant sur un au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 flipH="1">
            <a:off x="6705000" y="5410080"/>
            <a:ext cx="1981080" cy="457200"/>
          </a:xfrm>
          <a:custGeom>
            <a:avLst/>
            <a:gdLst>
              <a:gd name="textAreaLeft" fmla="*/ -360 w 1981080"/>
              <a:gd name="textAreaRight" fmla="*/ 1981080 w 1981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99"/>
                </a:solidFill>
                <a:latin typeface="Times New Roman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934320" y="609588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99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276720" y="2057400"/>
          <a:ext cx="25146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25146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200400" y="6477120"/>
            <a:ext cx="2133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55308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6" idx="0"/>
            <a:endCxn id="99" idx="3"/>
          </p:cNvCxnSpPr>
          <p:nvPr/>
        </p:nvCxnSpPr>
        <p:spPr>
          <a:xfrm flipV="1" rot="16200000">
            <a:off x="3802680" y="5021640"/>
            <a:ext cx="1157400" cy="1905840"/>
          </a:xfrm>
          <a:prstGeom prst="bentConnector4">
            <a:avLst>
              <a:gd name="adj1" fmla="val -19757"/>
              <a:gd name="adj2" fmla="val -119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 rot="5400000">
            <a:off x="5371920" y="4228560"/>
            <a:ext cx="76284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410080" y="3352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s 1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: pat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105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rps 2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: g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28600"/>
            <a:ext cx="6400800" cy="2057400"/>
          </a:xfrm>
          <a:custGeom>
            <a:avLst/>
            <a:gdLst>
              <a:gd name="textAreaLeft" fmla="*/ 0 w 6400800"/>
              <a:gd name="textAreaRight" fmla="*/ 6401160 w 6400800"/>
              <a:gd name="textAreaTop" fmla="*/ 266400 h 2057400"/>
              <a:gd name="textAreaBottom" fmla="*/ 1791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28440">
            <a:solidFill>
              <a:srgbClr val="cc66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99ff"/>
                </a:solidFill>
                <a:latin typeface="Balloon XBd BT"/>
              </a:rPr>
              <a:t>Deux corps pivot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99ff"/>
                </a:solidFill>
                <a:latin typeface="Balloon XBd BT"/>
              </a:rPr>
              <a:t>l’un par rapport à l’au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 flipH="1">
            <a:off x="6553080" y="5486400"/>
            <a:ext cx="1981440" cy="45720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0080"/>
                </a:solidFill>
                <a:latin typeface="Times New Roman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858000" y="617220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0080"/>
                </a:solidFill>
                <a:latin typeface="Times New Roman"/>
              </a:rPr>
              <a:t>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8:59Z</dcterms:created>
  <dc:creator>Lado</dc:creator>
  <dc:description/>
  <dc:language>en-US</dc:language>
  <cp:lastModifiedBy>A. Bensaada</cp:lastModifiedBy>
  <dcterms:modified xsi:type="dcterms:W3CDTF">2000-09-27T03:06:18Z</dcterms:modified>
  <cp:revision>20</cp:revision>
  <dc:subject/>
  <dc:title>Aucun titre de diapositive</dc:title>
</cp:coreProperties>
</file>