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media/image10.jpeg" ContentType="image/jpe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90C3-CD2D-4557-A196-19782D7E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DC0B-D4BA-4A8B-9AB9-DC13E3E6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E587-26F6-4240-92CA-4D0BBAB3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291-CE58-41AB-A8F1-3C8CD6E75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92F-A5CB-490D-8D17-DB4A93CF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34CD-A3D7-40B8-BA1D-2EE6A389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D23-7960-4017-9878-591E5CEF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39B2-31D7-40AC-AEFF-5D788871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00B8-1831-40D3-BFFA-C4E1F777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B0C-7CD6-4154-BC90-353FBD54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3C6A-D2C5-44F6-9888-7993D055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C45-31B7-44AA-B12D-0F37E4D0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5234-B92B-4803-927C-F0749C359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sdm.qc.ca/ladauversiere/science.htm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6.xml"/><Relationship Id="rId3" Type="http://schemas.openxmlformats.org/officeDocument/2006/relationships/image" Target="../media/image3.wmf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81200" y="431640"/>
            <a:ext cx="6110280" cy="1843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latin typeface="Alleycat ICG"/>
              </a:rPr>
              <a:t>Réactions exothermiques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latin typeface="Alleycat ICG"/>
              <a:ea typeface="Alleycat ICG"/>
            </a:endParaRPr>
          </a:p>
        </p:txBody>
      </p:sp>
      <p:sp>
        <p:nvSpPr>
          <p:cNvPr id="42" name=""/>
          <p:cNvSpPr/>
          <p:nvPr/>
        </p:nvSpPr>
        <p:spPr>
          <a:xfrm>
            <a:off x="3678120" y="2818440"/>
            <a:ext cx="2044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Par Ghada B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54040" y="3809160"/>
            <a:ext cx="4804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La Dauversière, Montréal, juin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24760" y="4769280"/>
            <a:ext cx="60300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</a:t>
            </a:r>
            <a:r>
              <a:rPr b="0" lang="fr-CA" sz="1600" spc="-1" strike="noStrike" u="sng">
                <a:solidFill>
                  <a:srgbClr val="ccccff"/>
                </a:solidFill>
                <a:uFillTx/>
                <a:latin typeface="Comic Sans MS"/>
                <a:hlinkClick r:id="rId2"/>
              </a:rPr>
              <a:t>Myriam D ’Avr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ffffff"/>
                </a:solidFill>
                <a:latin typeface="Times New Roman"/>
              </a:rPr>
              <a:t>Science animé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402000" y="5943600"/>
            <a:ext cx="2666880" cy="457200"/>
            <a:chOff x="3402000" y="5943600"/>
            <a:chExt cx="2666880" cy="457200"/>
          </a:xfrm>
        </p:grpSpPr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>
              <a:off x="340200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88840" y="601884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Times New Roman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99ff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76520" y="53352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à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905120"/>
            <a:ext cx="7848720" cy="38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rapproch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Ralentiss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énergie cinétique diminu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ent leur énergie cinétique en éner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elle pour atteindre le point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’est l’énergie d’activation des réactifs 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le correspond à l’absorption de 1118 KJ/mo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010280" y="6087960"/>
            <a:ext cx="1474920" cy="77004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521000" y="1828800"/>
            <a:ext cx="6102000" cy="4073400"/>
            <a:chOff x="1521000" y="1828800"/>
            <a:chExt cx="6102000" cy="4073400"/>
          </a:xfrm>
        </p:grpSpPr>
        <p:graphicFrame>
          <p:nvGraphicFramePr>
            <p:cNvPr id="112" name=""/>
            <p:cNvGraphicFramePr/>
            <p:nvPr/>
          </p:nvGraphicFramePr>
          <p:xfrm>
            <a:off x="1521000" y="1828800"/>
            <a:ext cx="6102000" cy="4073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1000" y="1828800"/>
                      <a:ext cx="6102000" cy="407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2057400" y="4495680"/>
              <a:ext cx="39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 Black"/>
                </a:rPr>
                <a:t>0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743200" y="312408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010280" y="312408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62320" y="3048120"/>
              <a:ext cx="4724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52480" y="2819520"/>
              <a:ext cx="79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 Black"/>
                </a:rPr>
                <a:t>11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24200" y="503568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 Black"/>
                </a:rPr>
                <a:t>-4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209680" y="9144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pperplate Gothic Bold"/>
              </a:rPr>
              <a:t>Réaction exotherm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30800" y="47307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31600" y="6156360"/>
            <a:ext cx="38790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CA" sz="2000" spc="-1" strike="noStrike" u="sng">
                <a:solidFill>
                  <a:srgbClr val="000000"/>
                </a:solidFill>
                <a:uFillTx/>
                <a:latin typeface="Arial Black"/>
              </a:rPr>
              <a:t>1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N</a:t>
            </a:r>
            <a:r>
              <a:rPr b="0" lang="fr-CA" sz="1800" spc="-1" strike="noStrike" baseline="-25000">
                <a:solidFill>
                  <a:srgbClr val="000000"/>
                </a:solidFill>
                <a:latin typeface="Arial Black"/>
              </a:rPr>
              <a:t>2(g)  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+  </a:t>
            </a:r>
            <a:r>
              <a:rPr b="0" lang="fr-CA" sz="2000" spc="-1" strike="noStrike" u="sng">
                <a:solidFill>
                  <a:srgbClr val="000000"/>
                </a:solidFill>
                <a:uFillTx/>
                <a:latin typeface="Arial Black"/>
              </a:rPr>
              <a:t>3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 H</a:t>
            </a:r>
            <a:r>
              <a:rPr b="0" lang="fr-CA" sz="1800" spc="-1" strike="noStrike" baseline="-25000">
                <a:solidFill>
                  <a:srgbClr val="000000"/>
                </a:solidFill>
                <a:latin typeface="Arial Black"/>
              </a:rPr>
              <a:t>2(g)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 NH</a:t>
            </a:r>
            <a:r>
              <a:rPr b="0" lang="fr-CA" sz="1800" spc="-1" strike="noStrike" baseline="-25000">
                <a:solidFill>
                  <a:srgbClr val="000000"/>
                </a:solidFill>
                <a:latin typeface="Arial Black"/>
              </a:rPr>
              <a:t>3(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2           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BD14868_" descr=""/>
          <p:cNvPicPr/>
          <p:nvPr/>
        </p:nvPicPr>
        <p:blipFill>
          <a:blip r:embed="rId4"/>
          <a:stretch/>
        </p:blipFill>
        <p:spPr>
          <a:xfrm>
            <a:off x="4419720" y="2971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87480" y="259092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BD14868_" descr=""/>
          <p:cNvPicPr/>
          <p:nvPr/>
        </p:nvPicPr>
        <p:blipFill>
          <a:blip r:embed="rId5"/>
          <a:stretch/>
        </p:blipFill>
        <p:spPr>
          <a:xfrm>
            <a:off x="4572000" y="29718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26" name="BD14868_" descr=""/>
          <p:cNvPicPr/>
          <p:nvPr/>
        </p:nvPicPr>
        <p:blipFill>
          <a:blip r:embed="rId6"/>
          <a:stretch/>
        </p:blipFill>
        <p:spPr>
          <a:xfrm>
            <a:off x="4800600" y="297180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33cc"/>
            </a:gs>
            <a:gs pos="100000">
              <a:srgbClr val="ff00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33720" y="380880"/>
            <a:ext cx="5105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IN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447920"/>
            <a:ext cx="891540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ntrent en coll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Forment un groupe moléculaire de tran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 groupe se nomme le complexe activ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liaisons affaib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ins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de courte dur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- Maximum d’énergie potentielle de la ré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010280" y="5867280"/>
            <a:ext cx="1474920" cy="77004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362320" y="533520"/>
            <a:ext cx="449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 COMPLEXE ACTIV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40440" y="1454040"/>
            <a:ext cx="749520" cy="825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1447920"/>
            <a:ext cx="749520" cy="825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82840" y="2214720"/>
            <a:ext cx="749520" cy="825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44960" y="2214720"/>
            <a:ext cx="749160" cy="825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2603520"/>
            <a:ext cx="749520" cy="825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057400"/>
            <a:ext cx="749160" cy="825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73560" y="3054240"/>
            <a:ext cx="4446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2984400"/>
            <a:ext cx="4446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1219320"/>
            <a:ext cx="4446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3206880"/>
            <a:ext cx="44424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71600" y="1143000"/>
            <a:ext cx="596880" cy="825480"/>
            <a:chOff x="1371600" y="1143000"/>
            <a:chExt cx="596880" cy="825480"/>
          </a:xfrm>
        </p:grpSpPr>
        <p:sp>
          <p:nvSpPr>
            <p:cNvPr id="143" name=""/>
            <p:cNvSpPr/>
            <p:nvPr/>
          </p:nvSpPr>
          <p:spPr>
            <a:xfrm>
              <a:off x="1523880" y="1143000"/>
              <a:ext cx="444600" cy="444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71600" y="1524240"/>
              <a:ext cx="444600" cy="44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058840" y="2590920"/>
            <a:ext cx="98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4680" y="2590920"/>
            <a:ext cx="1065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097680" y="2058840"/>
            <a:ext cx="531720" cy="455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7680" y="2744640"/>
            <a:ext cx="45540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1148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ision effic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1148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xe activ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7280" y="411480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 y a ré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1040" y="5645160"/>
            <a:ext cx="749520" cy="8254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2514600"/>
            <a:ext cx="4446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791320"/>
            <a:ext cx="2743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71500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drogè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781680" y="5638680"/>
            <a:ext cx="1474920" cy="7700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8088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80520" y="3429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85800" y="3016080"/>
            <a:ext cx="596880" cy="825480"/>
            <a:chOff x="685800" y="3016080"/>
            <a:chExt cx="596880" cy="825480"/>
          </a:xfrm>
        </p:grpSpPr>
        <p:sp>
          <p:nvSpPr>
            <p:cNvPr id="160" name=""/>
            <p:cNvSpPr/>
            <p:nvPr/>
          </p:nvSpPr>
          <p:spPr>
            <a:xfrm>
              <a:off x="838080" y="3016080"/>
              <a:ext cx="444600" cy="444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5800" y="3397320"/>
              <a:ext cx="444600" cy="44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371600" y="2209680"/>
            <a:ext cx="596880" cy="825480"/>
            <a:chOff x="1371600" y="2209680"/>
            <a:chExt cx="596880" cy="825480"/>
          </a:xfrm>
        </p:grpSpPr>
        <p:sp>
          <p:nvSpPr>
            <p:cNvPr id="163" name=""/>
            <p:cNvSpPr/>
            <p:nvPr/>
          </p:nvSpPr>
          <p:spPr>
            <a:xfrm>
              <a:off x="1523880" y="2209680"/>
              <a:ext cx="444600" cy="444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71600" y="2590920"/>
              <a:ext cx="444600" cy="44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 flipH="1">
            <a:off x="121896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18960" y="1371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33920" y="1828800"/>
            <a:ext cx="44424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1981080"/>
            <a:ext cx="4446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2133720"/>
            <a:ext cx="4446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2666880"/>
            <a:ext cx="4446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3206880"/>
            <a:ext cx="4446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1905120"/>
            <a:ext cx="4446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67480" y="1219320"/>
            <a:ext cx="444600" cy="4442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27400" y="5715000"/>
            <a:ext cx="444600" cy="444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1521000" y="1828800"/>
            <a:ext cx="6102000" cy="4073400"/>
            <a:chOff x="1521000" y="1828800"/>
            <a:chExt cx="6102000" cy="4073400"/>
          </a:xfrm>
        </p:grpSpPr>
        <p:graphicFrame>
          <p:nvGraphicFramePr>
            <p:cNvPr id="176" name=""/>
            <p:cNvGraphicFramePr/>
            <p:nvPr/>
          </p:nvGraphicFramePr>
          <p:xfrm>
            <a:off x="1521000" y="1828800"/>
            <a:ext cx="6102000" cy="4073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1000" y="1828800"/>
                      <a:ext cx="6102000" cy="407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8" name=""/>
            <p:cNvSpPr/>
            <p:nvPr/>
          </p:nvSpPr>
          <p:spPr>
            <a:xfrm>
              <a:off x="2057400" y="4495680"/>
              <a:ext cx="39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 Black"/>
                </a:rPr>
                <a:t>0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743200" y="312408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7010280" y="312408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62320" y="3048120"/>
              <a:ext cx="4724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52480" y="2819520"/>
              <a:ext cx="79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 Black"/>
                </a:rPr>
                <a:t>11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24200" y="503568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 Black"/>
                </a:rPr>
                <a:t>-4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209680" y="9144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pperplate Gothic Bold"/>
              </a:rPr>
              <a:t>Réaction exotherm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30800" y="47307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31600" y="6156360"/>
            <a:ext cx="38790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CA" sz="2000" spc="-1" strike="noStrike" u="sng">
                <a:solidFill>
                  <a:srgbClr val="000000"/>
                </a:solidFill>
                <a:uFillTx/>
                <a:latin typeface="Arial Black"/>
              </a:rPr>
              <a:t>1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N</a:t>
            </a:r>
            <a:r>
              <a:rPr b="0" lang="fr-CA" sz="1800" spc="-1" strike="noStrike" baseline="-25000">
                <a:solidFill>
                  <a:srgbClr val="000000"/>
                </a:solidFill>
                <a:latin typeface="Arial Black"/>
              </a:rPr>
              <a:t>2(g)  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+  </a:t>
            </a:r>
            <a:r>
              <a:rPr b="0" lang="fr-CA" sz="2000" spc="-1" strike="noStrike" u="sng">
                <a:solidFill>
                  <a:srgbClr val="000000"/>
                </a:solidFill>
                <a:uFillTx/>
                <a:latin typeface="Arial Black"/>
              </a:rPr>
              <a:t>3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 H</a:t>
            </a:r>
            <a:r>
              <a:rPr b="0" lang="fr-CA" sz="1800" spc="-1" strike="noStrike" baseline="-25000">
                <a:solidFill>
                  <a:srgbClr val="000000"/>
                </a:solidFill>
                <a:latin typeface="Arial Black"/>
              </a:rPr>
              <a:t>2(g)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 NH</a:t>
            </a:r>
            <a:r>
              <a:rPr b="0" lang="fr-CA" sz="1800" spc="-1" strike="noStrike" baseline="-25000">
                <a:solidFill>
                  <a:srgbClr val="000000"/>
                </a:solidFill>
                <a:latin typeface="Arial Black"/>
              </a:rPr>
              <a:t>3(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2           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87480" y="259092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BD14868_" descr=""/>
          <p:cNvPicPr/>
          <p:nvPr/>
        </p:nvPicPr>
        <p:blipFill>
          <a:blip r:embed="rId4"/>
          <a:stretch/>
        </p:blipFill>
        <p:spPr>
          <a:xfrm>
            <a:off x="4952880" y="30481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189" name="BD14868_" descr=""/>
          <p:cNvPicPr/>
          <p:nvPr/>
        </p:nvPicPr>
        <p:blipFill>
          <a:blip r:embed="rId5"/>
          <a:stretch/>
        </p:blipFill>
        <p:spPr>
          <a:xfrm>
            <a:off x="51814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190" name="BD14868_" descr=""/>
          <p:cNvPicPr/>
          <p:nvPr/>
        </p:nvPicPr>
        <p:blipFill>
          <a:blip r:embed="rId6"/>
          <a:stretch/>
        </p:blipFill>
        <p:spPr>
          <a:xfrm>
            <a:off x="5486400" y="365760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91" name="BD14868_" descr=""/>
          <p:cNvPicPr/>
          <p:nvPr/>
        </p:nvPicPr>
        <p:blipFill>
          <a:blip r:embed="rId7"/>
          <a:stretch/>
        </p:blipFill>
        <p:spPr>
          <a:xfrm>
            <a:off x="5791320" y="40384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192" name="BD14868_" descr=""/>
          <p:cNvPicPr/>
          <p:nvPr/>
        </p:nvPicPr>
        <p:blipFill>
          <a:blip r:embed="rId8"/>
          <a:stretch/>
        </p:blipFill>
        <p:spPr>
          <a:xfrm>
            <a:off x="6019920" y="4267080"/>
            <a:ext cx="152280" cy="152640"/>
          </a:xfrm>
          <a:prstGeom prst="rect">
            <a:avLst/>
          </a:prstGeom>
          <a:ln w="0">
            <a:noFill/>
          </a:ln>
        </p:spPr>
      </p:pic>
      <p:pic>
        <p:nvPicPr>
          <p:cNvPr id="193" name="BD14868_" descr=""/>
          <p:cNvPicPr/>
          <p:nvPr/>
        </p:nvPicPr>
        <p:blipFill>
          <a:blip r:embed="rId9"/>
          <a:stretch/>
        </p:blipFill>
        <p:spPr>
          <a:xfrm>
            <a:off x="6324480" y="46483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194" name="BD14868_" descr=""/>
          <p:cNvPicPr/>
          <p:nvPr/>
        </p:nvPicPr>
        <p:blipFill>
          <a:blip r:embed="rId10"/>
          <a:stretch/>
        </p:blipFill>
        <p:spPr>
          <a:xfrm>
            <a:off x="6629400" y="4952880"/>
            <a:ext cx="152280" cy="152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876000" y="5105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99ffcc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666880" y="533520"/>
            <a:ext cx="411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 à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981080"/>
            <a:ext cx="838224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es molécules de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’éloignent graduel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nergie potentielle diminue  et se transforme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nergie cinétique qui augmente en s’approchant vers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ibération de 1164 KJ/mol d’énergi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934320" y="6087960"/>
            <a:ext cx="1474560" cy="770040"/>
          </a:xfrm>
          <a:prstGeom prst="rect">
            <a:avLst/>
          </a:prstGeom>
          <a:ln w="0">
            <a:noFill/>
          </a:ln>
        </p:spPr>
      </p:pic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521000" y="1828800"/>
            <a:ext cx="6102000" cy="4073400"/>
            <a:chOff x="1521000" y="1828800"/>
            <a:chExt cx="6102000" cy="4073400"/>
          </a:xfrm>
        </p:grpSpPr>
        <p:graphicFrame>
          <p:nvGraphicFramePr>
            <p:cNvPr id="201" name=""/>
            <p:cNvGraphicFramePr/>
            <p:nvPr/>
          </p:nvGraphicFramePr>
          <p:xfrm>
            <a:off x="1521000" y="1828800"/>
            <a:ext cx="6102000" cy="4073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1000" y="1828800"/>
                      <a:ext cx="6102000" cy="407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2057400" y="4495680"/>
              <a:ext cx="39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 Black"/>
                </a:rPr>
                <a:t>0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743200" y="312408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010280" y="312408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62320" y="3048120"/>
              <a:ext cx="4724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52480" y="2819520"/>
              <a:ext cx="79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 Black"/>
                </a:rPr>
                <a:t>11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24200" y="503568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 Black"/>
                </a:rPr>
                <a:t>-4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24080" y="464832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62320" y="5181480"/>
              <a:ext cx="4495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2209680" y="9144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pperplate Gothic Bold"/>
              </a:rPr>
              <a:t>Réaction exotherm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30800" y="47307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31600" y="6156360"/>
            <a:ext cx="38790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CA" sz="2000" spc="-1" strike="noStrike" u="sng">
                <a:solidFill>
                  <a:srgbClr val="000000"/>
                </a:solidFill>
                <a:uFillTx/>
                <a:latin typeface="Arial Black"/>
              </a:rPr>
              <a:t>1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N</a:t>
            </a:r>
            <a:r>
              <a:rPr b="0" lang="fr-CA" sz="1800" spc="-1" strike="noStrike" baseline="-25000">
                <a:solidFill>
                  <a:srgbClr val="000000"/>
                </a:solidFill>
                <a:latin typeface="Arial Black"/>
              </a:rPr>
              <a:t>2(g)  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+  </a:t>
            </a:r>
            <a:r>
              <a:rPr b="0" lang="fr-CA" sz="2000" spc="-1" strike="noStrike" u="sng">
                <a:solidFill>
                  <a:srgbClr val="000000"/>
                </a:solidFill>
                <a:uFillTx/>
                <a:latin typeface="Arial Black"/>
              </a:rPr>
              <a:t>3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 H</a:t>
            </a:r>
            <a:r>
              <a:rPr b="0" lang="fr-CA" sz="1800" spc="-1" strike="noStrike" baseline="-25000">
                <a:solidFill>
                  <a:srgbClr val="000000"/>
                </a:solidFill>
                <a:latin typeface="Arial Black"/>
              </a:rPr>
              <a:t>2(g)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 NH</a:t>
            </a:r>
            <a:r>
              <a:rPr b="0" lang="fr-CA" sz="1800" spc="-1" strike="noStrike" baseline="-25000">
                <a:solidFill>
                  <a:srgbClr val="000000"/>
                </a:solidFill>
                <a:latin typeface="Arial Black"/>
              </a:rPr>
              <a:t>3(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2           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87480" y="259092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76000" y="5105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855960" y="4647960"/>
            <a:ext cx="557280" cy="533160"/>
            <a:chOff x="3855960" y="4647960"/>
            <a:chExt cx="557280" cy="533160"/>
          </a:xfrm>
        </p:grpSpPr>
        <p:sp>
          <p:nvSpPr>
            <p:cNvPr id="217" name=""/>
            <p:cNvSpPr/>
            <p:nvPr/>
          </p:nvSpPr>
          <p:spPr>
            <a:xfrm>
              <a:off x="3855960" y="4716360"/>
              <a:ext cx="5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</a:t>
              </a:r>
              <a:r>
                <a:rPr b="0" lang="fr-CA" sz="1600" spc="-1" strike="noStrike">
                  <a:solidFill>
                    <a:srgbClr val="ff0000"/>
                  </a:solidFill>
                  <a:latin typeface="Arial Black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3886200" y="46479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10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934320" y="6087960"/>
            <a:ext cx="1474560" cy="770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2562120" y="685800"/>
            <a:ext cx="40197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Variation d'enthalpi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1" name=""/>
          <p:cNvSpPr/>
          <p:nvPr/>
        </p:nvSpPr>
        <p:spPr>
          <a:xfrm>
            <a:off x="3909960" y="1523880"/>
            <a:ext cx="132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fr-CA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CA" sz="4000" spc="-1" strike="noStrike">
                <a:solidFill>
                  <a:srgbClr val="000000"/>
                </a:solidFill>
                <a:latin typeface="Times New Roman"/>
              </a:rPr>
              <a:t>H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200" y="3200400"/>
            <a:ext cx="73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H = 1118 kJ/mol absorbés – 1164 kJ/mol dégag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3886200"/>
            <a:ext cx="51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Dégagement de 46 kJ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07280" y="4724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Réaction exotherm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92640" y="548640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CA" sz="2400" spc="-1" strike="noStrike">
                <a:solidFill>
                  <a:srgbClr val="000000"/>
                </a:solidFill>
                <a:latin typeface="Arial Black"/>
              </a:rPr>
              <a:t>H = -46 kJ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0" y="60958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2876400" y="304920"/>
            <a:ext cx="3391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clus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7f7f7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" name=""/>
          <p:cNvSpPr/>
          <p:nvPr/>
        </p:nvSpPr>
        <p:spPr>
          <a:xfrm>
            <a:off x="1028880" y="1905120"/>
            <a:ext cx="7086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L’analyse d’une réaction exothermique n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démontre que l’enthalpie des réactifs e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supérieure  à celle des produits de sorte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la variation d’enthalpie est néga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Cette réaction dégage plus d’énergie qu’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en absorb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La combustion de l’essence dans u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automobile , l’oxydation du sucre lors d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digestion sont des exemples parmi d’au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d’une réaction exothermiqu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553080" y="5791320"/>
            <a:ext cx="1474920" cy="76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ccecff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819520" y="457200"/>
            <a:ext cx="426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ÉFÉR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010280" y="5257800"/>
            <a:ext cx="1474920" cy="7700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60280" y="1455840"/>
            <a:ext cx="8616960" cy="326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609480"/>
            <a:ext cx="8076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200" spc="-1" strike="noStrike">
                <a:solidFill>
                  <a:srgbClr val="c0c0c0"/>
                </a:solidFill>
                <a:latin typeface="Lucida Handwriting"/>
              </a:rPr>
              <a:t>Ghada</a:t>
            </a:r>
            <a:r>
              <a:rPr b="1" lang="fr-FR" sz="42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fr-FR" sz="4200" spc="-1" strike="noStrike">
                <a:solidFill>
                  <a:srgbClr val="c0c0c0"/>
                </a:solidFill>
                <a:latin typeface="Lucida Handwriting"/>
              </a:rPr>
              <a:t>Bali </a:t>
            </a:r>
            <a:r>
              <a:rPr b="1" lang="fr-FR" sz="4200" spc="-1" strike="noStrike">
                <a:solidFill>
                  <a:srgbClr val="000000"/>
                </a:solidFill>
                <a:latin typeface="Lucida Handwriting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72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c0c0c0"/>
                </a:solidFill>
                <a:latin typeface="Lucida Blackletter"/>
              </a:rPr>
              <a:t>Présente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19320" y="2133720"/>
            <a:ext cx="61722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'analyse d'une réaction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b2b2b2"/>
                    </a:gs>
                    <a:gs pos="100000">
                      <a:srgbClr val="ffffff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xothermique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b2b2b2"/>
                  </a:gs>
                  <a:gs pos="100000">
                    <a:srgbClr val="ffffff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010280" y="5257800"/>
            <a:ext cx="1474920" cy="770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05720" y="59436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quez sur les icô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ccecff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819520" y="457200"/>
            <a:ext cx="426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ÉFÉR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010280" y="5257800"/>
            <a:ext cx="1474920" cy="770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838080" y="1523880"/>
            <a:ext cx="26384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ites Interne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27432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Géocities. (Page consultée le 3 mai 2000). </a:t>
            </a:r>
            <a:r>
              <a:rPr b="0" i="1" lang="fr-CA" sz="2400" spc="-1" strike="noStrike">
                <a:solidFill>
                  <a:srgbClr val="000000"/>
                </a:solidFill>
                <a:latin typeface="Times New Roman"/>
              </a:rPr>
              <a:t>Énergie dans les réactions chimiques,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[En ligne]. Adresse UR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ttp://www.geocities.com/CapeCanaveral/9305/calor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ff66cc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33520" y="2362320"/>
            <a:ext cx="75438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cc"/>
                </a:solidFill>
                <a:latin typeface="Times New Roman"/>
              </a:rPr>
              <a:t>AU  REVOIR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876400" y="304920"/>
            <a:ext cx="3391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7f7f7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ntroductio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7f7f7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028880" y="1905120"/>
            <a:ext cx="7086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Toute matière possède au départ de l’énergie qui est emmagasinée dans ses molécul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Lorsqu’elles réagissent entre elles de l’éner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est mise en jeu. Ceci se traduit soit par une réaction exothermique ou bien endotherm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Cette présentation portera sur l’analyse graphique d’une réaction exothermique.  Espérons que cette analyse répondra à vos ques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858000" y="5334120"/>
            <a:ext cx="1474920" cy="76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2057400"/>
            <a:ext cx="8229600" cy="20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’est une transformation de la matière qui dégage de l’énergie sous forme de chaleur (elle en fournit au milieu extérieu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4572000"/>
            <a:ext cx="640080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fr-FR" sz="3200" spc="-1" strike="noStrike" baseline="-25000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&gt;H</a:t>
            </a:r>
            <a:r>
              <a:rPr b="0" lang="fr-FR" sz="32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 =exotherm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76440" y="457200"/>
            <a:ext cx="4191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RÉACTION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dddddd"/>
                </a:solidFill>
                <a:uFillTx/>
                <a:latin typeface="Times New Roman"/>
              </a:rPr>
              <a:t>EXOTHERM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334120"/>
            <a:ext cx="1474920" cy="769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5400" y="3429000"/>
            <a:ext cx="653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Dans ce cas, l’</a:t>
            </a:r>
            <a:r>
              <a:rPr b="0" lang="fr-CA" sz="2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enthalpie</a:t>
            </a: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 des produits est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faible que celle des réacti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990720"/>
            <a:ext cx="27622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'enthalpie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632600" y="1876320"/>
            <a:ext cx="587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C’est un type d’énergie potentielle q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correspond à la somme des énergies conte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dans une substance à l’échelle atomique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molécula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Le symbole est  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64280" y="4308480"/>
            <a:ext cx="3494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fr-CA" sz="2400" spc="-1" strike="noStrike" baseline="-25000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=  enthalpie des réa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fr-CA" sz="24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=  enthalpie des prod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6781680" y="5334120"/>
            <a:ext cx="1474920" cy="76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2120" y="1523880"/>
            <a:ext cx="7619760" cy="4419720"/>
          </a:xfrm>
          <a:prstGeom prst="bevel">
            <a:avLst>
              <a:gd name="adj" fmla="val 1250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324160" y="2438280"/>
            <a:ext cx="449568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voici l'analys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de la réaction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exothermiqu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67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391520" y="6087960"/>
            <a:ext cx="1474560" cy="770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521000" y="1828800"/>
            <a:ext cx="6102000" cy="4073400"/>
            <a:chOff x="1521000" y="1828800"/>
            <a:chExt cx="6102000" cy="4073400"/>
          </a:xfrm>
        </p:grpSpPr>
        <p:graphicFrame>
          <p:nvGraphicFramePr>
            <p:cNvPr id="69" name=""/>
            <p:cNvGraphicFramePr/>
            <p:nvPr/>
          </p:nvGraphicFramePr>
          <p:xfrm>
            <a:off x="1521000" y="1828800"/>
            <a:ext cx="6102000" cy="4073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1000" y="1828800"/>
                      <a:ext cx="6102000" cy="407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" name=""/>
            <p:cNvSpPr/>
            <p:nvPr/>
          </p:nvSpPr>
          <p:spPr>
            <a:xfrm>
              <a:off x="2057400" y="4495680"/>
              <a:ext cx="39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 Black"/>
                </a:rPr>
                <a:t>0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743200" y="312408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7010280" y="312408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62320" y="3048120"/>
              <a:ext cx="4724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52480" y="2819520"/>
              <a:ext cx="79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 Black"/>
                </a:rPr>
                <a:t>11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24200" y="503568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 Black"/>
                </a:rPr>
                <a:t>-4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209680" y="9144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pperplate Gothic Bold"/>
              </a:rPr>
              <a:t>Réaction exotherm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30800" y="47307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D14868_" descr=""/>
          <p:cNvPicPr/>
          <p:nvPr/>
        </p:nvPicPr>
        <p:blipFill>
          <a:blip r:embed="rId4"/>
          <a:stretch/>
        </p:blipFill>
        <p:spPr>
          <a:xfrm>
            <a:off x="2438280" y="4572000"/>
            <a:ext cx="136800" cy="136440"/>
          </a:xfrm>
          <a:prstGeom prst="rect">
            <a:avLst/>
          </a:prstGeom>
          <a:ln w="0">
            <a:noFill/>
          </a:ln>
        </p:spPr>
      </p:pic>
      <p:pic>
        <p:nvPicPr>
          <p:cNvPr id="80" name="BD14868_" descr=""/>
          <p:cNvPicPr/>
          <p:nvPr/>
        </p:nvPicPr>
        <p:blipFill>
          <a:blip r:embed="rId5"/>
          <a:stretch/>
        </p:blipFill>
        <p:spPr>
          <a:xfrm>
            <a:off x="2590920" y="457200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81" name="BD14868_" descr=""/>
          <p:cNvPicPr/>
          <p:nvPr/>
        </p:nvPicPr>
        <p:blipFill>
          <a:blip r:embed="rId6"/>
          <a:stretch/>
        </p:blipFill>
        <p:spPr>
          <a:xfrm>
            <a:off x="2743200" y="457200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82" name="BD14868_" descr=""/>
          <p:cNvPicPr/>
          <p:nvPr/>
        </p:nvPicPr>
        <p:blipFill>
          <a:blip r:embed="rId7"/>
          <a:stretch/>
        </p:blipFill>
        <p:spPr>
          <a:xfrm>
            <a:off x="2895480" y="4572000"/>
            <a:ext cx="136800" cy="136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631600" y="6156360"/>
            <a:ext cx="38790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CA" sz="2000" spc="-1" strike="noStrike" u="sng">
                <a:solidFill>
                  <a:srgbClr val="000000"/>
                </a:solidFill>
                <a:uFillTx/>
                <a:latin typeface="Arial Black"/>
              </a:rPr>
              <a:t>1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N</a:t>
            </a:r>
            <a:r>
              <a:rPr b="0" lang="fr-CA" sz="1800" spc="-1" strike="noStrike" baseline="-25000">
                <a:solidFill>
                  <a:srgbClr val="000000"/>
                </a:solidFill>
                <a:latin typeface="Arial Black"/>
              </a:rPr>
              <a:t>2(g)  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+  </a:t>
            </a:r>
            <a:r>
              <a:rPr b="0" lang="fr-CA" sz="2000" spc="-1" strike="noStrike" u="sng">
                <a:solidFill>
                  <a:srgbClr val="000000"/>
                </a:solidFill>
                <a:uFillTx/>
                <a:latin typeface="Arial Black"/>
              </a:rPr>
              <a:t>3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 H</a:t>
            </a:r>
            <a:r>
              <a:rPr b="0" lang="fr-CA" sz="1800" spc="-1" strike="noStrike" baseline="-25000">
                <a:solidFill>
                  <a:srgbClr val="000000"/>
                </a:solidFill>
                <a:latin typeface="Arial Black"/>
              </a:rPr>
              <a:t>2(g)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 NH</a:t>
            </a:r>
            <a:r>
              <a:rPr b="0" lang="fr-CA" sz="1800" spc="-1" strike="noStrike" baseline="-25000">
                <a:solidFill>
                  <a:srgbClr val="000000"/>
                </a:solidFill>
                <a:latin typeface="Arial Black"/>
              </a:rPr>
              <a:t>3(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2           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00480" y="457200"/>
            <a:ext cx="4343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1828800"/>
            <a:ext cx="7315200" cy="18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 molécules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t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 déplacent lib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 possèdent le maximum d’énergie cinéti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Faible énergie potentielle ( pour cette réaction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934320" y="6087960"/>
            <a:ext cx="1474560" cy="77004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22860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521000" y="1828800"/>
            <a:ext cx="6102000" cy="4073400"/>
            <a:chOff x="1521000" y="1828800"/>
            <a:chExt cx="6102000" cy="4073400"/>
          </a:xfrm>
        </p:grpSpPr>
        <p:graphicFrame>
          <p:nvGraphicFramePr>
            <p:cNvPr id="89" name=""/>
            <p:cNvGraphicFramePr/>
            <p:nvPr/>
          </p:nvGraphicFramePr>
          <p:xfrm>
            <a:off x="1521000" y="1828800"/>
            <a:ext cx="6102000" cy="4073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1000" y="1828800"/>
                      <a:ext cx="6102000" cy="407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2057400" y="4495680"/>
              <a:ext cx="39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 Black"/>
                </a:rPr>
                <a:t>0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743200" y="3124080"/>
              <a:ext cx="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7010280" y="312408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62320" y="3048120"/>
              <a:ext cx="4724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52480" y="2819520"/>
              <a:ext cx="79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 Black"/>
                </a:rPr>
                <a:t>11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24200" y="503568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400" spc="-1" strike="noStrike">
                  <a:solidFill>
                    <a:srgbClr val="000000"/>
                  </a:solidFill>
                  <a:latin typeface="Arial Black"/>
                </a:rPr>
                <a:t>-4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209680" y="9144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opperplate Gothic Bold"/>
              </a:rPr>
              <a:t>Réaction exotherm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0800" y="47307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D14868_" descr=""/>
          <p:cNvPicPr/>
          <p:nvPr/>
        </p:nvPicPr>
        <p:blipFill>
          <a:blip r:embed="rId4"/>
          <a:stretch/>
        </p:blipFill>
        <p:spPr>
          <a:xfrm>
            <a:off x="3048120" y="44197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00" name="BD14868_" descr=""/>
          <p:cNvPicPr/>
          <p:nvPr/>
        </p:nvPicPr>
        <p:blipFill>
          <a:blip r:embed="rId5"/>
          <a:stretch/>
        </p:blipFill>
        <p:spPr>
          <a:xfrm>
            <a:off x="3276720" y="41911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01" name="BD14868_" descr=""/>
          <p:cNvPicPr/>
          <p:nvPr/>
        </p:nvPicPr>
        <p:blipFill>
          <a:blip r:embed="rId6"/>
          <a:stretch/>
        </p:blipFill>
        <p:spPr>
          <a:xfrm>
            <a:off x="3505320" y="3962520"/>
            <a:ext cx="136440" cy="136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631600" y="6156360"/>
            <a:ext cx="38790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CA" sz="2000" spc="-1" strike="noStrike" u="sng">
                <a:solidFill>
                  <a:srgbClr val="000000"/>
                </a:solidFill>
                <a:uFillTx/>
                <a:latin typeface="Arial Black"/>
              </a:rPr>
              <a:t>1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N</a:t>
            </a:r>
            <a:r>
              <a:rPr b="0" lang="fr-CA" sz="1800" spc="-1" strike="noStrike" baseline="-25000">
                <a:solidFill>
                  <a:srgbClr val="000000"/>
                </a:solidFill>
                <a:latin typeface="Arial Black"/>
              </a:rPr>
              <a:t>2(g)  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+  </a:t>
            </a:r>
            <a:r>
              <a:rPr b="0" lang="fr-CA" sz="2000" spc="-1" strike="noStrike" u="sng">
                <a:solidFill>
                  <a:srgbClr val="000000"/>
                </a:solidFill>
                <a:uFillTx/>
                <a:latin typeface="Arial Black"/>
              </a:rPr>
              <a:t>3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 H</a:t>
            </a:r>
            <a:r>
              <a:rPr b="0" lang="fr-CA" sz="1800" spc="-1" strike="noStrike" baseline="-25000">
                <a:solidFill>
                  <a:srgbClr val="000000"/>
                </a:solidFill>
                <a:latin typeface="Arial Black"/>
              </a:rPr>
              <a:t>2(g)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 NH</a:t>
            </a:r>
            <a:r>
              <a:rPr b="0" lang="fr-CA" sz="1800" spc="-1" strike="noStrike" baseline="-25000">
                <a:solidFill>
                  <a:srgbClr val="000000"/>
                </a:solidFill>
                <a:latin typeface="Arial Black"/>
              </a:rPr>
              <a:t>3(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Arial Black"/>
              </a:rPr>
              <a:t>2           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BD14868_" descr=""/>
          <p:cNvPicPr/>
          <p:nvPr/>
        </p:nvPicPr>
        <p:blipFill>
          <a:blip r:embed="rId7"/>
          <a:stretch/>
        </p:blipFill>
        <p:spPr>
          <a:xfrm>
            <a:off x="3809880" y="3657600"/>
            <a:ext cx="136800" cy="136440"/>
          </a:xfrm>
          <a:prstGeom prst="rect">
            <a:avLst/>
          </a:prstGeom>
          <a:ln w="0">
            <a:noFill/>
          </a:ln>
        </p:spPr>
      </p:pic>
      <p:pic>
        <p:nvPicPr>
          <p:cNvPr id="104" name="BD14868_" descr=""/>
          <p:cNvPicPr/>
          <p:nvPr/>
        </p:nvPicPr>
        <p:blipFill>
          <a:blip r:embed="rId8"/>
          <a:stretch/>
        </p:blipFill>
        <p:spPr>
          <a:xfrm>
            <a:off x="4038480" y="3360600"/>
            <a:ext cx="136800" cy="136800"/>
          </a:xfrm>
          <a:prstGeom prst="rect">
            <a:avLst/>
          </a:prstGeom>
          <a:ln w="0">
            <a:noFill/>
          </a:ln>
        </p:spPr>
      </p:pic>
      <p:pic>
        <p:nvPicPr>
          <p:cNvPr id="105" name="BD14868_" descr=""/>
          <p:cNvPicPr/>
          <p:nvPr/>
        </p:nvPicPr>
        <p:blipFill>
          <a:blip r:embed="rId9"/>
          <a:stretch/>
        </p:blipFill>
        <p:spPr>
          <a:xfrm>
            <a:off x="4419720" y="297180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87480" y="259092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4T21:54:38Z</dcterms:created>
  <dc:creator>May Bali</dc:creator>
  <dc:description/>
  <dc:language>en-US</dc:language>
  <cp:lastModifiedBy>A. Bensaada</cp:lastModifiedBy>
  <dcterms:modified xsi:type="dcterms:W3CDTF">2000-09-25T05:27:54Z</dcterms:modified>
  <cp:revision>42</cp:revision>
  <dc:subject/>
  <dc:title>No Slide Title</dc:title>
</cp:coreProperties>
</file>