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SBOINGHI.WAV" ContentType="audio/x-wav"/>
  <Override PartName="/ppt/media/STEAM.WAV" ContentType="audio/x-wav"/>
  <Override PartName="/ppt/media/image10.png" ContentType="image/png"/>
  <Override PartName="/ppt/media/image9.png" ContentType="image/png"/>
  <Override PartName="/ppt/media/WARBSHT.WAV" ContentType="audio/x-wav"/>
  <Override PartName="/ppt/media/image1.png" ContentType="image/png"/>
  <Override PartName="/ppt/media/image31.png" ContentType="image/png"/>
  <Override PartName="/ppt/media/sp048.wav" ContentType="audio/x-wav"/>
  <Override PartName="/ppt/media/image17.png" ContentType="image/png"/>
  <Override PartName="/ppt/media/EXP2.WAV" ContentType="audio/x-wav"/>
  <Override PartName="/ppt/media/image23.png" ContentType="image/png"/>
  <Override PartName="/ppt/media/image24.png" ContentType="image/png"/>
  <Override PartName="/ppt/media/image25.png" ContentType="image/png"/>
  <Override PartName="/ppt/media/image27.png" ContentType="image/png"/>
  <Override PartName="/ppt/media/TYPE.WAV" ContentType="audio/x-wav"/>
  <Override PartName="/ppt/media/image28.png" ContentType="image/png"/>
  <Override PartName="/ppt/media/image30.png" ContentType="image/png"/>
  <Override PartName="/ppt/media/image5.png" ContentType="image/png"/>
  <Override PartName="/ppt/media/LASER.WAV" ContentType="audio/x-wav"/>
  <Override PartName="/ppt/media/image26.png" ContentType="image/png"/>
  <Override PartName="/ppt/media/SPUTTER2.WAV" ContentType="audio/x-wav"/>
  <Override PartName="/ppt/media/DRIVEBY.WAV" ContentType="audio/x-wav"/>
  <Override PartName="/ppt/media/image32.png" ContentType="image/png"/>
  <Override PartName="/ppt/media/45CALSMG.WAV" ContentType="audio/x-wav"/>
  <Override PartName="/ppt/media/image6.wmf" ContentType="image/x-wmf"/>
  <Override PartName="/ppt/media/image11.png" ContentType="image/png"/>
  <Override PartName="/ppt/media/CAMERA.WAV" ContentType="audio/x-wav"/>
  <Override PartName="/ppt/media/image4.png" ContentType="image/png"/>
  <Override PartName="/ppt/media/image34.png" ContentType="image/png"/>
  <Override PartName="/ppt/media/image8.wmf" ContentType="image/x-wmf"/>
  <Override PartName="/ppt/media/image13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EEE-2A03-4809-844A-5FD1CFDB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94F-75FD-4248-9249-C3B6811F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7E0-E198-4FB0-82D2-29C16A6F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A11-84A2-4241-ABCF-2B5DE4C7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E4EB-3260-4AC7-950B-0595DCD9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32B8-C496-44A1-B314-8FFD8B5B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5FDE-477D-4567-9C09-676358A9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EB46-9C7A-4965-BFD8-BD88685D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C7F1-BA52-40A4-A47C-14B8D6B4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D468-6226-4088-A15C-B0653C82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9029-B4CE-47BA-881A-97AC5BA6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10B-C48E-4DC6-B2A6-02F1CCE7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ECE1-B956-415E-8B6F-02FC82B9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5278-7844-46AA-91B8-1F126BB0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1E2E-223F-49D0-A1C6-A57A8EB8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0236-D268-47EB-9360-5486E11B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BD29-D95E-4DB6-9885-FFB0D300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934-0170-41B6-8B05-11C10C54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E09-27A6-469C-9A01-86768575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EA7-B9B1-432D-BF84-52661D5C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ADA-378A-4400-8C2D-A057CEE3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097-83A6-46C9-BA70-E4E7879E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FEF-E9E2-45C7-8522-40F7A408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07C-5148-424D-9CF3-5BD1FD7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5708-65E7-4409-A015-9031D41458E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 rot="5400000">
            <a:off x="-2819880" y="2743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LOI DE DALT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15" name=""/>
          <p:cNvSpPr/>
          <p:nvPr/>
        </p:nvSpPr>
        <p:spPr>
          <a:xfrm>
            <a:off x="838080" y="93600"/>
            <a:ext cx="760680" cy="6840720"/>
          </a:xfrm>
          <a:custGeom>
            <a:avLst/>
            <a:gdLst/>
            <a:ahLst/>
            <a:rect l="l" t="t" r="r" b="b"/>
            <a:pathLst>
              <a:path w="479" h="4284">
                <a:moveTo>
                  <a:pt x="27" y="0"/>
                </a:moveTo>
                <a:cubicBezTo>
                  <a:pt x="0" y="149"/>
                  <a:pt x="9" y="72"/>
                  <a:pt x="27" y="347"/>
                </a:cubicBezTo>
                <a:cubicBezTo>
                  <a:pt x="30" y="400"/>
                  <a:pt x="45" y="455"/>
                  <a:pt x="90" y="484"/>
                </a:cubicBezTo>
                <a:cubicBezTo>
                  <a:pt x="118" y="526"/>
                  <a:pt x="165" y="539"/>
                  <a:pt x="195" y="579"/>
                </a:cubicBezTo>
                <a:cubicBezTo>
                  <a:pt x="229" y="625"/>
                  <a:pt x="248" y="674"/>
                  <a:pt x="290" y="715"/>
                </a:cubicBezTo>
                <a:cubicBezTo>
                  <a:pt x="307" y="772"/>
                  <a:pt x="334" y="826"/>
                  <a:pt x="353" y="884"/>
                </a:cubicBezTo>
                <a:cubicBezTo>
                  <a:pt x="317" y="992"/>
                  <a:pt x="299" y="1104"/>
                  <a:pt x="237" y="1200"/>
                </a:cubicBezTo>
                <a:cubicBezTo>
                  <a:pt x="226" y="1231"/>
                  <a:pt x="224" y="1266"/>
                  <a:pt x="206" y="1294"/>
                </a:cubicBezTo>
                <a:cubicBezTo>
                  <a:pt x="199" y="1304"/>
                  <a:pt x="190" y="1314"/>
                  <a:pt x="185" y="1326"/>
                </a:cubicBezTo>
                <a:cubicBezTo>
                  <a:pt x="161" y="1379"/>
                  <a:pt x="151" y="1439"/>
                  <a:pt x="132" y="1494"/>
                </a:cubicBezTo>
                <a:cubicBezTo>
                  <a:pt x="157" y="1569"/>
                  <a:pt x="192" y="1691"/>
                  <a:pt x="248" y="1747"/>
                </a:cubicBezTo>
                <a:cubicBezTo>
                  <a:pt x="279" y="1778"/>
                  <a:pt x="311" y="1810"/>
                  <a:pt x="343" y="1842"/>
                </a:cubicBezTo>
                <a:cubicBezTo>
                  <a:pt x="353" y="1852"/>
                  <a:pt x="374" y="1873"/>
                  <a:pt x="374" y="1873"/>
                </a:cubicBezTo>
                <a:cubicBezTo>
                  <a:pt x="377" y="1883"/>
                  <a:pt x="379" y="1894"/>
                  <a:pt x="385" y="1905"/>
                </a:cubicBezTo>
                <a:cubicBezTo>
                  <a:pt x="390" y="1916"/>
                  <a:pt x="400" y="1924"/>
                  <a:pt x="406" y="1936"/>
                </a:cubicBezTo>
                <a:cubicBezTo>
                  <a:pt x="455" y="2048"/>
                  <a:pt x="400" y="1960"/>
                  <a:pt x="448" y="2031"/>
                </a:cubicBezTo>
                <a:cubicBezTo>
                  <a:pt x="461" y="2073"/>
                  <a:pt x="470" y="2114"/>
                  <a:pt x="479" y="2158"/>
                </a:cubicBezTo>
                <a:cubicBezTo>
                  <a:pt x="477" y="2167"/>
                  <a:pt x="462" y="2300"/>
                  <a:pt x="458" y="2315"/>
                </a:cubicBezTo>
                <a:cubicBezTo>
                  <a:pt x="454" y="2324"/>
                  <a:pt x="443" y="2328"/>
                  <a:pt x="437" y="2337"/>
                </a:cubicBezTo>
                <a:cubicBezTo>
                  <a:pt x="396" y="2391"/>
                  <a:pt x="365" y="2453"/>
                  <a:pt x="322" y="2505"/>
                </a:cubicBezTo>
                <a:cubicBezTo>
                  <a:pt x="315" y="2512"/>
                  <a:pt x="306" y="2517"/>
                  <a:pt x="300" y="2526"/>
                </a:cubicBezTo>
                <a:cubicBezTo>
                  <a:pt x="284" y="2546"/>
                  <a:pt x="271" y="2567"/>
                  <a:pt x="258" y="2589"/>
                </a:cubicBezTo>
                <a:cubicBezTo>
                  <a:pt x="250" y="2599"/>
                  <a:pt x="244" y="2610"/>
                  <a:pt x="237" y="2621"/>
                </a:cubicBezTo>
                <a:cubicBezTo>
                  <a:pt x="230" y="2631"/>
                  <a:pt x="216" y="2652"/>
                  <a:pt x="216" y="2652"/>
                </a:cubicBezTo>
                <a:cubicBezTo>
                  <a:pt x="200" y="2701"/>
                  <a:pt x="184" y="2748"/>
                  <a:pt x="174" y="2800"/>
                </a:cubicBezTo>
                <a:cubicBezTo>
                  <a:pt x="186" y="2847"/>
                  <a:pt x="194" y="2898"/>
                  <a:pt x="227" y="2937"/>
                </a:cubicBezTo>
                <a:cubicBezTo>
                  <a:pt x="257" y="2974"/>
                  <a:pt x="280" y="2975"/>
                  <a:pt x="300" y="3031"/>
                </a:cubicBezTo>
                <a:cubicBezTo>
                  <a:pt x="327" y="3112"/>
                  <a:pt x="290" y="3012"/>
                  <a:pt x="332" y="3094"/>
                </a:cubicBezTo>
                <a:cubicBezTo>
                  <a:pt x="360" y="3150"/>
                  <a:pt x="375" y="3223"/>
                  <a:pt x="395" y="3284"/>
                </a:cubicBezTo>
                <a:cubicBezTo>
                  <a:pt x="388" y="3410"/>
                  <a:pt x="408" y="3452"/>
                  <a:pt x="353" y="3537"/>
                </a:cubicBezTo>
                <a:cubicBezTo>
                  <a:pt x="331" y="3602"/>
                  <a:pt x="295" y="3668"/>
                  <a:pt x="258" y="3726"/>
                </a:cubicBezTo>
                <a:cubicBezTo>
                  <a:pt x="237" y="3791"/>
                  <a:pt x="224" y="3847"/>
                  <a:pt x="216" y="3916"/>
                </a:cubicBezTo>
                <a:cubicBezTo>
                  <a:pt x="227" y="4001"/>
                  <a:pt x="241" y="4062"/>
                  <a:pt x="279" y="4137"/>
                </a:cubicBezTo>
                <a:cubicBezTo>
                  <a:pt x="296" y="4170"/>
                  <a:pt x="293" y="4193"/>
                  <a:pt x="322" y="4221"/>
                </a:cubicBezTo>
                <a:cubicBezTo>
                  <a:pt x="329" y="4242"/>
                  <a:pt x="335" y="4284"/>
                  <a:pt x="364" y="4284"/>
                </a:cubicBezTo>
              </a:path>
            </a:pathLst>
          </a:custGeom>
          <a:solidFill>
            <a:srgbClr val="ff99cc"/>
          </a:solidFill>
          <a:ln cap="rnd" w="5724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C85E-4E04-434E-A27D-172C257D8F8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MINDER.WAV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hyperlink" Target="file:///tmp/home/.config/libreoffice/4/user/gallery/REMINDER.WAV" TargetMode="External"/><Relationship Id="rId25" Type="http://schemas.openxmlformats.org/officeDocument/2006/relationships/audio" Target="../media/45CALSMG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hyperlink" Target="file:///tmp/home/.config/libreoffice/4/user/gallery/REMINDER.WAV" TargetMode="External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MINDER.WAV" TargetMode="External"/><Relationship Id="rId2" Type="http://schemas.openxmlformats.org/officeDocument/2006/relationships/slide" Target="slide13.xml"/><Relationship Id="rId3" Type="http://schemas.openxmlformats.org/officeDocument/2006/relationships/slide" Target="slide5.xml"/><Relationship Id="rId4" Type="http://schemas.openxmlformats.org/officeDocument/2006/relationships/hyperlink" Target="file:///tmp/home/.config/libreoffice/4/user/gallery/REMINDER.WAV" TargetMode="External"/><Relationship Id="rId5" Type="http://schemas.openxmlformats.org/officeDocument/2006/relationships/audio" Target="../media/SPUTTER2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5.xml"/><Relationship Id="rId3" Type="http://schemas.openxmlformats.org/officeDocument/2006/relationships/hyperlink" Target="file:///tmp/home/.config/libreoffice/4/user/gallery/REMINDER.WAV" TargetMode="External"/><Relationship Id="rId4" Type="http://schemas.openxmlformats.org/officeDocument/2006/relationships/slide" Target="slide5.xml"/><Relationship Id="rId5" Type="http://schemas.openxmlformats.org/officeDocument/2006/relationships/slide" Target="slide12.xml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hyperlink" Target="file:///tmp/home/.config/libreoffice/4/user/gallery/REMINDER.WAV" TargetMode="External"/><Relationship Id="rId5" Type="http://schemas.openxmlformats.org/officeDocument/2006/relationships/slide" Target="slide12.xml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audio" Target="../media/STEAM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EXP2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MINDER.WAV" TargetMode="External"/><Relationship Id="rId2" Type="http://schemas.openxmlformats.org/officeDocument/2006/relationships/audio" Target="../media/SBOINGHI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REMINDER.WAV" TargetMode="External"/><Relationship Id="rId3" Type="http://schemas.openxmlformats.org/officeDocument/2006/relationships/audio" Target="../media/sp048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MINDER.WAV" TargetMode="External"/><Relationship Id="rId2" Type="http://schemas.openxmlformats.org/officeDocument/2006/relationships/audio" Target="../media/SBOINGHI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file:///tmp/home/.config/libreoffice/4/user/gallery/REMINDER.WAV" TargetMode="External"/><Relationship Id="rId4" Type="http://schemas.openxmlformats.org/officeDocument/2006/relationships/hyperlink" Target="file:///tmp/home/.config/libreoffice/4/user/gallery/REMINDER.WAV" TargetMode="External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REMINDER.WAV" TargetMode="External"/><Relationship Id="rId8" Type="http://schemas.openxmlformats.org/officeDocument/2006/relationships/slide" Target="slide8.xml"/><Relationship Id="rId9" Type="http://schemas.openxmlformats.org/officeDocument/2006/relationships/hyperlink" Target="file:///tmp/home/.config/libreoffice/4/user/gallery/REMINDER.WAV" TargetMode="External"/><Relationship Id="rId10" Type="http://schemas.openxmlformats.org/officeDocument/2006/relationships/hyperlink" Target="file:///tmp/home/.config/libreoffice/4/user/gallery/REMINDER.WAV" TargetMode="External"/><Relationship Id="rId11" Type="http://schemas.openxmlformats.org/officeDocument/2006/relationships/hyperlink" Target="file:///tmp/home/.config/libreoffice/4/user/gallery/REMINDER.WAV" TargetMode="External"/><Relationship Id="rId12" Type="http://schemas.openxmlformats.org/officeDocument/2006/relationships/hyperlink" Target="file:///tmp/home/.config/libreoffice/4/user/gallery/REMINDER.WAV" TargetMode="External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hyperlink" Target="file:///tmp/home/.config/libreoffice/4/user/gallery/REMINDER.WAV" TargetMode="External"/><Relationship Id="rId4" Type="http://schemas.openxmlformats.org/officeDocument/2006/relationships/slide" Target="slide5.xml"/><Relationship Id="rId5" Type="http://schemas.openxmlformats.org/officeDocument/2006/relationships/audio" Target="../media/EXP2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" Target="slide5.xml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hyperlink" Target="file:///tmp/home/.config/libreoffice/4/user/gallery/REMINDER.WAV" TargetMode="External"/><Relationship Id="rId4" Type="http://schemas.openxmlformats.org/officeDocument/2006/relationships/audio" Target="../media/WARBSHT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MINDER.WAV" TargetMode="External"/><Relationship Id="rId2" Type="http://schemas.openxmlformats.org/officeDocument/2006/relationships/hyperlink" Target="file:///tmp/home/.config/libreoffice/4/user/gallery/REMINDER.WAV" TargetMode="External"/><Relationship Id="rId3" Type="http://schemas.openxmlformats.org/officeDocument/2006/relationships/hyperlink" Target="file:///tmp/home/.config/libreoffice/4/user/gallery/REMINDER.WAV" TargetMode="External"/><Relationship Id="rId4" Type="http://schemas.openxmlformats.org/officeDocument/2006/relationships/audio" Target="../media/SBOINGHI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99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28600" y="228600"/>
            <a:ext cx="8610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a loi de Dalton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285920" y="2879640"/>
            <a:ext cx="641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Lisa Torchia et Felix J. Cerrato</a:t>
            </a: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46040" y="373284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14880" y="5867280"/>
            <a:ext cx="2666880" cy="457200"/>
            <a:chOff x="3314880" y="5867280"/>
            <a:chExt cx="2666880" cy="457200"/>
          </a:xfrm>
        </p:grpSpPr>
        <p:sp>
          <p:nvSpPr>
            <p:cNvPr id="105" name=""/>
            <p:cNvSpPr/>
            <p:nvPr/>
          </p:nvSpPr>
          <p:spPr>
            <a:xfrm>
              <a:off x="3314880" y="58672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3520" y="59421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34040" y="4633200"/>
            <a:ext cx="603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Myriam D ’Avr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286000" y="762120"/>
            <a:ext cx="57913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587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ni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738800" y="63244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>
            <a:hlinkClick r:id="rId1"/>
          </p:cNvPr>
          <p:cNvSpPr/>
          <p:nvPr/>
        </p:nvSpPr>
        <p:spPr>
          <a:xfrm>
            <a:off x="1752480" y="6172200"/>
            <a:ext cx="2514600" cy="685800"/>
          </a:xfrm>
          <a:custGeom>
            <a:avLst/>
            <a:gdLst>
              <a:gd name="textAreaLeft" fmla="*/ 44280 w 2514600"/>
              <a:gd name="textAreaRight" fmla="*/ 2470320 w 25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971800" y="19051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971800" y="19051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971800" y="19051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2971800" y="19051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2986200" y="1905120"/>
            <a:ext cx="4024080" cy="4024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3048120" y="19051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2971800" y="19051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2971800" y="19051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2971800" y="19051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3"/>
          <a:stretch/>
        </p:blipFill>
        <p:spPr>
          <a:xfrm>
            <a:off x="2895480" y="19051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4"/>
          <a:stretch/>
        </p:blipFill>
        <p:spPr>
          <a:xfrm>
            <a:off x="2895480" y="19051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5"/>
          <a:stretch/>
        </p:blipFill>
        <p:spPr>
          <a:xfrm>
            <a:off x="2895480" y="19051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6"/>
          <a:stretch/>
        </p:blipFill>
        <p:spPr>
          <a:xfrm>
            <a:off x="2895480" y="19051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7"/>
          <a:stretch/>
        </p:blipFill>
        <p:spPr>
          <a:xfrm>
            <a:off x="2895480" y="19051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8"/>
          <a:stretch/>
        </p:blipFill>
        <p:spPr>
          <a:xfrm>
            <a:off x="2895480" y="19051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9"/>
          <a:stretch/>
        </p:blipFill>
        <p:spPr>
          <a:xfrm>
            <a:off x="2895480" y="19051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0"/>
          <a:stretch/>
        </p:blipFill>
        <p:spPr>
          <a:xfrm>
            <a:off x="2895480" y="187956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1"/>
          <a:stretch/>
        </p:blipFill>
        <p:spPr>
          <a:xfrm>
            <a:off x="2895480" y="18288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2"/>
          <a:stretch/>
        </p:blipFill>
        <p:spPr>
          <a:xfrm>
            <a:off x="2895480" y="1828800"/>
            <a:ext cx="4191120" cy="4041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3"/>
          <a:stretch/>
        </p:blipFill>
        <p:spPr>
          <a:xfrm>
            <a:off x="289548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467480" y="60199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  <a:hlinkClick r:id="rId24"/>
          </p:cNvPr>
          <p:cNvSpPr/>
          <p:nvPr/>
        </p:nvSpPr>
        <p:spPr>
          <a:xfrm>
            <a:off x="739152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5" name="45CALSM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362320" y="762120"/>
            <a:ext cx="579096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587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Problè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1631880"/>
            <a:ext cx="3930840" cy="393084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228816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13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4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6952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1996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1752480"/>
            <a:ext cx="335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Gaz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Pression parti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40,0 k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10,0 k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30,0 k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50,0 k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25,0 k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2760" y="48769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Pression   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tot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4520" y="3276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4520" y="3657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452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90512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4572000"/>
            <a:ext cx="3276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92040" y="624852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54200" y="62485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à la loi de Dal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6629400" y="6095880"/>
            <a:ext cx="2514600" cy="762120"/>
          </a:xfrm>
          <a:custGeom>
            <a:avLst/>
            <a:gdLst>
              <a:gd name="textAreaLeft" fmla="*/ 49320 w 2514600"/>
              <a:gd name="textAreaRight" fmla="*/ 2465280 w 2514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1245" h="21600">
                <a:moveTo>
                  <a:pt x="0" y="0"/>
                </a:moveTo>
                <a:lnTo>
                  <a:pt x="71245" y="0"/>
                </a:lnTo>
                <a:lnTo>
                  <a:pt x="71245" y="21600"/>
                </a:lnTo>
                <a:lnTo>
                  <a:pt x="0" y="21600"/>
                </a:lnTo>
                <a:close/>
              </a:path>
              <a:path fill="lightenLess" w="71245" h="21600">
                <a:moveTo>
                  <a:pt x="0" y="0"/>
                </a:moveTo>
                <a:lnTo>
                  <a:pt x="71245" y="0"/>
                </a:lnTo>
                <a:lnTo>
                  <a:pt x="69845" y="1400"/>
                </a:lnTo>
                <a:lnTo>
                  <a:pt x="1400" y="1400"/>
                </a:lnTo>
                <a:close/>
              </a:path>
              <a:path fill="darken" w="71245" h="21600">
                <a:moveTo>
                  <a:pt x="71245" y="0"/>
                </a:moveTo>
                <a:lnTo>
                  <a:pt x="71245" y="21600"/>
                </a:lnTo>
                <a:lnTo>
                  <a:pt x="69845" y="20200"/>
                </a:lnTo>
                <a:lnTo>
                  <a:pt x="69845" y="1400"/>
                </a:lnTo>
                <a:close/>
              </a:path>
              <a:path fill="darkenLess" w="71245" h="21600">
                <a:moveTo>
                  <a:pt x="712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845" y="20200"/>
                </a:lnTo>
                <a:close/>
              </a:path>
              <a:path fill="lighten" w="712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1676520" y="6172200"/>
            <a:ext cx="3504960" cy="685800"/>
          </a:xfrm>
          <a:custGeom>
            <a:avLst/>
            <a:gdLst>
              <a:gd name="textAreaLeft" fmla="*/ 44280 w 3504960"/>
              <a:gd name="textAreaRight" fmla="*/ 3460680 w 3504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46" h="21600">
                <a:moveTo>
                  <a:pt x="0" y="0"/>
                </a:moveTo>
                <a:lnTo>
                  <a:pt x="110346" y="0"/>
                </a:lnTo>
                <a:lnTo>
                  <a:pt x="110346" y="21600"/>
                </a:lnTo>
                <a:lnTo>
                  <a:pt x="0" y="21600"/>
                </a:lnTo>
                <a:close/>
              </a:path>
              <a:path fill="lightenLess" w="110346" h="21600">
                <a:moveTo>
                  <a:pt x="0" y="0"/>
                </a:moveTo>
                <a:lnTo>
                  <a:pt x="110346" y="0"/>
                </a:lnTo>
                <a:lnTo>
                  <a:pt x="108946" y="1400"/>
                </a:lnTo>
                <a:lnTo>
                  <a:pt x="1400" y="1400"/>
                </a:lnTo>
                <a:close/>
              </a:path>
              <a:path fill="darken" w="110346" h="21600">
                <a:moveTo>
                  <a:pt x="110346" y="0"/>
                </a:moveTo>
                <a:lnTo>
                  <a:pt x="110346" y="21600"/>
                </a:lnTo>
                <a:lnTo>
                  <a:pt x="108946" y="20200"/>
                </a:lnTo>
                <a:lnTo>
                  <a:pt x="108946" y="1400"/>
                </a:lnTo>
                <a:close/>
              </a:path>
              <a:path fill="darkenLess" w="110346" h="21600">
                <a:moveTo>
                  <a:pt x="110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46" y="20200"/>
                </a:lnTo>
                <a:close/>
              </a:path>
              <a:path fill="lighten" w="110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4032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15440" y="487692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155 k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rId4"/>
          </p:cNvPr>
          <p:cNvSpPr/>
          <p:nvPr/>
        </p:nvSpPr>
        <p:spPr>
          <a:xfrm>
            <a:off x="1523880" y="6172200"/>
            <a:ext cx="3581640" cy="685800"/>
          </a:xfrm>
          <a:custGeom>
            <a:avLst/>
            <a:gdLst>
              <a:gd name="textAreaLeft" fmla="*/ 44280 w 3581640"/>
              <a:gd name="textAreaRight" fmla="*/ 3537360 w 3581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2760" h="21600">
                <a:moveTo>
                  <a:pt x="0" y="0"/>
                </a:moveTo>
                <a:lnTo>
                  <a:pt x="112760" y="0"/>
                </a:lnTo>
                <a:lnTo>
                  <a:pt x="112760" y="21600"/>
                </a:lnTo>
                <a:lnTo>
                  <a:pt x="0" y="21600"/>
                </a:lnTo>
                <a:close/>
              </a:path>
              <a:path fill="lightenLess" w="112760" h="21600">
                <a:moveTo>
                  <a:pt x="0" y="0"/>
                </a:moveTo>
                <a:lnTo>
                  <a:pt x="112760" y="0"/>
                </a:lnTo>
                <a:lnTo>
                  <a:pt x="111360" y="1400"/>
                </a:lnTo>
                <a:lnTo>
                  <a:pt x="1400" y="1400"/>
                </a:lnTo>
                <a:close/>
              </a:path>
              <a:path fill="darken" w="112760" h="21600">
                <a:moveTo>
                  <a:pt x="112760" y="0"/>
                </a:moveTo>
                <a:lnTo>
                  <a:pt x="112760" y="21600"/>
                </a:lnTo>
                <a:lnTo>
                  <a:pt x="111360" y="20200"/>
                </a:lnTo>
                <a:lnTo>
                  <a:pt x="111360" y="1400"/>
                </a:lnTo>
                <a:close/>
              </a:path>
              <a:path fill="darkenLess" w="112760" h="21600">
                <a:moveTo>
                  <a:pt x="112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60" y="20200"/>
                </a:lnTo>
                <a:close/>
              </a:path>
              <a:path fill="lighten" w="112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5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3880" y="0"/>
            <a:ext cx="7620120" cy="190512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33720" y="4572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nomèt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1892520" y="2376360"/>
            <a:ext cx="620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’est l’instrument que nous utili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généralement pour </a:t>
            </a:r>
            <a:r>
              <a:rPr b="1" lang="fr-FR" sz="2800" spc="-1" strike="noStrike">
                <a:solidFill>
                  <a:srgbClr val="ff00ff"/>
                </a:solidFill>
                <a:latin typeface="Times New Roman"/>
              </a:rPr>
              <a:t>mesurer la 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’un gaz ou d ’un mélange de ga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Il existe deux sortes de manomèt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celui à bout ouv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celui à bout fermé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4648320"/>
            <a:ext cx="304920" cy="3808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5334120"/>
            <a:ext cx="304920" cy="3808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334120"/>
            <a:ext cx="3810240" cy="533160"/>
          </a:xfrm>
          <a:custGeom>
            <a:avLst/>
            <a:gdLst>
              <a:gd name="textAreaLeft" fmla="*/ 34560 w 3810240"/>
              <a:gd name="textAreaRight" fmla="*/ 3775680 w 38102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54275" h="21600">
                <a:moveTo>
                  <a:pt x="0" y="0"/>
                </a:moveTo>
                <a:lnTo>
                  <a:pt x="154275" y="0"/>
                </a:lnTo>
                <a:lnTo>
                  <a:pt x="154275" y="21600"/>
                </a:lnTo>
                <a:lnTo>
                  <a:pt x="0" y="21600"/>
                </a:lnTo>
                <a:close/>
              </a:path>
              <a:path fill="lightenLess" w="154275" h="21600">
                <a:moveTo>
                  <a:pt x="0" y="0"/>
                </a:moveTo>
                <a:lnTo>
                  <a:pt x="154275" y="0"/>
                </a:lnTo>
                <a:lnTo>
                  <a:pt x="152875" y="1400"/>
                </a:lnTo>
                <a:lnTo>
                  <a:pt x="1400" y="1400"/>
                </a:lnTo>
                <a:close/>
              </a:path>
              <a:path fill="darken" w="154275" h="21600">
                <a:moveTo>
                  <a:pt x="154275" y="0"/>
                </a:moveTo>
                <a:lnTo>
                  <a:pt x="154275" y="21600"/>
                </a:lnTo>
                <a:lnTo>
                  <a:pt x="152875" y="20200"/>
                </a:lnTo>
                <a:lnTo>
                  <a:pt x="152875" y="1400"/>
                </a:lnTo>
                <a:close/>
              </a:path>
              <a:path fill="darkenLess" w="154275" h="21600">
                <a:moveTo>
                  <a:pt x="154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875" y="20200"/>
                </a:lnTo>
                <a:close/>
              </a:path>
              <a:path fill="lighten" w="154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2895480" y="4572000"/>
            <a:ext cx="3810240" cy="533520"/>
          </a:xfrm>
          <a:custGeom>
            <a:avLst/>
            <a:gdLst>
              <a:gd name="textAreaLeft" fmla="*/ 34560 w 3810240"/>
              <a:gd name="textAreaRight" fmla="*/ 3775680 w 3810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4171" h="21600">
                <a:moveTo>
                  <a:pt x="0" y="0"/>
                </a:moveTo>
                <a:lnTo>
                  <a:pt x="154171" y="0"/>
                </a:lnTo>
                <a:lnTo>
                  <a:pt x="154171" y="21600"/>
                </a:lnTo>
                <a:lnTo>
                  <a:pt x="0" y="21600"/>
                </a:lnTo>
                <a:close/>
              </a:path>
              <a:path fill="lightenLess" w="154171" h="21600">
                <a:moveTo>
                  <a:pt x="0" y="0"/>
                </a:moveTo>
                <a:lnTo>
                  <a:pt x="154171" y="0"/>
                </a:lnTo>
                <a:lnTo>
                  <a:pt x="152771" y="1400"/>
                </a:lnTo>
                <a:lnTo>
                  <a:pt x="1400" y="1400"/>
                </a:lnTo>
                <a:close/>
              </a:path>
              <a:path fill="darken" w="154171" h="21600">
                <a:moveTo>
                  <a:pt x="154171" y="0"/>
                </a:moveTo>
                <a:lnTo>
                  <a:pt x="154171" y="21600"/>
                </a:lnTo>
                <a:lnTo>
                  <a:pt x="152771" y="20200"/>
                </a:lnTo>
                <a:lnTo>
                  <a:pt x="152771" y="1400"/>
                </a:lnTo>
                <a:close/>
              </a:path>
              <a:path fill="darkenLess" w="154171" h="21600">
                <a:moveTo>
                  <a:pt x="154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771" y="20200"/>
                </a:lnTo>
                <a:close/>
              </a:path>
              <a:path fill="lighten" w="154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80400" y="525780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560" y="5410080"/>
            <a:ext cx="11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Reto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467480" y="5029200"/>
            <a:ext cx="1676520" cy="182880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828800"/>
              <a:gd name="textAreaBottom" fmla="*/ 1720440 h 1828800"/>
            </a:gdLst>
            <a:ahLst/>
            <a:rect l="textAreaLeft" t="textAreaTop" r="textAreaRight" b="textAreaBottom"/>
            <a:pathLst>
              <a:path w="21600" h="23562">
                <a:moveTo>
                  <a:pt x="0" y="0"/>
                </a:moveTo>
                <a:lnTo>
                  <a:pt x="21600" y="0"/>
                </a:lnTo>
                <a:lnTo>
                  <a:pt x="21600" y="23562"/>
                </a:lnTo>
                <a:lnTo>
                  <a:pt x="0" y="23562"/>
                </a:lnTo>
                <a:close/>
              </a:path>
              <a:path fill="lightenLess" w="21600" h="235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2">
                <a:moveTo>
                  <a:pt x="21600" y="0"/>
                </a:moveTo>
                <a:lnTo>
                  <a:pt x="21600" y="23562"/>
                </a:lnTo>
                <a:lnTo>
                  <a:pt x="20200" y="22162"/>
                </a:lnTo>
                <a:lnTo>
                  <a:pt x="20200" y="1400"/>
                </a:lnTo>
                <a:close/>
              </a:path>
              <a:path fill="darkenLess" w="21600" h="23562">
                <a:moveTo>
                  <a:pt x="21600" y="23562"/>
                </a:moveTo>
                <a:lnTo>
                  <a:pt x="0" y="23562"/>
                </a:lnTo>
                <a:lnTo>
                  <a:pt x="1400" y="22162"/>
                </a:lnTo>
                <a:lnTo>
                  <a:pt x="20200" y="22162"/>
                </a:lnTo>
                <a:close/>
              </a:path>
              <a:path fill="lighten" w="21600" h="23562">
                <a:moveTo>
                  <a:pt x="0" y="235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5181480"/>
            <a:ext cx="4648320" cy="1295640"/>
          </a:xfrm>
          <a:custGeom>
            <a:avLst/>
            <a:gdLst>
              <a:gd name="textAreaLeft" fmla="*/ 83880 w 4648320"/>
              <a:gd name="textAreaRight" fmla="*/ 4564440 w 4648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77478" h="21600">
                <a:moveTo>
                  <a:pt x="0" y="0"/>
                </a:moveTo>
                <a:lnTo>
                  <a:pt x="77478" y="0"/>
                </a:lnTo>
                <a:lnTo>
                  <a:pt x="77478" y="21600"/>
                </a:lnTo>
                <a:lnTo>
                  <a:pt x="0" y="21600"/>
                </a:lnTo>
                <a:close/>
              </a:path>
              <a:path fill="lightenLess" w="77478" h="21600">
                <a:moveTo>
                  <a:pt x="0" y="0"/>
                </a:moveTo>
                <a:lnTo>
                  <a:pt x="77478" y="0"/>
                </a:lnTo>
                <a:lnTo>
                  <a:pt x="76078" y="1400"/>
                </a:lnTo>
                <a:lnTo>
                  <a:pt x="1400" y="1400"/>
                </a:lnTo>
                <a:close/>
              </a:path>
              <a:path fill="darken" w="77478" h="21600">
                <a:moveTo>
                  <a:pt x="77478" y="0"/>
                </a:moveTo>
                <a:lnTo>
                  <a:pt x="77478" y="21600"/>
                </a:lnTo>
                <a:lnTo>
                  <a:pt x="76078" y="20200"/>
                </a:lnTo>
                <a:lnTo>
                  <a:pt x="76078" y="1400"/>
                </a:lnTo>
                <a:close/>
              </a:path>
              <a:path fill="darkenLess" w="77478" h="21600">
                <a:moveTo>
                  <a:pt x="77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078" y="20200"/>
                </a:lnTo>
                <a:close/>
              </a:path>
              <a:path fill="lighten" w="77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rId4"/>
          </p:cNvPr>
          <p:cNvSpPr/>
          <p:nvPr/>
        </p:nvSpPr>
        <p:spPr>
          <a:xfrm>
            <a:off x="2438280" y="5181480"/>
            <a:ext cx="4953240" cy="1143000"/>
          </a:xfrm>
          <a:custGeom>
            <a:avLst/>
            <a:gdLst>
              <a:gd name="textAreaLeft" fmla="*/ 73800 w 4953240"/>
              <a:gd name="textAreaRight" fmla="*/ 4879440 w 4953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3582" h="21600">
                <a:moveTo>
                  <a:pt x="0" y="0"/>
                </a:moveTo>
                <a:lnTo>
                  <a:pt x="93582" y="0"/>
                </a:lnTo>
                <a:lnTo>
                  <a:pt x="93582" y="21600"/>
                </a:lnTo>
                <a:lnTo>
                  <a:pt x="0" y="21600"/>
                </a:lnTo>
                <a:close/>
              </a:path>
              <a:path fill="lightenLess" w="93582" h="21600">
                <a:moveTo>
                  <a:pt x="0" y="0"/>
                </a:moveTo>
                <a:lnTo>
                  <a:pt x="93582" y="0"/>
                </a:lnTo>
                <a:lnTo>
                  <a:pt x="92182" y="1400"/>
                </a:lnTo>
                <a:lnTo>
                  <a:pt x="1400" y="1400"/>
                </a:lnTo>
                <a:close/>
              </a:path>
              <a:path fill="darken" w="93582" h="21600">
                <a:moveTo>
                  <a:pt x="93582" y="0"/>
                </a:moveTo>
                <a:lnTo>
                  <a:pt x="93582" y="21600"/>
                </a:lnTo>
                <a:lnTo>
                  <a:pt x="92182" y="20200"/>
                </a:lnTo>
                <a:lnTo>
                  <a:pt x="92182" y="1400"/>
                </a:lnTo>
                <a:close/>
              </a:path>
              <a:path fill="darkenLess" w="93582" h="21600">
                <a:moveTo>
                  <a:pt x="93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82" y="20200"/>
                </a:lnTo>
                <a:close/>
              </a:path>
              <a:path fill="lighten" w="93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  <p:sndAc>
      <p:stSnd>
        <p:snd r:embed="rId5" name="SPUTTER2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76520" y="0"/>
            <a:ext cx="5867280" cy="190512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905120" y="380880"/>
            <a:ext cx="49878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nomèt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à bout ouve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90640" y="2971800"/>
            <a:ext cx="3353040" cy="3038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686480" y="3952800"/>
            <a:ext cx="2590560" cy="0"/>
          </a:xfrm>
          <a:prstGeom prst="line">
            <a:avLst/>
          </a:prstGeom>
          <a:ln w="12600">
            <a:solidFill>
              <a:srgbClr val="cc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24360" y="4791240"/>
            <a:ext cx="3352680" cy="0"/>
          </a:xfrm>
          <a:prstGeom prst="line">
            <a:avLst/>
          </a:prstGeom>
          <a:ln w="12600">
            <a:solidFill>
              <a:srgbClr val="cc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95960" y="4257720"/>
            <a:ext cx="304920" cy="228600"/>
          </a:xfrm>
          <a:prstGeom prst="flowChartExtra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01600" y="414648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99ff"/>
                </a:solidFill>
                <a:latin typeface="Times New Roman"/>
              </a:rPr>
              <a:t>h = 100 mg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0680" y="3038400"/>
            <a:ext cx="914400" cy="457200"/>
          </a:xfrm>
          <a:custGeom>
            <a:avLst/>
            <a:gdLst>
              <a:gd name="textAreaLeft" fmla="*/ 0 w 914400"/>
              <a:gd name="textAreaRight" fmla="*/ 914760 w 91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90640" y="2975040"/>
            <a:ext cx="227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imes New Roman"/>
              </a:rPr>
              <a:t>Pression atmosphér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1600" spc="-1" strike="noStrike">
                <a:solidFill>
                  <a:srgbClr val="000000"/>
                </a:solidFill>
                <a:latin typeface="Times New Roman"/>
              </a:rPr>
              <a:t>=  760 mmH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8920" y="353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ccff"/>
                </a:solidFill>
                <a:latin typeface="Times New Roman"/>
              </a:rPr>
              <a:t>450 mg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4760" y="47912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ccff"/>
                </a:solidFill>
                <a:latin typeface="Times New Roman"/>
              </a:rPr>
              <a:t>350 mg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09960" y="5629320"/>
            <a:ext cx="2590920" cy="3808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72280" y="5273640"/>
            <a:ext cx="27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Pgaz = Patm +      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=  860 mm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5410080"/>
            <a:ext cx="152280" cy="152640"/>
          </a:xfrm>
          <a:prstGeom prst="flowChartExtra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342900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5840" y="3581280"/>
            <a:ext cx="11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Reto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6095880"/>
            <a:ext cx="1676160" cy="762120"/>
          </a:xfrm>
          <a:prstGeom prst="rightArrow">
            <a:avLst>
              <a:gd name="adj1" fmla="val 50000"/>
              <a:gd name="adj2" fmla="val 54983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828800" y="190512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gaz                Pat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191120" y="198108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gt;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/>
          <p:nvPr/>
        </p:nvSpPr>
        <p:spPr>
          <a:xfrm>
            <a:off x="1524600" y="6400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anomè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1600200" y="6400800"/>
            <a:ext cx="2971800" cy="685800"/>
          </a:xfrm>
          <a:custGeom>
            <a:avLst/>
            <a:gdLst>
              <a:gd name="textAreaLeft" fmla="*/ 44280 w 2971800"/>
              <a:gd name="textAreaRight" fmla="*/ 2927520 w 2971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3562" h="21600">
                <a:moveTo>
                  <a:pt x="0" y="0"/>
                </a:moveTo>
                <a:lnTo>
                  <a:pt x="93562" y="0"/>
                </a:lnTo>
                <a:lnTo>
                  <a:pt x="93562" y="21600"/>
                </a:lnTo>
                <a:lnTo>
                  <a:pt x="0" y="21600"/>
                </a:lnTo>
                <a:close/>
              </a:path>
              <a:path fill="lightenLess" w="93562" h="21600">
                <a:moveTo>
                  <a:pt x="0" y="0"/>
                </a:moveTo>
                <a:lnTo>
                  <a:pt x="93562" y="0"/>
                </a:lnTo>
                <a:lnTo>
                  <a:pt x="92162" y="1400"/>
                </a:lnTo>
                <a:lnTo>
                  <a:pt x="1400" y="1400"/>
                </a:lnTo>
                <a:close/>
              </a:path>
              <a:path fill="darken" w="93562" h="21600">
                <a:moveTo>
                  <a:pt x="93562" y="0"/>
                </a:moveTo>
                <a:lnTo>
                  <a:pt x="93562" y="21600"/>
                </a:lnTo>
                <a:lnTo>
                  <a:pt x="92162" y="20200"/>
                </a:lnTo>
                <a:lnTo>
                  <a:pt x="92162" y="1400"/>
                </a:lnTo>
                <a:close/>
              </a:path>
              <a:path fill="darkenLess" w="93562" h="21600">
                <a:moveTo>
                  <a:pt x="93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62" y="20200"/>
                </a:lnTo>
                <a:close/>
              </a:path>
              <a:path fill="lighten" w="93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nextslide"/>
            <a:hlinkClick r:id="rId3"/>
          </p:cNvPr>
          <p:cNvSpPr/>
          <p:nvPr/>
        </p:nvSpPr>
        <p:spPr>
          <a:xfrm>
            <a:off x="7315200" y="61722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>
            <a:hlinkClick r:id="rId4" action="ppaction://hlinksldjump"/>
          </p:cNvPr>
          <p:cNvSpPr/>
          <p:nvPr/>
        </p:nvSpPr>
        <p:spPr>
          <a:xfrm>
            <a:off x="7696080" y="3352680"/>
            <a:ext cx="1447920" cy="175284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752840"/>
              <a:gd name="textAreaBottom" fmla="*/ 1659240 h 1752840"/>
            </a:gdLst>
            <a:ahLst/>
            <a:rect l="textAreaLeft" t="textAreaTop" r="textAreaRight" b="textAreaBottom"/>
            <a:pathLst>
              <a:path w="21600" h="26148">
                <a:moveTo>
                  <a:pt x="0" y="0"/>
                </a:moveTo>
                <a:lnTo>
                  <a:pt x="21600" y="0"/>
                </a:lnTo>
                <a:lnTo>
                  <a:pt x="21600" y="26148"/>
                </a:lnTo>
                <a:lnTo>
                  <a:pt x="0" y="26148"/>
                </a:lnTo>
                <a:close/>
              </a:path>
              <a:path fill="lightenLess" w="21600" h="261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48">
                <a:moveTo>
                  <a:pt x="21600" y="0"/>
                </a:moveTo>
                <a:lnTo>
                  <a:pt x="21600" y="26148"/>
                </a:lnTo>
                <a:lnTo>
                  <a:pt x="20200" y="24748"/>
                </a:lnTo>
                <a:lnTo>
                  <a:pt x="20200" y="1400"/>
                </a:lnTo>
                <a:close/>
              </a:path>
              <a:path fill="darkenLess" w="21600" h="26148">
                <a:moveTo>
                  <a:pt x="21600" y="26148"/>
                </a:moveTo>
                <a:lnTo>
                  <a:pt x="0" y="26148"/>
                </a:lnTo>
                <a:lnTo>
                  <a:pt x="1400" y="24748"/>
                </a:lnTo>
                <a:lnTo>
                  <a:pt x="20200" y="24748"/>
                </a:lnTo>
                <a:close/>
              </a:path>
              <a:path fill="lighten" w="21600" h="26148">
                <a:moveTo>
                  <a:pt x="0" y="261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>
            <a:hlinkClick r:id="rId5" action="ppaction://hlinksldjump"/>
          </p:cNvPr>
          <p:cNvSpPr/>
          <p:nvPr/>
        </p:nvSpPr>
        <p:spPr>
          <a:xfrm>
            <a:off x="1676520" y="6477120"/>
            <a:ext cx="2895480" cy="380880"/>
          </a:xfrm>
          <a:custGeom>
            <a:avLst/>
            <a:gdLst>
              <a:gd name="textAreaLeft" fmla="*/ 24480 w 2895480"/>
              <a:gd name="textAreaRight" fmla="*/ 2871000 w 2895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64070" h="21600">
                <a:moveTo>
                  <a:pt x="0" y="0"/>
                </a:moveTo>
                <a:lnTo>
                  <a:pt x="164070" y="0"/>
                </a:lnTo>
                <a:lnTo>
                  <a:pt x="164070" y="21600"/>
                </a:lnTo>
                <a:lnTo>
                  <a:pt x="0" y="21600"/>
                </a:lnTo>
                <a:close/>
              </a:path>
              <a:path fill="lightenLess" w="164070" h="21600">
                <a:moveTo>
                  <a:pt x="0" y="0"/>
                </a:moveTo>
                <a:lnTo>
                  <a:pt x="164070" y="0"/>
                </a:lnTo>
                <a:lnTo>
                  <a:pt x="162670" y="1400"/>
                </a:lnTo>
                <a:lnTo>
                  <a:pt x="1400" y="1400"/>
                </a:lnTo>
                <a:close/>
              </a:path>
              <a:path fill="darken" w="164070" h="21600">
                <a:moveTo>
                  <a:pt x="164070" y="0"/>
                </a:moveTo>
                <a:lnTo>
                  <a:pt x="164070" y="21600"/>
                </a:lnTo>
                <a:lnTo>
                  <a:pt x="162670" y="20200"/>
                </a:lnTo>
                <a:lnTo>
                  <a:pt x="162670" y="1400"/>
                </a:lnTo>
                <a:close/>
              </a:path>
              <a:path fill="darkenLess" w="164070" h="21600">
                <a:moveTo>
                  <a:pt x="164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670" y="20200"/>
                </a:lnTo>
                <a:close/>
              </a:path>
              <a:path fill="lighten" w="164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 rot="5400000">
            <a:off x="7543800" y="68544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as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6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191440" y="320040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0"/>
            <a:ext cx="6095880" cy="205740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905120" y="457200"/>
            <a:ext cx="5181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nomèt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à bout ouve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 txBox="1"/>
          <p:nvPr/>
        </p:nvSpPr>
        <p:spPr>
          <a:xfrm rot="5400000">
            <a:off x="7563240" y="629280"/>
            <a:ext cx="1598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as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85960" y="2895480"/>
            <a:ext cx="3505320" cy="317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148280" y="2968560"/>
            <a:ext cx="914400" cy="457200"/>
          </a:xfrm>
          <a:custGeom>
            <a:avLst/>
            <a:gdLst>
              <a:gd name="textAreaLeft" fmla="*/ 0 w 914400"/>
              <a:gd name="textAreaRight" fmla="*/ 914760 w 91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09640" y="2895480"/>
            <a:ext cx="227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imes New Roman"/>
              </a:rPr>
              <a:t>Pression atmosphér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1600" spc="-1" strike="noStrike">
                <a:solidFill>
                  <a:srgbClr val="000000"/>
                </a:solidFill>
                <a:latin typeface="Times New Roman"/>
              </a:rPr>
              <a:t>=  760 mmH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57760" y="4800600"/>
            <a:ext cx="2590920" cy="0"/>
          </a:xfrm>
          <a:prstGeom prst="line">
            <a:avLst/>
          </a:prstGeom>
          <a:ln w="12600">
            <a:solidFill>
              <a:srgbClr val="cc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4114800"/>
            <a:ext cx="3353040" cy="0"/>
          </a:xfrm>
          <a:prstGeom prst="line">
            <a:avLst/>
          </a:prstGeom>
          <a:ln w="12600">
            <a:solidFill>
              <a:srgbClr val="cc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67240" y="4302000"/>
            <a:ext cx="304920" cy="228600"/>
          </a:xfrm>
          <a:prstGeom prst="flowChartExtra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72880" y="41911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h = 100 mg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9160" y="37339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ccff"/>
                </a:solidFill>
                <a:latin typeface="Times New Roman"/>
              </a:rPr>
              <a:t>450 mg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30080" y="4800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ccff"/>
                </a:solidFill>
                <a:latin typeface="Times New Roman"/>
              </a:rPr>
              <a:t>350 mg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05280" y="5715000"/>
            <a:ext cx="2590560" cy="380880"/>
          </a:xfrm>
          <a:custGeom>
            <a:avLst/>
            <a:gdLst>
              <a:gd name="textAreaLeft" fmla="*/ 404640 w 2590560"/>
              <a:gd name="textAreaRight" fmla="*/ 2266920 w 25905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480" y="5273640"/>
            <a:ext cx="26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Pgaz = Patm -     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=  660 mm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5410080"/>
            <a:ext cx="152280" cy="152640"/>
          </a:xfrm>
          <a:prstGeom prst="flowChartExtra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94800" y="3352680"/>
            <a:ext cx="124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Retour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7772400" y="3048120"/>
            <a:ext cx="1143000" cy="190476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904760"/>
              <a:gd name="textAreaBottom" fmla="*/ 1830960 h 1904760"/>
            </a:gdLst>
            <a:ahLst/>
            <a:rect l="textAreaLeft" t="textAreaTop" r="textAreaRight" b="textAreaBottom"/>
            <a:pathLst>
              <a:path w="21600" h="35991">
                <a:moveTo>
                  <a:pt x="0" y="0"/>
                </a:moveTo>
                <a:lnTo>
                  <a:pt x="21600" y="0"/>
                </a:lnTo>
                <a:lnTo>
                  <a:pt x="21600" y="35991"/>
                </a:lnTo>
                <a:lnTo>
                  <a:pt x="0" y="35991"/>
                </a:lnTo>
                <a:close/>
              </a:path>
              <a:path fill="lightenLess" w="21600" h="35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1">
                <a:moveTo>
                  <a:pt x="21600" y="0"/>
                </a:moveTo>
                <a:lnTo>
                  <a:pt x="21600" y="35991"/>
                </a:lnTo>
                <a:lnTo>
                  <a:pt x="20200" y="34591"/>
                </a:lnTo>
                <a:lnTo>
                  <a:pt x="20200" y="1400"/>
                </a:lnTo>
                <a:close/>
              </a:path>
              <a:path fill="darkenLess" w="21600" h="35991">
                <a:moveTo>
                  <a:pt x="21600" y="35991"/>
                </a:moveTo>
                <a:lnTo>
                  <a:pt x="0" y="35991"/>
                </a:lnTo>
                <a:lnTo>
                  <a:pt x="1400" y="34591"/>
                </a:lnTo>
                <a:lnTo>
                  <a:pt x="20200" y="34591"/>
                </a:lnTo>
                <a:close/>
              </a:path>
              <a:path fill="lighten" w="21600" h="35991">
                <a:moveTo>
                  <a:pt x="0" y="35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828800" y="18288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gaz                Pat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191120" y="198108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lt;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"/>
          <p:cNvSpPr/>
          <p:nvPr/>
        </p:nvSpPr>
        <p:spPr>
          <a:xfrm>
            <a:off x="1829160" y="6400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anomè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1828800" y="6477120"/>
            <a:ext cx="3048120" cy="38088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72718" h="21600">
                <a:moveTo>
                  <a:pt x="0" y="0"/>
                </a:moveTo>
                <a:lnTo>
                  <a:pt x="172718" y="0"/>
                </a:lnTo>
                <a:lnTo>
                  <a:pt x="172718" y="21600"/>
                </a:lnTo>
                <a:lnTo>
                  <a:pt x="0" y="21600"/>
                </a:lnTo>
                <a:close/>
              </a:path>
              <a:path fill="lightenLess" w="172718" h="21600">
                <a:moveTo>
                  <a:pt x="0" y="0"/>
                </a:moveTo>
                <a:lnTo>
                  <a:pt x="172718" y="0"/>
                </a:lnTo>
                <a:lnTo>
                  <a:pt x="171318" y="1400"/>
                </a:lnTo>
                <a:lnTo>
                  <a:pt x="1400" y="1400"/>
                </a:lnTo>
                <a:close/>
              </a:path>
              <a:path fill="darken" w="172718" h="21600">
                <a:moveTo>
                  <a:pt x="172718" y="0"/>
                </a:moveTo>
                <a:lnTo>
                  <a:pt x="172718" y="21600"/>
                </a:lnTo>
                <a:lnTo>
                  <a:pt x="171318" y="20200"/>
                </a:lnTo>
                <a:lnTo>
                  <a:pt x="171318" y="1400"/>
                </a:lnTo>
                <a:close/>
              </a:path>
              <a:path fill="darkenLess" w="172718" h="21600">
                <a:moveTo>
                  <a:pt x="172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318" y="20200"/>
                </a:lnTo>
                <a:close/>
              </a:path>
              <a:path fill="lighten" w="172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1520" y="6095880"/>
            <a:ext cx="1676160" cy="762120"/>
          </a:xfrm>
          <a:prstGeom prst="rightArrow">
            <a:avLst>
              <a:gd name="adj1" fmla="val 50000"/>
              <a:gd name="adj2" fmla="val 54983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  <a:hlinkClick r:id="rId4"/>
          </p:cNvPr>
          <p:cNvSpPr/>
          <p:nvPr/>
        </p:nvSpPr>
        <p:spPr>
          <a:xfrm>
            <a:off x="7315200" y="61722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rId5" action="ppaction://hlinksldjump"/>
          </p:cNvPr>
          <p:cNvSpPr/>
          <p:nvPr/>
        </p:nvSpPr>
        <p:spPr>
          <a:xfrm>
            <a:off x="1905120" y="6400800"/>
            <a:ext cx="2971800" cy="457200"/>
          </a:xfrm>
          <a:custGeom>
            <a:avLst/>
            <a:gdLst>
              <a:gd name="textAreaLeft" fmla="*/ 29520 w 2971800"/>
              <a:gd name="textAreaRight" fmla="*/ 2942280 w 2971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0307" h="21600">
                <a:moveTo>
                  <a:pt x="0" y="0"/>
                </a:moveTo>
                <a:lnTo>
                  <a:pt x="140307" y="0"/>
                </a:lnTo>
                <a:lnTo>
                  <a:pt x="140307" y="21600"/>
                </a:lnTo>
                <a:lnTo>
                  <a:pt x="0" y="21600"/>
                </a:lnTo>
                <a:close/>
              </a:path>
              <a:path fill="lightenLess" w="140307" h="21600">
                <a:moveTo>
                  <a:pt x="0" y="0"/>
                </a:moveTo>
                <a:lnTo>
                  <a:pt x="140307" y="0"/>
                </a:lnTo>
                <a:lnTo>
                  <a:pt x="138907" y="1400"/>
                </a:lnTo>
                <a:lnTo>
                  <a:pt x="1400" y="1400"/>
                </a:lnTo>
                <a:close/>
              </a:path>
              <a:path fill="darken" w="140307" h="21600">
                <a:moveTo>
                  <a:pt x="140307" y="0"/>
                </a:moveTo>
                <a:lnTo>
                  <a:pt x="140307" y="21600"/>
                </a:lnTo>
                <a:lnTo>
                  <a:pt x="138907" y="20200"/>
                </a:lnTo>
                <a:lnTo>
                  <a:pt x="138907" y="1400"/>
                </a:lnTo>
                <a:close/>
              </a:path>
              <a:path fill="darkenLess" w="140307" h="21600">
                <a:moveTo>
                  <a:pt x="140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07" y="20200"/>
                </a:lnTo>
                <a:close/>
              </a:path>
              <a:path fill="lighten" w="140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DRIVEB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0" y="0"/>
            <a:ext cx="5867280" cy="190512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14600" y="380880"/>
            <a:ext cx="49878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nomèt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à bout ferm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1981080"/>
            <a:ext cx="762120" cy="609840"/>
          </a:xfrm>
          <a:prstGeom prst="flowChartExtract">
            <a:avLst/>
          </a:prstGeom>
          <a:solidFill>
            <a:srgbClr val="3366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819440" y="3048120"/>
            <a:ext cx="3429000" cy="3106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029120" y="4952880"/>
            <a:ext cx="3276720" cy="0"/>
          </a:xfrm>
          <a:prstGeom prst="line">
            <a:avLst/>
          </a:prstGeom>
          <a:ln w="12600">
            <a:solidFill>
              <a:srgbClr val="cc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14920" y="4038480"/>
            <a:ext cx="2438280" cy="0"/>
          </a:xfrm>
          <a:prstGeom prst="line">
            <a:avLst/>
          </a:prstGeom>
          <a:ln w="12600">
            <a:solidFill>
              <a:srgbClr val="cc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81640" y="4226040"/>
            <a:ext cx="304920" cy="228600"/>
          </a:xfrm>
          <a:prstGeom prst="flowChartExtra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88000" y="4114800"/>
            <a:ext cx="276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h = pression du ga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= 100 mg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0000" y="3657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ccff"/>
                </a:solidFill>
                <a:latin typeface="Times New Roman"/>
              </a:rPr>
              <a:t>450 mg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06320" y="4952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ccff"/>
                </a:solidFill>
                <a:latin typeface="Times New Roman"/>
              </a:rPr>
              <a:t>350 mg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525780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94800" y="5486400"/>
            <a:ext cx="124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Retour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0000" y="5638680"/>
            <a:ext cx="1752840" cy="30492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22960" y="5562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Mer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7848720" y="5181480"/>
            <a:ext cx="1295280" cy="16765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676520"/>
              <a:gd name="textAreaBottom" fmla="*/ 1592640 h 1676520"/>
            </a:gdLst>
            <a:ahLst/>
            <a:rect l="textAreaLeft" t="textAreaTop" r="textAreaRight" b="textAreaBottom"/>
            <a:pathLst>
              <a:path w="21600" h="27956">
                <a:moveTo>
                  <a:pt x="0" y="0"/>
                </a:moveTo>
                <a:lnTo>
                  <a:pt x="21600" y="0"/>
                </a:lnTo>
                <a:lnTo>
                  <a:pt x="21600" y="27956"/>
                </a:lnTo>
                <a:lnTo>
                  <a:pt x="0" y="27956"/>
                </a:lnTo>
                <a:close/>
              </a:path>
              <a:path fill="lightenLess" w="21600" h="279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956">
                <a:moveTo>
                  <a:pt x="21600" y="0"/>
                </a:moveTo>
                <a:lnTo>
                  <a:pt x="21600" y="27956"/>
                </a:lnTo>
                <a:lnTo>
                  <a:pt x="20200" y="26556"/>
                </a:lnTo>
                <a:lnTo>
                  <a:pt x="20200" y="1400"/>
                </a:lnTo>
                <a:close/>
              </a:path>
              <a:path fill="darkenLess" w="21600" h="27956">
                <a:moveTo>
                  <a:pt x="21600" y="27956"/>
                </a:moveTo>
                <a:lnTo>
                  <a:pt x="0" y="27956"/>
                </a:lnTo>
                <a:lnTo>
                  <a:pt x="1400" y="26556"/>
                </a:lnTo>
                <a:lnTo>
                  <a:pt x="20200" y="26556"/>
                </a:lnTo>
                <a:close/>
              </a:path>
              <a:path fill="lighten" w="21600" h="27956">
                <a:moveTo>
                  <a:pt x="0" y="279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55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676520" y="1905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gaz =          h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95880" y="2209680"/>
            <a:ext cx="250200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nne de mercur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/>
          <p:nvPr/>
        </p:nvSpPr>
        <p:spPr>
          <a:xfrm>
            <a:off x="1829160" y="6400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anomè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1752480" y="6477120"/>
            <a:ext cx="3276720" cy="380880"/>
          </a:xfrm>
          <a:custGeom>
            <a:avLst/>
            <a:gdLst>
              <a:gd name="textAreaLeft" fmla="*/ 24480 w 3276720"/>
              <a:gd name="textAreaRight" fmla="*/ 3252240 w 3276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85670" h="21600">
                <a:moveTo>
                  <a:pt x="0" y="0"/>
                </a:moveTo>
                <a:lnTo>
                  <a:pt x="185670" y="0"/>
                </a:lnTo>
                <a:lnTo>
                  <a:pt x="185670" y="21600"/>
                </a:lnTo>
                <a:lnTo>
                  <a:pt x="0" y="21600"/>
                </a:lnTo>
                <a:close/>
              </a:path>
              <a:path fill="lightenLess" w="185670" h="21600">
                <a:moveTo>
                  <a:pt x="0" y="0"/>
                </a:moveTo>
                <a:lnTo>
                  <a:pt x="185670" y="0"/>
                </a:lnTo>
                <a:lnTo>
                  <a:pt x="184270" y="1400"/>
                </a:lnTo>
                <a:lnTo>
                  <a:pt x="1400" y="1400"/>
                </a:lnTo>
                <a:close/>
              </a:path>
              <a:path fill="darken" w="185670" h="21600">
                <a:moveTo>
                  <a:pt x="185670" y="0"/>
                </a:moveTo>
                <a:lnTo>
                  <a:pt x="185670" y="21600"/>
                </a:lnTo>
                <a:lnTo>
                  <a:pt x="184270" y="20200"/>
                </a:lnTo>
                <a:lnTo>
                  <a:pt x="184270" y="1400"/>
                </a:lnTo>
                <a:close/>
              </a:path>
              <a:path fill="darkenLess" w="185670" h="21600">
                <a:moveTo>
                  <a:pt x="185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270" y="20200"/>
                </a:lnTo>
                <a:close/>
              </a:path>
              <a:path fill="lighten" w="185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6080" y="32004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v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5520" y="3429000"/>
            <a:ext cx="609480" cy="120600"/>
          </a:xfrm>
          <a:prstGeom prst="leftArrow">
            <a:avLst>
              <a:gd name="adj1" fmla="val 50000"/>
              <a:gd name="adj2" fmla="val 12634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4" name="STEAM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33720" y="0"/>
            <a:ext cx="6476760" cy="236232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895480" y="685800"/>
            <a:ext cx="498816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438280"/>
            <a:ext cx="7696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Avant de vous quitter, nous voudr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souligner une fois de plus que la loi de Dal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permet d’analyser la pression d’un mél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de gaz et que le manomètre est un instr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qui mesure la pression d ’un gaz ou d ’un mélange de gaz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Nous vous laissons donc, espérant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vous avez compris le principe de la loi de Dal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et du fonctionnement du manomèt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6400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Bibliograp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  <p:sndAc>
      <p:stSnd>
        <p:snd r:embed="rId1" name="EXP2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752480" y="1600200"/>
            <a:ext cx="1752840" cy="1676520"/>
          </a:xfrm>
          <a:prstGeom prst="irregularSeal1">
            <a:avLst/>
          </a:prstGeom>
          <a:solidFill>
            <a:srgbClr val="ff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394000" y="2209680"/>
            <a:ext cx="42552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3200400"/>
            <a:ext cx="1752480" cy="1676520"/>
          </a:xfrm>
          <a:prstGeom prst="irregularSeal1">
            <a:avLst/>
          </a:prstGeom>
          <a:solidFill>
            <a:srgbClr val="ff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470320" y="3809880"/>
            <a:ext cx="42516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200988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achand, L., G. Petit , et P. Vanier, 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Chimie 53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 , Montréal, Lidec, 1996, 444 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3429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2- Académie de Nancy-Metz. (Page consultée le 23 avril 2000). </a:t>
            </a:r>
            <a:r>
              <a:rPr b="0" i="1" lang="fr-CA" sz="1800" spc="-1" strike="noStrike">
                <a:solidFill>
                  <a:srgbClr val="ffffff"/>
                </a:solidFill>
                <a:latin typeface="Times New Roman"/>
              </a:rPr>
              <a:t>La loi de Dalton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, [En ligne]. Adresse URL: http://www.ac-nancy-metz.fr/pres-etab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lapicque/Opinfo99/Robert/dalt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-152280"/>
            <a:ext cx="6477120" cy="236196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819520" y="533520"/>
            <a:ext cx="498780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"/>
          <p:cNvSpPr/>
          <p:nvPr/>
        </p:nvSpPr>
        <p:spPr>
          <a:xfrm>
            <a:off x="1949400" y="4876920"/>
            <a:ext cx="1752480" cy="1676160"/>
          </a:xfrm>
          <a:prstGeom prst="irregularSeal1">
            <a:avLst/>
          </a:prstGeom>
          <a:solidFill>
            <a:srgbClr val="ff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90920" y="5486400"/>
            <a:ext cx="42516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5105520"/>
            <a:ext cx="5181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- O’Connor, P. R., J.E. Davis, E.L. Haenish , W.K. MacNab et A.L.McClellan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La chimie: expériences et principes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ntréal, C.E.C. inc., 1974, 464 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92040" y="624852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>
            <a:hlinkClick r:id="rId1"/>
          </p:cNvPr>
          <p:cNvSpPr/>
          <p:nvPr/>
        </p:nvSpPr>
        <p:spPr>
          <a:xfrm>
            <a:off x="6629400" y="6095880"/>
            <a:ext cx="2514600" cy="762120"/>
          </a:xfrm>
          <a:custGeom>
            <a:avLst/>
            <a:gdLst>
              <a:gd name="textAreaLeft" fmla="*/ 49320 w 2514600"/>
              <a:gd name="textAreaRight" fmla="*/ 2465280 w 2514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1245" h="21600">
                <a:moveTo>
                  <a:pt x="0" y="0"/>
                </a:moveTo>
                <a:lnTo>
                  <a:pt x="71245" y="0"/>
                </a:lnTo>
                <a:lnTo>
                  <a:pt x="71245" y="21600"/>
                </a:lnTo>
                <a:lnTo>
                  <a:pt x="0" y="21600"/>
                </a:lnTo>
                <a:close/>
              </a:path>
              <a:path fill="lightenLess" w="71245" h="21600">
                <a:moveTo>
                  <a:pt x="0" y="0"/>
                </a:moveTo>
                <a:lnTo>
                  <a:pt x="71245" y="0"/>
                </a:lnTo>
                <a:lnTo>
                  <a:pt x="69845" y="1400"/>
                </a:lnTo>
                <a:lnTo>
                  <a:pt x="1400" y="1400"/>
                </a:lnTo>
                <a:close/>
              </a:path>
              <a:path fill="darken" w="71245" h="21600">
                <a:moveTo>
                  <a:pt x="71245" y="0"/>
                </a:moveTo>
                <a:lnTo>
                  <a:pt x="71245" y="21600"/>
                </a:lnTo>
                <a:lnTo>
                  <a:pt x="69845" y="20200"/>
                </a:lnTo>
                <a:lnTo>
                  <a:pt x="69845" y="1400"/>
                </a:lnTo>
                <a:close/>
              </a:path>
              <a:path fill="darkenLess" w="71245" h="21600">
                <a:moveTo>
                  <a:pt x="712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845" y="20200"/>
                </a:lnTo>
                <a:close/>
              </a:path>
              <a:path fill="lighten" w="712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2" name="SBOINGHI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3384720" cy="4114800"/>
          </a:xfrm>
          <a:prstGeom prst="rect">
            <a:avLst/>
          </a:prstGeom>
          <a:ln w="38160">
            <a:solidFill>
              <a:srgbClr val="ff99ff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>
            <a:off x="1752480" y="60948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élix J. Cerrato et Lisa Torchi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>
            <a:hlinkClick r:id="" action="ppaction://hlinkshowjump?jump=nextslide"/>
            <a:hlinkClick r:id="rId2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split dir="out" orient="horz"/>
    <p:sndAc>
      <p:stSnd>
        <p:snd r:embed="rId3" name="sp048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2324160" y="285732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vant de commencer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43200" y="22860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avoir que: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1219320"/>
            <a:ext cx="556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pitals"/>
              </a:rPr>
              <a:t>Tous les élé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apitals"/>
              </a:rPr>
              <a:t>(mots, flèches ou bout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pitals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pitals"/>
              </a:rPr>
              <a:t>en </a:t>
            </a:r>
            <a:r>
              <a:rPr b="1" lang="fr-FR" sz="4000" spc="-1" strike="noStrike">
                <a:solidFill>
                  <a:srgbClr val="ffff00"/>
                </a:solidFill>
                <a:latin typeface="Capitals"/>
              </a:rPr>
              <a:t>JAU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pitals"/>
              </a:rPr>
              <a:t>peuvent êt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apitals"/>
              </a:rPr>
              <a:t>sélectionné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10080" y="5867280"/>
            <a:ext cx="34164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e317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Wide Latin"/>
              </a:rPr>
              <a:t>Allons-y!</a:t>
            </a:r>
            <a:endParaRPr b="0" lang="en-US" sz="2400" spc="1" strike="noStrike">
              <a:ln w="0">
                <a:noFill/>
              </a:ln>
              <a:solidFill>
                <a:srgbClr val="ffe317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Wide Latin"/>
              <a:ea typeface="Wide Latin"/>
            </a:endParaRPr>
          </a:p>
        </p:txBody>
      </p:sp>
      <p:sp>
        <p:nvSpPr>
          <p:cNvPr id="11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86400" y="5638680"/>
            <a:ext cx="3657600" cy="1219320"/>
          </a:xfrm>
          <a:custGeom>
            <a:avLst/>
            <a:gdLst>
              <a:gd name="textAreaLeft" fmla="*/ 78840 w 3657600"/>
              <a:gd name="textAreaRight" fmla="*/ 3578760 w 36576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64781" h="21600">
                <a:moveTo>
                  <a:pt x="0" y="0"/>
                </a:moveTo>
                <a:lnTo>
                  <a:pt x="64781" y="0"/>
                </a:lnTo>
                <a:lnTo>
                  <a:pt x="64781" y="21600"/>
                </a:lnTo>
                <a:lnTo>
                  <a:pt x="0" y="21600"/>
                </a:lnTo>
                <a:close/>
              </a:path>
              <a:path fill="lightenLess" w="64781" h="21600">
                <a:moveTo>
                  <a:pt x="0" y="0"/>
                </a:moveTo>
                <a:lnTo>
                  <a:pt x="64781" y="0"/>
                </a:lnTo>
                <a:lnTo>
                  <a:pt x="63381" y="1400"/>
                </a:lnTo>
                <a:lnTo>
                  <a:pt x="1400" y="1400"/>
                </a:lnTo>
                <a:close/>
              </a:path>
              <a:path fill="darken" w="64781" h="21600">
                <a:moveTo>
                  <a:pt x="64781" y="0"/>
                </a:moveTo>
                <a:lnTo>
                  <a:pt x="64781" y="21600"/>
                </a:lnTo>
                <a:lnTo>
                  <a:pt x="63381" y="20200"/>
                </a:lnTo>
                <a:lnTo>
                  <a:pt x="63381" y="1400"/>
                </a:lnTo>
                <a:close/>
              </a:path>
              <a:path fill="darkenLess" w="64781" h="21600">
                <a:moveTo>
                  <a:pt x="64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1" y="20200"/>
                </a:lnTo>
                <a:close/>
              </a:path>
              <a:path fill="lighten" w="64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SBOINGHI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60600">
            <a:off x="1981080" y="0"/>
            <a:ext cx="6019920" cy="144792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1371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6640" y="188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371600"/>
            <a:ext cx="7483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ans la chimie, une des matières les p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assionnantes à étudier est sûrement cel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ncernant les gaz. Nous avons donc choi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 ’expliquer dans ce projet la « Loi de Dalton » et le fonctionnement du manomètre. Pour en apprendre da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ur ce sujet, suivez-nous!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124080" y="5072040"/>
          <a:ext cx="201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5072040"/>
                    <a:ext cx="201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>
            <a:hlinkClick r:id="" action="ppaction://hlinkshowjump?jump=nextslide"/>
            <a:hlinkClick r:id="rId3"/>
          </p:cNvPr>
          <p:cNvSpPr/>
          <p:nvPr/>
        </p:nvSpPr>
        <p:spPr>
          <a:xfrm>
            <a:off x="4572000" y="4952880"/>
            <a:ext cx="4191120" cy="1143000"/>
          </a:xfrm>
          <a:prstGeom prst="wedgeEllipseCallout">
            <a:avLst>
              <a:gd name="adj1" fmla="val -48069"/>
              <a:gd name="adj2" fmla="val 38055"/>
            </a:avLst>
          </a:prstGeom>
          <a:solidFill>
            <a:srgbClr val="ff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81480" y="52578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mençons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8120" y="190440"/>
            <a:ext cx="4038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troduc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>
            <a:hlinkClick r:id="" action="ppaction://hlinkshowjump?jump=nextslide"/>
            <a:hlinkClick r:id="rId4"/>
          </p:cNvPr>
          <p:cNvSpPr/>
          <p:nvPr/>
        </p:nvSpPr>
        <p:spPr>
          <a:xfrm>
            <a:off x="4724280" y="4876920"/>
            <a:ext cx="4114800" cy="1295280"/>
          </a:xfrm>
          <a:custGeom>
            <a:avLst/>
            <a:gdLst>
              <a:gd name="textAreaLeft" fmla="*/ 83880 w 4114800"/>
              <a:gd name="textAreaRight" fmla="*/ 4030920 w 4114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68605" h="21600">
                <a:moveTo>
                  <a:pt x="0" y="0"/>
                </a:moveTo>
                <a:lnTo>
                  <a:pt x="68605" y="0"/>
                </a:lnTo>
                <a:lnTo>
                  <a:pt x="68605" y="21600"/>
                </a:lnTo>
                <a:lnTo>
                  <a:pt x="0" y="21600"/>
                </a:lnTo>
                <a:close/>
              </a:path>
              <a:path fill="lightenLess" w="68605" h="21600">
                <a:moveTo>
                  <a:pt x="0" y="0"/>
                </a:moveTo>
                <a:lnTo>
                  <a:pt x="68605" y="0"/>
                </a:lnTo>
                <a:lnTo>
                  <a:pt x="67205" y="1400"/>
                </a:lnTo>
                <a:lnTo>
                  <a:pt x="1400" y="1400"/>
                </a:lnTo>
                <a:close/>
              </a:path>
              <a:path fill="darken" w="68605" h="21600">
                <a:moveTo>
                  <a:pt x="68605" y="0"/>
                </a:moveTo>
                <a:lnTo>
                  <a:pt x="68605" y="21600"/>
                </a:lnTo>
                <a:lnTo>
                  <a:pt x="67205" y="20200"/>
                </a:lnTo>
                <a:lnTo>
                  <a:pt x="67205" y="1400"/>
                </a:lnTo>
                <a:close/>
              </a:path>
              <a:path fill="darkenLess" w="68605" h="21600">
                <a:moveTo>
                  <a:pt x="68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205" y="20200"/>
                </a:lnTo>
                <a:close/>
              </a:path>
              <a:path fill="lighten" w="68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5" name="DRIVEB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0"/>
            <a:ext cx="6019920" cy="190512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743200" y="457200"/>
            <a:ext cx="4038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enu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09680"/>
            <a:ext cx="609840" cy="6858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733920"/>
            <a:ext cx="609840" cy="6858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5029200"/>
            <a:ext cx="609840" cy="6858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24080" y="21337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iographie de Dalt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00400" y="36576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oi de Dalt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00400" y="495288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nomè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>
            <a:hlinkClick r:id="" action="ppaction://hlinkshowjump?jump=nextslide"/>
            <a:hlinkClick r:id="rId7"/>
          </p:cNvPr>
          <p:cNvSpPr/>
          <p:nvPr/>
        </p:nvSpPr>
        <p:spPr>
          <a:xfrm>
            <a:off x="2057400" y="2209680"/>
            <a:ext cx="6400800" cy="762120"/>
          </a:xfrm>
          <a:custGeom>
            <a:avLst/>
            <a:gdLst>
              <a:gd name="textAreaLeft" fmla="*/ 49320 w 6400800"/>
              <a:gd name="textAreaRight" fmla="*/ 6351480 w 6400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1336" h="21600">
                <a:moveTo>
                  <a:pt x="0" y="0"/>
                </a:moveTo>
                <a:lnTo>
                  <a:pt x="181336" y="0"/>
                </a:lnTo>
                <a:lnTo>
                  <a:pt x="181336" y="21600"/>
                </a:lnTo>
                <a:lnTo>
                  <a:pt x="0" y="21600"/>
                </a:lnTo>
                <a:close/>
              </a:path>
              <a:path fill="lightenLess" w="181336" h="21600">
                <a:moveTo>
                  <a:pt x="0" y="0"/>
                </a:moveTo>
                <a:lnTo>
                  <a:pt x="181336" y="0"/>
                </a:lnTo>
                <a:lnTo>
                  <a:pt x="179936" y="1400"/>
                </a:lnTo>
                <a:lnTo>
                  <a:pt x="1400" y="1400"/>
                </a:lnTo>
                <a:close/>
              </a:path>
              <a:path fill="darken" w="181336" h="21600">
                <a:moveTo>
                  <a:pt x="181336" y="0"/>
                </a:moveTo>
                <a:lnTo>
                  <a:pt x="181336" y="21600"/>
                </a:lnTo>
                <a:lnTo>
                  <a:pt x="179936" y="20200"/>
                </a:lnTo>
                <a:lnTo>
                  <a:pt x="179936" y="1400"/>
                </a:lnTo>
                <a:close/>
              </a:path>
              <a:path fill="darkenLess" w="181336" h="21600">
                <a:moveTo>
                  <a:pt x="181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936" y="20200"/>
                </a:lnTo>
                <a:close/>
              </a:path>
              <a:path fill="lighten" w="181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rId8" action="ppaction://hlinksldjump"/>
          </p:cNvPr>
          <p:cNvSpPr/>
          <p:nvPr/>
        </p:nvSpPr>
        <p:spPr>
          <a:xfrm>
            <a:off x="1676520" y="3429000"/>
            <a:ext cx="6400800" cy="1371600"/>
          </a:xfrm>
          <a:custGeom>
            <a:avLst/>
            <a:gdLst>
              <a:gd name="textAreaLeft" fmla="*/ 342720 w 6400800"/>
              <a:gd name="textAreaRight" fmla="*/ 6058080 w 640080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100779" h="21600">
                <a:moveTo>
                  <a:pt x="0" y="0"/>
                </a:moveTo>
                <a:lnTo>
                  <a:pt x="100779" y="0"/>
                </a:lnTo>
                <a:lnTo>
                  <a:pt x="100779" y="21600"/>
                </a:lnTo>
                <a:lnTo>
                  <a:pt x="0" y="21600"/>
                </a:lnTo>
                <a:close/>
              </a:path>
              <a:path fill="lightenLess" w="100779" h="21600">
                <a:moveTo>
                  <a:pt x="0" y="0"/>
                </a:moveTo>
                <a:lnTo>
                  <a:pt x="100779" y="0"/>
                </a:lnTo>
                <a:lnTo>
                  <a:pt x="95379" y="5400"/>
                </a:lnTo>
                <a:lnTo>
                  <a:pt x="5400" y="5400"/>
                </a:lnTo>
                <a:close/>
              </a:path>
              <a:path fill="darken" w="100779" h="21600">
                <a:moveTo>
                  <a:pt x="100779" y="0"/>
                </a:moveTo>
                <a:lnTo>
                  <a:pt x="100779" y="21600"/>
                </a:lnTo>
                <a:lnTo>
                  <a:pt x="95379" y="16200"/>
                </a:lnTo>
                <a:lnTo>
                  <a:pt x="95379" y="5400"/>
                </a:lnTo>
                <a:close/>
              </a:path>
              <a:path fill="darkenLess" w="100779" h="21600">
                <a:moveTo>
                  <a:pt x="10077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5379" y="16200"/>
                </a:lnTo>
                <a:close/>
              </a:path>
              <a:path fill="lighten" w="10077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9"/>
          </p:cNvPr>
          <p:cNvSpPr/>
          <p:nvPr/>
        </p:nvSpPr>
        <p:spPr>
          <a:xfrm>
            <a:off x="1981080" y="4952880"/>
            <a:ext cx="4724640" cy="838440"/>
          </a:xfrm>
          <a:custGeom>
            <a:avLst/>
            <a:gdLst>
              <a:gd name="textAreaLeft" fmla="*/ 54360 w 4724640"/>
              <a:gd name="textAreaRight" fmla="*/ 4670280 w 4724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21674" h="21600">
                <a:moveTo>
                  <a:pt x="0" y="0"/>
                </a:moveTo>
                <a:lnTo>
                  <a:pt x="121674" y="0"/>
                </a:lnTo>
                <a:lnTo>
                  <a:pt x="121674" y="21600"/>
                </a:lnTo>
                <a:lnTo>
                  <a:pt x="0" y="21600"/>
                </a:lnTo>
                <a:close/>
              </a:path>
              <a:path fill="lightenLess" w="121674" h="21600">
                <a:moveTo>
                  <a:pt x="0" y="0"/>
                </a:moveTo>
                <a:lnTo>
                  <a:pt x="121674" y="0"/>
                </a:lnTo>
                <a:lnTo>
                  <a:pt x="120274" y="1400"/>
                </a:lnTo>
                <a:lnTo>
                  <a:pt x="1400" y="1400"/>
                </a:lnTo>
                <a:close/>
              </a:path>
              <a:path fill="darken" w="121674" h="21600">
                <a:moveTo>
                  <a:pt x="121674" y="0"/>
                </a:moveTo>
                <a:lnTo>
                  <a:pt x="121674" y="21600"/>
                </a:lnTo>
                <a:lnTo>
                  <a:pt x="120274" y="20200"/>
                </a:lnTo>
                <a:lnTo>
                  <a:pt x="120274" y="1400"/>
                </a:lnTo>
                <a:close/>
              </a:path>
              <a:path fill="darkenLess" w="121674" h="21600">
                <a:moveTo>
                  <a:pt x="1216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274" y="20200"/>
                </a:lnTo>
                <a:close/>
              </a:path>
              <a:path fill="lighten" w="1216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10"/>
          </p:cNvPr>
          <p:cNvSpPr/>
          <p:nvPr/>
        </p:nvSpPr>
        <p:spPr>
          <a:xfrm>
            <a:off x="2133720" y="5105520"/>
            <a:ext cx="4724280" cy="838080"/>
          </a:xfrm>
          <a:custGeom>
            <a:avLst/>
            <a:gdLst>
              <a:gd name="textAreaLeft" fmla="*/ 54000 w 4724280"/>
              <a:gd name="textAreaRight" fmla="*/ 4670280 w 4724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21717" h="21600">
                <a:moveTo>
                  <a:pt x="0" y="0"/>
                </a:moveTo>
                <a:lnTo>
                  <a:pt x="121717" y="0"/>
                </a:lnTo>
                <a:lnTo>
                  <a:pt x="121717" y="21600"/>
                </a:lnTo>
                <a:lnTo>
                  <a:pt x="0" y="21600"/>
                </a:lnTo>
                <a:close/>
              </a:path>
              <a:path fill="lightenLess" w="121717" h="21600">
                <a:moveTo>
                  <a:pt x="0" y="0"/>
                </a:moveTo>
                <a:lnTo>
                  <a:pt x="121717" y="0"/>
                </a:lnTo>
                <a:lnTo>
                  <a:pt x="120317" y="1400"/>
                </a:lnTo>
                <a:lnTo>
                  <a:pt x="1400" y="1400"/>
                </a:lnTo>
                <a:close/>
              </a:path>
              <a:path fill="darken" w="121717" h="21600">
                <a:moveTo>
                  <a:pt x="121717" y="0"/>
                </a:moveTo>
                <a:lnTo>
                  <a:pt x="121717" y="21600"/>
                </a:lnTo>
                <a:lnTo>
                  <a:pt x="120317" y="20200"/>
                </a:lnTo>
                <a:lnTo>
                  <a:pt x="120317" y="1400"/>
                </a:lnTo>
                <a:close/>
              </a:path>
              <a:path fill="darkenLess" w="121717" h="21600">
                <a:moveTo>
                  <a:pt x="121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317" y="20200"/>
                </a:lnTo>
                <a:close/>
              </a:path>
              <a:path fill="lighten" w="121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rId11"/>
          </p:cNvPr>
          <p:cNvSpPr/>
          <p:nvPr/>
        </p:nvSpPr>
        <p:spPr>
          <a:xfrm>
            <a:off x="2286000" y="5257800"/>
            <a:ext cx="4724280" cy="838080"/>
          </a:xfrm>
          <a:custGeom>
            <a:avLst/>
            <a:gdLst>
              <a:gd name="textAreaLeft" fmla="*/ 54000 w 4724280"/>
              <a:gd name="textAreaRight" fmla="*/ 4670280 w 4724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21717" h="21600">
                <a:moveTo>
                  <a:pt x="0" y="0"/>
                </a:moveTo>
                <a:lnTo>
                  <a:pt x="121717" y="0"/>
                </a:lnTo>
                <a:lnTo>
                  <a:pt x="121717" y="21600"/>
                </a:lnTo>
                <a:lnTo>
                  <a:pt x="0" y="21600"/>
                </a:lnTo>
                <a:close/>
              </a:path>
              <a:path fill="lightenLess" w="121717" h="21600">
                <a:moveTo>
                  <a:pt x="0" y="0"/>
                </a:moveTo>
                <a:lnTo>
                  <a:pt x="121717" y="0"/>
                </a:lnTo>
                <a:lnTo>
                  <a:pt x="120317" y="1400"/>
                </a:lnTo>
                <a:lnTo>
                  <a:pt x="1400" y="1400"/>
                </a:lnTo>
                <a:close/>
              </a:path>
              <a:path fill="darken" w="121717" h="21600">
                <a:moveTo>
                  <a:pt x="121717" y="0"/>
                </a:moveTo>
                <a:lnTo>
                  <a:pt x="121717" y="21600"/>
                </a:lnTo>
                <a:lnTo>
                  <a:pt x="120317" y="20200"/>
                </a:lnTo>
                <a:lnTo>
                  <a:pt x="120317" y="1400"/>
                </a:lnTo>
                <a:close/>
              </a:path>
              <a:path fill="darkenLess" w="121717" h="21600">
                <a:moveTo>
                  <a:pt x="121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317" y="20200"/>
                </a:lnTo>
                <a:close/>
              </a:path>
              <a:path fill="lighten" w="121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2"/>
          </p:cNvPr>
          <p:cNvSpPr/>
          <p:nvPr/>
        </p:nvSpPr>
        <p:spPr>
          <a:xfrm>
            <a:off x="2438280" y="5410080"/>
            <a:ext cx="4724640" cy="838440"/>
          </a:xfrm>
          <a:custGeom>
            <a:avLst/>
            <a:gdLst>
              <a:gd name="textAreaLeft" fmla="*/ 54360 w 4724640"/>
              <a:gd name="textAreaRight" fmla="*/ 4670280 w 4724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21674" h="21600">
                <a:moveTo>
                  <a:pt x="0" y="0"/>
                </a:moveTo>
                <a:lnTo>
                  <a:pt x="121674" y="0"/>
                </a:lnTo>
                <a:lnTo>
                  <a:pt x="121674" y="21600"/>
                </a:lnTo>
                <a:lnTo>
                  <a:pt x="0" y="21600"/>
                </a:lnTo>
                <a:close/>
              </a:path>
              <a:path fill="lightenLess" w="121674" h="21600">
                <a:moveTo>
                  <a:pt x="0" y="0"/>
                </a:moveTo>
                <a:lnTo>
                  <a:pt x="121674" y="0"/>
                </a:lnTo>
                <a:lnTo>
                  <a:pt x="120274" y="1400"/>
                </a:lnTo>
                <a:lnTo>
                  <a:pt x="1400" y="1400"/>
                </a:lnTo>
                <a:close/>
              </a:path>
              <a:path fill="darken" w="121674" h="21600">
                <a:moveTo>
                  <a:pt x="121674" y="0"/>
                </a:moveTo>
                <a:lnTo>
                  <a:pt x="121674" y="21600"/>
                </a:lnTo>
                <a:lnTo>
                  <a:pt x="120274" y="20200"/>
                </a:lnTo>
                <a:lnTo>
                  <a:pt x="120274" y="1400"/>
                </a:lnTo>
                <a:close/>
              </a:path>
              <a:path fill="darkenLess" w="121674" h="21600">
                <a:moveTo>
                  <a:pt x="1216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274" y="20200"/>
                </a:lnTo>
                <a:close/>
              </a:path>
              <a:path fill="lighten" w="1216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1200" y="6248520"/>
            <a:ext cx="1637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0"/>
            <a:ext cx="7620120" cy="182880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81080" y="38088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ographie de Dalt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867280"/>
            <a:ext cx="1447920" cy="762120"/>
          </a:xfrm>
          <a:prstGeom prst="rightArrow">
            <a:avLst>
              <a:gd name="adj1" fmla="val 50000"/>
              <a:gd name="adj2" fmla="val 47496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59800" y="1905120"/>
            <a:ext cx="652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é à Eaglesfield à Cumberlan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 Angleterre, 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le 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Septembre 1766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John Dalto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édia sa vie à la sci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livre le plus déterminan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 sa carrière paru en 1808, s’intitula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«  </a:t>
            </a:r>
            <a:r>
              <a:rPr b="0" i="1" lang="fr-FR" sz="2400" spc="-1" strike="noStrike">
                <a:solidFill>
                  <a:srgbClr val="ff00ff"/>
                </a:solidFill>
                <a:latin typeface="Times New Roman"/>
              </a:rPr>
              <a:t>A New System of Chemical Phylosophy, Part 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29000" y="5257800"/>
            <a:ext cx="365760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72400" y="518148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5240" y="5257800"/>
            <a:ext cx="11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Reto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  <a:hlinkClick r:id="rId3"/>
          </p:cNvPr>
          <p:cNvSpPr/>
          <p:nvPr/>
        </p:nvSpPr>
        <p:spPr>
          <a:xfrm>
            <a:off x="1600200" y="57913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7543800" y="5105520"/>
            <a:ext cx="1143000" cy="175248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752480"/>
              <a:gd name="textAreaBottom" fmla="*/ 1678680 h 1752480"/>
            </a:gdLst>
            <a:ahLst/>
            <a:rect l="textAreaLeft" t="textAreaTop" r="textAreaRight" b="textAreaBottom"/>
            <a:pathLst>
              <a:path w="21600" h="33114">
                <a:moveTo>
                  <a:pt x="0" y="0"/>
                </a:moveTo>
                <a:lnTo>
                  <a:pt x="21600" y="0"/>
                </a:lnTo>
                <a:lnTo>
                  <a:pt x="21600" y="33114"/>
                </a:lnTo>
                <a:lnTo>
                  <a:pt x="0" y="33114"/>
                </a:lnTo>
                <a:close/>
              </a:path>
              <a:path fill="lightenLess" w="21600" h="331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114">
                <a:moveTo>
                  <a:pt x="21600" y="0"/>
                </a:moveTo>
                <a:lnTo>
                  <a:pt x="21600" y="33114"/>
                </a:lnTo>
                <a:lnTo>
                  <a:pt x="20200" y="31714"/>
                </a:lnTo>
                <a:lnTo>
                  <a:pt x="20200" y="1400"/>
                </a:lnTo>
                <a:close/>
              </a:path>
              <a:path fill="darkenLess" w="21600" h="33114">
                <a:moveTo>
                  <a:pt x="21600" y="33114"/>
                </a:moveTo>
                <a:lnTo>
                  <a:pt x="0" y="33114"/>
                </a:lnTo>
                <a:lnTo>
                  <a:pt x="1400" y="31714"/>
                </a:lnTo>
                <a:lnTo>
                  <a:pt x="20200" y="31714"/>
                </a:lnTo>
                <a:close/>
              </a:path>
              <a:path fill="lighten" w="21600" h="33114">
                <a:moveTo>
                  <a:pt x="0" y="3311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7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5" name="EXP2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3880" y="0"/>
            <a:ext cx="7620120" cy="182880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81080" y="38088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ographie de Dalt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54720" y="2057400"/>
            <a:ext cx="3384360" cy="4114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523880" y="2019240"/>
            <a:ext cx="383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es nombreuses observ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7880" y="64008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057400" y="2552760"/>
            <a:ext cx="1128600" cy="500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443400" y="2552760"/>
            <a:ext cx="1128600" cy="500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97320" y="3191040"/>
            <a:ext cx="3649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ors d ’expériences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boratoire lui ont perm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 nous révéler des 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théo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chimiques révolutionnair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ont une des plus connu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st «  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La loi de Dalto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 s ’applique 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onct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manomèt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53080" y="6248520"/>
            <a:ext cx="2590920" cy="609480"/>
          </a:xfrm>
          <a:custGeom>
            <a:avLst/>
            <a:gdLst>
              <a:gd name="textAreaLeft" fmla="*/ 39240 w 2590920"/>
              <a:gd name="textAreaRight" fmla="*/ 2551680 w 2590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  <p:sndAc>
      <p:stSnd>
        <p:snd r:embed="rId5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438280" y="-76320"/>
            <a:ext cx="6019920" cy="182880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95480" y="45720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oi de Dalt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2995560" cy="3352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33920" y="1905120"/>
            <a:ext cx="4724280" cy="2057400"/>
          </a:xfrm>
          <a:prstGeom prst="wedgeRoundRectCallout">
            <a:avLst>
              <a:gd name="adj1" fmla="val -40726"/>
              <a:gd name="adj2" fmla="val 81865"/>
              <a:gd name="adj3" fmla="val 16667"/>
            </a:avLst>
          </a:prstGeom>
          <a:solidFill>
            <a:srgbClr val="000044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69640" y="2181240"/>
            <a:ext cx="46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pression totale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d ’un mélan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gazeux est 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égale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à la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 somme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pressions partielle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de chacun 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gaz constituant le mélan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419112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1260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267080"/>
            <a:ext cx="3886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i="1" lang="fr-FR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1" i="1" lang="fr-FR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i="1" lang="fr-FR" sz="2800" spc="-1" strike="noStrike">
                <a:solidFill>
                  <a:srgbClr val="000066"/>
                </a:solidFill>
                <a:latin typeface="Times New Roman"/>
              </a:rPr>
              <a:t> = P</a:t>
            </a:r>
            <a:r>
              <a:rPr b="1" i="1" lang="fr-FR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i="1" lang="fr-FR" sz="2800" spc="-1" strike="noStrike">
                <a:solidFill>
                  <a:srgbClr val="000066"/>
                </a:solidFill>
                <a:latin typeface="Times New Roman"/>
              </a:rPr>
              <a:t> + P</a:t>
            </a:r>
            <a:r>
              <a:rPr b="1" i="1" lang="fr-FR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i="1" lang="fr-FR" sz="2800" spc="-1" strike="noStrike">
                <a:solidFill>
                  <a:srgbClr val="000066"/>
                </a:solidFill>
                <a:latin typeface="Times New Roman"/>
              </a:rPr>
              <a:t>+P</a:t>
            </a:r>
            <a:r>
              <a:rPr b="1" i="1" lang="fr-FR" sz="20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fr-FR" sz="2800" spc="-1" strike="noStrike">
                <a:solidFill>
                  <a:srgbClr val="000066"/>
                </a:solidFill>
                <a:latin typeface="Times New Roman"/>
              </a:rPr>
              <a:t>+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128080" y="4724280"/>
            <a:ext cx="973080" cy="1274760"/>
            <a:chOff x="8128080" y="4724280"/>
            <a:chExt cx="973080" cy="1274760"/>
          </a:xfrm>
        </p:grpSpPr>
        <p:sp>
          <p:nvSpPr>
            <p:cNvPr id="169" name=""/>
            <p:cNvSpPr/>
            <p:nvPr/>
          </p:nvSpPr>
          <p:spPr>
            <a:xfrm>
              <a:off x="8381880" y="4724280"/>
              <a:ext cx="719280" cy="947880"/>
            </a:xfrm>
            <a:custGeom>
              <a:avLst/>
              <a:gdLst/>
              <a:ahLst/>
              <a:rect l="l" t="t" r="r" b="b"/>
              <a:pathLst>
                <a:path w="907" h="1193">
                  <a:moveTo>
                    <a:pt x="2" y="1193"/>
                  </a:moveTo>
                  <a:lnTo>
                    <a:pt x="2" y="1190"/>
                  </a:lnTo>
                  <a:lnTo>
                    <a:pt x="0" y="1179"/>
                  </a:lnTo>
                  <a:lnTo>
                    <a:pt x="0" y="1163"/>
                  </a:lnTo>
                  <a:lnTo>
                    <a:pt x="0" y="1140"/>
                  </a:lnTo>
                  <a:lnTo>
                    <a:pt x="2" y="1111"/>
                  </a:lnTo>
                  <a:lnTo>
                    <a:pt x="5" y="1077"/>
                  </a:lnTo>
                  <a:lnTo>
                    <a:pt x="10" y="1039"/>
                  </a:lnTo>
                  <a:lnTo>
                    <a:pt x="18" y="994"/>
                  </a:lnTo>
                  <a:lnTo>
                    <a:pt x="28" y="947"/>
                  </a:lnTo>
                  <a:lnTo>
                    <a:pt x="43" y="894"/>
                  </a:lnTo>
                  <a:lnTo>
                    <a:pt x="62" y="837"/>
                  </a:lnTo>
                  <a:lnTo>
                    <a:pt x="85" y="778"/>
                  </a:lnTo>
                  <a:lnTo>
                    <a:pt x="112" y="715"/>
                  </a:lnTo>
                  <a:lnTo>
                    <a:pt x="146" y="651"/>
                  </a:lnTo>
                  <a:lnTo>
                    <a:pt x="185" y="583"/>
                  </a:lnTo>
                  <a:lnTo>
                    <a:pt x="231" y="512"/>
                  </a:lnTo>
                  <a:lnTo>
                    <a:pt x="280" y="447"/>
                  </a:lnTo>
                  <a:lnTo>
                    <a:pt x="332" y="386"/>
                  </a:lnTo>
                  <a:lnTo>
                    <a:pt x="386" y="331"/>
                  </a:lnTo>
                  <a:lnTo>
                    <a:pt x="443" y="279"/>
                  </a:lnTo>
                  <a:lnTo>
                    <a:pt x="499" y="233"/>
                  </a:lnTo>
                  <a:lnTo>
                    <a:pt x="556" y="190"/>
                  </a:lnTo>
                  <a:lnTo>
                    <a:pt x="611" y="153"/>
                  </a:lnTo>
                  <a:lnTo>
                    <a:pt x="664" y="120"/>
                  </a:lnTo>
                  <a:lnTo>
                    <a:pt x="713" y="91"/>
                  </a:lnTo>
                  <a:lnTo>
                    <a:pt x="760" y="66"/>
                  </a:lnTo>
                  <a:lnTo>
                    <a:pt x="801" y="46"/>
                  </a:lnTo>
                  <a:lnTo>
                    <a:pt x="837" y="29"/>
                  </a:lnTo>
                  <a:lnTo>
                    <a:pt x="867" y="16"/>
                  </a:lnTo>
                  <a:lnTo>
                    <a:pt x="889" y="7"/>
                  </a:lnTo>
                  <a:lnTo>
                    <a:pt x="902" y="2"/>
                  </a:lnTo>
                  <a:lnTo>
                    <a:pt x="907" y="0"/>
                  </a:lnTo>
                  <a:lnTo>
                    <a:pt x="906" y="2"/>
                  </a:lnTo>
                  <a:lnTo>
                    <a:pt x="901" y="10"/>
                  </a:lnTo>
                  <a:lnTo>
                    <a:pt x="893" y="23"/>
                  </a:lnTo>
                  <a:lnTo>
                    <a:pt x="881" y="43"/>
                  </a:lnTo>
                  <a:lnTo>
                    <a:pt x="861" y="68"/>
                  </a:lnTo>
                  <a:lnTo>
                    <a:pt x="836" y="99"/>
                  </a:lnTo>
                  <a:lnTo>
                    <a:pt x="803" y="138"/>
                  </a:lnTo>
                  <a:lnTo>
                    <a:pt x="762" y="185"/>
                  </a:lnTo>
                  <a:lnTo>
                    <a:pt x="730" y="225"/>
                  </a:lnTo>
                  <a:lnTo>
                    <a:pt x="702" y="261"/>
                  </a:lnTo>
                  <a:lnTo>
                    <a:pt x="679" y="297"/>
                  </a:lnTo>
                  <a:lnTo>
                    <a:pt x="662" y="331"/>
                  </a:lnTo>
                  <a:lnTo>
                    <a:pt x="647" y="362"/>
                  </a:lnTo>
                  <a:lnTo>
                    <a:pt x="636" y="392"/>
                  </a:lnTo>
                  <a:lnTo>
                    <a:pt x="628" y="419"/>
                  </a:lnTo>
                  <a:lnTo>
                    <a:pt x="622" y="445"/>
                  </a:lnTo>
                  <a:lnTo>
                    <a:pt x="620" y="468"/>
                  </a:lnTo>
                  <a:lnTo>
                    <a:pt x="619" y="488"/>
                  </a:lnTo>
                  <a:lnTo>
                    <a:pt x="619" y="506"/>
                  </a:lnTo>
                  <a:lnTo>
                    <a:pt x="620" y="521"/>
                  </a:lnTo>
                  <a:lnTo>
                    <a:pt x="621" y="532"/>
                  </a:lnTo>
                  <a:lnTo>
                    <a:pt x="622" y="540"/>
                  </a:lnTo>
                  <a:lnTo>
                    <a:pt x="625" y="545"/>
                  </a:lnTo>
                  <a:lnTo>
                    <a:pt x="625" y="547"/>
                  </a:lnTo>
                  <a:lnTo>
                    <a:pt x="626" y="547"/>
                  </a:lnTo>
                  <a:lnTo>
                    <a:pt x="627" y="545"/>
                  </a:lnTo>
                  <a:lnTo>
                    <a:pt x="628" y="544"/>
                  </a:lnTo>
                  <a:lnTo>
                    <a:pt x="627" y="542"/>
                  </a:lnTo>
                  <a:lnTo>
                    <a:pt x="622" y="542"/>
                  </a:lnTo>
                  <a:lnTo>
                    <a:pt x="613" y="544"/>
                  </a:lnTo>
                  <a:lnTo>
                    <a:pt x="597" y="546"/>
                  </a:lnTo>
                  <a:lnTo>
                    <a:pt x="574" y="552"/>
                  </a:lnTo>
                  <a:lnTo>
                    <a:pt x="548" y="559"/>
                  </a:lnTo>
                  <a:lnTo>
                    <a:pt x="525" y="564"/>
                  </a:lnTo>
                  <a:lnTo>
                    <a:pt x="504" y="570"/>
                  </a:lnTo>
                  <a:lnTo>
                    <a:pt x="487" y="573"/>
                  </a:lnTo>
                  <a:lnTo>
                    <a:pt x="472" y="578"/>
                  </a:lnTo>
                  <a:lnTo>
                    <a:pt x="461" y="580"/>
                  </a:lnTo>
                  <a:lnTo>
                    <a:pt x="455" y="582"/>
                  </a:lnTo>
                  <a:lnTo>
                    <a:pt x="453" y="583"/>
                  </a:lnTo>
                  <a:lnTo>
                    <a:pt x="455" y="582"/>
                  </a:lnTo>
                  <a:lnTo>
                    <a:pt x="461" y="578"/>
                  </a:lnTo>
                  <a:lnTo>
                    <a:pt x="472" y="573"/>
                  </a:lnTo>
                  <a:lnTo>
                    <a:pt x="484" y="569"/>
                  </a:lnTo>
                  <a:lnTo>
                    <a:pt x="499" y="564"/>
                  </a:lnTo>
                  <a:lnTo>
                    <a:pt x="517" y="562"/>
                  </a:lnTo>
                  <a:lnTo>
                    <a:pt x="535" y="562"/>
                  </a:lnTo>
                  <a:lnTo>
                    <a:pt x="555" y="565"/>
                  </a:lnTo>
                  <a:lnTo>
                    <a:pt x="572" y="571"/>
                  </a:lnTo>
                  <a:lnTo>
                    <a:pt x="587" y="578"/>
                  </a:lnTo>
                  <a:lnTo>
                    <a:pt x="597" y="585"/>
                  </a:lnTo>
                  <a:lnTo>
                    <a:pt x="605" y="592"/>
                  </a:lnTo>
                  <a:lnTo>
                    <a:pt x="611" y="599"/>
                  </a:lnTo>
                  <a:lnTo>
                    <a:pt x="616" y="605"/>
                  </a:lnTo>
                  <a:lnTo>
                    <a:pt x="617" y="608"/>
                  </a:lnTo>
                  <a:lnTo>
                    <a:pt x="618" y="609"/>
                  </a:lnTo>
                  <a:lnTo>
                    <a:pt x="616" y="610"/>
                  </a:lnTo>
                  <a:lnTo>
                    <a:pt x="608" y="614"/>
                  </a:lnTo>
                  <a:lnTo>
                    <a:pt x="596" y="620"/>
                  </a:lnTo>
                  <a:lnTo>
                    <a:pt x="581" y="630"/>
                  </a:lnTo>
                  <a:lnTo>
                    <a:pt x="564" y="644"/>
                  </a:lnTo>
                  <a:lnTo>
                    <a:pt x="543" y="662"/>
                  </a:lnTo>
                  <a:lnTo>
                    <a:pt x="521" y="684"/>
                  </a:lnTo>
                  <a:lnTo>
                    <a:pt x="498" y="713"/>
                  </a:lnTo>
                  <a:lnTo>
                    <a:pt x="473" y="751"/>
                  </a:lnTo>
                  <a:lnTo>
                    <a:pt x="444" y="802"/>
                  </a:lnTo>
                  <a:lnTo>
                    <a:pt x="413" y="858"/>
                  </a:lnTo>
                  <a:lnTo>
                    <a:pt x="384" y="914"/>
                  </a:lnTo>
                  <a:lnTo>
                    <a:pt x="358" y="969"/>
                  </a:lnTo>
                  <a:lnTo>
                    <a:pt x="336" y="1013"/>
                  </a:lnTo>
                  <a:lnTo>
                    <a:pt x="322" y="1043"/>
                  </a:lnTo>
                  <a:lnTo>
                    <a:pt x="316" y="1055"/>
                  </a:lnTo>
                  <a:lnTo>
                    <a:pt x="316" y="1054"/>
                  </a:lnTo>
                  <a:lnTo>
                    <a:pt x="314" y="1051"/>
                  </a:lnTo>
                  <a:lnTo>
                    <a:pt x="309" y="1049"/>
                  </a:lnTo>
                  <a:lnTo>
                    <a:pt x="301" y="1047"/>
                  </a:lnTo>
                  <a:lnTo>
                    <a:pt x="288" y="1045"/>
                  </a:lnTo>
                  <a:lnTo>
                    <a:pt x="272" y="1043"/>
                  </a:lnTo>
                  <a:lnTo>
                    <a:pt x="249" y="1045"/>
                  </a:lnTo>
                  <a:lnTo>
                    <a:pt x="220" y="1049"/>
                  </a:lnTo>
                  <a:lnTo>
                    <a:pt x="191" y="1056"/>
                  </a:lnTo>
                  <a:lnTo>
                    <a:pt x="163" y="1066"/>
                  </a:lnTo>
                  <a:lnTo>
                    <a:pt x="139" y="1078"/>
                  </a:lnTo>
                  <a:lnTo>
                    <a:pt x="119" y="1089"/>
                  </a:lnTo>
                  <a:lnTo>
                    <a:pt x="102" y="1100"/>
                  </a:lnTo>
                  <a:lnTo>
                    <a:pt x="90" y="1109"/>
                  </a:lnTo>
                  <a:lnTo>
                    <a:pt x="82" y="1116"/>
                  </a:lnTo>
                  <a:lnTo>
                    <a:pt x="80" y="1118"/>
                  </a:lnTo>
                  <a:lnTo>
                    <a:pt x="32" y="1192"/>
                  </a:lnTo>
                  <a:lnTo>
                    <a:pt x="2" y="1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29600" y="4800600"/>
              <a:ext cx="671400" cy="949320"/>
            </a:xfrm>
            <a:custGeom>
              <a:avLst/>
              <a:gdLst/>
              <a:ahLst/>
              <a:rect l="l" t="t" r="r" b="b"/>
              <a:pathLst>
                <a:path w="847" h="1197">
                  <a:moveTo>
                    <a:pt x="13" y="1184"/>
                  </a:moveTo>
                  <a:lnTo>
                    <a:pt x="12" y="1168"/>
                  </a:lnTo>
                  <a:lnTo>
                    <a:pt x="14" y="1152"/>
                  </a:lnTo>
                  <a:lnTo>
                    <a:pt x="18" y="1136"/>
                  </a:lnTo>
                  <a:lnTo>
                    <a:pt x="25" y="1120"/>
                  </a:lnTo>
                  <a:lnTo>
                    <a:pt x="34" y="1103"/>
                  </a:lnTo>
                  <a:lnTo>
                    <a:pt x="44" y="1089"/>
                  </a:lnTo>
                  <a:lnTo>
                    <a:pt x="58" y="1074"/>
                  </a:lnTo>
                  <a:lnTo>
                    <a:pt x="74" y="1059"/>
                  </a:lnTo>
                  <a:lnTo>
                    <a:pt x="92" y="1046"/>
                  </a:lnTo>
                  <a:lnTo>
                    <a:pt x="112" y="1033"/>
                  </a:lnTo>
                  <a:lnTo>
                    <a:pt x="135" y="1023"/>
                  </a:lnTo>
                  <a:lnTo>
                    <a:pt x="160" y="1013"/>
                  </a:lnTo>
                  <a:lnTo>
                    <a:pt x="187" y="1006"/>
                  </a:lnTo>
                  <a:lnTo>
                    <a:pt x="217" y="1000"/>
                  </a:lnTo>
                  <a:lnTo>
                    <a:pt x="249" y="995"/>
                  </a:lnTo>
                  <a:lnTo>
                    <a:pt x="283" y="994"/>
                  </a:lnTo>
                  <a:lnTo>
                    <a:pt x="289" y="978"/>
                  </a:lnTo>
                  <a:lnTo>
                    <a:pt x="300" y="955"/>
                  </a:lnTo>
                  <a:lnTo>
                    <a:pt x="314" y="926"/>
                  </a:lnTo>
                  <a:lnTo>
                    <a:pt x="331" y="893"/>
                  </a:lnTo>
                  <a:lnTo>
                    <a:pt x="350" y="857"/>
                  </a:lnTo>
                  <a:lnTo>
                    <a:pt x="371" y="819"/>
                  </a:lnTo>
                  <a:lnTo>
                    <a:pt x="394" y="780"/>
                  </a:lnTo>
                  <a:lnTo>
                    <a:pt x="418" y="741"/>
                  </a:lnTo>
                  <a:lnTo>
                    <a:pt x="443" y="704"/>
                  </a:lnTo>
                  <a:lnTo>
                    <a:pt x="467" y="668"/>
                  </a:lnTo>
                  <a:lnTo>
                    <a:pt x="491" y="637"/>
                  </a:lnTo>
                  <a:lnTo>
                    <a:pt x="514" y="611"/>
                  </a:lnTo>
                  <a:lnTo>
                    <a:pt x="535" y="590"/>
                  </a:lnTo>
                  <a:lnTo>
                    <a:pt x="554" y="576"/>
                  </a:lnTo>
                  <a:lnTo>
                    <a:pt x="572" y="570"/>
                  </a:lnTo>
                  <a:lnTo>
                    <a:pt x="585" y="574"/>
                  </a:lnTo>
                  <a:lnTo>
                    <a:pt x="577" y="568"/>
                  </a:lnTo>
                  <a:lnTo>
                    <a:pt x="568" y="563"/>
                  </a:lnTo>
                  <a:lnTo>
                    <a:pt x="559" y="560"/>
                  </a:lnTo>
                  <a:lnTo>
                    <a:pt x="549" y="558"/>
                  </a:lnTo>
                  <a:lnTo>
                    <a:pt x="538" y="556"/>
                  </a:lnTo>
                  <a:lnTo>
                    <a:pt x="527" y="556"/>
                  </a:lnTo>
                  <a:lnTo>
                    <a:pt x="515" y="558"/>
                  </a:lnTo>
                  <a:lnTo>
                    <a:pt x="504" y="560"/>
                  </a:lnTo>
                  <a:lnTo>
                    <a:pt x="491" y="563"/>
                  </a:lnTo>
                  <a:lnTo>
                    <a:pt x="478" y="567"/>
                  </a:lnTo>
                  <a:lnTo>
                    <a:pt x="466" y="573"/>
                  </a:lnTo>
                  <a:lnTo>
                    <a:pt x="452" y="578"/>
                  </a:lnTo>
                  <a:lnTo>
                    <a:pt x="439" y="586"/>
                  </a:lnTo>
                  <a:lnTo>
                    <a:pt x="426" y="594"/>
                  </a:lnTo>
                  <a:lnTo>
                    <a:pt x="413" y="604"/>
                  </a:lnTo>
                  <a:lnTo>
                    <a:pt x="400" y="613"/>
                  </a:lnTo>
                  <a:lnTo>
                    <a:pt x="406" y="604"/>
                  </a:lnTo>
                  <a:lnTo>
                    <a:pt x="413" y="594"/>
                  </a:lnTo>
                  <a:lnTo>
                    <a:pt x="421" y="585"/>
                  </a:lnTo>
                  <a:lnTo>
                    <a:pt x="430" y="575"/>
                  </a:lnTo>
                  <a:lnTo>
                    <a:pt x="440" y="566"/>
                  </a:lnTo>
                  <a:lnTo>
                    <a:pt x="452" y="555"/>
                  </a:lnTo>
                  <a:lnTo>
                    <a:pt x="463" y="546"/>
                  </a:lnTo>
                  <a:lnTo>
                    <a:pt x="476" y="538"/>
                  </a:lnTo>
                  <a:lnTo>
                    <a:pt x="489" y="529"/>
                  </a:lnTo>
                  <a:lnTo>
                    <a:pt x="503" y="522"/>
                  </a:lnTo>
                  <a:lnTo>
                    <a:pt x="516" y="515"/>
                  </a:lnTo>
                  <a:lnTo>
                    <a:pt x="531" y="509"/>
                  </a:lnTo>
                  <a:lnTo>
                    <a:pt x="546" y="505"/>
                  </a:lnTo>
                  <a:lnTo>
                    <a:pt x="560" y="501"/>
                  </a:lnTo>
                  <a:lnTo>
                    <a:pt x="575" y="499"/>
                  </a:lnTo>
                  <a:lnTo>
                    <a:pt x="590" y="498"/>
                  </a:lnTo>
                  <a:lnTo>
                    <a:pt x="587" y="485"/>
                  </a:lnTo>
                  <a:lnTo>
                    <a:pt x="584" y="471"/>
                  </a:lnTo>
                  <a:lnTo>
                    <a:pt x="582" y="456"/>
                  </a:lnTo>
                  <a:lnTo>
                    <a:pt x="582" y="439"/>
                  </a:lnTo>
                  <a:lnTo>
                    <a:pt x="584" y="418"/>
                  </a:lnTo>
                  <a:lnTo>
                    <a:pt x="588" y="396"/>
                  </a:lnTo>
                  <a:lnTo>
                    <a:pt x="595" y="371"/>
                  </a:lnTo>
                  <a:lnTo>
                    <a:pt x="605" y="343"/>
                  </a:lnTo>
                  <a:lnTo>
                    <a:pt x="618" y="313"/>
                  </a:lnTo>
                  <a:lnTo>
                    <a:pt x="635" y="280"/>
                  </a:lnTo>
                  <a:lnTo>
                    <a:pt x="657" y="242"/>
                  </a:lnTo>
                  <a:lnTo>
                    <a:pt x="683" y="202"/>
                  </a:lnTo>
                  <a:lnTo>
                    <a:pt x="716" y="158"/>
                  </a:lnTo>
                  <a:lnTo>
                    <a:pt x="754" y="110"/>
                  </a:lnTo>
                  <a:lnTo>
                    <a:pt x="796" y="57"/>
                  </a:lnTo>
                  <a:lnTo>
                    <a:pt x="847" y="0"/>
                  </a:lnTo>
                  <a:lnTo>
                    <a:pt x="817" y="12"/>
                  </a:lnTo>
                  <a:lnTo>
                    <a:pt x="786" y="26"/>
                  </a:lnTo>
                  <a:lnTo>
                    <a:pt x="754" y="41"/>
                  </a:lnTo>
                  <a:lnTo>
                    <a:pt x="720" y="58"/>
                  </a:lnTo>
                  <a:lnTo>
                    <a:pt x="687" y="76"/>
                  </a:lnTo>
                  <a:lnTo>
                    <a:pt x="652" y="97"/>
                  </a:lnTo>
                  <a:lnTo>
                    <a:pt x="617" y="119"/>
                  </a:lnTo>
                  <a:lnTo>
                    <a:pt x="582" y="143"/>
                  </a:lnTo>
                  <a:lnTo>
                    <a:pt x="546" y="170"/>
                  </a:lnTo>
                  <a:lnTo>
                    <a:pt x="511" y="197"/>
                  </a:lnTo>
                  <a:lnTo>
                    <a:pt x="475" y="226"/>
                  </a:lnTo>
                  <a:lnTo>
                    <a:pt x="439" y="257"/>
                  </a:lnTo>
                  <a:lnTo>
                    <a:pt x="403" y="289"/>
                  </a:lnTo>
                  <a:lnTo>
                    <a:pt x="369" y="324"/>
                  </a:lnTo>
                  <a:lnTo>
                    <a:pt x="336" y="360"/>
                  </a:lnTo>
                  <a:lnTo>
                    <a:pt x="302" y="396"/>
                  </a:lnTo>
                  <a:lnTo>
                    <a:pt x="270" y="436"/>
                  </a:lnTo>
                  <a:lnTo>
                    <a:pt x="239" y="476"/>
                  </a:lnTo>
                  <a:lnTo>
                    <a:pt x="209" y="517"/>
                  </a:lnTo>
                  <a:lnTo>
                    <a:pt x="181" y="561"/>
                  </a:lnTo>
                  <a:lnTo>
                    <a:pt x="154" y="606"/>
                  </a:lnTo>
                  <a:lnTo>
                    <a:pt x="128" y="653"/>
                  </a:lnTo>
                  <a:lnTo>
                    <a:pt x="105" y="700"/>
                  </a:lnTo>
                  <a:lnTo>
                    <a:pt x="83" y="750"/>
                  </a:lnTo>
                  <a:lnTo>
                    <a:pt x="64" y="802"/>
                  </a:lnTo>
                  <a:lnTo>
                    <a:pt x="48" y="854"/>
                  </a:lnTo>
                  <a:lnTo>
                    <a:pt x="33" y="908"/>
                  </a:lnTo>
                  <a:lnTo>
                    <a:pt x="20" y="963"/>
                  </a:lnTo>
                  <a:lnTo>
                    <a:pt x="11" y="1019"/>
                  </a:lnTo>
                  <a:lnTo>
                    <a:pt x="4" y="1077"/>
                  </a:lnTo>
                  <a:lnTo>
                    <a:pt x="0" y="1136"/>
                  </a:lnTo>
                  <a:lnTo>
                    <a:pt x="0" y="1197"/>
                  </a:lnTo>
                  <a:lnTo>
                    <a:pt x="13" y="1184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28080" y="5743440"/>
              <a:ext cx="220680" cy="255600"/>
            </a:xfrm>
            <a:custGeom>
              <a:avLst/>
              <a:gdLst/>
              <a:ahLst/>
              <a:rect l="l" t="t" r="r" b="b"/>
              <a:pathLst>
                <a:path w="277" h="321">
                  <a:moveTo>
                    <a:pt x="247" y="321"/>
                  </a:moveTo>
                  <a:lnTo>
                    <a:pt x="255" y="320"/>
                  </a:lnTo>
                  <a:lnTo>
                    <a:pt x="262" y="318"/>
                  </a:lnTo>
                  <a:lnTo>
                    <a:pt x="268" y="314"/>
                  </a:lnTo>
                  <a:lnTo>
                    <a:pt x="273" y="308"/>
                  </a:lnTo>
                  <a:lnTo>
                    <a:pt x="276" y="300"/>
                  </a:lnTo>
                  <a:lnTo>
                    <a:pt x="277" y="291"/>
                  </a:lnTo>
                  <a:lnTo>
                    <a:pt x="277" y="280"/>
                  </a:lnTo>
                  <a:lnTo>
                    <a:pt x="275" y="266"/>
                  </a:lnTo>
                  <a:lnTo>
                    <a:pt x="265" y="209"/>
                  </a:lnTo>
                  <a:lnTo>
                    <a:pt x="254" y="167"/>
                  </a:lnTo>
                  <a:lnTo>
                    <a:pt x="244" y="137"/>
                  </a:lnTo>
                  <a:lnTo>
                    <a:pt x="232" y="117"/>
                  </a:lnTo>
                  <a:lnTo>
                    <a:pt x="222" y="106"/>
                  </a:lnTo>
                  <a:lnTo>
                    <a:pt x="210" y="100"/>
                  </a:lnTo>
                  <a:lnTo>
                    <a:pt x="199" y="98"/>
                  </a:lnTo>
                  <a:lnTo>
                    <a:pt x="187" y="98"/>
                  </a:lnTo>
                  <a:lnTo>
                    <a:pt x="187" y="95"/>
                  </a:lnTo>
                  <a:lnTo>
                    <a:pt x="187" y="90"/>
                  </a:lnTo>
                  <a:lnTo>
                    <a:pt x="187" y="80"/>
                  </a:lnTo>
                  <a:lnTo>
                    <a:pt x="187" y="66"/>
                  </a:lnTo>
                  <a:lnTo>
                    <a:pt x="195" y="65"/>
                  </a:lnTo>
                  <a:lnTo>
                    <a:pt x="202" y="63"/>
                  </a:lnTo>
                  <a:lnTo>
                    <a:pt x="209" y="60"/>
                  </a:lnTo>
                  <a:lnTo>
                    <a:pt x="216" y="55"/>
                  </a:lnTo>
                  <a:lnTo>
                    <a:pt x="221" y="49"/>
                  </a:lnTo>
                  <a:lnTo>
                    <a:pt x="224" y="43"/>
                  </a:lnTo>
                  <a:lnTo>
                    <a:pt x="227" y="37"/>
                  </a:lnTo>
                  <a:lnTo>
                    <a:pt x="228" y="28"/>
                  </a:lnTo>
                  <a:lnTo>
                    <a:pt x="227" y="20"/>
                  </a:lnTo>
                  <a:lnTo>
                    <a:pt x="224" y="15"/>
                  </a:lnTo>
                  <a:lnTo>
                    <a:pt x="221" y="10"/>
                  </a:lnTo>
                  <a:lnTo>
                    <a:pt x="216" y="5"/>
                  </a:lnTo>
                  <a:lnTo>
                    <a:pt x="209" y="3"/>
                  </a:lnTo>
                  <a:lnTo>
                    <a:pt x="202" y="1"/>
                  </a:lnTo>
                  <a:lnTo>
                    <a:pt x="195" y="0"/>
                  </a:lnTo>
                  <a:lnTo>
                    <a:pt x="187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8" y="3"/>
                  </a:lnTo>
                  <a:lnTo>
                    <a:pt x="61" y="5"/>
                  </a:lnTo>
                  <a:lnTo>
                    <a:pt x="56" y="10"/>
                  </a:lnTo>
                  <a:lnTo>
                    <a:pt x="53" y="15"/>
                  </a:lnTo>
                  <a:lnTo>
                    <a:pt x="50" y="20"/>
                  </a:lnTo>
                  <a:lnTo>
                    <a:pt x="49" y="28"/>
                  </a:lnTo>
                  <a:lnTo>
                    <a:pt x="50" y="37"/>
                  </a:lnTo>
                  <a:lnTo>
                    <a:pt x="53" y="43"/>
                  </a:lnTo>
                  <a:lnTo>
                    <a:pt x="56" y="49"/>
                  </a:lnTo>
                  <a:lnTo>
                    <a:pt x="61" y="55"/>
                  </a:lnTo>
                  <a:lnTo>
                    <a:pt x="68" y="60"/>
                  </a:lnTo>
                  <a:lnTo>
                    <a:pt x="74" y="63"/>
                  </a:lnTo>
                  <a:lnTo>
                    <a:pt x="81" y="65"/>
                  </a:lnTo>
                  <a:lnTo>
                    <a:pt x="89" y="66"/>
                  </a:lnTo>
                  <a:lnTo>
                    <a:pt x="89" y="80"/>
                  </a:lnTo>
                  <a:lnTo>
                    <a:pt x="89" y="90"/>
                  </a:lnTo>
                  <a:lnTo>
                    <a:pt x="89" y="95"/>
                  </a:lnTo>
                  <a:lnTo>
                    <a:pt x="89" y="98"/>
                  </a:lnTo>
                  <a:lnTo>
                    <a:pt x="78" y="98"/>
                  </a:lnTo>
                  <a:lnTo>
                    <a:pt x="66" y="100"/>
                  </a:lnTo>
                  <a:lnTo>
                    <a:pt x="55" y="106"/>
                  </a:lnTo>
                  <a:lnTo>
                    <a:pt x="45" y="117"/>
                  </a:lnTo>
                  <a:lnTo>
                    <a:pt x="33" y="137"/>
                  </a:lnTo>
                  <a:lnTo>
                    <a:pt x="23" y="167"/>
                  </a:lnTo>
                  <a:lnTo>
                    <a:pt x="12" y="209"/>
                  </a:lnTo>
                  <a:lnTo>
                    <a:pt x="2" y="266"/>
                  </a:lnTo>
                  <a:lnTo>
                    <a:pt x="0" y="280"/>
                  </a:lnTo>
                  <a:lnTo>
                    <a:pt x="0" y="291"/>
                  </a:lnTo>
                  <a:lnTo>
                    <a:pt x="1" y="300"/>
                  </a:lnTo>
                  <a:lnTo>
                    <a:pt x="4" y="308"/>
                  </a:lnTo>
                  <a:lnTo>
                    <a:pt x="9" y="314"/>
                  </a:lnTo>
                  <a:lnTo>
                    <a:pt x="15" y="318"/>
                  </a:lnTo>
                  <a:lnTo>
                    <a:pt x="21" y="320"/>
                  </a:lnTo>
                  <a:lnTo>
                    <a:pt x="30" y="321"/>
                  </a:lnTo>
                  <a:lnTo>
                    <a:pt x="247" y="32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726440" y="64008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4724280" y="6400800"/>
            <a:ext cx="2362320" cy="457200"/>
          </a:xfrm>
          <a:custGeom>
            <a:avLst/>
            <a:gdLst>
              <a:gd name="textAreaLeft" fmla="*/ 29520 w 2362320"/>
              <a:gd name="textAreaRight" fmla="*/ 2332800 w 2362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1535" h="21600">
                <a:moveTo>
                  <a:pt x="0" y="0"/>
                </a:moveTo>
                <a:lnTo>
                  <a:pt x="111535" y="0"/>
                </a:lnTo>
                <a:lnTo>
                  <a:pt x="111535" y="21600"/>
                </a:lnTo>
                <a:lnTo>
                  <a:pt x="0" y="21600"/>
                </a:lnTo>
                <a:close/>
              </a:path>
              <a:path fill="lightenLess" w="111535" h="21600">
                <a:moveTo>
                  <a:pt x="0" y="0"/>
                </a:moveTo>
                <a:lnTo>
                  <a:pt x="111535" y="0"/>
                </a:lnTo>
                <a:lnTo>
                  <a:pt x="110135" y="1400"/>
                </a:lnTo>
                <a:lnTo>
                  <a:pt x="1400" y="1400"/>
                </a:lnTo>
                <a:close/>
              </a:path>
              <a:path fill="darken" w="111535" h="21600">
                <a:moveTo>
                  <a:pt x="111535" y="0"/>
                </a:moveTo>
                <a:lnTo>
                  <a:pt x="111535" y="21600"/>
                </a:lnTo>
                <a:lnTo>
                  <a:pt x="110135" y="20200"/>
                </a:lnTo>
                <a:lnTo>
                  <a:pt x="110135" y="1400"/>
                </a:lnTo>
                <a:close/>
              </a:path>
              <a:path fill="darkenLess" w="111535" h="21600">
                <a:moveTo>
                  <a:pt x="11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35" y="20200"/>
                </a:lnTo>
                <a:close/>
              </a:path>
              <a:path fill="lighten" w="11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4680" y="617220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6095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  <p:sndAc>
      <p:stSnd>
        <p:snd r:embed="rId4" name="WARBS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38280" y="0"/>
            <a:ext cx="6019920" cy="1828800"/>
          </a:xfrm>
          <a:prstGeom prst="irregularSeal1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95480" y="45720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oi de Dalt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1283760" y="2043000"/>
            <a:ext cx="78465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ffffff"/>
                </a:solidFill>
                <a:latin typeface="Comic Sans MS"/>
              </a:rPr>
              <a:t>Prenons l ’exemple de deux ballons, soit un de </a:t>
            </a:r>
            <a:r>
              <a:rPr b="1" lang="fr-CA" sz="2200" spc="-1" strike="noStrike">
                <a:solidFill>
                  <a:srgbClr val="ff00ff"/>
                </a:solidFill>
                <a:latin typeface="Comic Sans MS"/>
              </a:rPr>
              <a:t>pres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ff00ff"/>
                </a:solidFill>
                <a:latin typeface="Comic Sans MS"/>
              </a:rPr>
              <a:t>partielle A</a:t>
            </a:r>
            <a:r>
              <a:rPr b="1" lang="fr-CA" sz="2200" spc="-1" strike="noStrike">
                <a:solidFill>
                  <a:srgbClr val="ffffff"/>
                </a:solidFill>
                <a:latin typeface="Comic Sans MS"/>
              </a:rPr>
              <a:t> et l ’autre d ’une </a:t>
            </a:r>
            <a:r>
              <a:rPr b="1" lang="fr-CA" sz="2200" spc="-1" strike="noStrike">
                <a:solidFill>
                  <a:srgbClr val="ff00ff"/>
                </a:solidFill>
                <a:latin typeface="Comic Sans MS"/>
              </a:rPr>
              <a:t>pression partielle B</a:t>
            </a:r>
            <a:r>
              <a:rPr b="1" lang="fr-CA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ffffff"/>
                </a:solidFill>
                <a:latin typeface="Comic Sans MS"/>
              </a:rPr>
              <a:t>Pour trouver la </a:t>
            </a:r>
            <a:r>
              <a:rPr b="1" lang="fr-CA" sz="2200" spc="-1" strike="noStrike">
                <a:solidFill>
                  <a:srgbClr val="ff00ff"/>
                </a:solidFill>
                <a:latin typeface="Comic Sans MS"/>
              </a:rPr>
              <a:t>pression totale</a:t>
            </a:r>
            <a:r>
              <a:rPr b="1" lang="fr-CA" sz="2200" spc="-1" strike="noStrike">
                <a:solidFill>
                  <a:srgbClr val="ffffff"/>
                </a:solidFill>
                <a:latin typeface="Comic Sans MS"/>
              </a:rPr>
              <a:t> du mélange de ces gaz,</a:t>
            </a:r>
            <a:r>
              <a:rPr b="1" lang="fr-CA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ffff00"/>
                </a:solidFill>
                <a:latin typeface="Comic Sans MS"/>
              </a:rPr>
              <a:t>la loi de Dalton</a:t>
            </a:r>
            <a:r>
              <a:rPr b="1" lang="fr-CA" sz="2200" spc="-1" strike="noStrike">
                <a:solidFill>
                  <a:srgbClr val="ffffff"/>
                </a:solidFill>
                <a:latin typeface="Comic Sans MS"/>
              </a:rPr>
              <a:t> nous dit qu’il faut </a:t>
            </a:r>
            <a:r>
              <a:rPr b="1" lang="fr-CA" sz="2200" spc="-1" strike="noStrike">
                <a:solidFill>
                  <a:srgbClr val="ff00ff"/>
                </a:solidFill>
                <a:latin typeface="Comic Sans MS"/>
              </a:rPr>
              <a:t>additionner</a:t>
            </a:r>
            <a:r>
              <a:rPr b="1" lang="fr-CA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ffffff"/>
                </a:solidFill>
                <a:latin typeface="Comic Sans MS"/>
              </a:rPr>
              <a:t>ensemble ces deux pression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5638680"/>
            <a:ext cx="1981080" cy="990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81080" y="3733920"/>
            <a:ext cx="6782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/>
                  </a:outerShdw>
                </a:effectLst>
                <a:latin typeface="Arial Black"/>
              </a:rPr>
              <a:t>Cliquez pour voir l'animation</a:t>
            </a:r>
            <a:endParaRPr b="0" lang="en-US" sz="2400" spc="1" strike="noStrike">
              <a:ln w="12600">
                <a:solidFill>
                  <a:srgbClr val="ff0066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662840" y="624852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7620120" y="274320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90920" y="30481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  <a:hlinkClick r:id="rId3"/>
          </p:cNvPr>
          <p:cNvSpPr/>
          <p:nvPr/>
        </p:nvSpPr>
        <p:spPr>
          <a:xfrm>
            <a:off x="1905120" y="4114800"/>
            <a:ext cx="6858000" cy="1371600"/>
          </a:xfrm>
          <a:custGeom>
            <a:avLst/>
            <a:gdLst>
              <a:gd name="textAreaLeft" fmla="*/ 88560 w 6858000"/>
              <a:gd name="textAreaRight" fmla="*/ 6769440 w 68580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107977" h="21600">
                <a:moveTo>
                  <a:pt x="0" y="0"/>
                </a:moveTo>
                <a:lnTo>
                  <a:pt x="107977" y="0"/>
                </a:lnTo>
                <a:lnTo>
                  <a:pt x="107977" y="21600"/>
                </a:lnTo>
                <a:lnTo>
                  <a:pt x="0" y="21600"/>
                </a:lnTo>
                <a:close/>
              </a:path>
              <a:path fill="lightenLess" w="107977" h="21600">
                <a:moveTo>
                  <a:pt x="0" y="0"/>
                </a:moveTo>
                <a:lnTo>
                  <a:pt x="107977" y="0"/>
                </a:lnTo>
                <a:lnTo>
                  <a:pt x="106577" y="1400"/>
                </a:lnTo>
                <a:lnTo>
                  <a:pt x="1400" y="1400"/>
                </a:lnTo>
                <a:close/>
              </a:path>
              <a:path fill="darken" w="107977" h="21600">
                <a:moveTo>
                  <a:pt x="107977" y="0"/>
                </a:moveTo>
                <a:lnTo>
                  <a:pt x="107977" y="21600"/>
                </a:lnTo>
                <a:lnTo>
                  <a:pt x="106577" y="20200"/>
                </a:lnTo>
                <a:lnTo>
                  <a:pt x="106577" y="1400"/>
                </a:lnTo>
                <a:close/>
              </a:path>
              <a:path fill="darkenLess" w="107977" h="21600">
                <a:moveTo>
                  <a:pt x="107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7" y="20200"/>
                </a:lnTo>
                <a:close/>
              </a:path>
              <a:path fill="lighten" w="107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4" name="SBOINGHI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16:32:12Z</dcterms:created>
  <dc:creator>La Dauversière</dc:creator>
  <dc:description/>
  <dc:language>en-US</dc:language>
  <cp:lastModifiedBy>A. Bensaada</cp:lastModifiedBy>
  <dcterms:modified xsi:type="dcterms:W3CDTF">2000-09-21T04:20:04Z</dcterms:modified>
  <cp:revision>63</cp:revision>
  <dc:subject/>
  <dc:title>Aucun titre de diapositive</dc:title>
</cp:coreProperties>
</file>