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ny003.wav" ContentType="audio/x-wav"/>
  <Override PartName="/ppt/media/image1.png" ContentType="image/png"/>
  <Override PartName="/ppt/media/FB038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32D-9FC5-4E88-8DA7-ADEC047F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85B-4555-441E-A937-9A8E7FDC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E11-B879-4F94-9FC8-0B650080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FB8-7340-4CB9-AF6F-68902A2F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235-233C-4196-8A5A-9A22E076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025-9D80-4447-B660-E600C057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C8E-770D-4996-A131-5525C444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778-2C91-48BA-A86D-E66EF42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47B-5390-4DB9-B997-F89F469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E6D-2333-4053-8D1F-3C9F970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ECA-BA68-44DF-98D5-D608C40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6D5-E2E7-41C2-BC00-91ACBED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6A9-6E45-4059-93DA-6EE8D847F26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B038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.png"/><Relationship Id="rId3" Type="http://schemas.openxmlformats.org/officeDocument/2006/relationships/slide" Target="slide13.xml"/><Relationship Id="rId4" Type="http://schemas.openxmlformats.org/officeDocument/2006/relationships/audio" Target="../media/FB038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audio" Target="../media/FB038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png"/><Relationship Id="rId3" Type="http://schemas.openxmlformats.org/officeDocument/2006/relationships/audio" Target="../media/FB038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y00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FB038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FB038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ny003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31640"/>
            <a:ext cx="754380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a chute libr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1722240" y="2818440"/>
            <a:ext cx="5987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 Mostafa Badran et Athanasios Koure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0760" y="4785480"/>
            <a:ext cx="6492960" cy="824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Stéphane Lama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812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3429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1460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200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200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1240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200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680" y="1295280"/>
            <a:ext cx="1219320" cy="1099440"/>
            <a:chOff x="2209680" y="1295280"/>
            <a:chExt cx="1219320" cy="1099440"/>
          </a:xfrm>
        </p:grpSpPr>
        <p:sp>
          <p:nvSpPr>
            <p:cNvPr id="131" name=""/>
            <p:cNvSpPr/>
            <p:nvPr/>
          </p:nvSpPr>
          <p:spPr>
            <a:xfrm>
              <a:off x="2209680" y="1295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L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600" y="1295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352680" y="4724280"/>
            <a:ext cx="4800600" cy="1099440"/>
            <a:chOff x="3352680" y="4724280"/>
            <a:chExt cx="4800600" cy="1099440"/>
          </a:xfrm>
        </p:grpSpPr>
        <p:sp>
          <p:nvSpPr>
            <p:cNvPr id="134" name=""/>
            <p:cNvSpPr/>
            <p:nvPr/>
          </p:nvSpPr>
          <p:spPr>
            <a:xfrm>
              <a:off x="335268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D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16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E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C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464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16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8880" y="4724280"/>
              <a:ext cx="914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Forte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609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Introductio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Showcard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600200"/>
            <a:ext cx="80769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En regardant ce travail, vous allez découvrir ou redécouvrir la chute li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ette notion a intrigué et suscité la curiosité de nombreux savants depuis des siè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ous espérons que ce travail vous donnera un nouvel aperçu sur ce sujet très fascin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Bonne visite à tou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62012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9400" y="914400"/>
            <a:ext cx="2209680" cy="533520"/>
          </a:xfrm>
          <a:custGeom>
            <a:avLst/>
            <a:gdLst>
              <a:gd name="textAreaLeft" fmla="*/ 0 w 2209680"/>
              <a:gd name="textAreaRight" fmla="*/ 2209680 w 220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89415" h="21600">
                <a:moveTo>
                  <a:pt x="0" y="0"/>
                </a:moveTo>
                <a:lnTo>
                  <a:pt x="89415" y="0"/>
                </a:lnTo>
                <a:lnTo>
                  <a:pt x="89415" y="21600"/>
                </a:lnTo>
                <a:lnTo>
                  <a:pt x="0" y="21600"/>
                </a:lnTo>
                <a:close/>
              </a:path>
              <a:path fill="lightenLess" w="89415" h="21600">
                <a:moveTo>
                  <a:pt x="0" y="0"/>
                </a:moveTo>
                <a:lnTo>
                  <a:pt x="89415" y="0"/>
                </a:lnTo>
                <a:lnTo>
                  <a:pt x="89415" y="0"/>
                </a:lnTo>
                <a:lnTo>
                  <a:pt x="0" y="0"/>
                </a:lnTo>
                <a:close/>
              </a:path>
              <a:path fill="darken" w="89415" h="21600">
                <a:moveTo>
                  <a:pt x="89415" y="0"/>
                </a:moveTo>
                <a:lnTo>
                  <a:pt x="89415" y="21600"/>
                </a:lnTo>
                <a:lnTo>
                  <a:pt x="89415" y="21600"/>
                </a:lnTo>
                <a:lnTo>
                  <a:pt x="89415" y="0"/>
                </a:lnTo>
                <a:close/>
              </a:path>
              <a:path fill="darkenLess" w="89415" h="21600">
                <a:moveTo>
                  <a:pt x="8941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89415" y="21600"/>
                </a:lnTo>
                <a:close/>
              </a:path>
              <a:path fill="lighten" w="8941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Points de repère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Showcard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6765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Forte"/>
              </a:rPr>
              <a:t>Historique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895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Forte"/>
              </a:rPr>
              <a:t>Le principe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0384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Forte"/>
              </a:rPr>
              <a:t>Démonstration du princi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Forte"/>
              </a:rPr>
              <a:t>Conclusion</a:t>
            </a:r>
            <a:r>
              <a:rPr b="0" lang="en-US" sz="4000" spc="-1" strike="noStrike">
                <a:solidFill>
                  <a:srgbClr val="c0c0c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91440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73777" h="21600">
                <a:moveTo>
                  <a:pt x="0" y="0"/>
                </a:moveTo>
                <a:lnTo>
                  <a:pt x="73777" y="0"/>
                </a:lnTo>
                <a:lnTo>
                  <a:pt x="73777" y="21600"/>
                </a:lnTo>
                <a:lnTo>
                  <a:pt x="0" y="21600"/>
                </a:lnTo>
                <a:close/>
              </a:path>
              <a:path fill="lightenLess" w="73777" h="21600">
                <a:moveTo>
                  <a:pt x="0" y="0"/>
                </a:moveTo>
                <a:lnTo>
                  <a:pt x="73777" y="0"/>
                </a:lnTo>
                <a:lnTo>
                  <a:pt x="73777" y="0"/>
                </a:lnTo>
                <a:lnTo>
                  <a:pt x="0" y="0"/>
                </a:lnTo>
                <a:close/>
              </a:path>
              <a:path fill="darken" w="73777" h="21600">
                <a:moveTo>
                  <a:pt x="73777" y="0"/>
                </a:moveTo>
                <a:lnTo>
                  <a:pt x="73777" y="21600"/>
                </a:lnTo>
                <a:lnTo>
                  <a:pt x="73777" y="21600"/>
                </a:lnTo>
                <a:lnTo>
                  <a:pt x="73777" y="0"/>
                </a:lnTo>
                <a:close/>
              </a:path>
              <a:path fill="darkenLess" w="73777" h="21600">
                <a:moveTo>
                  <a:pt x="7377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73777" y="21600"/>
                </a:lnTo>
                <a:close/>
              </a:path>
              <a:path fill="lighten" w="7377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971800"/>
            <a:ext cx="3276720" cy="9144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77381" h="21600">
                <a:moveTo>
                  <a:pt x="0" y="0"/>
                </a:moveTo>
                <a:lnTo>
                  <a:pt x="77381" y="0"/>
                </a:lnTo>
                <a:lnTo>
                  <a:pt x="77381" y="21600"/>
                </a:lnTo>
                <a:lnTo>
                  <a:pt x="0" y="21600"/>
                </a:lnTo>
                <a:close/>
              </a:path>
              <a:path fill="lightenLess" w="77381" h="21600">
                <a:moveTo>
                  <a:pt x="0" y="0"/>
                </a:moveTo>
                <a:lnTo>
                  <a:pt x="77381" y="0"/>
                </a:lnTo>
                <a:lnTo>
                  <a:pt x="77381" y="0"/>
                </a:lnTo>
                <a:lnTo>
                  <a:pt x="0" y="0"/>
                </a:lnTo>
                <a:close/>
              </a:path>
              <a:path fill="darken" w="77381" h="21600">
                <a:moveTo>
                  <a:pt x="77381" y="0"/>
                </a:moveTo>
                <a:lnTo>
                  <a:pt x="77381" y="21600"/>
                </a:lnTo>
                <a:lnTo>
                  <a:pt x="77381" y="21600"/>
                </a:lnTo>
                <a:lnTo>
                  <a:pt x="77381" y="0"/>
                </a:lnTo>
                <a:close/>
              </a:path>
              <a:path fill="darkenLess" w="77381" h="21600">
                <a:moveTo>
                  <a:pt x="7738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77381" y="21600"/>
                </a:lnTo>
                <a:close/>
              </a:path>
              <a:path fill="lighten" w="7738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62120" y="3962520"/>
            <a:ext cx="7086600" cy="914400"/>
          </a:xfrm>
          <a:custGeom>
            <a:avLst/>
            <a:gdLst>
              <a:gd name="textAreaLeft" fmla="*/ 0 w 7086600"/>
              <a:gd name="textAreaRight" fmla="*/ 7086960 w 7086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7343" h="21600">
                <a:moveTo>
                  <a:pt x="0" y="0"/>
                </a:moveTo>
                <a:lnTo>
                  <a:pt x="167343" y="0"/>
                </a:lnTo>
                <a:lnTo>
                  <a:pt x="167343" y="21600"/>
                </a:lnTo>
                <a:lnTo>
                  <a:pt x="0" y="21600"/>
                </a:lnTo>
                <a:close/>
              </a:path>
              <a:path fill="lightenLess" w="167343" h="21600">
                <a:moveTo>
                  <a:pt x="0" y="0"/>
                </a:moveTo>
                <a:lnTo>
                  <a:pt x="167343" y="0"/>
                </a:lnTo>
                <a:lnTo>
                  <a:pt x="167343" y="0"/>
                </a:lnTo>
                <a:lnTo>
                  <a:pt x="0" y="0"/>
                </a:lnTo>
                <a:close/>
              </a:path>
              <a:path fill="darken" w="167343" h="21600">
                <a:moveTo>
                  <a:pt x="167343" y="0"/>
                </a:moveTo>
                <a:lnTo>
                  <a:pt x="167343" y="21600"/>
                </a:lnTo>
                <a:lnTo>
                  <a:pt x="167343" y="21600"/>
                </a:lnTo>
                <a:lnTo>
                  <a:pt x="167343" y="0"/>
                </a:lnTo>
                <a:close/>
              </a:path>
              <a:path fill="darkenLess" w="167343" h="21600">
                <a:moveTo>
                  <a:pt x="16734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167343" y="21600"/>
                </a:lnTo>
                <a:close/>
              </a:path>
              <a:path fill="lighten" w="16734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3429000" y="5257800"/>
            <a:ext cx="2286000" cy="914400"/>
          </a:xfrm>
          <a:custGeom>
            <a:avLst/>
            <a:gdLst>
              <a:gd name="textAreaLeft" fmla="*/ 0 w 2286000"/>
              <a:gd name="textAreaRight" fmla="*/ 2286000 w 2286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3987" y="0"/>
                </a:lnTo>
                <a:lnTo>
                  <a:pt x="0" y="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3987" y="21600"/>
                </a:lnTo>
                <a:lnTo>
                  <a:pt x="53987" y="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3987" y="216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752480"/>
          <a:ext cx="4953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495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990720" y="2943360"/>
          <a:ext cx="49536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943360"/>
                    <a:ext cx="495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90720" y="4114800"/>
          <a:ext cx="49536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4114800"/>
                    <a:ext cx="495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990720" y="5410080"/>
          <a:ext cx="49536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410080"/>
                    <a:ext cx="495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3808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Historiqu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Showcard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152280" y="5715000"/>
            <a:ext cx="914400" cy="1143000"/>
          </a:xfrm>
          <a:custGeom>
            <a:avLst/>
            <a:gdLst>
              <a:gd name="textAreaLeft" fmla="*/ 0 w 914400"/>
              <a:gd name="textAreaRight" fmla="*/ 914760 w 914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1600" y="26998"/>
                </a:lnTo>
                <a:lnTo>
                  <a:pt x="21600" y="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0" y="26998"/>
                </a:lnTo>
                <a:lnTo>
                  <a:pt x="21600" y="269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0" y="0"/>
                </a:lnTo>
                <a:lnTo>
                  <a:pt x="0" y="269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447920"/>
            <a:ext cx="7467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Depuis l'Antiquit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é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 jusqu’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à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 la 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enaissance, plusieurs alchimistes et physiciens ont été fascinés par la chute des objets sur de grandes hauteurs.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Or,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la l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é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gende veut que, 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à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 23 ans, Isaac Newton, l ’illustre physicien anglais, fut intrigué par cette loi.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Lors d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une sortie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 il s'assit sous un pommier, puis soudainement, une pomme lui tomba sur la t</a:t>
            </a:r>
            <a:r>
              <a:rPr b="1" lang="en-US" sz="2700" spc="-1" strike="noStrike">
                <a:solidFill>
                  <a:srgbClr val="000000"/>
                </a:solidFill>
                <a:latin typeface="Bookman Old Style"/>
              </a:rPr>
              <a:t>ê</a:t>
            </a:r>
            <a:r>
              <a:rPr b="1" lang="fr-CA" sz="2700" spc="-1" strike="noStrike">
                <a:solidFill>
                  <a:srgbClr val="000000"/>
                </a:solidFill>
                <a:latin typeface="Bookman Old Style"/>
              </a:rPr>
              <a:t>te.           C’est la chute libre de cette pomme qui l’amena à approfondir le sujet !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Home%20button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5867280"/>
            <a:ext cx="1295280" cy="9907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8238" y="0"/>
                </a:lnTo>
                <a:lnTo>
                  <a:pt x="0" y="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8238" y="21600"/>
                </a:lnTo>
                <a:lnTo>
                  <a:pt x="28238" y="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238" y="216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0720" y="5335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Le principe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600200"/>
            <a:ext cx="76201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n corps en chute libre est un corps (sur lequel la r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é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sistance du milieu est n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é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gligeable) qui parcourt, sous l'effet de la gravitation, des distances de plus en plus grandes sur des intervalles de temps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é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gaux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Home%20button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152280" y="5638680"/>
            <a:ext cx="990720" cy="1219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6582">
                <a:moveTo>
                  <a:pt x="0" y="0"/>
                </a:moveTo>
                <a:lnTo>
                  <a:pt x="21600" y="0"/>
                </a:lnTo>
                <a:lnTo>
                  <a:pt x="21600" y="26582"/>
                </a:lnTo>
                <a:lnTo>
                  <a:pt x="0" y="26582"/>
                </a:lnTo>
                <a:close/>
              </a:path>
              <a:path fill="lightenLess" w="21600" h="2658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6582">
                <a:moveTo>
                  <a:pt x="21600" y="0"/>
                </a:moveTo>
                <a:lnTo>
                  <a:pt x="21600" y="26582"/>
                </a:lnTo>
                <a:lnTo>
                  <a:pt x="21600" y="26582"/>
                </a:lnTo>
                <a:lnTo>
                  <a:pt x="21600" y="0"/>
                </a:lnTo>
                <a:close/>
              </a:path>
              <a:path fill="darkenLess" w="21600" h="26582">
                <a:moveTo>
                  <a:pt x="21600" y="26582"/>
                </a:moveTo>
                <a:lnTo>
                  <a:pt x="0" y="26582"/>
                </a:lnTo>
                <a:lnTo>
                  <a:pt x="0" y="26582"/>
                </a:lnTo>
                <a:lnTo>
                  <a:pt x="21600" y="26582"/>
                </a:lnTo>
                <a:close/>
              </a:path>
              <a:path fill="lighten" w="21600" h="26582">
                <a:moveTo>
                  <a:pt x="0" y="26582"/>
                </a:moveTo>
                <a:lnTo>
                  <a:pt x="0" y="0"/>
                </a:lnTo>
                <a:lnTo>
                  <a:pt x="0" y="0"/>
                </a:lnTo>
                <a:lnTo>
                  <a:pt x="0" y="265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4572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Démonstration du principe</a:t>
            </a: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82880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chute libre fait partie de notre vie même si nous ne nous arrêtons pas pour y penser tous les j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ans le petit extrait qui suit, vous observerez la chute libre dans toute sa splend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ight%20button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6019920"/>
            <a:ext cx="342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orte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cartoo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228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CHUTE LI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Cliquez sur l’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505320" y="5562720"/>
            <a:ext cx="1522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00200" y="1349280"/>
            <a:ext cx="5791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cliff" descr=""/>
          <p:cNvPicPr/>
          <p:nvPr/>
        </p:nvPicPr>
        <p:blipFill>
          <a:blip r:embed="rId1"/>
          <a:stretch/>
        </p:blipFill>
        <p:spPr>
          <a:xfrm>
            <a:off x="800280" y="1295280"/>
            <a:ext cx="7542000" cy="5029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Ex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wile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762120" cy="622080"/>
          </a:xfrm>
          <a:prstGeom prst="rect">
            <a:avLst/>
          </a:prstGeom>
          <a:ln w="0">
            <a:noFill/>
          </a:ln>
        </p:spPr>
      </p:pic>
      <p:pic>
        <p:nvPicPr>
          <p:cNvPr id="191" name="wile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762120" cy="622440"/>
          </a:xfrm>
          <a:prstGeom prst="rect">
            <a:avLst/>
          </a:prstGeom>
          <a:ln w="0">
            <a:noFill/>
          </a:ln>
        </p:spPr>
      </p:pic>
      <p:pic>
        <p:nvPicPr>
          <p:cNvPr id="192" name="wile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762120" cy="62244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828800" y="4572000"/>
            <a:ext cx="762120" cy="1841400"/>
            <a:chOff x="1828800" y="4572000"/>
            <a:chExt cx="762120" cy="1841400"/>
          </a:xfrm>
        </p:grpSpPr>
        <p:pic>
          <p:nvPicPr>
            <p:cNvPr id="194" name="wile" descr=""/>
            <p:cNvPicPr/>
            <p:nvPr/>
          </p:nvPicPr>
          <p:blipFill>
            <a:blip r:embed="rId5"/>
            <a:stretch/>
          </p:blipFill>
          <p:spPr>
            <a:xfrm>
              <a:off x="1828800" y="5791320"/>
              <a:ext cx="762120" cy="62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2133720" y="4572000"/>
              <a:ext cx="152280" cy="1066320"/>
              <a:chOff x="2133720" y="4572000"/>
              <a:chExt cx="152280" cy="106632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133720" y="46483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286000" y="4572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209680" y="5409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1828800" y="3200400"/>
            <a:ext cx="762120" cy="1231920"/>
            <a:chOff x="1828800" y="3200400"/>
            <a:chExt cx="762120" cy="1231920"/>
          </a:xfrm>
        </p:grpSpPr>
        <p:pic>
          <p:nvPicPr>
            <p:cNvPr id="200" name="wile" descr=""/>
            <p:cNvPicPr/>
            <p:nvPr/>
          </p:nvPicPr>
          <p:blipFill>
            <a:blip r:embed="rId6"/>
            <a:stretch/>
          </p:blipFill>
          <p:spPr>
            <a:xfrm>
              <a:off x="1828800" y="3809880"/>
              <a:ext cx="762120" cy="6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2133720" y="3200400"/>
              <a:ext cx="75960" cy="533520"/>
              <a:chOff x="2133720" y="3200400"/>
              <a:chExt cx="75960" cy="533520"/>
            </a:xfrm>
          </p:grpSpPr>
          <p:sp>
            <p:nvSpPr>
              <p:cNvPr id="202" name=""/>
              <p:cNvSpPr/>
              <p:nvPr/>
            </p:nvSpPr>
            <p:spPr>
              <a:xfrm>
                <a:off x="2133720" y="3429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09680" y="3200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2590920" y="1371600"/>
            <a:ext cx="457200" cy="4952880"/>
            <a:chOff x="2590920" y="1371600"/>
            <a:chExt cx="457200" cy="4952880"/>
          </a:xfrm>
        </p:grpSpPr>
        <p:sp>
          <p:nvSpPr>
            <p:cNvPr id="206" name=""/>
            <p:cNvSpPr/>
            <p:nvPr/>
          </p:nvSpPr>
          <p:spPr>
            <a:xfrm>
              <a:off x="2590920" y="1371600"/>
              <a:ext cx="45720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3200" y="14479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198108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3200" y="274320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403848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3200" y="601992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733920" y="144792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Lors de sa chute, le coyote augmente sa distance du haut de la colline par rapport au dé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Il y a un lien direct qui existe entre la distance parcourue et le tem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1523880"/>
            <a:ext cx="152640" cy="685800"/>
          </a:xfrm>
          <a:custGeom>
            <a:avLst/>
            <a:gdLst>
              <a:gd name="textAreaLeft" fmla="*/ 20160 w 152640"/>
              <a:gd name="textAreaRight" fmla="*/ 132480 w 1526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057400"/>
            <a:ext cx="228600" cy="914400"/>
          </a:xfrm>
          <a:custGeom>
            <a:avLst/>
            <a:gdLst>
              <a:gd name="textAreaLeft" fmla="*/ 30600 w 228600"/>
              <a:gd name="textAreaRight" fmla="*/ 198000 w 2286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666880"/>
            <a:ext cx="381240" cy="1752840"/>
          </a:xfrm>
          <a:custGeom>
            <a:avLst/>
            <a:gdLst>
              <a:gd name="textAreaLeft" fmla="*/ 51120 w 381240"/>
              <a:gd name="textAreaRight" fmla="*/ 330120 w 381240"/>
              <a:gd name="textAreaTop" fmla="*/ 306360 h 1752840"/>
              <a:gd name="textAreaBottom" fmla="*/ 12715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58" stAng="-5400000" swAng="5400000"/>
                <a:lnTo>
                  <a:pt x="21600" y="11888"/>
                </a:lnTo>
                <a:arcTo wR="21600" hR="7558" stAng="0" swAng="2682069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3"/>
                </a:lnTo>
                <a:arcTo wR="21600" hR="7558" stAng="2682069" swAng="-2323729"/>
                <a:lnTo>
                  <a:pt x="20695" y="9723"/>
                </a:lnTo>
                <a:arcTo wR="21600" hR="7558" stAng="-358340" swAng="-5041660"/>
                <a:close/>
              </a:path>
              <a:path fill="darkenLess" w="21600" h="21600">
                <a:moveTo>
                  <a:pt x="0" y="0"/>
                </a:moveTo>
                <a:arcTo wR="21600" hR="7558" stAng="-5400000" swAng="5400000"/>
                <a:lnTo>
                  <a:pt x="21600" y="11888"/>
                </a:lnTo>
                <a:arcTo wR="21600" hR="7558" stAng="0" swAng="-358340"/>
                <a:lnTo>
                  <a:pt x="20695" y="9723"/>
                </a:lnTo>
                <a:arcTo wR="21600" hR="7558" stAng="-358340" swAng="-5041660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886200"/>
            <a:ext cx="533520" cy="2819520"/>
          </a:xfrm>
          <a:custGeom>
            <a:avLst/>
            <a:gdLst>
              <a:gd name="textAreaLeft" fmla="*/ 71280 w 533520"/>
              <a:gd name="textAreaRight" fmla="*/ 462240 w 53352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57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Mostafa  Badr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pull dir="d"/>
    <p:sndAc>
      <p:stSnd>
        <p:snd r:embed="rId1" name="ny003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95560" y="60199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95560" y="167616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Graphique de la Distance en fonction du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istance           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emps  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701720"/>
            <a:ext cx="1778040" cy="4318200"/>
          </a:xfrm>
          <a:custGeom>
            <a:avLst/>
            <a:gdLst/>
            <a:ahLst/>
            <a:rect l="l" t="t" r="r" b="b"/>
            <a:pathLst>
              <a:path w="1120" h="2720">
                <a:moveTo>
                  <a:pt x="0" y="2720"/>
                </a:moveTo>
                <a:cubicBezTo>
                  <a:pt x="172" y="2604"/>
                  <a:pt x="344" y="2488"/>
                  <a:pt x="480" y="2336"/>
                </a:cubicBezTo>
                <a:cubicBezTo>
                  <a:pt x="616" y="2184"/>
                  <a:pt x="728" y="2016"/>
                  <a:pt x="816" y="1808"/>
                </a:cubicBezTo>
                <a:cubicBezTo>
                  <a:pt x="904" y="1600"/>
                  <a:pt x="960" y="1360"/>
                  <a:pt x="1008" y="1088"/>
                </a:cubicBezTo>
                <a:cubicBezTo>
                  <a:pt x="1056" y="816"/>
                  <a:pt x="1088" y="352"/>
                  <a:pt x="1104" y="176"/>
                </a:cubicBezTo>
                <a:cubicBezTo>
                  <a:pt x="1120" y="0"/>
                  <a:pt x="1112" y="16"/>
                  <a:pt x="1104" y="32"/>
                </a:cubicBezTo>
              </a:path>
            </a:pathLst>
          </a:custGeom>
          <a:noFill/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4479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De ce graphique, il est possible de constater que la vitesse augmente sous l’effet d’une grand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Il y a donc une relation qui existe entre la vitesse et le tem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On obtient ce graphique en plaçant les points des pentes des droites tangentes à la parabole du premier graphiq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095560" y="1676160"/>
            <a:ext cx="4952880" cy="4343760"/>
            <a:chOff x="2095560" y="1676160"/>
            <a:chExt cx="4952880" cy="4343760"/>
          </a:xfrm>
        </p:grpSpPr>
        <p:sp>
          <p:nvSpPr>
            <p:cNvPr id="230" name=""/>
            <p:cNvSpPr/>
            <p:nvPr/>
          </p:nvSpPr>
          <p:spPr>
            <a:xfrm>
              <a:off x="2095560" y="6019920"/>
              <a:ext cx="49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095560" y="1676160"/>
              <a:ext cx="0" cy="434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5228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istance   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emps  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1701720"/>
            <a:ext cx="1778040" cy="4318200"/>
          </a:xfrm>
          <a:custGeom>
            <a:avLst/>
            <a:gdLst/>
            <a:ahLst/>
            <a:rect l="l" t="t" r="r" b="b"/>
            <a:pathLst>
              <a:path w="1120" h="2720">
                <a:moveTo>
                  <a:pt x="0" y="2720"/>
                </a:moveTo>
                <a:cubicBezTo>
                  <a:pt x="172" y="2604"/>
                  <a:pt x="344" y="2488"/>
                  <a:pt x="480" y="2336"/>
                </a:cubicBezTo>
                <a:cubicBezTo>
                  <a:pt x="616" y="2184"/>
                  <a:pt x="728" y="2016"/>
                  <a:pt x="816" y="1808"/>
                </a:cubicBezTo>
                <a:cubicBezTo>
                  <a:pt x="904" y="1600"/>
                  <a:pt x="960" y="1360"/>
                  <a:pt x="1008" y="1088"/>
                </a:cubicBezTo>
                <a:cubicBezTo>
                  <a:pt x="1056" y="816"/>
                  <a:pt x="1088" y="352"/>
                  <a:pt x="1104" y="176"/>
                </a:cubicBezTo>
                <a:cubicBezTo>
                  <a:pt x="1120" y="0"/>
                  <a:pt x="1112" y="16"/>
                  <a:pt x="1104" y="32"/>
                </a:cubicBezTo>
              </a:path>
            </a:pathLst>
          </a:custGeom>
          <a:noFill/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752480" y="5029200"/>
            <a:ext cx="1600200" cy="129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352680" y="2133360"/>
            <a:ext cx="609840" cy="2819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666880" y="3962160"/>
            <a:ext cx="106704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Graphique de la Distance en fonction du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Prenons les </a:t>
            </a:r>
            <a:r>
              <a:rPr b="1" lang="fr-CA" sz="2800" spc="-1" strike="noStrike">
                <a:solidFill>
                  <a:srgbClr val="0000ff"/>
                </a:solidFill>
                <a:latin typeface="Bookman Old Style"/>
              </a:rPr>
              <a:t>trois points a, b, c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Calculons la pente des tangentes en nous servant de: Дd/Д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2280" y="1676160"/>
            <a:ext cx="7467840" cy="5092920"/>
            <a:chOff x="152280" y="1676160"/>
            <a:chExt cx="7467840" cy="5092920"/>
          </a:xfrm>
        </p:grpSpPr>
        <p:grpSp>
          <p:nvGrpSpPr>
            <p:cNvPr id="245" name=""/>
            <p:cNvGrpSpPr/>
            <p:nvPr/>
          </p:nvGrpSpPr>
          <p:grpSpPr>
            <a:xfrm>
              <a:off x="2095560" y="1676160"/>
              <a:ext cx="4952880" cy="4343760"/>
              <a:chOff x="2095560" y="1676160"/>
              <a:chExt cx="4952880" cy="4343760"/>
            </a:xfrm>
          </p:grpSpPr>
          <p:sp>
            <p:nvSpPr>
              <p:cNvPr id="246" name=""/>
              <p:cNvSpPr/>
              <p:nvPr/>
            </p:nvSpPr>
            <p:spPr>
              <a:xfrm>
                <a:off x="2095560" y="6019920"/>
                <a:ext cx="4952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095560" y="1676160"/>
                <a:ext cx="0" cy="4343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52280" y="1981080"/>
              <a:ext cx="22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orte"/>
                </a:rPr>
                <a:t>Distance    (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4120" y="6248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orte"/>
                </a:rPr>
                <a:t>Temps  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1701720"/>
              <a:ext cx="1778040" cy="4318200"/>
            </a:xfrm>
            <a:custGeom>
              <a:avLst/>
              <a:gdLst/>
              <a:ahLst/>
              <a:rect l="l" t="t" r="r" b="b"/>
              <a:pathLst>
                <a:path w="1120" h="2720">
                  <a:moveTo>
                    <a:pt x="0" y="2720"/>
                  </a:moveTo>
                  <a:cubicBezTo>
                    <a:pt x="172" y="2604"/>
                    <a:pt x="344" y="2488"/>
                    <a:pt x="480" y="2336"/>
                  </a:cubicBezTo>
                  <a:cubicBezTo>
                    <a:pt x="616" y="2184"/>
                    <a:pt x="728" y="2016"/>
                    <a:pt x="816" y="1808"/>
                  </a:cubicBezTo>
                  <a:cubicBezTo>
                    <a:pt x="904" y="1600"/>
                    <a:pt x="960" y="1360"/>
                    <a:pt x="1008" y="1088"/>
                  </a:cubicBezTo>
                  <a:cubicBezTo>
                    <a:pt x="1056" y="816"/>
                    <a:pt x="1088" y="352"/>
                    <a:pt x="1104" y="176"/>
                  </a:cubicBezTo>
                  <a:cubicBezTo>
                    <a:pt x="1120" y="0"/>
                    <a:pt x="1112" y="16"/>
                    <a:pt x="1104" y="32"/>
                  </a:cubicBezTo>
                </a:path>
              </a:pathLst>
            </a:custGeom>
            <a:noFill/>
            <a:ln w="2844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752480" y="5029200"/>
              <a:ext cx="160020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52680" y="2133360"/>
              <a:ext cx="609840" cy="2819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666880" y="3962160"/>
              <a:ext cx="1067040" cy="19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55627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2120" y="1447920"/>
            <a:ext cx="77724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Maintenant nous avons les trois points </a:t>
            </a:r>
            <a:r>
              <a:rPr b="1" lang="fr-CA" sz="2800" spc="-1" strike="noStrike">
                <a:solidFill>
                  <a:srgbClr val="0000ff"/>
                </a:solidFill>
                <a:latin typeface="Bookman Old Style"/>
              </a:rPr>
              <a:t>(a , a</a:t>
            </a:r>
            <a:r>
              <a:rPr b="1" lang="fr-CA" sz="28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2800" spc="-1" strike="noStrike">
                <a:solidFill>
                  <a:srgbClr val="0000ff"/>
                </a:solidFill>
                <a:latin typeface="Bookman Old Style"/>
              </a:rPr>
              <a:t>)                 (b , b</a:t>
            </a:r>
            <a:r>
              <a:rPr b="1" lang="fr-CA" sz="28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2800" spc="-1" strike="noStrike">
                <a:solidFill>
                  <a:srgbClr val="0000ff"/>
                </a:solidFill>
                <a:latin typeface="Bookman Old Style"/>
              </a:rPr>
              <a:t>)                (c , c</a:t>
            </a:r>
            <a:r>
              <a:rPr b="1" lang="fr-CA" sz="28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28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Plaçons ces points sur un graphique de la vitesse en fonction du tem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95560" y="60199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095560" y="167616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4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Graphique de la Vitesse en fonction du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Vitesse    (m/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emps  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33720" y="2133360"/>
            <a:ext cx="4038480" cy="388620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51814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14200" y="5257800"/>
            <a:ext cx="81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ff"/>
                </a:solidFill>
                <a:latin typeface="Bookman Old Style"/>
              </a:rPr>
              <a:t>(a, a</a:t>
            </a:r>
            <a:r>
              <a:rPr b="1" lang="fr-CA" sz="18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18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69320" y="3962520"/>
            <a:ext cx="96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Bookman Old Style"/>
              </a:rPr>
              <a:t>(b , b</a:t>
            </a:r>
            <a:r>
              <a:rPr b="1" lang="fr-CA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20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90520" y="2666880"/>
            <a:ext cx="90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ff"/>
                </a:solidFill>
                <a:latin typeface="Bookman Old Style"/>
              </a:rPr>
              <a:t>(c , c</a:t>
            </a:r>
            <a:r>
              <a:rPr b="1" lang="fr-CA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fr-CA" sz="20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62120" y="685800"/>
            <a:ext cx="80769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Comme nous le constatons, la vitesse croît en fonction du temps sous l’effet d’une grandeur qu ’on appelle l’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ccélération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Tout corps tombant en chute libre près de la surface de la terre, subit une accélération gravitationnelle terrestre d ’envir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g = 9,8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fr-CA" sz="24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295280"/>
            <a:ext cx="80773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Il existe aussi un lien entre l’accélération et le te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Afin de dessiner le graphique de l ’accélération en fonction du temps, nous devons trouver la pente de la droite du graphique de la vitesse en fonction du te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51814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2280" y="1676160"/>
            <a:ext cx="7467840" cy="5092920"/>
            <a:chOff x="152280" y="1676160"/>
            <a:chExt cx="7467840" cy="5092920"/>
          </a:xfrm>
        </p:grpSpPr>
        <p:sp>
          <p:nvSpPr>
            <p:cNvPr id="289" name=""/>
            <p:cNvSpPr/>
            <p:nvPr/>
          </p:nvSpPr>
          <p:spPr>
            <a:xfrm>
              <a:off x="2095560" y="6019920"/>
              <a:ext cx="49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095560" y="1676160"/>
              <a:ext cx="0" cy="434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280" y="1981080"/>
              <a:ext cx="22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orte"/>
                </a:rPr>
                <a:t>Vitesse    (m/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6248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orte"/>
                </a:rPr>
                <a:t>Temps  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133720" y="2133360"/>
              <a:ext cx="4038480" cy="388620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4200" y="5257800"/>
              <a:ext cx="81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ff"/>
                  </a:solidFill>
                  <a:latin typeface="Bookman Old Style"/>
                </a:rPr>
                <a:t>(a, a</a:t>
              </a:r>
              <a:r>
                <a:rPr b="1" lang="fr-CA" sz="1800" spc="-1" strike="noStrike" baseline="-25000">
                  <a:solidFill>
                    <a:srgbClr val="0000ff"/>
                  </a:solidFill>
                  <a:latin typeface="Bookman Old Style"/>
                </a:rPr>
                <a:t>1</a:t>
              </a:r>
              <a:r>
                <a:rPr b="1" lang="fr-CA" sz="1800" spc="-1" strike="noStrike">
                  <a:solidFill>
                    <a:srgbClr val="0000ff"/>
                  </a:solidFill>
                  <a:latin typeface="Bookman Old Style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69320" y="3962520"/>
              <a:ext cx="96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3300"/>
                  </a:solidFill>
                  <a:latin typeface="Bookman Old Style"/>
                </a:rPr>
                <a:t>(b , b</a:t>
              </a:r>
              <a:r>
                <a:rPr b="1" lang="fr-CA" sz="2000" spc="-1" strike="noStrike" baseline="-25000">
                  <a:solidFill>
                    <a:srgbClr val="ff3300"/>
                  </a:solidFill>
                  <a:latin typeface="Bookman Old Style"/>
                </a:rPr>
                <a:t>1</a:t>
              </a:r>
              <a:r>
                <a:rPr b="1" lang="fr-CA" sz="2000" spc="-1" strike="noStrike">
                  <a:solidFill>
                    <a:srgbClr val="ff33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90520" y="2666880"/>
              <a:ext cx="90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3300"/>
                  </a:solidFill>
                  <a:latin typeface="Bookman Old Style"/>
                </a:rPr>
                <a:t>(c , c</a:t>
              </a:r>
              <a:r>
                <a:rPr b="1" lang="fr-CA" sz="2000" spc="-1" strike="noStrike" baseline="-25000">
                  <a:solidFill>
                    <a:srgbClr val="ff3300"/>
                  </a:solidFill>
                  <a:latin typeface="Bookman Old Style"/>
                </a:rPr>
                <a:t>1</a:t>
              </a:r>
              <a:r>
                <a:rPr b="1" lang="fr-CA" sz="2000" spc="-1" strike="noStrike">
                  <a:solidFill>
                    <a:srgbClr val="ff33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76920" y="7621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Forte"/>
              </a:rPr>
              <a:t>Pente = </a:t>
            </a:r>
            <a:r>
              <a:rPr b="0" lang="fr-CA" sz="3200" spc="-1" strike="noStrike" u="sng">
                <a:solidFill>
                  <a:srgbClr val="ff3300"/>
                </a:solidFill>
                <a:uFillTx/>
                <a:latin typeface="Forte"/>
              </a:rPr>
              <a:t>c1 - 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3300"/>
                </a:solidFill>
                <a:latin typeface="Forte"/>
              </a:rPr>
              <a:t>               </a:t>
            </a:r>
            <a:r>
              <a:rPr b="0" lang="fr-CA" sz="3200" spc="-1" strike="noStrike">
                <a:solidFill>
                  <a:srgbClr val="ff3300"/>
                </a:solidFill>
                <a:latin typeface="Forte"/>
              </a:rPr>
              <a:t>c -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095560" y="60199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095560" y="167616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Graphique de l ’Accélération en fonction du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Accélération  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(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Temps  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971800"/>
            <a:ext cx="464796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81080" y="2971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84400" y="26668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9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638680"/>
            <a:ext cx="1143000" cy="1219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1600" y="23042"/>
                </a:lnTo>
                <a:lnTo>
                  <a:pt x="21600" y="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0" y="23042"/>
                </a:lnTo>
                <a:lnTo>
                  <a:pt x="21600" y="230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0" y="0"/>
                </a:lnTo>
                <a:lnTo>
                  <a:pt x="0" y="2304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right%20button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819000" cy="83808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7696080" y="54864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57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Forte"/>
              </a:rPr>
              <a:t>Athanasios Kouremeno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5638680"/>
            <a:ext cx="1143000" cy="1219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1600" y="23042"/>
                </a:lnTo>
                <a:lnTo>
                  <a:pt x="21600" y="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0" y="23042"/>
                </a:lnTo>
                <a:lnTo>
                  <a:pt x="21600" y="230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0" y="0"/>
                </a:lnTo>
                <a:lnTo>
                  <a:pt x="0" y="2304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28600"/>
            <a:ext cx="8077320" cy="70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L ’accélération gravitationnelle g varie légèrement sur la surface de la terre. En effet, elle est proche de 9,83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aux pôles et voisine de 9,78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à l ’équateur. Elle diminue aussi avec l ’altitude et dépend du r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Voici quelques valeu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- Paris: 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9,80943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- Cambridge: 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9,80398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- Madrid: 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9,79984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La valeur de référence de g est appelée g</a:t>
            </a:r>
            <a:r>
              <a:rPr b="0" lang="fr-CA" sz="2800" spc="-1" strike="noStrike" baseline="-25000">
                <a:solidFill>
                  <a:srgbClr val="000000"/>
                </a:solidFill>
                <a:latin typeface="Bookman Old Style"/>
              </a:rPr>
              <a:t>normal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 . Elle correspondant à une altitude zéro et la latitude 45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fr-CA" sz="2800" spc="-1" strike="noStrike" baseline="-25000">
                <a:solidFill>
                  <a:srgbClr val="000000"/>
                </a:solidFill>
                <a:latin typeface="Bookman Old Style"/>
              </a:rPr>
              <a:t>normal</a:t>
            </a: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 = 9,80665 m/s</a:t>
            </a:r>
            <a:r>
              <a:rPr b="1" lang="fr-CA" sz="2800" spc="-1" strike="noStrike" baseline="30000">
                <a:solidFill>
                  <a:srgbClr val="000000"/>
                </a:solidFill>
                <a:latin typeface="Bookman Old Style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Home%20button" descr=""/>
          <p:cNvPicPr/>
          <p:nvPr/>
        </p:nvPicPr>
        <p:blipFill>
          <a:blip r:embed="rId1"/>
          <a:stretch/>
        </p:blipFill>
        <p:spPr>
          <a:xfrm>
            <a:off x="0" y="5943600"/>
            <a:ext cx="89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62120" y="380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Home%20button" descr=""/>
          <p:cNvPicPr/>
          <p:nvPr/>
        </p:nvPicPr>
        <p:blipFill>
          <a:blip r:embed="rId1"/>
          <a:stretch/>
        </p:blipFill>
        <p:spPr>
          <a:xfrm>
            <a:off x="0" y="59436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52280" y="563868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1600" y="28800"/>
                </a:lnTo>
                <a:lnTo>
                  <a:pt x="21600" y="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0" y="28800"/>
                </a:lnTo>
                <a:lnTo>
                  <a:pt x="21600" y="288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0" y="0"/>
                </a:lnTo>
                <a:lnTo>
                  <a:pt x="0" y="28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144792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En guise de conclusion, nous devons arriver à l ’évidence que la chute libre est un phénomème très intéress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Il met en lien la distance ainsi que le temps afin de déterminer la vitesse d ’un corps en chute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Bookman Old Style"/>
              </a:rPr>
              <a:t>De même, la relation entre la vitesse et le temps nous permet de déterminer une accélération constan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62120" y="380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Forte"/>
              </a:rPr>
              <a:t>Réfé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Home%20button" descr=""/>
          <p:cNvPicPr/>
          <p:nvPr/>
        </p:nvPicPr>
        <p:blipFill>
          <a:blip r:embed="rId1"/>
          <a:stretch/>
        </p:blipFill>
        <p:spPr>
          <a:xfrm>
            <a:off x="0" y="59436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52280" y="563868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1600" y="28800"/>
                </a:lnTo>
                <a:lnTo>
                  <a:pt x="21600" y="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0" y="28800"/>
                </a:lnTo>
                <a:lnTo>
                  <a:pt x="21600" y="288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0" y="0"/>
                </a:lnTo>
                <a:lnTo>
                  <a:pt x="0" y="28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447920"/>
            <a:ext cx="80769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Bookman Old Style"/>
              </a:rPr>
              <a:t>- Elliot, Ken. </a:t>
            </a:r>
            <a:r>
              <a:rPr b="1" i="1" lang="fr-CA" sz="2600" spc="-1" strike="noStrike">
                <a:solidFill>
                  <a:srgbClr val="000000"/>
                </a:solidFill>
                <a:latin typeface="Bookman Old Style"/>
              </a:rPr>
              <a:t>Physique 534 : Lumière, optique et mécanique</a:t>
            </a:r>
            <a:r>
              <a:rPr b="1" lang="fr-CA" sz="2600" spc="-1" strike="noStrike">
                <a:solidFill>
                  <a:srgbClr val="000000"/>
                </a:solidFill>
                <a:latin typeface="Bookman Old Style"/>
              </a:rPr>
              <a:t>, Montréal, Les Éditions de la Chevalière, 1996, 401 p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Bookman Old Style"/>
              </a:rPr>
              <a:t>- Bouchard, Régent. </a:t>
            </a:r>
            <a:r>
              <a:rPr b="1" i="1" lang="fr-CA" sz="2600" spc="-1" strike="noStrike">
                <a:solidFill>
                  <a:srgbClr val="000000"/>
                </a:solidFill>
                <a:latin typeface="Bookman Old Style"/>
              </a:rPr>
              <a:t>Physique 534 : Phénomènes mécaniques</a:t>
            </a:r>
            <a:r>
              <a:rPr b="1" lang="fr-CA" sz="2600" spc="-1" strike="noStrike">
                <a:solidFill>
                  <a:srgbClr val="000000"/>
                </a:solidFill>
                <a:latin typeface="Bookman Old Style"/>
              </a:rPr>
              <a:t>, Montréal, Éditions Lidec inc., 1993, 348 p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Bookman Old Style"/>
              </a:rPr>
              <a:t>- Présence Web. (Page consultée le 22 avril 2000). La chute libre, [En ligne]. Adresse URL : http://presenceweb.qc.ca/physique/labo/ chute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37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743200"/>
            <a:ext cx="99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743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5238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098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371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4038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08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4100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4956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2895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u"/>
    <p:sndAc>
      <p:stSnd>
        <p:snd r:embed="rId1" name="ny003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16002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7432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819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429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62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9051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105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9051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4114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108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7339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286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962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895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1911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371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14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057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038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4038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962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4038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038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1460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7339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7339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657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7339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133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Forte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04:39:41Z</dcterms:created>
  <dc:creator>Mr. Mostafa Badran</dc:creator>
  <dc:description/>
  <dc:language>en-US</dc:language>
  <cp:lastModifiedBy>A. Bensaada</cp:lastModifiedBy>
  <dcterms:modified xsi:type="dcterms:W3CDTF">2000-09-26T03:48:43Z</dcterms:modified>
  <cp:revision>45</cp:revision>
  <dc:subject/>
  <dc:title>PowerPoint Presentation</dc:title>
</cp:coreProperties>
</file>