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12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FileDone.wav" ContentType="audio/x-wav"/>
  <Override PartName="/ppt/media/image17.jpeg" ContentType="image/jpeg"/>
  <Override PartName="/ppt/media/Global.wav" ContentType="audio/x-wav"/>
  <Override PartName="/ppt/media/READY.WAV" ContentType="audio/x-wav"/>
  <Override PartName="/ppt/media/Picture.wav" ContentType="audio/x-wav"/>
  <Override PartName="/ppt/media/image21.wmf" ContentType="image/x-wmf"/>
  <Override PartName="/ppt/media/image19.wmf" ContentType="image/x-wmf"/>
  <Override PartName="/ppt/media/image1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815-3604-4EBC-91A1-73E58937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A1F-4EBE-491A-B28D-9AC591C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FF6-54F7-4C89-BDD5-D69932CB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DD3-C6AB-483B-AC7C-18887854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E60-5692-4D83-9D03-F5E4DA4A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3C5-3D00-49E5-9D03-33AAF7B1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87A-BC5B-4B94-B4B7-BFA59406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03B-1409-4F04-871B-61F1CD8A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E58-5B4A-4686-A3D0-6D57966B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591-54B2-46FB-9FF3-AA3ED9E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F7D-A05E-45B9-BC21-B4C7C9D9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240-8C20-48D4-851B-1E0ACE33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A526-A066-428D-959B-8B3593548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5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hyperlink" Target="file:///tmp/home/.config/libreoffice/4/user/gallery/Message.wav" TargetMode="External"/><Relationship Id="rId5" Type="http://schemas.openxmlformats.org/officeDocument/2006/relationships/audio" Target="../media/Global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wmf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ictur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READY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FileDon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a loi de Charl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09200" y="2879640"/>
            <a:ext cx="833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Nathalie Alieh et Joanna Dimitrakopoul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39800" y="373284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608280" y="5867280"/>
            <a:ext cx="2666880" cy="457200"/>
            <a:chOff x="3608280" y="5867280"/>
            <a:chExt cx="2666880" cy="457200"/>
          </a:xfrm>
        </p:grpSpPr>
        <p:sp>
          <p:nvSpPr>
            <p:cNvPr id="45" name=""/>
            <p:cNvSpPr/>
            <p:nvPr/>
          </p:nvSpPr>
          <p:spPr>
            <a:xfrm>
              <a:off x="3608280" y="58672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96920" y="59421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926360" y="4633200"/>
            <a:ext cx="603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yriam D ’Av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34164" t="0" r="0" b="0"/>
          <a:stretch/>
        </p:blipFill>
        <p:spPr>
          <a:xfrm>
            <a:off x="5943600" y="373392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34164" t="0" r="0" b="0"/>
          <a:stretch/>
        </p:blipFill>
        <p:spPr>
          <a:xfrm>
            <a:off x="2514600" y="3429000"/>
            <a:ext cx="121932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0" t="0" r="2055" b="27430"/>
          <a:stretch/>
        </p:blipFill>
        <p:spPr>
          <a:xfrm>
            <a:off x="2209680" y="3733920"/>
            <a:ext cx="30492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14400" y="1143000"/>
            <a:ext cx="75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6600"/>
                </a:solidFill>
                <a:latin typeface="Calisto MT"/>
              </a:rPr>
              <a:t>On augmente la température du premier gaz de 150K et on diminue celle du deuxième gaz de 150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47920" y="5562720"/>
            <a:ext cx="2361960" cy="685800"/>
            <a:chOff x="1447920" y="5562720"/>
            <a:chExt cx="2361960" cy="685800"/>
          </a:xfrm>
        </p:grpSpPr>
        <p:sp>
          <p:nvSpPr>
            <p:cNvPr id="90" name=""/>
            <p:cNvSpPr/>
            <p:nvPr/>
          </p:nvSpPr>
          <p:spPr>
            <a:xfrm>
              <a:off x="1447920" y="5562720"/>
              <a:ext cx="2361960" cy="68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5791320"/>
              <a:ext cx="45720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000" y="58672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6019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057400" y="4495680"/>
            <a:ext cx="1219320" cy="1067040"/>
            <a:chOff x="2057400" y="4495680"/>
            <a:chExt cx="1219320" cy="1067040"/>
          </a:xfrm>
        </p:grpSpPr>
        <p:sp>
          <p:nvSpPr>
            <p:cNvPr id="95" name=""/>
            <p:cNvSpPr/>
            <p:nvPr/>
          </p:nvSpPr>
          <p:spPr>
            <a:xfrm>
              <a:off x="2133720" y="4572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200400" y="4572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200400" y="449568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2057400" y="449568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105520"/>
              <a:ext cx="10666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666880" y="41148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43434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45720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43434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1911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49528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4800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181480" y="4114800"/>
            <a:ext cx="1676520" cy="1599120"/>
            <a:chOff x="5181480" y="4114800"/>
            <a:chExt cx="1676520" cy="1599120"/>
          </a:xfrm>
        </p:grpSpPr>
        <p:grpSp>
          <p:nvGrpSpPr>
            <p:cNvPr id="108" name=""/>
            <p:cNvGrpSpPr/>
            <p:nvPr/>
          </p:nvGrpSpPr>
          <p:grpSpPr>
            <a:xfrm>
              <a:off x="5181480" y="4114800"/>
              <a:ext cx="1676520" cy="1599120"/>
              <a:chOff x="5181480" y="4114800"/>
              <a:chExt cx="1676520" cy="15991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5181480" y="4114800"/>
                <a:ext cx="1676520" cy="1599120"/>
                <a:chOff x="5181480" y="4114800"/>
                <a:chExt cx="1676520" cy="159912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5181480" y="4114800"/>
                  <a:ext cx="1676520" cy="1599120"/>
                  <a:chOff x="5181480" y="4114800"/>
                  <a:chExt cx="1676520" cy="159912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5181480" y="4114800"/>
                    <a:ext cx="1676520" cy="1599120"/>
                    <a:chOff x="5181480" y="4114800"/>
                    <a:chExt cx="1676520" cy="1599120"/>
                  </a:xfrm>
                </p:grpSpPr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5181480" y="4114800"/>
                      <a:ext cx="1676520" cy="1599120"/>
                      <a:chOff x="5181480" y="4114800"/>
                      <a:chExt cx="1676520" cy="1599120"/>
                    </a:xfrm>
                  </p:grpSpPr>
                  <p:grpSp>
                    <p:nvGrpSpPr>
                      <p:cNvPr id="113" name=""/>
                      <p:cNvGrpSpPr/>
                      <p:nvPr/>
                    </p:nvGrpSpPr>
                    <p:grpSpPr>
                      <a:xfrm>
                        <a:off x="5181480" y="4114800"/>
                        <a:ext cx="1676520" cy="1599120"/>
                        <a:chOff x="5181480" y="4114800"/>
                        <a:chExt cx="1676520" cy="1599120"/>
                      </a:xfrm>
                    </p:grpSpPr>
                    <p:grpSp>
                      <p:nvGrpSpPr>
                        <p:cNvPr id="114" name=""/>
                        <p:cNvGrpSpPr/>
                        <p:nvPr/>
                      </p:nvGrpSpPr>
                      <p:grpSpPr>
                        <a:xfrm>
                          <a:off x="5181480" y="4114800"/>
                          <a:ext cx="1676520" cy="1599120"/>
                          <a:chOff x="5181480" y="4114800"/>
                          <a:chExt cx="1676520" cy="1599120"/>
                        </a:xfrm>
                      </p:grpSpPr>
                      <p:grpSp>
                        <p:nvGrpSpPr>
                          <p:cNvPr id="115" name=""/>
                          <p:cNvGrpSpPr/>
                          <p:nvPr/>
                        </p:nvGrpSpPr>
                        <p:grpSpPr>
                          <a:xfrm>
                            <a:off x="5181480" y="4114800"/>
                            <a:ext cx="1676520" cy="1599120"/>
                            <a:chOff x="5181480" y="4114800"/>
                            <a:chExt cx="1676520" cy="1599120"/>
                          </a:xfrm>
                        </p:grpSpPr>
                        <p:grpSp>
                          <p:nvGrpSpPr>
                            <p:cNvPr id="116" name=""/>
                            <p:cNvGrpSpPr/>
                            <p:nvPr/>
                          </p:nvGrpSpPr>
                          <p:grpSpPr>
                            <a:xfrm>
                              <a:off x="5181480" y="4114800"/>
                              <a:ext cx="1676520" cy="1599120"/>
                              <a:chOff x="5181480" y="4114800"/>
                              <a:chExt cx="1676520" cy="1599120"/>
                            </a:xfrm>
                          </p:grpSpPr>
                          <p:grpSp>
                            <p:nvGrpSpPr>
                              <p:cNvPr id="117" name=""/>
                              <p:cNvGrpSpPr/>
                              <p:nvPr/>
                            </p:nvGrpSpPr>
                            <p:grpSpPr>
                              <a:xfrm>
                                <a:off x="5181480" y="4114800"/>
                                <a:ext cx="1676520" cy="1599120"/>
                                <a:chOff x="5181480" y="4114800"/>
                                <a:chExt cx="1676520" cy="1599120"/>
                              </a:xfrm>
                            </p:grpSpPr>
                            <p:sp>
                              <p:nvSpPr>
                                <p:cNvPr id="118" name=""/>
                                <p:cNvSpPr/>
                                <p:nvPr/>
                              </p:nvSpPr>
                              <p:spPr>
                                <a:xfrm>
                                  <a:off x="5257800" y="5234400"/>
                                  <a:ext cx="1523880" cy="479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ff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9" name=""/>
                                <p:cNvSpPr/>
                                <p:nvPr/>
                              </p:nvSpPr>
                              <p:spPr>
                                <a:xfrm flipV="1">
                                  <a:off x="5257800" y="4194360"/>
                                  <a:ext cx="0" cy="15195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0" name=""/>
                                <p:cNvSpPr/>
                                <p:nvPr/>
                              </p:nvSpPr>
                              <p:spPr>
                                <a:xfrm flipV="1">
                                  <a:off x="6781680" y="4194360"/>
                                  <a:ext cx="0" cy="15195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1" name=""/>
                                <p:cNvSpPr/>
                                <p:nvPr/>
                              </p:nvSpPr>
                              <p:spPr>
                                <a:xfrm flipV="1">
                                  <a:off x="6781680" y="4114800"/>
                                  <a:ext cx="76320" cy="799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3120" bIns="331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2" name=""/>
                                <p:cNvSpPr/>
                                <p:nvPr/>
                              </p:nvSpPr>
                              <p:spPr>
                                <a:xfrm flipH="1" flipV="1">
                                  <a:off x="5181480" y="4114800"/>
                                  <a:ext cx="76320" cy="799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3120" bIns="331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3" name=""/>
                              <p:cNvSpPr/>
                              <p:nvPr/>
                            </p:nvSpPr>
                            <p:spPr>
                              <a:xfrm flipV="1">
                                <a:off x="5333760" y="5074200"/>
                                <a:ext cx="152640" cy="160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4" name=""/>
                              <p:cNvSpPr/>
                              <p:nvPr/>
                            </p:nvSpPr>
                            <p:spPr>
                              <a:xfrm>
                                <a:off x="5486400" y="5074560"/>
                                <a:ext cx="152280" cy="160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" name=""/>
                              <p:cNvSpPr/>
                              <p:nvPr/>
                            </p:nvSpPr>
                            <p:spPr>
                              <a:xfrm>
                                <a:off x="6629400" y="4995000"/>
                                <a:ext cx="75960" cy="23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" name=""/>
                              <p:cNvSpPr/>
                              <p:nvPr/>
                            </p:nvSpPr>
                            <p:spPr>
                              <a:xfrm>
                                <a:off x="5943600" y="5074560"/>
                                <a:ext cx="228600" cy="16020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" name=""/>
                              <p:cNvSpPr/>
                              <p:nvPr/>
                            </p:nvSpPr>
                            <p:spPr>
                              <a:xfrm flipV="1">
                                <a:off x="6095880" y="4754880"/>
                                <a:ext cx="152280" cy="23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" name=""/>
                              <p:cNvSpPr/>
                              <p:nvPr/>
                            </p:nvSpPr>
                            <p:spPr>
                              <a:xfrm>
                                <a:off x="6248160" y="4754880"/>
                                <a:ext cx="76320" cy="3196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" name=""/>
                              <p:cNvSpPr/>
                              <p:nvPr/>
                            </p:nvSpPr>
                            <p:spPr>
                              <a:xfrm flipH="1" flipV="1">
                                <a:off x="5257440" y="4994640"/>
                                <a:ext cx="228600" cy="795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2760" bIns="327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" name=""/>
                              <p:cNvSpPr/>
                              <p:nvPr/>
                            </p:nvSpPr>
                            <p:spPr>
                              <a:xfrm flipV="1">
                                <a:off x="5410080" y="4754880"/>
                                <a:ext cx="152280" cy="23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31" name=""/>
                            <p:cNvSpPr/>
                            <p:nvPr/>
                          </p:nvSpPr>
                          <p:spPr>
                            <a:xfrm>
                              <a:off x="5562720" y="4800600"/>
                              <a:ext cx="228600" cy="2286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2" name=""/>
                          <p:cNvSpPr/>
                          <p:nvPr/>
                        </p:nvSpPr>
                        <p:spPr>
                          <a:xfrm flipH="1">
                            <a:off x="5562360" y="5029200"/>
                            <a:ext cx="152280" cy="1522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 flipH="1">
                          <a:off x="6324120" y="5029200"/>
                          <a:ext cx="304920" cy="7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6400800" y="5105520"/>
                        <a:ext cx="44280" cy="75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5791320" y="495288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6" name=""/>
                  <p:cNvSpPr/>
                  <p:nvPr/>
                </p:nvSpPr>
                <p:spPr>
                  <a:xfrm>
                    <a:off x="5867280" y="5029200"/>
                    <a:ext cx="763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 flipH="1">
                  <a:off x="6552720" y="495288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 flipV="1">
                <a:off x="6324480" y="480024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6553080" y="48006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5"/>
          <a:srcRect l="0" t="0" r="8493" b="16673"/>
          <a:stretch/>
        </p:blipFill>
        <p:spPr>
          <a:xfrm>
            <a:off x="5562720" y="3733920"/>
            <a:ext cx="2286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971800" y="4419720"/>
            <a:ext cx="1357920" cy="368280"/>
            <a:chOff x="2971800" y="4419720"/>
            <a:chExt cx="1357920" cy="368280"/>
          </a:xfrm>
        </p:grpSpPr>
        <p:sp>
          <p:nvSpPr>
            <p:cNvPr id="142" name=""/>
            <p:cNvSpPr/>
            <p:nvPr/>
          </p:nvSpPr>
          <p:spPr>
            <a:xfrm>
              <a:off x="3429720" y="44197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800" spc="-1" strike="noStrike">
                  <a:solidFill>
                    <a:srgbClr val="000000"/>
                  </a:solidFill>
                  <a:latin typeface="Times New Roman"/>
                </a:rPr>
                <a:t>300 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4572000"/>
              <a:ext cx="519120" cy="104760"/>
            </a:xfrm>
            <a:prstGeom prst="leftArrow">
              <a:avLst>
                <a:gd name="adj1" fmla="val 50000"/>
                <a:gd name="adj2" fmla="val 123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324480" y="4495680"/>
            <a:ext cx="1357920" cy="368280"/>
            <a:chOff x="6324480" y="4495680"/>
            <a:chExt cx="1357920" cy="368280"/>
          </a:xfrm>
        </p:grpSpPr>
        <p:sp>
          <p:nvSpPr>
            <p:cNvPr id="145" name=""/>
            <p:cNvSpPr/>
            <p:nvPr/>
          </p:nvSpPr>
          <p:spPr>
            <a:xfrm>
              <a:off x="6782400" y="449568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800" spc="-1" strike="noStrike">
                  <a:solidFill>
                    <a:srgbClr val="000000"/>
                  </a:solidFill>
                  <a:latin typeface="Times New Roman"/>
                </a:rPr>
                <a:t>300 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648320"/>
              <a:ext cx="519120" cy="104760"/>
            </a:xfrm>
            <a:prstGeom prst="leftArrow">
              <a:avLst>
                <a:gd name="adj1" fmla="val 50000"/>
                <a:gd name="adj2" fmla="val 123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2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514600" y="3429000"/>
            <a:ext cx="609120" cy="1752480"/>
            <a:chOff x="2514600" y="3429000"/>
            <a:chExt cx="609120" cy="175248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34164" t="0" r="35948" b="29385"/>
            <a:stretch/>
          </p:blipFill>
          <p:spPr>
            <a:xfrm>
              <a:off x="2514600" y="3429000"/>
              <a:ext cx="6091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rcRect l="34164" t="45104" r="35948" b="37257"/>
            <a:stretch/>
          </p:blipFill>
          <p:spPr>
            <a:xfrm>
              <a:off x="2514600" y="4117320"/>
              <a:ext cx="609120" cy="56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2057400" y="4495680"/>
            <a:ext cx="1219320" cy="1067040"/>
            <a:chOff x="2057400" y="4495680"/>
            <a:chExt cx="1219320" cy="1067040"/>
          </a:xfrm>
        </p:grpSpPr>
        <p:sp>
          <p:nvSpPr>
            <p:cNvPr id="151" name=""/>
            <p:cNvSpPr/>
            <p:nvPr/>
          </p:nvSpPr>
          <p:spPr>
            <a:xfrm>
              <a:off x="2133720" y="4572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200400" y="4572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200400" y="449568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057400" y="449568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5105520"/>
              <a:ext cx="10666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3"/>
          <a:srcRect l="0" t="0" r="2055" b="27430"/>
          <a:stretch/>
        </p:blipFill>
        <p:spPr>
          <a:xfrm>
            <a:off x="2209680" y="3733920"/>
            <a:ext cx="304920" cy="1371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4400" y="1143000"/>
            <a:ext cx="754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6600"/>
                </a:solidFill>
                <a:latin typeface="Calisto MT"/>
              </a:rPr>
              <a:t>À 400K le volume a augmenté et à 100K le volume à diminué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47920" y="5562720"/>
            <a:ext cx="2361960" cy="685800"/>
            <a:chOff x="1447920" y="5562720"/>
            <a:chExt cx="2361960" cy="685800"/>
          </a:xfrm>
        </p:grpSpPr>
        <p:sp>
          <p:nvSpPr>
            <p:cNvPr id="160" name=""/>
            <p:cNvSpPr/>
            <p:nvPr/>
          </p:nvSpPr>
          <p:spPr>
            <a:xfrm>
              <a:off x="1447920" y="5562720"/>
              <a:ext cx="2361960" cy="68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720" y="5791320"/>
              <a:ext cx="45720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58672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1800" y="6019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181480" y="4114800"/>
            <a:ext cx="1676520" cy="1599120"/>
            <a:chOff x="5181480" y="4114800"/>
            <a:chExt cx="1676520" cy="1599120"/>
          </a:xfrm>
        </p:grpSpPr>
        <p:grpSp>
          <p:nvGrpSpPr>
            <p:cNvPr id="165" name=""/>
            <p:cNvGrpSpPr/>
            <p:nvPr/>
          </p:nvGrpSpPr>
          <p:grpSpPr>
            <a:xfrm>
              <a:off x="5181480" y="4114800"/>
              <a:ext cx="1676520" cy="1599120"/>
              <a:chOff x="5181480" y="4114800"/>
              <a:chExt cx="1676520" cy="159912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5181480" y="4114800"/>
                <a:ext cx="1676520" cy="1599120"/>
                <a:chOff x="5181480" y="4114800"/>
                <a:chExt cx="1676520" cy="159912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5181480" y="4114800"/>
                  <a:ext cx="1676520" cy="1599120"/>
                  <a:chOff x="5181480" y="4114800"/>
                  <a:chExt cx="1676520" cy="1599120"/>
                </a:xfrm>
              </p:grpSpPr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5181480" y="4114800"/>
                    <a:ext cx="1676520" cy="1599120"/>
                    <a:chOff x="5181480" y="4114800"/>
                    <a:chExt cx="1676520" cy="1599120"/>
                  </a:xfrm>
                </p:grpSpPr>
                <p:grpSp>
                  <p:nvGrpSpPr>
                    <p:cNvPr id="169" name=""/>
                    <p:cNvGrpSpPr/>
                    <p:nvPr/>
                  </p:nvGrpSpPr>
                  <p:grpSpPr>
                    <a:xfrm>
                      <a:off x="5181480" y="4114800"/>
                      <a:ext cx="1676520" cy="1599120"/>
                      <a:chOff x="5181480" y="4114800"/>
                      <a:chExt cx="1676520" cy="1599120"/>
                    </a:xfrm>
                  </p:grpSpPr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5181480" y="4114800"/>
                        <a:ext cx="1676520" cy="1599120"/>
                        <a:chOff x="5181480" y="4114800"/>
                        <a:chExt cx="1676520" cy="1599120"/>
                      </a:xfrm>
                    </p:grpSpPr>
                    <p:grpSp>
                      <p:nvGrpSpPr>
                        <p:cNvPr id="171" name=""/>
                        <p:cNvGrpSpPr/>
                        <p:nvPr/>
                      </p:nvGrpSpPr>
                      <p:grpSpPr>
                        <a:xfrm>
                          <a:off x="5181480" y="4114800"/>
                          <a:ext cx="1676520" cy="1599120"/>
                          <a:chOff x="5181480" y="4114800"/>
                          <a:chExt cx="1676520" cy="1599120"/>
                        </a:xfrm>
                      </p:grpSpPr>
                      <p:grpSp>
                        <p:nvGrpSpPr>
                          <p:cNvPr id="172" name=""/>
                          <p:cNvGrpSpPr/>
                          <p:nvPr/>
                        </p:nvGrpSpPr>
                        <p:grpSpPr>
                          <a:xfrm>
                            <a:off x="5181480" y="4114800"/>
                            <a:ext cx="1676520" cy="1599120"/>
                            <a:chOff x="5181480" y="4114800"/>
                            <a:chExt cx="1676520" cy="1599120"/>
                          </a:xfrm>
                        </p:grpSpPr>
                        <p:grpSp>
                          <p:nvGrpSpPr>
                            <p:cNvPr id="173" name=""/>
                            <p:cNvGrpSpPr/>
                            <p:nvPr/>
                          </p:nvGrpSpPr>
                          <p:grpSpPr>
                            <a:xfrm>
                              <a:off x="5181480" y="4114800"/>
                              <a:ext cx="1676520" cy="1599120"/>
                              <a:chOff x="5181480" y="4114800"/>
                              <a:chExt cx="1676520" cy="1599120"/>
                            </a:xfrm>
                          </p:grpSpPr>
                          <p:grpSp>
                            <p:nvGrpSpPr>
                              <p:cNvPr id="174" name=""/>
                              <p:cNvGrpSpPr/>
                              <p:nvPr/>
                            </p:nvGrpSpPr>
                            <p:grpSpPr>
                              <a:xfrm>
                                <a:off x="5181480" y="4114800"/>
                                <a:ext cx="1676520" cy="1599120"/>
                                <a:chOff x="5181480" y="4114800"/>
                                <a:chExt cx="1676520" cy="1599120"/>
                              </a:xfrm>
                            </p:grpSpPr>
                            <p:sp>
                              <p:nvSpPr>
                                <p:cNvPr id="175" name=""/>
                                <p:cNvSpPr/>
                                <p:nvPr/>
                              </p:nvSpPr>
                              <p:spPr>
                                <a:xfrm>
                                  <a:off x="5257800" y="5234400"/>
                                  <a:ext cx="1523880" cy="479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ccffff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6" name=""/>
                                <p:cNvSpPr/>
                                <p:nvPr/>
                              </p:nvSpPr>
                              <p:spPr>
                                <a:xfrm flipV="1">
                                  <a:off x="5257800" y="4194360"/>
                                  <a:ext cx="0" cy="15195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7" name=""/>
                                <p:cNvSpPr/>
                                <p:nvPr/>
                              </p:nvSpPr>
                              <p:spPr>
                                <a:xfrm flipV="1">
                                  <a:off x="6781680" y="4194360"/>
                                  <a:ext cx="0" cy="15195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8" name=""/>
                                <p:cNvSpPr/>
                                <p:nvPr/>
                              </p:nvSpPr>
                              <p:spPr>
                                <a:xfrm flipV="1">
                                  <a:off x="6781680" y="4114800"/>
                                  <a:ext cx="76320" cy="799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3120" bIns="331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9" name=""/>
                                <p:cNvSpPr/>
                                <p:nvPr/>
                              </p:nvSpPr>
                              <p:spPr>
                                <a:xfrm flipH="1" flipV="1">
                                  <a:off x="5181480" y="4114800"/>
                                  <a:ext cx="76320" cy="799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3120" bIns="331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 flipV="1">
                                <a:off x="5333760" y="5074200"/>
                                <a:ext cx="152640" cy="160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486400" y="5074560"/>
                                <a:ext cx="152280" cy="1602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" name=""/>
                              <p:cNvSpPr/>
                              <p:nvPr/>
                            </p:nvSpPr>
                            <p:spPr>
                              <a:xfrm>
                                <a:off x="6629400" y="4995000"/>
                                <a:ext cx="75960" cy="23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" name=""/>
                              <p:cNvSpPr/>
                              <p:nvPr/>
                            </p:nvSpPr>
                            <p:spPr>
                              <a:xfrm>
                                <a:off x="5943600" y="5074560"/>
                                <a:ext cx="228600" cy="16020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" name=""/>
                              <p:cNvSpPr/>
                              <p:nvPr/>
                            </p:nvSpPr>
                            <p:spPr>
                              <a:xfrm flipV="1">
                                <a:off x="6095880" y="4754880"/>
                                <a:ext cx="152280" cy="23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" name=""/>
                              <p:cNvSpPr/>
                              <p:nvPr/>
                            </p:nvSpPr>
                            <p:spPr>
                              <a:xfrm>
                                <a:off x="6248160" y="4754880"/>
                                <a:ext cx="76320" cy="3196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" name=""/>
                              <p:cNvSpPr/>
                              <p:nvPr/>
                            </p:nvSpPr>
                            <p:spPr>
                              <a:xfrm flipH="1" flipV="1">
                                <a:off x="5257440" y="4994640"/>
                                <a:ext cx="228600" cy="795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2760" bIns="327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" name=""/>
                              <p:cNvSpPr/>
                              <p:nvPr/>
                            </p:nvSpPr>
                            <p:spPr>
                              <a:xfrm flipV="1">
                                <a:off x="5410080" y="4754880"/>
                                <a:ext cx="152280" cy="2397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5562720" y="4800600"/>
                              <a:ext cx="228600" cy="2286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9" name=""/>
                          <p:cNvSpPr/>
                          <p:nvPr/>
                        </p:nvSpPr>
                        <p:spPr>
                          <a:xfrm flipH="1">
                            <a:off x="5562360" y="5029200"/>
                            <a:ext cx="152280" cy="1522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6324120" y="5029200"/>
                          <a:ext cx="304920" cy="7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400800" y="5105520"/>
                        <a:ext cx="44280" cy="75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5791320" y="4952880"/>
                      <a:ext cx="38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5867280" y="5029200"/>
                    <a:ext cx="763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 flipH="1">
                  <a:off x="6552720" y="495288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flipV="1">
                <a:off x="6324480" y="480024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6553080" y="48006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5"/>
          <a:srcRect l="0" t="0" r="8493" b="16673"/>
          <a:stretch/>
        </p:blipFill>
        <p:spPr>
          <a:xfrm>
            <a:off x="5562720" y="3733920"/>
            <a:ext cx="2286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6095880" y="3733920"/>
            <a:ext cx="533520" cy="1523880"/>
            <a:chOff x="6095880" y="3733920"/>
            <a:chExt cx="533520" cy="1523880"/>
          </a:xfrm>
        </p:grpSpPr>
        <p:pic>
          <p:nvPicPr>
            <p:cNvPr id="199" name="" descr=""/>
            <p:cNvPicPr/>
            <p:nvPr/>
          </p:nvPicPr>
          <p:blipFill>
            <a:blip r:embed="rId6"/>
            <a:srcRect l="34164" t="0" r="35948" b="29385"/>
            <a:stretch/>
          </p:blipFill>
          <p:spPr>
            <a:xfrm>
              <a:off x="6095880" y="3733920"/>
              <a:ext cx="5335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7"/>
            <a:srcRect l="34185" t="50977" r="35969" b="37284"/>
            <a:stretch/>
          </p:blipFill>
          <p:spPr>
            <a:xfrm>
              <a:off x="6095880" y="4520160"/>
              <a:ext cx="533520" cy="29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8"/>
            <a:srcRect l="34185" t="45104" r="35969" b="47070"/>
            <a:stretch/>
          </p:blipFill>
          <p:spPr>
            <a:xfrm>
              <a:off x="6095880" y="4766400"/>
              <a:ext cx="53352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9"/>
            <a:srcRect l="34185" t="50977" r="35969" b="37284"/>
            <a:stretch/>
          </p:blipFill>
          <p:spPr>
            <a:xfrm>
              <a:off x="6095880" y="4421880"/>
              <a:ext cx="533520" cy="1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362280" y="4274640"/>
              <a:ext cx="0" cy="491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971800" y="4038480"/>
            <a:ext cx="1357920" cy="368280"/>
            <a:chOff x="2971800" y="4038480"/>
            <a:chExt cx="1357920" cy="368280"/>
          </a:xfrm>
        </p:grpSpPr>
        <p:sp>
          <p:nvSpPr>
            <p:cNvPr id="205" name=""/>
            <p:cNvSpPr/>
            <p:nvPr/>
          </p:nvSpPr>
          <p:spPr>
            <a:xfrm>
              <a:off x="3429720" y="403848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800" spc="-1" strike="noStrike">
                  <a:solidFill>
                    <a:srgbClr val="000000"/>
                  </a:solidFill>
                  <a:latin typeface="Times New Roman"/>
                </a:rPr>
                <a:t>480 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71800" y="4191120"/>
              <a:ext cx="519120" cy="104760"/>
            </a:xfrm>
            <a:prstGeom prst="leftArrow">
              <a:avLst>
                <a:gd name="adj1" fmla="val 50000"/>
                <a:gd name="adj2" fmla="val 123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77120" y="4724280"/>
            <a:ext cx="1510200" cy="368280"/>
            <a:chOff x="6477120" y="4724280"/>
            <a:chExt cx="1510200" cy="368280"/>
          </a:xfrm>
        </p:grpSpPr>
        <p:sp>
          <p:nvSpPr>
            <p:cNvPr id="208" name=""/>
            <p:cNvSpPr/>
            <p:nvPr/>
          </p:nvSpPr>
          <p:spPr>
            <a:xfrm>
              <a:off x="7087320" y="472428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800" spc="-1" strike="noStrike">
                  <a:solidFill>
                    <a:srgbClr val="000000"/>
                  </a:solidFill>
                  <a:latin typeface="Times New Roman"/>
                </a:rPr>
                <a:t>120 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477120" y="4876920"/>
              <a:ext cx="671400" cy="123840"/>
            </a:xfrm>
            <a:prstGeom prst="leftArrow">
              <a:avLst>
                <a:gd name="adj1" fmla="val 50000"/>
                <a:gd name="adj2" fmla="val 13553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2895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849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34164" t="0" r="35948" b="0"/>
          <a:stretch/>
        </p:blipFill>
        <p:spPr>
          <a:xfrm>
            <a:off x="7696080" y="2514600"/>
            <a:ext cx="1067040" cy="3884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V="1"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14300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Calisto MT"/>
              </a:rPr>
              <a:t>Le volume du gaz AUGMENTE proportionnellement en rapport avec la tempé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11430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6600"/>
                </a:solidFill>
                <a:latin typeface="Calisto MT"/>
              </a:rPr>
              <a:t>Le volume du gaz DIMINUE proportionnellement en rapport avec la tempé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85800" y="3809880"/>
            <a:ext cx="26352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5867280" y="3886200"/>
            <a:ext cx="26352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3048120" y="2590920"/>
            <a:ext cx="1066680" cy="3884400"/>
            <a:chOff x="3048120" y="2590920"/>
            <a:chExt cx="1066680" cy="3884400"/>
          </a:xfrm>
        </p:grpSpPr>
        <p:pic>
          <p:nvPicPr>
            <p:cNvPr id="219" name="" descr=""/>
            <p:cNvPicPr/>
            <p:nvPr/>
          </p:nvPicPr>
          <p:blipFill>
            <a:blip r:embed="rId6"/>
            <a:srcRect l="34164" t="0" r="35948" b="0"/>
            <a:stretch/>
          </p:blipFill>
          <p:spPr>
            <a:xfrm>
              <a:off x="3048120" y="2590920"/>
              <a:ext cx="1066680" cy="38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7"/>
            <a:srcRect l="34164" t="45104" r="35948" b="37257"/>
            <a:stretch/>
          </p:blipFill>
          <p:spPr>
            <a:xfrm>
              <a:off x="3048120" y="3962520"/>
              <a:ext cx="106668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8"/>
          <a:srcRect l="34185" t="45104" r="35969" b="47070"/>
          <a:stretch/>
        </p:blipFill>
        <p:spPr>
          <a:xfrm>
            <a:off x="7696080" y="4572000"/>
            <a:ext cx="1065240" cy="304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229600" y="3505320"/>
            <a:ext cx="0" cy="106668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9"/>
          <a:srcRect l="34164" t="0" r="0" b="0"/>
          <a:stretch/>
        </p:blipFill>
        <p:spPr>
          <a:xfrm>
            <a:off x="1828800" y="2590920"/>
            <a:ext cx="2349360" cy="3884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6400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prè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6400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6400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prè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477120" y="2514600"/>
            <a:ext cx="2349360" cy="3884760"/>
            <a:chOff x="6477120" y="2514600"/>
            <a:chExt cx="2349360" cy="3884760"/>
          </a:xfrm>
        </p:grpSpPr>
        <p:pic>
          <p:nvPicPr>
            <p:cNvPr id="229" name="" descr=""/>
            <p:cNvPicPr/>
            <p:nvPr/>
          </p:nvPicPr>
          <p:blipFill>
            <a:blip r:embed="rId10"/>
            <a:srcRect l="34164" t="0" r="0" b="0"/>
            <a:stretch/>
          </p:blipFill>
          <p:spPr>
            <a:xfrm>
              <a:off x="6477120" y="2514600"/>
              <a:ext cx="2349360" cy="38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8001000" y="434340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2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00099"/>
                </a:solidFill>
                <a:latin typeface="Times New Roman"/>
              </a:rPr>
              <a:t>Tableau des Résulta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95160" y="2290680"/>
          <a:ext cx="7748640" cy="41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290680"/>
                    <a:ext cx="774864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76320">
            <a:solidFill>
              <a:srgbClr val="6600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828800"/>
            <a:ext cx="7696080" cy="0"/>
          </a:xfrm>
          <a:prstGeom prst="line">
            <a:avLst/>
          </a:prstGeom>
          <a:ln w="76320">
            <a:solidFill>
              <a:srgbClr val="66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752480" y="685800"/>
            <a:ext cx="57150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18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Quest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u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'expérien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7543800" y="304920"/>
            <a:ext cx="1295280" cy="1904760"/>
          </a:xfrm>
          <a:prstGeom prst="irregularSeal1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304920" y="304920"/>
            <a:ext cx="1295280" cy="1828800"/>
          </a:xfrm>
          <a:prstGeom prst="irregularSeal1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3" action="ppaction://hlinksldjump"/>
          </p:cNvPr>
          <p:cNvSpPr/>
          <p:nvPr/>
        </p:nvSpPr>
        <p:spPr>
          <a:xfrm>
            <a:off x="304920" y="4724280"/>
            <a:ext cx="1295280" cy="1828800"/>
          </a:xfrm>
          <a:prstGeom prst="irregularSeal1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4"/>
          </p:cNvPr>
          <p:cNvSpPr/>
          <p:nvPr/>
        </p:nvSpPr>
        <p:spPr>
          <a:xfrm>
            <a:off x="7543800" y="4724280"/>
            <a:ext cx="1295280" cy="1828800"/>
          </a:xfrm>
          <a:prstGeom prst="irregularSeal1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5" name="Globa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1219320"/>
            <a:ext cx="8458200" cy="2837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ffcc00"/>
                </a:solidFill>
                <a:latin typeface="Tahoma"/>
              </a:rPr>
              <a:t>1.  Trace le graphique du volume en fonction de la températu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819520" cy="2347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722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Ré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638680" y="5181480"/>
            <a:ext cx="320040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0" y="685800"/>
          <a:ext cx="7983360" cy="499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85800"/>
                    <a:ext cx="798336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781680" y="5486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1371600"/>
            <a:ext cx="8077320" cy="3751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2.  Quelle sorte de courbe est 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présentée sur le graphiqu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819520" cy="2347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1722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Ré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91320" y="5173560"/>
            <a:ext cx="3047760" cy="1676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01028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335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cc3300"/>
                </a:solidFill>
                <a:latin typeface="Book Antiqua"/>
              </a:rPr>
              <a:t>Une droite qui correspond à une relation directement proportionnell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1523880"/>
            <a:ext cx="8229600" cy="3751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3.  Qu’arrive-t-il au volume lorsque la 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température augment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819520" cy="2347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95880" y="4572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Ré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523880" y="838080"/>
            <a:ext cx="64771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lation entre le volume</a:t>
            </a:r>
            <a:endParaRPr b="0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&amp; la température d'un gaz</a:t>
            </a:r>
            <a:endParaRPr b="0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8769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cc3300"/>
                </a:solidFill>
                <a:latin typeface="Dolphin"/>
              </a:rPr>
              <a:t>Nathalie Alie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8862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cc3300"/>
                </a:solidFill>
                <a:latin typeface="Dolphin"/>
              </a:rPr>
              <a:t>Joanna Dimitrakopou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30481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cc3300"/>
                </a:solidFill>
                <a:latin typeface="Dolphin"/>
              </a:rPr>
              <a:t>P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220320" y="15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562720" y="5173560"/>
            <a:ext cx="3276360" cy="1676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934320" y="5486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563868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0574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cc3300"/>
                </a:solidFill>
                <a:latin typeface="Book Antiqua"/>
              </a:rPr>
              <a:t>Le volume augmente proportionnellement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1143000"/>
            <a:ext cx="8001000" cy="3751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4.  Qu’arrive-t-il à la température 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i="1" lang="fr-CA" sz="6000" spc="-1" strike="noStrike">
                <a:solidFill>
                  <a:srgbClr val="ffcc00"/>
                </a:solidFill>
                <a:latin typeface="Tahoma"/>
              </a:rPr>
              <a:t>lorsque le volume diminu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819520" cy="2347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722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Ré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562720" y="5181480"/>
            <a:ext cx="3276360" cy="1676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1028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14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cc3300"/>
                </a:solidFill>
                <a:latin typeface="Book Antiqua"/>
              </a:rPr>
              <a:t>La température diminue proportionnellement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057400" y="0"/>
            <a:ext cx="5562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1371600"/>
            <a:ext cx="5333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Times New Roman"/>
              </a:rPr>
              <a:t>S</a:t>
            </a:r>
            <a:r>
              <a:rPr b="0" lang="fr-FR" sz="2800" spc="-1" strike="noStrike">
                <a:solidFill>
                  <a:srgbClr val="808080"/>
                </a:solidFill>
                <a:latin typeface="Times New Roman"/>
              </a:rPr>
              <a:t>uite à l’expérience que nous avons vu précédemment, nous pouvons arriver à la conclusion mathématique de Jacques Charles 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3657600"/>
            <a:ext cx="27432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800080"/>
                </a:solidFill>
                <a:latin typeface="Garamond"/>
              </a:rPr>
              <a:t>V</a:t>
            </a:r>
            <a:r>
              <a:rPr b="1" i="1" lang="fr-FR" sz="6000" spc="-1" strike="noStrike" baseline="-25000">
                <a:solidFill>
                  <a:srgbClr val="800080"/>
                </a:solidFill>
                <a:latin typeface="Garamond"/>
              </a:rPr>
              <a:t>1</a:t>
            </a:r>
            <a:r>
              <a:rPr b="1" i="1" lang="fr-FR" sz="6000" spc="-1" strike="noStrike">
                <a:solidFill>
                  <a:srgbClr val="800080"/>
                </a:solidFill>
                <a:latin typeface="Garamond"/>
              </a:rPr>
              <a:t>     V</a:t>
            </a:r>
            <a:r>
              <a:rPr b="1" i="1" lang="fr-FR" sz="6000" spc="-1" strike="noStrike" baseline="-25000">
                <a:solidFill>
                  <a:srgbClr val="800080"/>
                </a:solidFill>
                <a:latin typeface="Garamond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800080"/>
                </a:solidFill>
                <a:latin typeface="Garamond"/>
              </a:rPr>
              <a:t>T</a:t>
            </a:r>
            <a:r>
              <a:rPr b="1" i="1" lang="fr-FR" sz="6000" spc="-1" strike="noStrike" baseline="-25000">
                <a:solidFill>
                  <a:srgbClr val="800080"/>
                </a:solidFill>
                <a:latin typeface="Garamond"/>
              </a:rPr>
              <a:t>1       </a:t>
            </a:r>
            <a:r>
              <a:rPr b="1" i="1" lang="fr-FR" sz="6000" spc="-1" strike="noStrike">
                <a:solidFill>
                  <a:srgbClr val="800080"/>
                </a:solidFill>
                <a:latin typeface="Garamond"/>
              </a:rPr>
              <a:t>T</a:t>
            </a:r>
            <a:r>
              <a:rPr b="1" i="1" lang="fr-FR" sz="6000" spc="-1" strike="noStrike" baseline="-25000">
                <a:solidFill>
                  <a:srgbClr val="800080"/>
                </a:solidFill>
                <a:latin typeface="Garamond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4876920"/>
            <a:ext cx="7621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4876920"/>
            <a:ext cx="76212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724280"/>
            <a:ext cx="45720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5029200"/>
            <a:ext cx="45720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3886200"/>
            <a:ext cx="289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fr-FR" sz="1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= volume initial</a:t>
            </a: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fr-FR" sz="1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= volume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fr-FR" sz="1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= température</a:t>
            </a: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init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fr-FR" sz="1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fr-FR" sz="1800" spc="-1" strike="noStrike">
                <a:solidFill>
                  <a:srgbClr val="cc0000"/>
                </a:solidFill>
                <a:latin typeface="Times New Roman"/>
              </a:rPr>
              <a:t>= température f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6248520"/>
            <a:ext cx="160020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  <p:sndAc>
      <p:stSnd>
        <p:snd r:embed="rId2" name="Pictur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0880" y="0"/>
            <a:ext cx="8382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empl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 calcu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2971800"/>
            <a:ext cx="2895480" cy="205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= 25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= 300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= 1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905120"/>
            <a:ext cx="51051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2514600"/>
            <a:ext cx="609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590920"/>
            <a:ext cx="228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2514600"/>
            <a:ext cx="609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352680"/>
            <a:ext cx="38098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x V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3962520"/>
            <a:ext cx="12956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4648320"/>
            <a:ext cx="4190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00K x 300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5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5257800"/>
            <a:ext cx="24386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4648320"/>
            <a:ext cx="30456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5257800"/>
            <a:ext cx="304560" cy="533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6019920"/>
            <a:ext cx="480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120m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226080 w 1447920"/>
              <a:gd name="textAreaRight" fmla="*/ 1288440 w 1447920"/>
              <a:gd name="textAreaTop" fmla="*/ 351000 h 990720"/>
              <a:gd name="textAreaBottom" fmla="*/ 63972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7650"/>
                </a:moveTo>
                <a:lnTo>
                  <a:pt x="13431" y="7650"/>
                </a:lnTo>
                <a:lnTo>
                  <a:pt x="13431" y="0"/>
                </a:lnTo>
                <a:lnTo>
                  <a:pt x="21600" y="10800"/>
                </a:lnTo>
                <a:lnTo>
                  <a:pt x="13431" y="21600"/>
                </a:lnTo>
                <a:lnTo>
                  <a:pt x="13431" y="13950"/>
                </a:lnTo>
                <a:lnTo>
                  <a:pt x="3375" y="13950"/>
                </a:lnTo>
                <a:close/>
              </a:path>
              <a:path w="21600" h="21600">
                <a:moveTo>
                  <a:pt x="0" y="7650"/>
                </a:moveTo>
                <a:lnTo>
                  <a:pt x="675" y="7650"/>
                </a:lnTo>
                <a:lnTo>
                  <a:pt x="675" y="13950"/>
                </a:lnTo>
                <a:lnTo>
                  <a:pt x="0" y="13950"/>
                </a:lnTo>
                <a:close/>
              </a:path>
              <a:path w="21600" h="21600">
                <a:moveTo>
                  <a:pt x="1350" y="7650"/>
                </a:moveTo>
                <a:lnTo>
                  <a:pt x="2700" y="7650"/>
                </a:lnTo>
                <a:lnTo>
                  <a:pt x="2700" y="13950"/>
                </a:lnTo>
                <a:lnTo>
                  <a:pt x="1350" y="1395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50000">
                <a:srgbClr val="800080"/>
              </a:gs>
              <a:gs pos="100000">
                <a:srgbClr val="ff66ff"/>
              </a:gs>
            </a:gsLst>
            <a:lin ang="8100000"/>
          </a:gradFill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Cli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54160" y="36576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54160" y="495288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80" y="365760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80" y="49528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2362320"/>
            <a:ext cx="83818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Université de Bremen. (Page consultée le 2 mai 2000).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Chimie-Biologie,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[En ligne]. Adresse URL: http://www.chemie.unibremen.de/stohrer/biograph/kelvin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New Lisbon School District. (page consultée le 10 mai 2000).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Jacques Charles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, [En ligne]. Adresse URL: http://www.newlisbon.k12.wi.us/physicists/Charle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Bachand, L., G. Petit et P. Vanier.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Chimie 534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, Montréal, Lidec, 1996</a:t>
            </a:r>
            <a:r>
              <a:rPr b="1" lang="fr-FR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444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Bibliographi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split dir="in" orient="horz"/>
    <p:sndAc>
      <p:stSnd>
        <p:snd r:embed="rId4" name="FileDon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057400" y="0"/>
            <a:ext cx="5562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Introdu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295280"/>
            <a:ext cx="52578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L</a:t>
            </a:r>
            <a:r>
              <a:rPr b="0" lang="fr-FR" sz="2800" spc="-1" strike="noStrike">
                <a:solidFill>
                  <a:srgbClr val="808080"/>
                </a:solidFill>
                <a:latin typeface="Times New Roman"/>
              </a:rPr>
              <a:t>e volume d’un gaz peut être influencé par différents facteurs tels que la pression, le nombre de moles et la tempér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Times New Roman"/>
              </a:rPr>
              <a:t>Nous examinerons plus profondément la relation qui existe entre la température et le volume d’un gaz analysé par Jacques Charles, physicien ayant étudié dans le doma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-2486160" y="2867040"/>
            <a:ext cx="6096240" cy="1123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80008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Garamond"/>
              </a:rPr>
              <a:t>Biographie</a:t>
            </a:r>
            <a:endParaRPr b="0" i="1" lang="en-US" sz="2400" spc="1" strike="noStrike">
              <a:ln w="12600">
                <a:solidFill>
                  <a:srgbClr val="80008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838080"/>
            <a:ext cx="495324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300" spc="-1" strike="noStrike">
                <a:solidFill>
                  <a:srgbClr val="800080"/>
                </a:solidFill>
                <a:latin typeface="Calisto MT"/>
              </a:rPr>
              <a:t>Le physicien français Jacques Charles a fait beaucoup de recherches sur les gaz et découvrit que la variation du volume était directement proportionnelle à la variation de température.</a:t>
            </a:r>
            <a:r>
              <a:rPr b="1" i="1" lang="fr-FR" sz="3600" spc="-1" strike="noStrike">
                <a:solidFill>
                  <a:srgbClr val="800080"/>
                </a:solidFill>
                <a:latin typeface="Calisto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095880" y="609480"/>
            <a:ext cx="2895840" cy="373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72200" y="4343400"/>
            <a:ext cx="2819520" cy="1600200"/>
          </a:xfrm>
          <a:custGeom>
            <a:avLst/>
            <a:gdLst>
              <a:gd name="textAreaLeft" fmla="*/ 352440 w 2819520"/>
              <a:gd name="textAreaRight" fmla="*/ 2467080 w 2819520"/>
              <a:gd name="textAreaTop" fmla="*/ 416520 h 1600200"/>
              <a:gd name="textAreaBottom" fmla="*/ 14313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5975"/>
                </a:moveTo>
                <a:arcTo wR="21600" hR="31237" stAng="6705792" swAng="-368157"/>
                <a:lnTo>
                  <a:pt x="2700" y="19320"/>
                </a:lnTo>
                <a:arcTo wR="21600" hR="31237" stAng="6337635" swAng="-1875270"/>
                <a:lnTo>
                  <a:pt x="18900" y="17880"/>
                </a:lnTo>
                <a:arcTo wR="21600" hR="31237" stAng="4462365" swAng="-368157"/>
                <a:lnTo>
                  <a:pt x="18900" y="9893"/>
                </a:lnTo>
                <a:lnTo>
                  <a:pt x="21600" y="0"/>
                </a:lnTo>
                <a:lnTo>
                  <a:pt x="21600" y="0"/>
                </a:lnTo>
                <a:arcTo wR="21600" hR="31237" stAng="4094208" swAng="698418"/>
                <a:lnTo>
                  <a:pt x="16200" y="4633"/>
                </a:lnTo>
                <a:arcTo wR="21600" hR="31237" stAng="4792626" swAng="1214749"/>
                <a:lnTo>
                  <a:pt x="5400" y="3193"/>
                </a:lnTo>
                <a:arcTo wR="21600" hR="31237" stAng="6007374" swAng="698418"/>
                <a:lnTo>
                  <a:pt x="2700" y="9893"/>
                </a:lnTo>
                <a:close/>
              </a:path>
              <a:path fill="none" w="21600" h="21600">
                <a:moveTo>
                  <a:pt x="5400" y="4633"/>
                </a:moveTo>
                <a:arcTo wR="21600" hR="31237" stAng="6007374" swAng="330261"/>
                <a:lnTo>
                  <a:pt x="5400" y="3193"/>
                </a:lnTo>
              </a:path>
              <a:path fill="none" w="21600" h="21600">
                <a:moveTo>
                  <a:pt x="16200" y="4633"/>
                </a:moveTo>
                <a:arcTo wR="21600" hR="31237" stAng="4792626" swAng="-330261"/>
                <a:lnTo>
                  <a:pt x="16200" y="3193"/>
                </a:lnTo>
              </a:path>
              <a:path fill="none" w="21600" h="21600">
                <a:moveTo>
                  <a:pt x="2700" y="17880"/>
                </a:moveTo>
                <a:lnTo>
                  <a:pt x="2700" y="3345"/>
                </a:lnTo>
              </a:path>
              <a:path fill="none" w="21600" h="21600">
                <a:moveTo>
                  <a:pt x="18900" y="17880"/>
                </a:moveTo>
                <a:lnTo>
                  <a:pt x="18900" y="3345"/>
                </a:ln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cc"/>
                </a:solidFill>
                <a:latin typeface="Times New Roman"/>
              </a:rPr>
              <a:t>Jacques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cc"/>
                </a:solidFill>
                <a:latin typeface="Times New Roman"/>
              </a:rPr>
              <a:t>1746-18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523880"/>
            <a:ext cx="82296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00080"/>
                </a:solidFill>
                <a:latin typeface="Calisto MT"/>
              </a:rPr>
              <a:t>	</a:t>
            </a:r>
            <a:r>
              <a:rPr b="1" i="1" lang="fr-FR" sz="3600" spc="-1" strike="noStrike">
                <a:solidFill>
                  <a:srgbClr val="800080"/>
                </a:solidFill>
                <a:latin typeface="Calisto MT"/>
              </a:rPr>
              <a:t>Effectivement, ses recherches démontraient que chaque degré de refroidissement diminuait le volume d’un gaz d’environ 1/273 de son volume initial, et inverseme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800080"/>
                </a:solidFill>
                <a:latin typeface="Calisto MT"/>
              </a:rPr>
              <a:t> </a:t>
            </a:r>
            <a:r>
              <a:rPr b="1" i="1" lang="fr-FR" sz="3600" spc="-1" strike="noStrike">
                <a:solidFill>
                  <a:srgbClr val="800080"/>
                </a:solidFill>
                <a:latin typeface="Calisto MT"/>
              </a:rPr>
              <a:t>Cela signifiait qu’à  -273</a:t>
            </a:r>
            <a:r>
              <a:rPr b="1" i="1" lang="fr-FR" sz="3600" spc="-1" strike="noStrike" baseline="34000">
                <a:solidFill>
                  <a:srgbClr val="800080"/>
                </a:solidFill>
                <a:latin typeface="Calisto MT"/>
              </a:rPr>
              <a:t>o</a:t>
            </a:r>
            <a:r>
              <a:rPr b="1" i="1" lang="fr-FR" sz="3600" spc="-1" strike="noStrike">
                <a:solidFill>
                  <a:srgbClr val="800080"/>
                </a:solidFill>
                <a:latin typeface="Calisto MT"/>
              </a:rPr>
              <a:t>C, le volume d’un gaz serait nul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-2486160" y="2867040"/>
            <a:ext cx="6096240" cy="1123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aramond"/>
              </a:rPr>
              <a:t>Biographie</a:t>
            </a:r>
            <a:endParaRPr b="0" i="1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1143000"/>
            <a:ext cx="487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00"/>
                </a:solidFill>
                <a:latin typeface="Calisto MT"/>
              </a:rPr>
              <a:t>Sir William Thompson, mieux connu sous le nom de Lord Kelvin, proposa d’utiliser la température extrapolée correspondant au volume nul d’un gaz parfait. Ainsi, le zéro absolu </a:t>
            </a:r>
            <a:r>
              <a:rPr b="1" lang="fr-FR" sz="3200" spc="-1" strike="noStrike">
                <a:solidFill>
                  <a:srgbClr val="ff6600"/>
                </a:solidFill>
                <a:latin typeface="Calisto MT"/>
              </a:rPr>
              <a:t>0</a:t>
            </a:r>
            <a:r>
              <a:rPr b="1" i="1" lang="fr-FR" sz="3200" spc="-1" strike="noStrike">
                <a:solidFill>
                  <a:srgbClr val="ff6600"/>
                </a:solidFill>
                <a:latin typeface="Calisto MT"/>
              </a:rPr>
              <a:t>K</a:t>
            </a:r>
            <a:r>
              <a:rPr b="1" lang="fr-FR" sz="3200" spc="-1" strike="noStrike">
                <a:solidFill>
                  <a:srgbClr val="ff6600"/>
                </a:solidFill>
                <a:latin typeface="Calisto MT"/>
              </a:rPr>
              <a:t> </a:t>
            </a:r>
            <a:r>
              <a:rPr b="1" i="1" lang="fr-FR" sz="3200" spc="-1" strike="noStrike">
                <a:solidFill>
                  <a:srgbClr val="ff6600"/>
                </a:solidFill>
                <a:latin typeface="Calisto MT"/>
              </a:rPr>
              <a:t>fut  attribué à  - 273</a:t>
            </a:r>
            <a:r>
              <a:rPr b="1" i="1" lang="fr-FR" sz="3200" spc="-1" strike="noStrike" baseline="30000">
                <a:solidFill>
                  <a:srgbClr val="ff6600"/>
                </a:solidFill>
                <a:latin typeface="Calisto MT"/>
              </a:rPr>
              <a:t>0</a:t>
            </a:r>
            <a:r>
              <a:rPr b="1" i="1" lang="fr-FR" sz="3200" spc="-1" strike="noStrike">
                <a:solidFill>
                  <a:srgbClr val="ff6600"/>
                </a:solidFill>
                <a:latin typeface="Calisto MT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5880" y="45720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19920" y="4876920"/>
            <a:ext cx="2819160" cy="1600200"/>
          </a:xfrm>
          <a:custGeom>
            <a:avLst/>
            <a:gdLst>
              <a:gd name="textAreaLeft" fmla="*/ 352440 w 2819160"/>
              <a:gd name="textAreaRight" fmla="*/ 2467080 w 2819160"/>
              <a:gd name="textAreaTop" fmla="*/ 416520 h 1600200"/>
              <a:gd name="textAreaBottom" fmla="*/ 14313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5975"/>
                </a:moveTo>
                <a:arcTo wR="21600" hR="31237" stAng="6705792" swAng="-368157"/>
                <a:lnTo>
                  <a:pt x="2700" y="19320"/>
                </a:lnTo>
                <a:arcTo wR="21600" hR="31237" stAng="6337635" swAng="-1875270"/>
                <a:lnTo>
                  <a:pt x="18900" y="17880"/>
                </a:lnTo>
                <a:arcTo wR="21600" hR="31237" stAng="4462365" swAng="-368157"/>
                <a:lnTo>
                  <a:pt x="18900" y="9893"/>
                </a:lnTo>
                <a:lnTo>
                  <a:pt x="21600" y="0"/>
                </a:lnTo>
                <a:lnTo>
                  <a:pt x="21600" y="0"/>
                </a:lnTo>
                <a:arcTo wR="21600" hR="31237" stAng="4094208" swAng="698418"/>
                <a:lnTo>
                  <a:pt x="16200" y="4633"/>
                </a:lnTo>
                <a:arcTo wR="21600" hR="31237" stAng="4792626" swAng="1214749"/>
                <a:lnTo>
                  <a:pt x="5400" y="3193"/>
                </a:lnTo>
                <a:arcTo wR="21600" hR="31237" stAng="6007374" swAng="698418"/>
                <a:lnTo>
                  <a:pt x="2700" y="9893"/>
                </a:lnTo>
                <a:close/>
              </a:path>
              <a:path fill="none" w="21600" h="21600">
                <a:moveTo>
                  <a:pt x="5400" y="4633"/>
                </a:moveTo>
                <a:arcTo wR="21600" hR="31237" stAng="6007374" swAng="330261"/>
                <a:lnTo>
                  <a:pt x="5400" y="3193"/>
                </a:lnTo>
              </a:path>
              <a:path fill="none" w="21600" h="21600">
                <a:moveTo>
                  <a:pt x="16200" y="4633"/>
                </a:moveTo>
                <a:arcTo wR="21600" hR="31237" stAng="4792626" swAng="-330261"/>
                <a:lnTo>
                  <a:pt x="16200" y="3193"/>
                </a:lnTo>
              </a:path>
              <a:path fill="none" w="21600" h="21600">
                <a:moveTo>
                  <a:pt x="2700" y="17880"/>
                </a:moveTo>
                <a:lnTo>
                  <a:pt x="2700" y="3345"/>
                </a:lnTo>
              </a:path>
              <a:path fill="none" w="21600" h="21600">
                <a:moveTo>
                  <a:pt x="18900" y="17880"/>
                </a:moveTo>
                <a:lnTo>
                  <a:pt x="18900" y="3345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Times New Roman"/>
              </a:rPr>
              <a:t>Lord Kel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Times New Roman"/>
              </a:rPr>
              <a:t>1824-19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0"/>
            <a:ext cx="838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1" i="1" lang="fr-FR" sz="3600" spc="-1" strike="noStrike">
                <a:solidFill>
                  <a:srgbClr val="ff6600"/>
                </a:solidFill>
                <a:latin typeface="Calisto MT"/>
              </a:rPr>
              <a:t>Suite à leur invention, les Kelvins furent adoptés dans la formule de Charles afin d ’éviter l’utilisation des chiffres négatifs.                                                 </a:t>
            </a:r>
            <a:r>
              <a:rPr b="1" i="1" lang="fr-FR" sz="3600" spc="-1" strike="noStrike">
                <a:solidFill>
                  <a:srgbClr val="ff6600"/>
                </a:solidFill>
                <a:latin typeface="Calisto MT"/>
              </a:rPr>
              <a:t>	</a:t>
            </a:r>
            <a:r>
              <a:rPr b="1" i="1" lang="fr-FR" sz="3600" spc="-1" strike="noStrike">
                <a:solidFill>
                  <a:srgbClr val="ff6600"/>
                </a:solidFill>
                <a:latin typeface="Calisto MT"/>
              </a:rPr>
              <a:t>	</a:t>
            </a:r>
            <a:r>
              <a:rPr b="1" i="1" lang="fr-FR" sz="3600" spc="-1" strike="noStrike">
                <a:solidFill>
                  <a:srgbClr val="ff6600"/>
                </a:solidFill>
                <a:latin typeface="Calisto MT"/>
              </a:rPr>
              <a:t>Voici comment il est possible de transférer la température à partir de degrés Celcius en Kelvin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581280"/>
            <a:ext cx="6553440" cy="289584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09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800600"/>
            <a:ext cx="533520" cy="380880"/>
          </a:xfrm>
          <a:prstGeom prst="flowChartExtra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800600"/>
            <a:ext cx="533160" cy="380880"/>
          </a:xfrm>
          <a:prstGeom prst="flowChartExtra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0000"/>
                </a:solidFill>
                <a:latin typeface="Calisto MT"/>
              </a:rPr>
              <a:t>1</a:t>
            </a:r>
            <a:r>
              <a:rPr b="1" i="1" lang="fr-FR" sz="3600" spc="-1" strike="noStrike" baseline="30000">
                <a:solidFill>
                  <a:srgbClr val="cc0000"/>
                </a:solidFill>
                <a:latin typeface="Calisto MT"/>
              </a:rPr>
              <a:t>o</a:t>
            </a:r>
            <a:r>
              <a:rPr b="1" i="1" lang="fr-FR" sz="3600" spc="-1" strike="noStrike">
                <a:solidFill>
                  <a:srgbClr val="cc0000"/>
                </a:solidFill>
                <a:latin typeface="Calisto MT"/>
              </a:rPr>
              <a:t>C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648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cc0000"/>
                </a:solidFill>
                <a:latin typeface="Calisto MT"/>
              </a:rPr>
              <a:t>1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6019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cc"/>
                </a:solidFill>
                <a:latin typeface="Times New Roman"/>
              </a:rPr>
              <a:t>*      = 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6019920"/>
            <a:ext cx="380880" cy="380880"/>
          </a:xfrm>
          <a:prstGeom prst="flowChartExtra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943600" y="685800"/>
            <a:ext cx="2514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Garamond"/>
              </a:rPr>
              <a:t>Expérience</a:t>
            </a:r>
            <a:endParaRPr b="0" i="1" lang="en-US" sz="2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809880"/>
            <a:ext cx="403848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3333cc"/>
                </a:solidFill>
                <a:uFillTx/>
                <a:latin typeface="Times New Roman"/>
              </a:rPr>
              <a:t>BUT</a:t>
            </a:r>
            <a:r>
              <a:rPr b="1" lang="fr-FR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fr-FR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fr-FR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3333cc"/>
                </a:solidFill>
                <a:latin typeface="Times New Roman"/>
              </a:rPr>
              <a:t>Déterminer l’effet de     la température sur le volume d’un ga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34164" t="0" r="0" b="0"/>
          <a:stretch/>
        </p:blipFill>
        <p:spPr>
          <a:xfrm>
            <a:off x="1219320" y="2514600"/>
            <a:ext cx="2349360" cy="3884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0" r="33814" b="-33"/>
          <a:stretch/>
        </p:blipFill>
        <p:spPr>
          <a:xfrm>
            <a:off x="1447920" y="2514600"/>
            <a:ext cx="2361960" cy="388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9880" y="3124080"/>
            <a:ext cx="48769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1" i="1" lang="fr-F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fr-FR" sz="4000" spc="-1" strike="noStrike">
                <a:solidFill>
                  <a:srgbClr val="cc0000"/>
                </a:solidFill>
                <a:latin typeface="Times New Roman"/>
              </a:rPr>
              <a:t>Le gaz est rose afin        de faciliter la compréhension de l ’expéri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8076960" cy="2055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28800" y="9144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00"/>
                </a:solidFill>
                <a:latin typeface="Calisto MT"/>
              </a:rPr>
              <a:t>Chaque seringue contient 300mL de gaz à 250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03T20:37:41Z</dcterms:created>
  <dc:creator>Walid ALIEH</dc:creator>
  <dc:description/>
  <dc:language>en-US</dc:language>
  <cp:lastModifiedBy>A. Bensaada</cp:lastModifiedBy>
  <dcterms:modified xsi:type="dcterms:W3CDTF">2000-09-20T04:25:19Z</dcterms:modified>
  <cp:revision>71</cp:revision>
  <dc:subject/>
  <dc:title>Aucun titre de diapositive</dc:title>
</cp:coreProperties>
</file>