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ucid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90B-458B-46B2-8224-D354C3D55B59}" type="slidenum">
              <a:rPr b="0" lang="fr-FR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Lucida Sans"/>
              </a:rPr>
              <a:t>Photo tome I p. 70 figure4-11a et b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B42-B38C-4EF1-AE44-F1111232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AF8-B074-4748-9225-5711F6C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0C6-0515-4B00-A5F9-325FCB81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28B-FDFD-4E1B-B9E7-03B2C1D6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8B5-466F-474B-A0A6-4C2B1C33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121-A2F6-48B0-B7AF-FCFD496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4328-4154-4D3B-A0FD-89C5F41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92B-6CD8-43CF-AA02-61AA7013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855-DA56-47C8-B167-68B34352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F2AA-A78B-4F21-BE95-7D2F65F7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541-97D6-42A3-BA92-870C8CB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3BC-82B1-43BB-A73C-63145A1D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9558-1C6B-4C94-A9A7-EBBF980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5AA-ABEE-469C-9EC8-AD87DD1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3B4-35EA-4156-850A-C55FBB4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73A4-C46E-4B48-A03E-8156DFE5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0782-58E5-4B26-AC53-7A8CC869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660-8B33-4D0D-8F95-768EC98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A44-40EF-4B21-9362-38BFBB3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23A-64C2-41B3-A20E-989EAEB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F5E-5DF2-4DE2-B361-7C122D44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1AB-72A8-48EC-8DA5-0CBE9BD4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A3C-7579-463E-B103-88001BB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039-4CD2-4D61-BEF7-11B4E8F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Click to edit the outline text format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econd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ird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Fourth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Fifth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ixth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eventh Outline Level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146F-69C6-4172-AB7B-4E2B23E5CB56}" type="slidenum"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191440" y="5708520"/>
          <a:ext cx="9460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91440" y="5708520"/>
                    <a:ext cx="946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7308720" y="5632560"/>
          <a:ext cx="99072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5632560"/>
                    <a:ext cx="990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0234-1C52-4427-B46F-BC200CB8EB46}" type="slidenum">
              <a:rPr b="0" lang="fr-FR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Click to edit the outline text format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econd Outline Level</a:t>
            </a:r>
            <a:endParaRPr b="0" i="1" lang="en-US" sz="2800" spc="-1" strike="noStrike">
              <a:solidFill>
                <a:srgbClr val="000099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Third Outline Level</a:t>
            </a:r>
            <a:endParaRPr b="0" i="1" lang="en-US" sz="2400" spc="-1" strike="noStrike">
              <a:solidFill>
                <a:srgbClr val="000099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Fourth Outline Level</a:t>
            </a:r>
            <a:endParaRPr b="0" i="1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Fifth Outline Level</a:t>
            </a:r>
            <a:endParaRPr b="0" i="1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Sixth Outline Level</a:t>
            </a:r>
            <a:endParaRPr b="0" i="1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Seventh Outline Level</a:t>
            </a:r>
            <a:endParaRPr b="0" i="1" lang="en-US" sz="2000" spc="-1" strike="noStrike">
              <a:solidFill>
                <a:srgbClr val="000099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CLICK5.WAV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LICK5.WAV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LICK5.WAV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e-village.ifrance.com/cyberbio/entree.htm" TargetMode="External"/><Relationship Id="rId2" Type="http://schemas.openxmlformats.org/officeDocument/2006/relationships/hyperlink" Target="http://le-village.ifrance.com/cyberbio/entree.htm" TargetMode="External"/><Relationship Id="rId3" Type="http://schemas.openxmlformats.org/officeDocument/2006/relationships/hyperlink" Target="http://le-village.ifrance.com/cyberbio/entree.htm" TargetMode="External"/><Relationship Id="rId4" Type="http://schemas.openxmlformats.org/officeDocument/2006/relationships/hyperlink" Target="http://le-village.ifrance.com/cyberbio/entree.htm" TargetMode="External"/><Relationship Id="rId5" Type="http://schemas.openxmlformats.org/officeDocument/2006/relationships/hyperlink" Target="http://le-village.ifrance.com/cyberbio/entree.htm" TargetMode="External"/><Relationship Id="rId6" Type="http://schemas.openxmlformats.org/officeDocument/2006/relationships/hyperlink" Target="http://le-village.ifrance.com/cyberbio/entree.htm" TargetMode="External"/><Relationship Id="rId7" Type="http://schemas.openxmlformats.org/officeDocument/2006/relationships/hyperlink" Target="http://le-village.ifrance.com/cyberbio/entree.htm" TargetMode="External"/><Relationship Id="rId8" Type="http://schemas.openxmlformats.org/officeDocument/2006/relationships/hyperlink" Target="http://le-village.ifrance.com/cyberbio/entree.htm" TargetMode="External"/><Relationship Id="rId9" Type="http://schemas.openxmlformats.org/officeDocument/2006/relationships/hyperlink" Target="http://le-village.ifrance.com/cyberbio/entree.htm" TargetMode="External"/><Relationship Id="rId10" Type="http://schemas.openxmlformats.org/officeDocument/2006/relationships/hyperlink" Target="http://le-village.ifrance.com/cyberbio/entree.htm" TargetMode="External"/><Relationship Id="rId11" Type="http://schemas.openxmlformats.org/officeDocument/2006/relationships/hyperlink" Target="http://le-village.ifrance.com/cyberbio/entree.htm" TargetMode="External"/><Relationship Id="rId12" Type="http://schemas.openxmlformats.org/officeDocument/2006/relationships/hyperlink" Target="http://www.collegenotre-dame.qc.ca/biologie/cellule/index.html" TargetMode="External"/><Relationship Id="rId13" Type="http://schemas.openxmlformats.org/officeDocument/2006/relationships/hyperlink" Target="http://www.collegenotre-dame.qc.ca/biologie/cellule/index.html" TargetMode="External"/><Relationship Id="rId14" Type="http://schemas.openxmlformats.org/officeDocument/2006/relationships/hyperlink" Target="http://www.collegenotre-dame.qc.ca/biologie/cellule/index.html" TargetMode="External"/><Relationship Id="rId15" Type="http://schemas.openxmlformats.org/officeDocument/2006/relationships/hyperlink" Target="http://www.collegenotre-dame.qc.ca/biologie/cellule/index.html" TargetMode="External"/><Relationship Id="rId16" Type="http://schemas.openxmlformats.org/officeDocument/2006/relationships/hyperlink" Target="http://www.collegenotre-dame.qc.ca/biologie/cellule/index.html" TargetMode="External"/><Relationship Id="rId17" Type="http://schemas.openxmlformats.org/officeDocument/2006/relationships/hyperlink" Target="http://www.collegenotre-dame.qc.ca/biologie/cellule/index.html" TargetMode="External"/><Relationship Id="rId18" Type="http://schemas.openxmlformats.org/officeDocument/2006/relationships/hyperlink" Target="http://www.collegenotre-dame.qc.ca/biologie/cellule/index.html" TargetMode="External"/><Relationship Id="rId19" Type="http://schemas.openxmlformats.org/officeDocument/2006/relationships/hyperlink" Target="http://www.collegenotre-dame.qc.ca/biologie/cellule/index.html" TargetMode="External"/><Relationship Id="rId20" Type="http://schemas.openxmlformats.org/officeDocument/2006/relationships/hyperlink" Target="http://www.collegenotre-dame.qc.ca/biologie/cellule/index.html" TargetMode="External"/><Relationship Id="rId21" Type="http://schemas.openxmlformats.org/officeDocument/2006/relationships/hyperlink" Target="http://christian.combettes.free.fr/delatomelorgan/index.html" TargetMode="External"/><Relationship Id="rId22" Type="http://schemas.openxmlformats.org/officeDocument/2006/relationships/hyperlink" Target="http://christian.combettes.free.fr/delatomelorgan/index.html" TargetMode="External"/><Relationship Id="rId23" Type="http://schemas.openxmlformats.org/officeDocument/2006/relationships/hyperlink" Target="http://christian.combettes.free.fr/delatomelorgan/index.html" TargetMode="External"/><Relationship Id="rId24" Type="http://schemas.openxmlformats.org/officeDocument/2006/relationships/hyperlink" Target="http://christian.combettes.free.fr/delatomelorgan/index.html" TargetMode="External"/><Relationship Id="rId25" Type="http://schemas.openxmlformats.org/officeDocument/2006/relationships/hyperlink" Target="http://christian.combettes.free.fr/delatomelorgan/index.html" TargetMode="External"/><Relationship Id="rId26" Type="http://schemas.openxmlformats.org/officeDocument/2006/relationships/hyperlink" Target="http://christian.combettes.free.fr/delatomelorgan/index.html" TargetMode="External"/><Relationship Id="rId27" Type="http://schemas.openxmlformats.org/officeDocument/2006/relationships/hyperlink" Target="http://christian.combettes.free.fr/delatomelorgan/index.html" TargetMode="External"/><Relationship Id="rId28" Type="http://schemas.openxmlformats.org/officeDocument/2006/relationships/hyperlink" Target="http://christian.combettes.free.fr/delatomelorgan/index.html" TargetMode="External"/><Relationship Id="rId29" Type="http://schemas.openxmlformats.org/officeDocument/2006/relationships/hyperlink" Target="http://christian.combettes.free.fr/delatomelorgan/index.html" TargetMode="External"/><Relationship Id="rId30" Type="http://schemas.openxmlformats.org/officeDocument/2006/relationships/hyperlink" Target="http://christian.combettes.free.fr/delatomelorgan/index.html" TargetMode="External"/><Relationship Id="rId31" Type="http://schemas.openxmlformats.org/officeDocument/2006/relationships/hyperlink" Target="http://christian.combettes.free.fr/delatomelorgan/index.html" TargetMode="External"/><Relationship Id="rId32" Type="http://schemas.openxmlformats.org/officeDocument/2006/relationships/hyperlink" Target="http://christian.combettes.free.fr/delatomelorgan/index.html" TargetMode="External"/><Relationship Id="rId33" Type="http://schemas.openxmlformats.org/officeDocument/2006/relationships/hyperlink" Target="file:///tmp/home/.config/libreoffice/4/user/gallery/CLICK5.WAV" TargetMode="External"/><Relationship Id="rId3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tmp/home/.config/libreoffice/4/user/gallery/CLICK5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CLICK5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CLICK5.WAV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tmp/home/.config/libreoffice/4/user/gallery/CLICK5.WAV" TargetMode="External"/><Relationship Id="rId10" Type="http://schemas.openxmlformats.org/officeDocument/2006/relationships/image" Target="../media/image6.png"/><Relationship Id="rId11" Type="http://schemas.openxmlformats.org/officeDocument/2006/relationships/hyperlink" Target="file:///tmp/home/.config/libreoffice/4/user/gallery/CLICK5.WAV" TargetMode="External"/><Relationship Id="rId12" Type="http://schemas.openxmlformats.org/officeDocument/2006/relationships/image" Target="../media/image6.png"/><Relationship Id="rId13" Type="http://schemas.openxmlformats.org/officeDocument/2006/relationships/hyperlink" Target="file:///tmp/home/.config/libreoffice/4/user/gallery/CLICK5.WAV" TargetMode="External"/><Relationship Id="rId14" Type="http://schemas.openxmlformats.org/officeDocument/2006/relationships/image" Target="../media/image6.png"/><Relationship Id="rId15" Type="http://schemas.openxmlformats.org/officeDocument/2006/relationships/hyperlink" Target="file:///tmp/home/.config/libreoffice/4/user/gallery/CLICK5.WAV" TargetMode="External"/><Relationship Id="rId16" Type="http://schemas.openxmlformats.org/officeDocument/2006/relationships/image" Target="../media/image7.png"/><Relationship Id="rId17" Type="http://schemas.openxmlformats.org/officeDocument/2006/relationships/hyperlink" Target="file:///tmp/home/.config/libreoffice/4/user/gallery/CLICK5.WAV" TargetMode="External"/><Relationship Id="rId18" Type="http://schemas.openxmlformats.org/officeDocument/2006/relationships/image" Target="../media/image7.png"/><Relationship Id="rId19" Type="http://schemas.openxmlformats.org/officeDocument/2006/relationships/hyperlink" Target="file:///tmp/home/.config/libreoffice/4/user/gallery/CLICK5.WAV" TargetMode="External"/><Relationship Id="rId20" Type="http://schemas.openxmlformats.org/officeDocument/2006/relationships/image" Target="../media/image7.png"/><Relationship Id="rId21" Type="http://schemas.openxmlformats.org/officeDocument/2006/relationships/slide" Target="slide24.xml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8.png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17840" y="65556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 cellul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027520" y="2789280"/>
            <a:ext cx="524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Marie Longpré-Boisvert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"/>
          <p:cNvSpPr/>
          <p:nvPr/>
        </p:nvSpPr>
        <p:spPr>
          <a:xfrm>
            <a:off x="2249280" y="35805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"/>
          <p:cNvSpPr/>
          <p:nvPr/>
        </p:nvSpPr>
        <p:spPr>
          <a:xfrm>
            <a:off x="1605960" y="4312080"/>
            <a:ext cx="6092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Karine Lefevbr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17760" y="5532480"/>
            <a:ext cx="2670480" cy="457200"/>
            <a:chOff x="3317760" y="5532480"/>
            <a:chExt cx="2670480" cy="457200"/>
          </a:xfrm>
        </p:grpSpPr>
        <p:sp>
          <p:nvSpPr>
            <p:cNvPr id="99" name=""/>
            <p:cNvSpPr/>
            <p:nvPr/>
          </p:nvSpPr>
          <p:spPr>
            <a:xfrm>
              <a:off x="3317760" y="55324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0880" y="560736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Lucida Sans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4267080"/>
            <a:ext cx="2517840" cy="2590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achemi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les substanc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’une parti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 la cellul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à une aut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6" name="punaise%20bleu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231840" cy="190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Réticulum endoplasmiqu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62520" y="1676160"/>
            <a:ext cx="4876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0066"/>
                </a:solidFill>
                <a:latin typeface="Lucida Sans"/>
              </a:rPr>
              <a:t>Tubes aplatis qui permettent une continuité avec le noyau mais un milieu isolé pour la synthèse des protéines. 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pic>
        <p:nvPicPr>
          <p:cNvPr id="179" name="réticuf2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971800" cy="2361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80" name="">
            <a:hlinkClick r:id="" action="ppaction://hlinkshowjump?jump=nextslide"/>
            <a:hlinkClick r:id="rId3"/>
          </p:cNvPr>
          <p:cNvSpPr/>
          <p:nvPr/>
        </p:nvSpPr>
        <p:spPr>
          <a:xfrm>
            <a:off x="7315200" y="4572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200" spc="-1" strike="noStrike">
                <a:solidFill>
                  <a:srgbClr val="ffcc00"/>
                </a:solidFill>
                <a:latin typeface="Comic Sans MS"/>
              </a:rPr>
              <a:t>Réticulum endoplasmique (R.E.)</a:t>
            </a:r>
            <a:endParaRPr b="1" i="1" lang="en-US" sz="4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905120"/>
            <a:ext cx="2362320" cy="1981080"/>
          </a:xfrm>
          <a:prstGeom prst="rightArrow">
            <a:avLst>
              <a:gd name="adj1" fmla="val 50000"/>
              <a:gd name="adj2" fmla="val 29811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R.E. lis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057400"/>
            <a:ext cx="167652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Synthè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lipi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4" name="punaise%20bleu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20680" cy="190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76520" y="4343400"/>
            <a:ext cx="2361960" cy="1981080"/>
          </a:xfrm>
          <a:prstGeom prst="rightArrow">
            <a:avLst>
              <a:gd name="adj1" fmla="val 50000"/>
              <a:gd name="adj2" fmla="val 29806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R.E. granuleu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4419720" y="4495680"/>
            <a:ext cx="167616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Synthès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protéi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7" name="punaise%20bleu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190800" cy="1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324480" y="2590920"/>
            <a:ext cx="2819520" cy="2361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contrairement au R.E. lisse, le R.E. granuleux est parsemé de ribosom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Appareil de Golgi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76560" y="46479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51"/>
              </a:spcBef>
              <a:buClr>
                <a:srgbClr val="0000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000" spc="-1" strike="noStrike">
                <a:solidFill>
                  <a:srgbClr val="000066"/>
                </a:solidFill>
                <a:latin typeface="Lucida Sans"/>
              </a:rPr>
              <a:t>Empilement de 6 ou 7 dictyosomes</a:t>
            </a:r>
            <a:endParaRPr b="0" i="1" lang="en-US" sz="3000" spc="-1" strike="noStrike">
              <a:solidFill>
                <a:srgbClr val="000099"/>
              </a:solidFill>
              <a:latin typeface="Lucida Sans"/>
            </a:endParaRPr>
          </a:p>
        </p:txBody>
      </p:sp>
      <p:pic>
        <p:nvPicPr>
          <p:cNvPr id="191" name="appareil%20de%20golgif2" descr=""/>
          <p:cNvPicPr/>
          <p:nvPr/>
        </p:nvPicPr>
        <p:blipFill>
          <a:blip r:embed="rId1"/>
          <a:srcRect l="2496" t="0" r="0" b="0"/>
          <a:stretch/>
        </p:blipFill>
        <p:spPr>
          <a:xfrm>
            <a:off x="3048120" y="1981080"/>
            <a:ext cx="2971800" cy="23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76320" y="76320"/>
            <a:ext cx="2057400" cy="18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10 à 20 par cellule animal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76320"/>
            <a:ext cx="2057400" cy="18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plusieurs centaines par cellule végétal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495680"/>
            <a:ext cx="2667240" cy="2133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L’appareil de Golgi a été découvert en 1898 par Camillo Golgi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33526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80880" y="2057400"/>
            <a:ext cx="3428640" cy="4037760"/>
            <a:chOff x="380880" y="2057400"/>
            <a:chExt cx="3428640" cy="4037760"/>
          </a:xfrm>
        </p:grpSpPr>
        <p:sp>
          <p:nvSpPr>
            <p:cNvPr id="197" name=""/>
            <p:cNvSpPr/>
            <p:nvPr/>
          </p:nvSpPr>
          <p:spPr>
            <a:xfrm>
              <a:off x="380880" y="2195640"/>
              <a:ext cx="3428640" cy="3899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6600"/>
                  </a:solidFill>
                  <a:latin typeface="Lucida Sans"/>
                </a:rPr>
                <a:t>Fonction: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compléter la fabrication des protéines et y apposer une étiquette pour qu’elles  se dirigent vers le R.E. ou l’extérieur de la cellule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98" name="punaise%20bleu" descr=""/>
            <p:cNvPicPr/>
            <p:nvPr/>
          </p:nvPicPr>
          <p:blipFill>
            <a:blip r:embed="rId1"/>
            <a:stretch/>
          </p:blipFill>
          <p:spPr>
            <a:xfrm>
              <a:off x="1994040" y="2057400"/>
              <a:ext cx="252360" cy="2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858000" y="1066680"/>
            <a:ext cx="2286000" cy="2514600"/>
          </a:xfrm>
          <a:prstGeom prst="rightArrow">
            <a:avLst>
              <a:gd name="adj1" fmla="val 55806"/>
              <a:gd name="adj2" fmla="val 27778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direction: 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Appareil de Golgi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6629400" y="3352680"/>
            <a:ext cx="2286000" cy="2514600"/>
          </a:xfrm>
          <a:prstGeom prst="rightArrow">
            <a:avLst>
              <a:gd name="adj1" fmla="val 55806"/>
              <a:gd name="adj2" fmla="val 27778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direction: extérieur de la cellul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219320" y="152280"/>
            <a:ext cx="69944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'énerg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5410080" y="312408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mitochond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518148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12408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chloroplas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es formules énergétiques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4267080"/>
            <a:ext cx="8502480" cy="1447920"/>
            <a:chOff x="457200" y="4267080"/>
            <a:chExt cx="8502480" cy="1447920"/>
          </a:xfrm>
        </p:grpSpPr>
        <p:sp>
          <p:nvSpPr>
            <p:cNvPr id="208" name=""/>
            <p:cNvSpPr/>
            <p:nvPr/>
          </p:nvSpPr>
          <p:spPr>
            <a:xfrm>
              <a:off x="457200" y="4267080"/>
              <a:ext cx="8502480" cy="1447920"/>
            </a:xfrm>
            <a:prstGeom prst="cube">
              <a:avLst>
                <a:gd name="adj" fmla="val 35634"/>
              </a:avLst>
            </a:prstGeom>
            <a:gradFill rotWithShape="0">
              <a:gsLst>
                <a:gs pos="0">
                  <a:srgbClr val="000099"/>
                </a:gs>
                <a:gs pos="5000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6 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C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6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H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12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O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6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+6 </a:t>
              </a:r>
              <a:r>
                <a:rPr b="0" lang="fr-CA" sz="2400" spc="-1" strike="noStrike">
                  <a:solidFill>
                    <a:srgbClr val="ff9933"/>
                  </a:solidFill>
                  <a:latin typeface="Lucida Sans"/>
                </a:rPr>
                <a:t>O</a:t>
              </a:r>
              <a:r>
                <a:rPr b="0" lang="fr-CA" sz="2400" spc="-1" strike="noStrike" baseline="-25000">
                  <a:solidFill>
                    <a:srgbClr val="ff9933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</a:t>
              </a:r>
              <a:r>
                <a:rPr b="0" lang="fr-CA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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6</a:t>
              </a:r>
              <a:r>
                <a:rPr b="0" lang="fr-CA" sz="2400" spc="-1" strike="noStrike">
                  <a:solidFill>
                    <a:srgbClr val="ffff00"/>
                  </a:solidFill>
                  <a:latin typeface="Lucida Sans"/>
                </a:rPr>
                <a:t> CO</a:t>
              </a:r>
              <a:r>
                <a:rPr b="0" lang="fr-CA" sz="2400" spc="-1" strike="noStrike" baseline="-25000">
                  <a:solidFill>
                    <a:srgbClr val="ffff00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+ 6 </a:t>
              </a:r>
              <a:r>
                <a:rPr b="0" lang="fr-CA" sz="2400" spc="-1" strike="noStrike">
                  <a:solidFill>
                    <a:srgbClr val="66ff33"/>
                  </a:solidFill>
                  <a:latin typeface="Lucida Sans"/>
                </a:rPr>
                <a:t>H</a:t>
              </a:r>
              <a:r>
                <a:rPr b="0" lang="fr-CA" sz="2400" spc="-1" strike="noStrike" baseline="-25000">
                  <a:solidFill>
                    <a:srgbClr val="66ff33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66ff33"/>
                  </a:solidFill>
                  <a:latin typeface="Lucida Sans"/>
                </a:rPr>
                <a:t>O 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+ ENERGIE (</a:t>
              </a:r>
              <a:r>
                <a:rPr b="0" lang="fr-CA" sz="2400" spc="-1" strike="noStrike">
                  <a:solidFill>
                    <a:srgbClr val="ff0066"/>
                  </a:solidFill>
                  <a:latin typeface="Lucida Sans"/>
                </a:rPr>
                <a:t>38 ATP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66840" y="4267080"/>
              <a:ext cx="51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99ccff"/>
                  </a:solidFill>
                  <a:latin typeface="Lucida Sans"/>
                </a:rPr>
                <a:t>Formule de la respiration cellulair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0880" y="1905120"/>
            <a:ext cx="8502840" cy="1523520"/>
            <a:chOff x="380880" y="1905120"/>
            <a:chExt cx="8502840" cy="1523520"/>
          </a:xfrm>
        </p:grpSpPr>
        <p:sp>
          <p:nvSpPr>
            <p:cNvPr id="211" name=""/>
            <p:cNvSpPr/>
            <p:nvPr/>
          </p:nvSpPr>
          <p:spPr>
            <a:xfrm>
              <a:off x="380880" y="1981080"/>
              <a:ext cx="8502840" cy="1447560"/>
            </a:xfrm>
            <a:prstGeom prst="cube">
              <a:avLst>
                <a:gd name="adj" fmla="val 35634"/>
              </a:avLst>
            </a:prstGeom>
            <a:gradFill rotWithShape="0">
              <a:gsLst>
                <a:gs pos="0">
                  <a:srgbClr val="000099"/>
                </a:gs>
                <a:gs pos="5000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6</a:t>
              </a:r>
              <a:r>
                <a:rPr b="0" lang="fr-CA" sz="2400" spc="-1" strike="noStrike">
                  <a:solidFill>
                    <a:srgbClr val="ffff00"/>
                  </a:solidFill>
                  <a:latin typeface="Lucida Sans"/>
                </a:rPr>
                <a:t> CO</a:t>
              </a:r>
              <a:r>
                <a:rPr b="0" lang="fr-CA" sz="2400" spc="-1" strike="noStrike" baseline="-25000">
                  <a:solidFill>
                    <a:srgbClr val="ffff00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+ 6 </a:t>
              </a:r>
              <a:r>
                <a:rPr b="0" lang="fr-CA" sz="2400" spc="-1" strike="noStrike">
                  <a:solidFill>
                    <a:srgbClr val="66ff33"/>
                  </a:solidFill>
                  <a:latin typeface="Lucida Sans"/>
                </a:rPr>
                <a:t>H</a:t>
              </a:r>
              <a:r>
                <a:rPr b="0" lang="fr-CA" sz="2400" spc="-1" strike="noStrike" baseline="-25000">
                  <a:solidFill>
                    <a:srgbClr val="66ff33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66ff33"/>
                  </a:solidFill>
                  <a:latin typeface="Lucida Sans"/>
                </a:rPr>
                <a:t>O 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+ Lumière </a:t>
              </a:r>
              <a:r>
                <a:rPr b="0" lang="fr-CA" sz="24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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6 </a:t>
              </a:r>
              <a:r>
                <a:rPr b="0" lang="fr-CA" sz="2400" spc="-1" strike="noStrike">
                  <a:solidFill>
                    <a:srgbClr val="ff9933"/>
                  </a:solidFill>
                  <a:latin typeface="Lucida Sans"/>
                </a:rPr>
                <a:t>O</a:t>
              </a:r>
              <a:r>
                <a:rPr b="0" lang="fr-CA" sz="2400" spc="-1" strike="noStrike" baseline="-25000">
                  <a:solidFill>
                    <a:srgbClr val="ff9933"/>
                  </a:solidFill>
                  <a:latin typeface="Lucida Sans"/>
                </a:rPr>
                <a:t>2</a:t>
              </a:r>
              <a:r>
                <a:rPr b="0" lang="fr-CA" sz="2400" spc="-1" strike="noStrike">
                  <a:solidFill>
                    <a:srgbClr val="ffffff"/>
                  </a:solidFill>
                  <a:latin typeface="Lucida Sans"/>
                </a:rPr>
                <a:t> + 6 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C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6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H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12</a:t>
              </a:r>
              <a:r>
                <a:rPr b="0" lang="fr-CA" sz="2400" spc="-1" strike="noStrike">
                  <a:solidFill>
                    <a:srgbClr val="cc00ff"/>
                  </a:solidFill>
                  <a:latin typeface="Lucida Sans"/>
                </a:rPr>
                <a:t>O</a:t>
              </a:r>
              <a:r>
                <a:rPr b="0" lang="fr-CA" sz="2400" spc="-1" strike="noStrike" baseline="-25000">
                  <a:solidFill>
                    <a:srgbClr val="cc00ff"/>
                  </a:solidFill>
                  <a:latin typeface="Lucida San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64920" y="1905120"/>
              <a:ext cx="43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99ccff"/>
                  </a:solidFill>
                  <a:latin typeface="Lucida Sans"/>
                </a:rPr>
                <a:t>Formule de la photosynthès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05320" y="5715000"/>
            <a:ext cx="210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Lucida Sans"/>
                <a:hlinkClick r:id="rId1" action="ppaction://hlinksldjump"/>
              </a:rPr>
              <a:t>Mitochond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529080" y="3581280"/>
            <a:ext cx="20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Lucida Sans"/>
                <a:hlinkClick r:id="rId2" action="ppaction://hlinksldjump"/>
              </a:rPr>
              <a:t>Chloroplas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Mitochondri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16" name="mitochondrief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971800" cy="23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17" name=""/>
          <p:cNvSpPr/>
          <p:nvPr/>
        </p:nvSpPr>
        <p:spPr>
          <a:xfrm flipH="1">
            <a:off x="4724280" y="228600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"/>
          <p:cNvSpPr/>
          <p:nvPr/>
        </p:nvSpPr>
        <p:spPr>
          <a:xfrm>
            <a:off x="6116040" y="160020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Crêt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mithochondri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790960" y="28951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"/>
          <p:cNvSpPr/>
          <p:nvPr/>
        </p:nvSpPr>
        <p:spPr>
          <a:xfrm>
            <a:off x="6288120" y="28954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membrane dou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16002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"/>
          <p:cNvSpPr/>
          <p:nvPr/>
        </p:nvSpPr>
        <p:spPr>
          <a:xfrm>
            <a:off x="336960" y="24382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1 micr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35053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419360" y="3276360"/>
            <a:ext cx="2438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3962520"/>
            <a:ext cx="2514600" cy="2819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Les mitochondries se reproduisent elles mêmes et contiennent leur AD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152280"/>
            <a:ext cx="2057400" cy="160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par cellul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4191120"/>
            <a:ext cx="4343400" cy="2438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respiration cellulaire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Elle extrait l’énergie de la nourriture et de l’oxygène pour convertir en AT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8" name="punaise%20bleu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304920" cy="22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-380880" y="-380880"/>
            <a:ext cx="3657600" cy="2133360"/>
          </a:xfrm>
          <a:prstGeom prst="irregularSeal2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ffffff"/>
                </a:solidFill>
                <a:latin typeface="Lucida Sans"/>
              </a:rPr>
              <a:t>Cellule végéta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ffffff"/>
                </a:solidFill>
                <a:latin typeface="Lucida Sans"/>
              </a:rPr>
              <a:t>seule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Chloroplast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8840" y="3657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Lucida Sans"/>
              </a:rPr>
              <a:t>Contient de la</a:t>
            </a:r>
            <a:r>
              <a:rPr b="0" i="1" lang="fr-CA" sz="32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i="1" lang="fr-CA" sz="3200" spc="-1" strike="noStrike">
                <a:solidFill>
                  <a:srgbClr val="ff0000"/>
                </a:solidFill>
                <a:latin typeface="Lucida Sans"/>
              </a:rPr>
              <a:t>chlorophyle.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pic>
        <p:nvPicPr>
          <p:cNvPr id="232" name="chloro%202" descr=""/>
          <p:cNvPicPr/>
          <p:nvPr/>
        </p:nvPicPr>
        <p:blipFill>
          <a:blip r:embed="rId2"/>
          <a:srcRect l="7619" t="11437" r="8501" b="39013"/>
          <a:stretch/>
        </p:blipFill>
        <p:spPr>
          <a:xfrm>
            <a:off x="2719440" y="1828800"/>
            <a:ext cx="3733920" cy="2206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>
            <a:off x="309996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2747520" y="4572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Thylacoï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"/>
          <p:cNvSpPr/>
          <p:nvPr/>
        </p:nvSpPr>
        <p:spPr>
          <a:xfrm>
            <a:off x="599616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"/>
          <p:cNvSpPr/>
          <p:nvPr/>
        </p:nvSpPr>
        <p:spPr>
          <a:xfrm>
            <a:off x="6836040" y="22478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granu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67680" y="2743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4 à 6 micr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576756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"/>
          <p:cNvSpPr/>
          <p:nvPr/>
        </p:nvSpPr>
        <p:spPr>
          <a:xfrm>
            <a:off x="7292520" y="27050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981080"/>
            <a:ext cx="457200" cy="1981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76320"/>
            <a:ext cx="1828800" cy="1752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40 à 5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par cellul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4952880"/>
            <a:ext cx="289548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les chloroplastes se reproduisent eux mê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4572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1676520"/>
            <a:ext cx="3200400" cy="3733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faire de la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photosynthèse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, c’est à dire transformer l’énergie lumineuse en énergie chimique, glucos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unaise%20bleu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264960" cy="220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257800" y="1981080"/>
            <a:ext cx="2971800" cy="2819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Les chloroplastes se reproduisent eux mêmes contrairement à tous les autres organ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Chloroplast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lysosof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666880" y="1295280"/>
            <a:ext cx="2971800" cy="23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ysosomes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49680" y="2362320"/>
            <a:ext cx="18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0.05 à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0.5 micr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19810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95680" y="3276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629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Enzymes digestives avec un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pH acide de 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152280"/>
            <a:ext cx="2210040" cy="18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Une quarantaine par cellul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4114800"/>
            <a:ext cx="2514600" cy="24382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découverts en 1950 par </a:t>
            </a:r>
            <a:r>
              <a:rPr b="0" sz="2400" spc="-1" strike="noStrike">
                <a:solidFill>
                  <a:srgbClr val="ffffff"/>
                </a:solidFill>
                <a:latin typeface="Lucida Sans"/>
              </a:rPr>
              <a:t>de Christian</a:t>
            </a:r>
            <a:r>
              <a:rPr b="0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Lucida Sans"/>
              </a:rPr>
              <a:t>René Du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825720"/>
            <a:ext cx="2438280" cy="3032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digestion 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intracellulaire à l’aide d’enzymes fabriqués dans l’appareil de Golgi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punaise%20bleu" descr=""/>
          <p:cNvPicPr/>
          <p:nvPr/>
        </p:nvPicPr>
        <p:blipFill>
          <a:blip r:embed="rId2"/>
          <a:stretch/>
        </p:blipFill>
        <p:spPr>
          <a:xfrm>
            <a:off x="1560600" y="3772080"/>
            <a:ext cx="290520" cy="27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7920" y="327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0"/>
            <a:ext cx="56941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Impact"/>
              </a:rPr>
              <a:t>La cell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2526840" y="5749920"/>
            <a:ext cx="468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6600"/>
                </a:solidFill>
                <a:latin typeface="Lucida Sans"/>
              </a:rPr>
              <a:t>Marie Longpré-Boisve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4240440" y="525780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6600"/>
                </a:solidFill>
                <a:latin typeface="Lucida Sans"/>
              </a:rPr>
              <a:t>P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58840" y="380880"/>
            <a:ext cx="699444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a stru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de la cell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26708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Membrane et paro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426708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Cytoplasme et cytosquelet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membrane%20plasmiquef2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124080" cy="2210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57240" y="304812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99"/>
                </a:solidFill>
                <a:latin typeface="Lucida Sans"/>
              </a:rPr>
              <a:t>Lipid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"/>
          <p:cNvSpPr/>
          <p:nvPr/>
        </p:nvSpPr>
        <p:spPr>
          <a:xfrm>
            <a:off x="819720" y="14479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99"/>
                </a:solidFill>
                <a:latin typeface="Lucida Sans"/>
              </a:rPr>
              <a:t>Proté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a membrane cytoplasmique et la paroi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1828800"/>
            <a:ext cx="228600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447920" y="2971800"/>
            <a:ext cx="2133360" cy="5335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505320"/>
            <a:ext cx="22096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3733920"/>
            <a:ext cx="3656880" cy="3123720"/>
            <a:chOff x="0" y="3733920"/>
            <a:chExt cx="3656880" cy="3123720"/>
          </a:xfrm>
        </p:grpSpPr>
        <p:sp>
          <p:nvSpPr>
            <p:cNvPr id="269" name=""/>
            <p:cNvSpPr/>
            <p:nvPr/>
          </p:nvSpPr>
          <p:spPr>
            <a:xfrm>
              <a:off x="0" y="3788640"/>
              <a:ext cx="3656880" cy="3069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6600"/>
                  </a:solidFill>
                  <a:latin typeface="Lucida Sans"/>
                </a:rPr>
                <a:t>Fonction: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c’est une membrane semi-perméable qui protège la cellule et qui gère les </a:t>
              </a:r>
              <a:r>
                <a:rPr b="0" lang="fr-CA" sz="2400" spc="-1" strike="noStrike">
                  <a:solidFill>
                    <a:srgbClr val="ff0000"/>
                  </a:solidFill>
                  <a:latin typeface="Lucida Sans"/>
                </a:rPr>
                <a:t>échanges </a:t>
              </a: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avec l’intérieur et l’extérieur de la cellule.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70" name="punaise%20bleu" descr=""/>
            <p:cNvPicPr/>
            <p:nvPr/>
          </p:nvPicPr>
          <p:blipFill>
            <a:blip r:embed="rId2"/>
            <a:stretch/>
          </p:blipFill>
          <p:spPr>
            <a:xfrm>
              <a:off x="1737360" y="3733920"/>
              <a:ext cx="456840" cy="27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1645200" y="259092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10n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019920" y="1828800"/>
            <a:ext cx="3047400" cy="3885480"/>
            <a:chOff x="6019920" y="1828800"/>
            <a:chExt cx="3047400" cy="3885480"/>
          </a:xfrm>
        </p:grpSpPr>
        <p:sp>
          <p:nvSpPr>
            <p:cNvPr id="273" name=""/>
            <p:cNvSpPr/>
            <p:nvPr/>
          </p:nvSpPr>
          <p:spPr>
            <a:xfrm>
              <a:off x="6019920" y="1896840"/>
              <a:ext cx="3047400" cy="38174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6600"/>
                  </a:solidFill>
                  <a:latin typeface="Lucida Sans"/>
                </a:rPr>
                <a:t>Fonction: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Chez les cellules végétales on remarque une seconde membrane appellée </a:t>
              </a:r>
              <a:r>
                <a:rPr b="0" lang="fr-CA" sz="2400" spc="-1" strike="noStrike">
                  <a:solidFill>
                    <a:srgbClr val="ff0000"/>
                  </a:solidFill>
                  <a:latin typeface="Lucida Sans"/>
                </a:rPr>
                <a:t>paroi</a:t>
              </a: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 qui est composée de cellulose et de fibre.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74" name="punaise%20bleu" descr=""/>
            <p:cNvPicPr/>
            <p:nvPr/>
          </p:nvPicPr>
          <p:blipFill>
            <a:blip r:embed="rId3"/>
            <a:stretch/>
          </p:blipFill>
          <p:spPr>
            <a:xfrm>
              <a:off x="7467480" y="1828800"/>
              <a:ext cx="380520" cy="34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66880" y="259092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Cytosquelett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99"/>
                </a:solidFill>
                <a:latin typeface="Lucida Sans"/>
              </a:rPr>
              <a:t>Le cytosquelette est un assemblage de différentes structures qui voient au maintien de la cellule. (microtubule, microfilaments…)</a:t>
            </a: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809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Cytoplas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472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99"/>
                </a:solidFill>
                <a:latin typeface="Lucida Sans"/>
              </a:rPr>
              <a:t>Il est composé à 85% d’eau, de glucides, de lipides, de protéines, le tout étant visqueux.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a vacuol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3505320"/>
            <a:ext cx="2590200" cy="2971440"/>
            <a:chOff x="304920" y="3505320"/>
            <a:chExt cx="2590200" cy="2971440"/>
          </a:xfrm>
        </p:grpSpPr>
        <p:sp>
          <p:nvSpPr>
            <p:cNvPr id="282" name=""/>
            <p:cNvSpPr/>
            <p:nvPr/>
          </p:nvSpPr>
          <p:spPr>
            <a:xfrm>
              <a:off x="304920" y="3601080"/>
              <a:ext cx="2590200" cy="28756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6600"/>
                  </a:solidFill>
                  <a:latin typeface="Lucida Sans"/>
                </a:rPr>
                <a:t>Fonction: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entreposage de l’eau, des sels, des protéines et du sucre.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3" name="punaise%20bleu" descr=""/>
            <p:cNvPicPr/>
            <p:nvPr/>
          </p:nvPicPr>
          <p:blipFill>
            <a:blip r:embed="rId1"/>
            <a:stretch/>
          </p:blipFill>
          <p:spPr>
            <a:xfrm>
              <a:off x="1543680" y="3505320"/>
              <a:ext cx="281880" cy="19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4" name="cellveg6" descr="">
            <a:hlinkClick r:id="rId2" action="ppaction://hlinksldjump"/>
          </p:cNvPr>
          <p:cNvPicPr/>
          <p:nvPr/>
        </p:nvPicPr>
        <p:blipFill>
          <a:blip r:embed="rId3"/>
          <a:srcRect l="35595" t="12000" r="23730" b="35999"/>
          <a:stretch/>
        </p:blipFill>
        <p:spPr>
          <a:xfrm>
            <a:off x="3727440" y="2133720"/>
            <a:ext cx="1454040" cy="2361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5638680" y="1447920"/>
            <a:ext cx="3353040" cy="4267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la membrane de la vacuole est appellée tonoplaste 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Elle représente 80% du volume d’une cellul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Elle exerce une pression sur la paroi cellulaire ce qui permet le maintien de la plant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2286000"/>
            <a:ext cx="609840" cy="2133720"/>
          </a:xfrm>
          <a:custGeom>
            <a:avLst/>
            <a:gdLst>
              <a:gd name="textAreaLeft" fmla="*/ 389520 w 609840"/>
              <a:gd name="textAreaRight" fmla="*/ 610200 w 6098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64440" y="29718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20 microns et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Bibliographi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MADER, Sylvia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Biologie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Ottawa, les Éditions du Trécarré inc.1991, 767p.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BERGERON, Denise, et Isabelle GILLES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La vie un équilibre à maintenir,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 Montréal, les Éditions Lidec Inc.1988, 529p.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@t Internet. (Page consultée le 20 janvier 2000)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Cyberbio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[En ligne]. Adresse URL: 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"/>
              </a:rPr>
              <a:t>http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"/>
              </a:rPr>
              <a:t>://le-village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3"/>
              </a:rPr>
              <a:t>ifrance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4"/>
              </a:rPr>
              <a:t>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5"/>
              </a:rPr>
              <a:t>com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6"/>
              </a:rPr>
              <a:t>/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7"/>
              </a:rPr>
              <a:t>cyberbio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8"/>
              </a:rPr>
              <a:t>/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9"/>
              </a:rPr>
              <a:t>entree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0"/>
              </a:rPr>
              <a:t>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1"/>
              </a:rPr>
              <a:t>htm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@t Internet. (Page consultée le 19 septembre 2000)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Cyberbio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[En ligne]. Adresse URL: 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2"/>
              </a:rPr>
              <a:t>http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3"/>
              </a:rPr>
              <a:t>://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4"/>
              </a:rPr>
              <a:t>www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5"/>
              </a:rPr>
              <a:t>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6"/>
              </a:rPr>
              <a:t>collegenotre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7"/>
              </a:rPr>
              <a:t>-dame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8"/>
              </a:rPr>
              <a:t>qc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19"/>
              </a:rPr>
              <a:t>.ca/biologie/cellule/index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0"/>
              </a:rPr>
              <a:t>html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@t Internet (Page consultée le 17 septembre 2000)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De l ’atome à l ’organisme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[En ligne]. Adresse URL: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1"/>
              </a:rPr>
              <a:t>http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2"/>
              </a:rPr>
              <a:t>://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3"/>
              </a:rPr>
              <a:t>christian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4"/>
              </a:rPr>
              <a:t>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5"/>
              </a:rPr>
              <a:t>combettes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6"/>
              </a:rPr>
              <a:t>.free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7"/>
              </a:rPr>
              <a:t>fr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8"/>
              </a:rPr>
              <a:t>/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29"/>
              </a:rPr>
              <a:t>delatomelorgan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30"/>
              </a:rPr>
              <a:t>/index.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31"/>
              </a:rPr>
              <a:t>html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PFEIFFER, John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La Cellule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Montréal, Time inc., 1965, 200p.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DOWBEN, M. Robert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Cell biology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New York, Les éditions Harper&amp; Row, 1871, 570p. 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ARMS, Karen, et Pamel S.CAMP,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Biologie tome I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Études vivantes, 1989, 726p.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  <a:p>
            <a:pPr marL="325800" indent="-325800">
              <a:spcBef>
                <a:spcPts val="400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@t Internet (Page consultée le 23 septembre 2000). </a:t>
            </a:r>
            <a:r>
              <a:rPr b="0" i="1" lang="fr-CA" sz="1600" spc="-1" strike="noStrike">
                <a:solidFill>
                  <a:srgbClr val="000099"/>
                </a:solidFill>
                <a:latin typeface="Lucida Sans"/>
              </a:rPr>
              <a:t>Encarta encyclopédie</a:t>
            </a:r>
            <a:r>
              <a:rPr b="0" lang="fr-CA" sz="1600" spc="-1" strike="noStrike">
                <a:solidFill>
                  <a:srgbClr val="000099"/>
                </a:solidFill>
                <a:latin typeface="Lucida Sans"/>
              </a:rPr>
              <a:t>, [En ligne]. Adresse URL:</a:t>
            </a:r>
            <a:r>
              <a:rPr b="0" lang="fr-CA" sz="1600" spc="-1" strike="noStrike" u="sng">
                <a:solidFill>
                  <a:srgbClr val="ff0000"/>
                </a:solidFill>
                <a:uFillTx/>
                <a:latin typeface="Lucida Sans"/>
                <a:hlinkClick r:id="rId32"/>
              </a:rPr>
              <a:t>www.encarta.com</a:t>
            </a:r>
            <a:endParaRPr b="0" i="1" lang="en-US" sz="16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90" name="">
            <a:hlinkClick r:id="" action="ppaction://hlinkshowjump?jump=firstslide"/>
            <a:hlinkClick r:id="rId33"/>
          </p:cNvPr>
          <p:cNvSpPr/>
          <p:nvPr/>
        </p:nvSpPr>
        <p:spPr>
          <a:xfrm>
            <a:off x="4800600" y="0"/>
            <a:ext cx="4038480" cy="1752480"/>
          </a:xfrm>
          <a:prstGeom prst="irregularSeal2">
            <a:avLst/>
          </a:prstGeom>
          <a:gradFill rotWithShape="0">
            <a:gsLst>
              <a:gs pos="0">
                <a:srgbClr val="0000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ffff"/>
                </a:solidFill>
                <a:latin typeface="Impact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exiqu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ff0000"/>
                </a:solidFill>
                <a:latin typeface="Lucida Sans"/>
              </a:rPr>
              <a:t>ATP:</a:t>
            </a:r>
            <a:r>
              <a:rPr b="0" i="1" lang="fr-CA" sz="2600" spc="-1" strike="noStrike">
                <a:solidFill>
                  <a:srgbClr val="000099"/>
                </a:solidFill>
                <a:latin typeface="Lucida Sans"/>
              </a:rPr>
              <a:t> adénosine triphosphate qui peut être utilisé directement par la cellule.</a:t>
            </a:r>
            <a:endParaRPr b="0" i="1" lang="en-US" sz="26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ff0000"/>
                </a:solidFill>
                <a:latin typeface="Lucida Sans"/>
              </a:rPr>
              <a:t>enzymes:</a:t>
            </a:r>
            <a:r>
              <a:rPr b="0" i="1" lang="fr-CA" sz="2600" spc="-1" strike="noStrike">
                <a:solidFill>
                  <a:srgbClr val="000099"/>
                </a:solidFill>
                <a:latin typeface="Lucida Sans"/>
              </a:rPr>
              <a:t> protéine  qui augmente la vitesse d’une réaction chimique.</a:t>
            </a:r>
            <a:endParaRPr b="0" i="1" lang="en-US" sz="26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ff0000"/>
                </a:solidFill>
                <a:latin typeface="Lucida Sans"/>
              </a:rPr>
              <a:t>Cellules filles:</a:t>
            </a:r>
            <a:r>
              <a:rPr b="0" i="1" lang="fr-CA" sz="2600" spc="-1" strike="noStrike">
                <a:solidFill>
                  <a:srgbClr val="000099"/>
                </a:solidFill>
                <a:latin typeface="Lucida Sans"/>
              </a:rPr>
              <a:t> cellules qui seront créés lors de la reproduction de la cellule mère. </a:t>
            </a:r>
            <a:endParaRPr b="0" i="1" lang="en-US" sz="26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93" name=""/>
          <p:cNvSpPr/>
          <p:nvPr/>
        </p:nvSpPr>
        <p:spPr>
          <a:xfrm>
            <a:off x="3816000" y="54100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Ret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5680" y="-1838160"/>
            <a:ext cx="9169200" cy="111045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Je vous décrirai ici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la structur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et les fo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s différents organ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s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cellules animales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ainsi que cel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es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cellules végét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586680" y="575136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0000"/>
                </a:solidFill>
                <a:latin typeface="Lucida Sans"/>
              </a:rPr>
              <a:t>Cliquez ici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3124080" y="1371600"/>
            <a:ext cx="2895840" cy="4343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N.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L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icônes que vou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voyez ici serviron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à votre navig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cellulaire!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Bonne Route</a:t>
            </a: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ell%20animf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cellveg6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556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5638680"/>
            <a:ext cx="8839440" cy="1219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48"/>
              </a:gs>
              <a:gs pos="50000">
                <a:srgbClr val="000099"/>
              </a:gs>
              <a:gs pos="100000">
                <a:srgbClr val="00004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095880"/>
            <a:ext cx="828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900" spc="-1" strike="noStrike">
                <a:solidFill>
                  <a:srgbClr val="ffffff"/>
                </a:solidFill>
                <a:latin typeface="Comic Sans MS"/>
              </a:rPr>
              <a:t>Cliquez sur </a:t>
            </a:r>
            <a:r>
              <a:rPr b="1" lang="fr-CA" sz="1900" spc="-1" strike="noStrike">
                <a:solidFill>
                  <a:srgbClr val="6699ff"/>
                </a:solidFill>
                <a:latin typeface="Comic Sans MS"/>
              </a:rPr>
              <a:t>l’organite</a:t>
            </a:r>
            <a:r>
              <a:rPr b="1" lang="fr-CA" sz="1900" spc="-1" strike="noStrike">
                <a:solidFill>
                  <a:srgbClr val="ffffff"/>
                </a:solidFill>
                <a:latin typeface="Comic Sans MS"/>
              </a:rPr>
              <a:t> de votre choix pour obtenir des </a:t>
            </a:r>
            <a:r>
              <a:rPr b="1" lang="fr-CA" sz="1900" spc="-1" strike="noStrike">
                <a:solidFill>
                  <a:srgbClr val="6699ff"/>
                </a:solidFill>
                <a:latin typeface="Comic Sans MS"/>
              </a:rPr>
              <a:t>explication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2" name="cell%20anim%20f5" descr="">
            <a:hlinkClick r:id="rId3"/>
          </p:cNvPr>
          <p:cNvPicPr/>
          <p:nvPr/>
        </p:nvPicPr>
        <p:blipFill>
          <a:blip r:embed="rId4"/>
          <a:srcRect l="34436" t="33789" r="22953" b="35135"/>
          <a:stretch/>
        </p:blipFill>
        <p:spPr>
          <a:xfrm>
            <a:off x="1600200" y="19051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13" name="cell%20anim%20f5" descr="">
            <a:hlinkClick r:id="rId5"/>
          </p:cNvPr>
          <p:cNvPicPr/>
          <p:nvPr/>
        </p:nvPicPr>
        <p:blipFill>
          <a:blip r:embed="rId6"/>
          <a:srcRect l="55748" t="8108" r="24593" b="75686"/>
          <a:stretch/>
        </p:blipFill>
        <p:spPr>
          <a:xfrm>
            <a:off x="25909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cell%20anim%20f5" descr="">
            <a:hlinkClick r:id="rId7"/>
          </p:cNvPr>
          <p:cNvPicPr/>
          <p:nvPr/>
        </p:nvPicPr>
        <p:blipFill>
          <a:blip r:embed="rId8"/>
          <a:srcRect l="59029" t="29730" r="8202" b="56768"/>
          <a:stretch/>
        </p:blipFill>
        <p:spPr>
          <a:xfrm>
            <a:off x="2743200" y="1676520"/>
            <a:ext cx="152388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cell%20anim%20f5" descr="">
            <a:hlinkClick r:id="rId9"/>
          </p:cNvPr>
          <p:cNvPicPr/>
          <p:nvPr/>
        </p:nvPicPr>
        <p:blipFill>
          <a:blip r:embed="rId10"/>
          <a:srcRect l="83622" t="56768" r="6562" b="33789"/>
          <a:stretch/>
        </p:blipFill>
        <p:spPr>
          <a:xfrm>
            <a:off x="3886200" y="32004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cell%20anim%20f5" descr="">
            <a:hlinkClick r:id="rId11"/>
          </p:cNvPr>
          <p:cNvPicPr/>
          <p:nvPr/>
        </p:nvPicPr>
        <p:blipFill>
          <a:blip r:embed="rId12"/>
          <a:srcRect l="29514" t="59470" r="21312" b="13514"/>
          <a:stretch/>
        </p:blipFill>
        <p:spPr>
          <a:xfrm>
            <a:off x="1371600" y="33526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cell%20anim%20f5" descr="">
            <a:hlinkClick r:id="rId13"/>
          </p:cNvPr>
          <p:cNvPicPr/>
          <p:nvPr/>
        </p:nvPicPr>
        <p:blipFill>
          <a:blip r:embed="rId14"/>
          <a:srcRect l="4921" t="4059" r="70499" b="16216"/>
          <a:stretch/>
        </p:blipFill>
        <p:spPr>
          <a:xfrm>
            <a:off x="228600" y="228600"/>
            <a:ext cx="1143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cell%20vegf5" descr="">
            <a:hlinkClick r:id="rId15"/>
          </p:cNvPr>
          <p:cNvPicPr/>
          <p:nvPr/>
        </p:nvPicPr>
        <p:blipFill>
          <a:blip r:embed="rId16"/>
          <a:srcRect l="18653" t="23618" r="66107" b="66671"/>
          <a:stretch/>
        </p:blipFill>
        <p:spPr>
          <a:xfrm>
            <a:off x="5486400" y="1295280"/>
            <a:ext cx="68580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cell%20vegf5" descr="">
            <a:hlinkClick r:id="rId17"/>
          </p:cNvPr>
          <p:cNvPicPr/>
          <p:nvPr/>
        </p:nvPicPr>
        <p:blipFill>
          <a:blip r:embed="rId18"/>
          <a:srcRect l="44077" t="69455" r="8469" b="0"/>
          <a:stretch/>
        </p:blipFill>
        <p:spPr>
          <a:xfrm>
            <a:off x="6553080" y="388620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cell%20vegf5" descr="">
            <a:hlinkClick r:id="rId19"/>
          </p:cNvPr>
          <p:cNvPicPr/>
          <p:nvPr/>
        </p:nvPicPr>
        <p:blipFill>
          <a:blip r:embed="rId20"/>
          <a:srcRect l="33911" t="12508" r="25424" b="47223"/>
          <a:stretch/>
        </p:blipFill>
        <p:spPr>
          <a:xfrm>
            <a:off x="6172200" y="685800"/>
            <a:ext cx="182880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21" action="ppaction://hlinksldjump"/>
          </p:cNvPr>
          <p:cNvSpPr/>
          <p:nvPr/>
        </p:nvSpPr>
        <p:spPr>
          <a:xfrm>
            <a:off x="4114800" y="5105520"/>
            <a:ext cx="1676520" cy="380880"/>
          </a:xfrm>
          <a:custGeom>
            <a:avLst/>
            <a:gdLst>
              <a:gd name="textAreaLeft" fmla="*/ 48960 w 1676520"/>
              <a:gd name="textAreaRight" fmla="*/ 1627560 w 1676520"/>
              <a:gd name="textAreaTop" fmla="*/ 48960 h 380880"/>
              <a:gd name="textAreaBottom" fmla="*/ 3319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2217" y="2790"/>
                </a:lnTo>
                <a:lnTo>
                  <a:pt x="2790" y="2790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2217" y="18810"/>
                </a:lnTo>
                <a:lnTo>
                  <a:pt x="92217" y="2790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2790" y="18810"/>
                </a:lnTo>
                <a:lnTo>
                  <a:pt x="92217" y="18810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2790" y="2790"/>
                </a:lnTo>
                <a:lnTo>
                  <a:pt x="2790" y="1881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omic Sans MS"/>
              </a:rPr>
              <a:t>Bibliographi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33520" y="3429000"/>
            <a:ext cx="2286000" cy="3124080"/>
            <a:chOff x="533520" y="3429000"/>
            <a:chExt cx="2286000" cy="3124080"/>
          </a:xfrm>
        </p:grpSpPr>
        <p:sp>
          <p:nvSpPr>
            <p:cNvPr id="123" name=""/>
            <p:cNvSpPr/>
            <p:nvPr/>
          </p:nvSpPr>
          <p:spPr>
            <a:xfrm>
              <a:off x="533520" y="3505320"/>
              <a:ext cx="2286000" cy="30477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Cliquez su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la </a:t>
              </a:r>
              <a:r>
                <a:rPr b="0" lang="fr-CA" sz="2400" spc="-1" strike="noStrike">
                  <a:solidFill>
                    <a:srgbClr val="ff0000"/>
                  </a:solidFill>
                  <a:latin typeface="Lucida Sans"/>
                </a:rPr>
                <a:t>chromatin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ou le </a:t>
              </a:r>
              <a:r>
                <a:rPr b="0" lang="fr-CA" sz="2400" spc="-1" strike="noStrike">
                  <a:solidFill>
                    <a:srgbClr val="ff0000"/>
                  </a:solidFill>
                  <a:latin typeface="Lucida Sans"/>
                </a:rPr>
                <a:t>nucléol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pour d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explications.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4" name="punaise%20bleu" descr=""/>
            <p:cNvPicPr/>
            <p:nvPr/>
          </p:nvPicPr>
          <p:blipFill>
            <a:blip r:embed="rId1"/>
            <a:stretch/>
          </p:blipFill>
          <p:spPr>
            <a:xfrm>
              <a:off x="1638360" y="342900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cell%20anim%20f5" descr="">
            <a:hlinkClick r:id="rId2" action="ppaction://hlinksldjump"/>
          </p:cNvPr>
          <p:cNvPicPr/>
          <p:nvPr/>
        </p:nvPicPr>
        <p:blipFill>
          <a:blip r:embed="rId3"/>
          <a:srcRect l="42546" t="33789" r="22953" b="35135"/>
          <a:stretch/>
        </p:blipFill>
        <p:spPr>
          <a:xfrm>
            <a:off x="3505320" y="3570120"/>
            <a:ext cx="25905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cell%20anim%20f5" descr="">
            <a:hlinkClick r:id="rId4" action="ppaction://hlinksldjump"/>
          </p:cNvPr>
          <p:cNvPicPr/>
          <p:nvPr/>
        </p:nvPicPr>
        <p:blipFill>
          <a:blip r:embed="rId5"/>
          <a:srcRect l="42546" t="46344" r="45276" b="43631"/>
          <a:stretch/>
        </p:blipFill>
        <p:spPr>
          <a:xfrm>
            <a:off x="3505320" y="4724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20080" y="480060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00"/>
                </a:solidFill>
                <a:latin typeface="Lucida Sans"/>
              </a:rPr>
              <a:t>5 micr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520" y="228600"/>
            <a:ext cx="608004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e noy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685800" cy="2514600"/>
          </a:xfrm>
          <a:custGeom>
            <a:avLst/>
            <a:gdLst>
              <a:gd name="textAreaLeft" fmla="*/ 0 w 685800"/>
              <a:gd name="textAreaRight" fmla="*/ 247680 w 6858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es chromosomes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588960" cy="380988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ccff"/>
                </a:solidFill>
                <a:latin typeface="Lucida Sans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905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2755440" y="1638360"/>
            <a:ext cx="260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Constitué d ’</a:t>
            </a:r>
            <a:r>
              <a:rPr b="0" lang="fr-CA" sz="2400" spc="-1" strike="noStrike" u="sng">
                <a:solidFill>
                  <a:srgbClr val="ff0000"/>
                </a:solidFill>
                <a:uFillTx/>
                <a:latin typeface="Lucida Sans"/>
                <a:hlinkClick r:id="rId1" action="ppaction://hlinksldjump"/>
              </a:rPr>
              <a:t>AD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2261160" y="2476440"/>
            <a:ext cx="68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Nos gènes se trouvent dans nos </a:t>
            </a:r>
            <a:r>
              <a:rPr b="0" lang="fr-CA" sz="2400" spc="-1" strike="noStrike">
                <a:solidFill>
                  <a:srgbClr val="ff0000"/>
                </a:solidFill>
                <a:latin typeface="Lucida Sans"/>
              </a:rPr>
              <a:t>chromozo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479760"/>
            <a:ext cx="4038840" cy="3378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diriger la cellule ou, plus précisément la synthèse des protéines à l’aide de l’ARN messager. Les chromosomes transmettent aussi le matériel génétique aux cellules fill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unaise%20bleu" descr=""/>
          <p:cNvPicPr/>
          <p:nvPr/>
        </p:nvPicPr>
        <p:blipFill>
          <a:blip r:embed="rId2"/>
          <a:stretch/>
        </p:blipFill>
        <p:spPr>
          <a:xfrm>
            <a:off x="4305240" y="3429000"/>
            <a:ext cx="422280" cy="255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9320" y="2133720"/>
            <a:ext cx="588960" cy="365760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ccff"/>
                </a:solidFill>
                <a:latin typeface="Lucida Sans"/>
              </a:rPr>
              <a:t>gè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971800"/>
            <a:ext cx="2362320" cy="2286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23 paires de chromosomes pour les humain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Nucléole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41" name="cellule%20anim" descr="">
            <a:hlinkClick r:id="rId1" action="ppaction://hlinksldjump"/>
          </p:cNvPr>
          <p:cNvPicPr/>
          <p:nvPr/>
        </p:nvPicPr>
        <p:blipFill>
          <a:blip r:embed="rId2"/>
          <a:srcRect l="44508" t="47273" r="43740" b="43288"/>
          <a:stretch/>
        </p:blipFill>
        <p:spPr>
          <a:xfrm>
            <a:off x="1600200" y="380880"/>
            <a:ext cx="1241280" cy="144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657600" y="3809880"/>
            <a:ext cx="1828800" cy="2514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00"/>
                </a:solidFill>
                <a:latin typeface="Lucida Sans"/>
              </a:rPr>
              <a:t>Fonc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synthèse des </a:t>
            </a:r>
            <a:r>
              <a:rPr b="0" lang="fr-CA" sz="2400" spc="-1" strike="noStrike" u="sng">
                <a:solidFill>
                  <a:srgbClr val="ff0000"/>
                </a:solidFill>
                <a:uFillTx/>
                <a:latin typeface="Lucida Sans"/>
                <a:hlinkClick r:id="rId3" action="ppaction://hlinksldjump"/>
              </a:rPr>
              <a:t>ribosomes.</a:t>
            </a:r>
            <a:r>
              <a:rPr b="0" lang="fr-CA" sz="2400" spc="-1" strike="noStrike">
                <a:solidFill>
                  <a:srgbClr val="000099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unaise%20bleu" descr=""/>
          <p:cNvPicPr/>
          <p:nvPr/>
        </p:nvPicPr>
        <p:blipFill>
          <a:blip r:embed="rId4"/>
          <a:stretch/>
        </p:blipFill>
        <p:spPr>
          <a:xfrm>
            <a:off x="4419720" y="365760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1459080" cy="579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AR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286000"/>
            <a:ext cx="838080" cy="685800"/>
          </a:xfrm>
          <a:prstGeom prst="plus">
            <a:avLst>
              <a:gd name="adj" fmla="val 37037"/>
            </a:avLst>
          </a:prstGeom>
          <a:gradFill rotWithShape="0">
            <a:gsLst>
              <a:gs pos="0">
                <a:srgbClr val="3333cc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2286000"/>
            <a:ext cx="1752840" cy="5796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protéi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91320" y="2438280"/>
            <a:ext cx="761760" cy="228600"/>
            <a:chOff x="5791320" y="2438280"/>
            <a:chExt cx="761760" cy="228600"/>
          </a:xfrm>
        </p:grpSpPr>
        <p:sp>
          <p:nvSpPr>
            <p:cNvPr id="148" name=""/>
            <p:cNvSpPr/>
            <p:nvPr/>
          </p:nvSpPr>
          <p:spPr>
            <a:xfrm>
              <a:off x="5791320" y="2438280"/>
              <a:ext cx="761760" cy="763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1320" y="2590560"/>
              <a:ext cx="761760" cy="763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967440" y="1371600"/>
            <a:ext cx="2176560" cy="1752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Lucida Sans"/>
                <a:hlinkClick r:id="rId5" action="ppaction://hlinksldjump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cliquez ic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277680" y="415296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Cliquez ic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6236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996920" y="228600"/>
            <a:ext cx="5241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a fabr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des protéi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3352680" y="5257800"/>
            <a:ext cx="251460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Réticulum endoplasmiqu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5410080" y="310824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1295280" y="3108240"/>
            <a:ext cx="2438640" cy="1158840"/>
          </a:xfrm>
          <a:prstGeom prst="bevel">
            <a:avLst>
              <a:gd name="adj" fmla="val 3681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99ff"/>
                </a:solidFill>
                <a:latin typeface="Lucida Sans"/>
              </a:rPr>
              <a:t>Appareil de Golg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b124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Comic Sans MS"/>
              </a:rPr>
              <a:t>Les ribosomes</a:t>
            </a:r>
            <a:endParaRPr b="1" i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81280" y="4495680"/>
            <a:ext cx="1752480" cy="2286000"/>
            <a:chOff x="3581280" y="4495680"/>
            <a:chExt cx="1752480" cy="2286000"/>
          </a:xfrm>
        </p:grpSpPr>
        <p:sp>
          <p:nvSpPr>
            <p:cNvPr id="160" name=""/>
            <p:cNvSpPr/>
            <p:nvPr/>
          </p:nvSpPr>
          <p:spPr>
            <a:xfrm>
              <a:off x="3581280" y="4572000"/>
              <a:ext cx="1752480" cy="22096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6600"/>
                  </a:solidFill>
                  <a:latin typeface="Lucida Sans"/>
                </a:rPr>
                <a:t>Fonction: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synthès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99"/>
                  </a:solidFill>
                  <a:latin typeface="Lucida Sans"/>
                </a:rPr>
                <a:t>d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0000"/>
                  </a:solidFill>
                  <a:latin typeface="Lucida Sans"/>
                </a:rPr>
                <a:t>protéin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1" name="punaise%20bleu" descr=""/>
            <p:cNvPicPr/>
            <p:nvPr/>
          </p:nvPicPr>
          <p:blipFill>
            <a:blip r:embed="rId1"/>
            <a:stretch/>
          </p:blipFill>
          <p:spPr>
            <a:xfrm>
              <a:off x="4343040" y="4495680"/>
              <a:ext cx="190800" cy="19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ribo%202" descr=""/>
          <p:cNvPicPr/>
          <p:nvPr/>
        </p:nvPicPr>
        <p:blipFill>
          <a:blip r:embed="rId2"/>
          <a:srcRect l="12003" t="20005" r="37334" b="0"/>
          <a:stretch/>
        </p:blipFill>
        <p:spPr>
          <a:xfrm>
            <a:off x="2438280" y="1828800"/>
            <a:ext cx="2895840" cy="2741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0292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6968520" y="33148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AR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36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679800" y="20955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Proté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666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28191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"/>
          <p:cNvSpPr/>
          <p:nvPr/>
        </p:nvSpPr>
        <p:spPr>
          <a:xfrm>
            <a:off x="6605280" y="25527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Sous-unité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514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Verdana"/>
              </a:rPr>
              <a:t>25 n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0574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236232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Lucida Sans"/>
              </a:rPr>
              <a:t>Info pl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Lucida Sans"/>
              </a:rPr>
              <a:t>découvert en 195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76320"/>
            <a:ext cx="2286000" cy="18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Lucida Sans"/>
              </a:rPr>
              <a:t>Quantité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Lucida Sans"/>
              </a:rPr>
              <a:t>des millions par cellul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3:36:58Z</dcterms:created>
  <dc:creator>Enseignement</dc:creator>
  <dc:description/>
  <dc:language>en-US</dc:language>
  <cp:lastModifiedBy>A. Bensaada</cp:lastModifiedBy>
  <dcterms:modified xsi:type="dcterms:W3CDTF">2000-09-28T22:18:48Z</dcterms:modified>
  <cp:revision>232</cp:revision>
  <dc:subject/>
  <dc:title>Aucun titre de diapositive</dc:title>
</cp:coreProperties>
</file>