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FB018.WAV" ContentType="audio/x-wav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492-8874-4233-AC01-5E2DB52D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553-3CAA-40BE-84F5-E2A1FB7A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368-6E2A-4BE8-845A-A6A1497A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17F-5D1E-4BCE-BC3B-795C2268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14B-558B-4374-BEA9-05C63515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ABD-FE2D-48FC-A490-15E5F650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51A-52DF-4C96-AC8E-DF24CC3F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F0E-E090-49A1-A030-9D379F08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A12-2166-46D2-87D7-51183A81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525-A335-4FFF-9B60-6E9A597B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C9C-820E-485A-8996-642D2F4D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3FE-F857-4409-A668-CAB92A3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4C0-24BC-453C-9616-340F96E7E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sdm.qc.ca/ladauversiere/science.htm" TargetMode="External"/><Relationship Id="rId3" Type="http://schemas.openxmlformats.org/officeDocument/2006/relationships/hyperlink" Target="http://www.csdm.qc.ca/ladauversiere/science.htm" TargetMode="External"/><Relationship Id="rId4" Type="http://schemas.openxmlformats.org/officeDocument/2006/relationships/audio" Target="../media/FB018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" Target="slide5.xml"/><Relationship Id="rId5" Type="http://schemas.openxmlformats.org/officeDocument/2006/relationships/image" Target="../media/image4.jpeg"/><Relationship Id="rId6" Type="http://schemas.openxmlformats.org/officeDocument/2006/relationships/slide" Target="slide3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audio" Target="../media/FB018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slide" Target="slide5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" Target="slide5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81200" y="431640"/>
            <a:ext cx="6110280" cy="18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lleycat ICG"/>
              </a:rPr>
              <a:t>La famille des alcalins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lleycat ICG"/>
              <a:ea typeface="Alleycat ICG"/>
            </a:endParaRPr>
          </a:p>
        </p:txBody>
      </p:sp>
      <p:sp>
        <p:nvSpPr>
          <p:cNvPr id="42" name=""/>
          <p:cNvSpPr/>
          <p:nvPr/>
        </p:nvSpPr>
        <p:spPr>
          <a:xfrm>
            <a:off x="2348640" y="2970720"/>
            <a:ext cx="4773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ar Ziad Helou  et Yamina Bounes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33160" y="3991680"/>
            <a:ext cx="480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3080" y="4769280"/>
            <a:ext cx="6264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</a:t>
            </a:r>
            <a:r>
              <a:rPr b="0" lang="fr-CA" sz="1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Ahmed </a:t>
            </a:r>
            <a:r>
              <a:rPr b="0" lang="fr-CA" sz="1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Bensa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02000" y="5943600"/>
            <a:ext cx="2666880" cy="457200"/>
            <a:chOff x="3402000" y="5943600"/>
            <a:chExt cx="2666880" cy="457200"/>
          </a:xfrm>
        </p:grpSpPr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>
              <a:off x="34020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8840" y="601884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304920"/>
            <a:ext cx="21081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ésium: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3080" y="1203480"/>
            <a:ext cx="8183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Césium a été découvert en 1860 par G. R. Kirchoff et Rob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unsen. Il a été découvert grâce au spectroscope. Voici quelq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nseignements supplémentaires sur le Césium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819520"/>
            <a:ext cx="5884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Numéro ato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volu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1,87 g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ato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132,9054 u.m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e fus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301,5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 ’ébullit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944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Électronégativité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0.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figuration électronique: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(Xe) 6s</a:t>
            </a:r>
            <a:r>
              <a:rPr b="1" i="1" lang="fr-FR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45320" y="3108240"/>
          <a:ext cx="1930320" cy="14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5320" y="3108240"/>
                    <a:ext cx="19303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204320" y="4705200"/>
            <a:ext cx="1113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é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421840" y="0"/>
            <a:ext cx="722160" cy="403200"/>
          </a:xfrm>
          <a:custGeom>
            <a:avLst/>
            <a:gdLst>
              <a:gd name="textAreaLeft" fmla="*/ 25920 w 722160"/>
              <a:gd name="textAreaRight" fmla="*/ 696240 w 7221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672" h="21600">
                <a:moveTo>
                  <a:pt x="0" y="0"/>
                </a:moveTo>
                <a:lnTo>
                  <a:pt x="38672" y="0"/>
                </a:lnTo>
                <a:lnTo>
                  <a:pt x="38672" y="21600"/>
                </a:lnTo>
                <a:lnTo>
                  <a:pt x="0" y="21600"/>
                </a:lnTo>
                <a:close/>
              </a:path>
              <a:path fill="lightenLess" w="38672" h="21600">
                <a:moveTo>
                  <a:pt x="0" y="0"/>
                </a:moveTo>
                <a:lnTo>
                  <a:pt x="38672" y="0"/>
                </a:lnTo>
                <a:lnTo>
                  <a:pt x="37272" y="1400"/>
                </a:lnTo>
                <a:lnTo>
                  <a:pt x="1400" y="1400"/>
                </a:lnTo>
                <a:close/>
              </a:path>
              <a:path fill="darken" w="38672" h="21600">
                <a:moveTo>
                  <a:pt x="38672" y="0"/>
                </a:moveTo>
                <a:lnTo>
                  <a:pt x="38672" y="21600"/>
                </a:lnTo>
                <a:lnTo>
                  <a:pt x="37272" y="20200"/>
                </a:lnTo>
                <a:lnTo>
                  <a:pt x="37272" y="1400"/>
                </a:lnTo>
                <a:close/>
              </a:path>
              <a:path fill="darkenLess" w="38672" h="21600">
                <a:moveTo>
                  <a:pt x="3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72" y="20200"/>
                </a:lnTo>
                <a:close/>
              </a:path>
              <a:path fill="lighten" w="3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72" h="21600">
                <a:moveTo>
                  <a:pt x="12329" y="10800"/>
                </a:moveTo>
                <a:lnTo>
                  <a:pt x="26342" y="3794"/>
                </a:lnTo>
                <a:lnTo>
                  <a:pt x="2634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304920"/>
            <a:ext cx="26416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Francium: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4120" y="1295280"/>
            <a:ext cx="87897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Francium étant rare, actif et radioactif, il est très dur de le trou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l a été possiblement observé en 1931 par Fred Allison qui l’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pelé Virginium, mais il a été découvert et confirmé en 1939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rguerite Perey. Voici quelques renseignements supplémentaires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Francium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8000" y="3325680"/>
            <a:ext cx="442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Numéro ato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volu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1,87 g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ato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223,0197 u.m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e fusion: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 300,2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 ’ébullit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9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Électronégativité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0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figuration atomique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:(Rn) 7s</a:t>
            </a:r>
            <a:r>
              <a:rPr b="1" i="1" lang="fr-FR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60240" y="3760920"/>
            <a:ext cx="218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(Image non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ponib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8421840" y="0"/>
            <a:ext cx="722160" cy="403200"/>
          </a:xfrm>
          <a:custGeom>
            <a:avLst/>
            <a:gdLst>
              <a:gd name="textAreaLeft" fmla="*/ 25920 w 722160"/>
              <a:gd name="textAreaRight" fmla="*/ 696240 w 7221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672" h="21600">
                <a:moveTo>
                  <a:pt x="0" y="0"/>
                </a:moveTo>
                <a:lnTo>
                  <a:pt x="38672" y="0"/>
                </a:lnTo>
                <a:lnTo>
                  <a:pt x="38672" y="21600"/>
                </a:lnTo>
                <a:lnTo>
                  <a:pt x="0" y="21600"/>
                </a:lnTo>
                <a:close/>
              </a:path>
              <a:path fill="lightenLess" w="38672" h="21600">
                <a:moveTo>
                  <a:pt x="0" y="0"/>
                </a:moveTo>
                <a:lnTo>
                  <a:pt x="38672" y="0"/>
                </a:lnTo>
                <a:lnTo>
                  <a:pt x="37272" y="1400"/>
                </a:lnTo>
                <a:lnTo>
                  <a:pt x="1400" y="1400"/>
                </a:lnTo>
                <a:close/>
              </a:path>
              <a:path fill="darken" w="38672" h="21600">
                <a:moveTo>
                  <a:pt x="38672" y="0"/>
                </a:moveTo>
                <a:lnTo>
                  <a:pt x="38672" y="21600"/>
                </a:lnTo>
                <a:lnTo>
                  <a:pt x="37272" y="20200"/>
                </a:lnTo>
                <a:lnTo>
                  <a:pt x="37272" y="1400"/>
                </a:lnTo>
                <a:close/>
              </a:path>
              <a:path fill="darkenLess" w="38672" h="21600">
                <a:moveTo>
                  <a:pt x="3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72" y="20200"/>
                </a:lnTo>
                <a:close/>
              </a:path>
              <a:path fill="lighten" w="3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72" h="21600">
                <a:moveTo>
                  <a:pt x="12329" y="10800"/>
                </a:moveTo>
                <a:lnTo>
                  <a:pt x="26342" y="3794"/>
                </a:lnTo>
                <a:lnTo>
                  <a:pt x="2634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82600" y="406440"/>
            <a:ext cx="7042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BIBLIOGRAPHI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080" y="2335320"/>
            <a:ext cx="926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okeur’s homepage. (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age consultée le 20 avril 2000).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TP de MOKEUR,[En ligne]. Adresse URL: http://le-village.ifrance.com/okapi/fra4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inter,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Mark. (Page consultée le 5 mai 2000).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WebElements: The periodic table on the WWW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, [En ligne]. Adresse URL: http://www.webelements.com/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ebelements/scholar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renier, Eva.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 quête des propriétés de la structure,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ontréal, les Éditions HRW ltée, 1991, 150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080" y="1384200"/>
            <a:ext cx="92361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«Alcalins ». Encyclopédie Microsoft Encarta 98 [CD-ROM]. Microsoft     corporation, 1997.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66920" y="2057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760" y="1160640"/>
            <a:ext cx="78692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Le Lithium est utilisé dans plusieurs domai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comme dans le soulagement des trou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psychologique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25440" y="4903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44800" y="2989440"/>
            <a:ext cx="336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DIUM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97160" y="420840"/>
            <a:ext cx="32371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THIUM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55680" y="53038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8040" y="3735360"/>
            <a:ext cx="8453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l est utilisé pour le refroidissement des réact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ucléaires, pour la fabrication du savon, du papi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t dans les industries du textile et du pétrole.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21840" y="0"/>
            <a:ext cx="722160" cy="403200"/>
          </a:xfrm>
          <a:custGeom>
            <a:avLst/>
            <a:gdLst>
              <a:gd name="textAreaLeft" fmla="*/ 25920 w 722160"/>
              <a:gd name="textAreaRight" fmla="*/ 696240 w 7221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672" h="21600">
                <a:moveTo>
                  <a:pt x="0" y="0"/>
                </a:moveTo>
                <a:lnTo>
                  <a:pt x="38672" y="0"/>
                </a:lnTo>
                <a:lnTo>
                  <a:pt x="38672" y="21600"/>
                </a:lnTo>
                <a:lnTo>
                  <a:pt x="0" y="21600"/>
                </a:lnTo>
                <a:close/>
              </a:path>
              <a:path fill="lightenLess" w="38672" h="21600">
                <a:moveTo>
                  <a:pt x="0" y="0"/>
                </a:moveTo>
                <a:lnTo>
                  <a:pt x="38672" y="0"/>
                </a:lnTo>
                <a:lnTo>
                  <a:pt x="37272" y="1400"/>
                </a:lnTo>
                <a:lnTo>
                  <a:pt x="1400" y="1400"/>
                </a:lnTo>
                <a:close/>
              </a:path>
              <a:path fill="darken" w="38672" h="21600">
                <a:moveTo>
                  <a:pt x="38672" y="0"/>
                </a:moveTo>
                <a:lnTo>
                  <a:pt x="38672" y="21600"/>
                </a:lnTo>
                <a:lnTo>
                  <a:pt x="37272" y="20200"/>
                </a:lnTo>
                <a:lnTo>
                  <a:pt x="37272" y="1400"/>
                </a:lnTo>
                <a:close/>
              </a:path>
              <a:path fill="darkenLess" w="38672" h="21600">
                <a:moveTo>
                  <a:pt x="3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72" y="20200"/>
                </a:lnTo>
                <a:close/>
              </a:path>
              <a:path fill="lighten" w="3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72" h="21600">
                <a:moveTo>
                  <a:pt x="12329" y="10800"/>
                </a:moveTo>
                <a:lnTo>
                  <a:pt x="26342" y="3794"/>
                </a:lnTo>
                <a:lnTo>
                  <a:pt x="2634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62320" y="344520"/>
            <a:ext cx="3182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TASSIUM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110040" y="3844800"/>
            <a:ext cx="32446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BIDIUM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209520" y="979560"/>
            <a:ext cx="8934480" cy="248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Le Potassium sert d’engrais. Il a un rôle important dans la transmission de l’influx nerveux. C’est un bon sédatif. Il est aussi utilisé dans les cellules photoélectriques, les allumettes et les feux d’artifice.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720" y="4678200"/>
            <a:ext cx="84535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Le Rubidium a comme propriété de se fixer sur 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tumeurs cérébrales. Il est donc très utilisé pour la localisation de ce type de cancer.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21840" y="0"/>
            <a:ext cx="722160" cy="403200"/>
          </a:xfrm>
          <a:custGeom>
            <a:avLst/>
            <a:gdLst>
              <a:gd name="textAreaLeft" fmla="*/ 25920 w 722160"/>
              <a:gd name="textAreaRight" fmla="*/ 696240 w 7221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672" h="21600">
                <a:moveTo>
                  <a:pt x="0" y="0"/>
                </a:moveTo>
                <a:lnTo>
                  <a:pt x="38672" y="0"/>
                </a:lnTo>
                <a:lnTo>
                  <a:pt x="38672" y="21600"/>
                </a:lnTo>
                <a:lnTo>
                  <a:pt x="0" y="21600"/>
                </a:lnTo>
                <a:close/>
              </a:path>
              <a:path fill="lightenLess" w="38672" h="21600">
                <a:moveTo>
                  <a:pt x="0" y="0"/>
                </a:moveTo>
                <a:lnTo>
                  <a:pt x="38672" y="0"/>
                </a:lnTo>
                <a:lnTo>
                  <a:pt x="37272" y="1400"/>
                </a:lnTo>
                <a:lnTo>
                  <a:pt x="1400" y="1400"/>
                </a:lnTo>
                <a:close/>
              </a:path>
              <a:path fill="darken" w="38672" h="21600">
                <a:moveTo>
                  <a:pt x="38672" y="0"/>
                </a:moveTo>
                <a:lnTo>
                  <a:pt x="38672" y="21600"/>
                </a:lnTo>
                <a:lnTo>
                  <a:pt x="37272" y="20200"/>
                </a:lnTo>
                <a:lnTo>
                  <a:pt x="37272" y="1400"/>
                </a:lnTo>
                <a:close/>
              </a:path>
              <a:path fill="darkenLess" w="38672" h="21600">
                <a:moveTo>
                  <a:pt x="3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72" y="20200"/>
                </a:lnTo>
                <a:close/>
              </a:path>
              <a:path fill="lighten" w="3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72" h="21600">
                <a:moveTo>
                  <a:pt x="12329" y="10800"/>
                </a:moveTo>
                <a:lnTo>
                  <a:pt x="26342" y="3794"/>
                </a:lnTo>
                <a:lnTo>
                  <a:pt x="2634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00240" y="712800"/>
            <a:ext cx="31752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ÉSIU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9120" y="3828960"/>
            <a:ext cx="3549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anciu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/>
          <p:nvPr/>
        </p:nvSpPr>
        <p:spPr>
          <a:xfrm>
            <a:off x="2477520" y="55278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ff0000"/>
                </a:solidFill>
                <a:uFillTx/>
                <a:latin typeface="Times New Roman"/>
              </a:rPr>
              <a:t>(Aucune utilité trouvé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21840" y="0"/>
            <a:ext cx="722160" cy="403200"/>
          </a:xfrm>
          <a:custGeom>
            <a:avLst/>
            <a:gdLst>
              <a:gd name="textAreaLeft" fmla="*/ 25920 w 722160"/>
              <a:gd name="textAreaRight" fmla="*/ 696240 w 7221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672" h="21600">
                <a:moveTo>
                  <a:pt x="0" y="0"/>
                </a:moveTo>
                <a:lnTo>
                  <a:pt x="38672" y="0"/>
                </a:lnTo>
                <a:lnTo>
                  <a:pt x="38672" y="21600"/>
                </a:lnTo>
                <a:lnTo>
                  <a:pt x="0" y="21600"/>
                </a:lnTo>
                <a:close/>
              </a:path>
              <a:path fill="lightenLess" w="38672" h="21600">
                <a:moveTo>
                  <a:pt x="0" y="0"/>
                </a:moveTo>
                <a:lnTo>
                  <a:pt x="38672" y="0"/>
                </a:lnTo>
                <a:lnTo>
                  <a:pt x="37272" y="1400"/>
                </a:lnTo>
                <a:lnTo>
                  <a:pt x="1400" y="1400"/>
                </a:lnTo>
                <a:close/>
              </a:path>
              <a:path fill="darken" w="38672" h="21600">
                <a:moveTo>
                  <a:pt x="38672" y="0"/>
                </a:moveTo>
                <a:lnTo>
                  <a:pt x="38672" y="21600"/>
                </a:lnTo>
                <a:lnTo>
                  <a:pt x="37272" y="20200"/>
                </a:lnTo>
                <a:lnTo>
                  <a:pt x="37272" y="1400"/>
                </a:lnTo>
                <a:close/>
              </a:path>
              <a:path fill="darkenLess" w="38672" h="21600">
                <a:moveTo>
                  <a:pt x="3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72" y="20200"/>
                </a:lnTo>
                <a:close/>
              </a:path>
              <a:path fill="lighten" w="3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72" h="21600">
                <a:moveTo>
                  <a:pt x="12329" y="10800"/>
                </a:moveTo>
                <a:lnTo>
                  <a:pt x="26342" y="3794"/>
                </a:lnTo>
                <a:lnTo>
                  <a:pt x="2634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5280" y="1916280"/>
            <a:ext cx="82389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Le césium est utilisé dans la fabrication des tubes à vide et des pendules atom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10620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28132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273852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319572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65292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11012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7200" y="1824120"/>
            <a:ext cx="457200" cy="2743200"/>
            <a:chOff x="457200" y="1824120"/>
            <a:chExt cx="457200" cy="2743200"/>
          </a:xfrm>
        </p:grpSpPr>
        <p:sp>
          <p:nvSpPr>
            <p:cNvPr id="168" name=""/>
            <p:cNvSpPr/>
            <p:nvPr/>
          </p:nvSpPr>
          <p:spPr>
            <a:xfrm>
              <a:off x="457200" y="36529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18241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1957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7385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22813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41101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914400" y="187164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29600" y="2738520"/>
            <a:ext cx="4572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27385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2738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2281320"/>
            <a:ext cx="4572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72400" y="2281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29600" y="3195720"/>
            <a:ext cx="4572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72400" y="31957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3195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182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2281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2281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29600" y="1824120"/>
            <a:ext cx="4572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2281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2281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182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182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1824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182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3652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36529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29600" y="3652920"/>
            <a:ext cx="4572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1366920"/>
            <a:ext cx="4572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110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724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152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54054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5440" y="224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67040" y="36939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0800" y="4948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7440" y="6068880"/>
            <a:ext cx="206280" cy="203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360" y="61815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90640" y="212760"/>
            <a:ext cx="580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ableau périodique des éléments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6437160"/>
            <a:ext cx="206280" cy="2034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7400" y="6091200"/>
            <a:ext cx="206640" cy="203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960" y="6437160"/>
            <a:ext cx="206280" cy="2034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5480" y="6570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65560" y="6570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33880" y="6222960"/>
            <a:ext cx="406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27160" y="6016680"/>
            <a:ext cx="1028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cal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08360" y="6377040"/>
            <a:ext cx="1864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calino-terr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0080" y="5992920"/>
            <a:ext cx="125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alogè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8080" y="6375240"/>
            <a:ext cx="1352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Gaz in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600200" y="304920"/>
            <a:ext cx="62355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Techno"/>
              </a:rPr>
              <a:t>Bounessis Yamina et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Techno"/>
              <a:ea typeface="Tech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Techno"/>
              </a:rPr>
              <a:t>Helou Ziad </a:t>
            </a:r>
            <a:endParaRPr b="0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Techno"/>
              <a:ea typeface="Tech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Techno"/>
              </a:rPr>
              <a:t>vous ont présenté :</a:t>
            </a:r>
            <a:endParaRPr b="0" lang="en-US" sz="6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Techno"/>
              <a:ea typeface="Techno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8600" y="2819520"/>
            <a:ext cx="9144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La famille des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4114800"/>
            <a:ext cx="7848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Klang MT"/>
              </a:rPr>
              <a:t>ALCALINS</a:t>
            </a:r>
            <a:endParaRPr b="0" lang="en-US" sz="96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5400000"/>
              </a:gradFill>
              <a:latin typeface="Klang MT"/>
              <a:ea typeface="Klang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395360" y="2162160"/>
            <a:ext cx="6394680" cy="17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ffffff"/>
                  </a:outerShdw>
                </a:effectLst>
                <a:latin typeface="Times New Roman"/>
              </a:rPr>
              <a:t>Merci de votre attention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600200" y="304920"/>
            <a:ext cx="62355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000000"/>
                  </a:outerShdw>
                </a:effectLst>
                <a:latin typeface="Techno"/>
              </a:rPr>
              <a:t>Bounessis Yamina et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000000"/>
                </a:outerShdw>
              </a:effectLst>
              <a:latin typeface="Techno"/>
              <a:ea typeface="Tech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000000"/>
                  </a:outerShdw>
                </a:effectLst>
                <a:latin typeface="Techno"/>
              </a:rPr>
              <a:t>Helou Ziad </a:t>
            </a:r>
            <a:endParaRPr b="0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000000"/>
                </a:outerShdw>
              </a:effectLst>
              <a:latin typeface="Techno"/>
              <a:ea typeface="Tech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53966" dir="2700000" blurRad="0" rotWithShape="0">
                    <a:srgbClr val="000000"/>
                  </a:outerShdw>
                </a:effectLst>
                <a:latin typeface="Techno"/>
              </a:rPr>
              <a:t>vous présentent :</a:t>
            </a:r>
            <a:endParaRPr b="0" lang="en-US" sz="6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53966" dir="2700000" blurRad="0" rotWithShape="0">
                  <a:srgbClr val="000000"/>
                </a:outerShdw>
              </a:effectLst>
              <a:latin typeface="Techno"/>
              <a:ea typeface="Techno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819520"/>
            <a:ext cx="9144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La famille des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4114800"/>
            <a:ext cx="7848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ff0000">
                      <a:alpha val="50000"/>
                    </a:srgbClr>
                  </a:outerShdw>
                </a:effectLst>
                <a:latin typeface="Klang MT"/>
              </a:rPr>
              <a:t>ALCALINS</a:t>
            </a:r>
            <a:endParaRPr b="0" lang="en-US" sz="96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71785" dir="2700000" blurRad="0" rotWithShape="0">
                  <a:srgbClr val="ff0000">
                    <a:alpha val="50000"/>
                  </a:srgbClr>
                </a:outerShdw>
              </a:effectLst>
              <a:latin typeface="Klang MT"/>
              <a:ea typeface="Klang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968480" y="0"/>
            <a:ext cx="5207040" cy="18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63504" dir="2216091" blurRad="0" rotWithShape="0">
                    <a:srgbClr val="ffff00"/>
                  </a:outerShdw>
                </a:effectLst>
                <a:latin typeface="Arial Black"/>
              </a:rPr>
              <a:t>les alcalins</a:t>
            </a:r>
            <a:endParaRPr b="0" lang="en-US" sz="66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63504" dir="2216091" blurRad="0" rotWithShape="0">
                  <a:srgbClr val="ffff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5280" y="4151160"/>
            <a:ext cx="7750080" cy="5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priétés des  différents éléments alcalin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65280" y="4968720"/>
            <a:ext cx="2985840" cy="5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ibliographi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65280" y="2717640"/>
            <a:ext cx="2489040" cy="5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ésentation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65280" y="3479760"/>
            <a:ext cx="79754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mplacement dans le tableau périodiqu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65280" y="5084640"/>
            <a:ext cx="59832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8120" y="777960"/>
            <a:ext cx="8618760" cy="590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alcalins sont les éléments de la première colonne du tabl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ériodique. Ce sont des métaux qui réagissent très fortement avec l’eau pour donner des sels.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éléments de la famille des alcalins sont tous des métaux du même genre. Cette famille compre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buClr>
                <a:srgbClr val="ff0000"/>
              </a:buClr>
              <a:buSzPct val="130000"/>
              <a:buFont typeface="Wingdings 2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lith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buClr>
                <a:srgbClr val="ff0000"/>
              </a:buClr>
              <a:buSzPct val="130000"/>
              <a:buFont typeface="Wingdings 2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sod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buClr>
                <a:srgbClr val="ff0000"/>
              </a:buClr>
              <a:buSzPct val="130000"/>
              <a:buFont typeface="Wingdings 2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potas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buClr>
                <a:srgbClr val="ff0000"/>
              </a:buClr>
              <a:buSzPct val="130000"/>
              <a:buFont typeface="Wingdings 2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rubid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buClr>
                <a:srgbClr val="ff0000"/>
              </a:buClr>
              <a:buSzPct val="130000"/>
              <a:buFont typeface="Wingdings 2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és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buClr>
                <a:srgbClr val="ff0000"/>
              </a:buClr>
              <a:buSzPct val="130000"/>
              <a:buFont typeface="Wingdings 2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fran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50000"/>
              </a:lnSpc>
              <a:buClr>
                <a:srgbClr val="ff0000"/>
              </a:buClr>
              <a:buSzPct val="130000"/>
              <a:buFont typeface="Wingdings 2" charset="2"/>
              <a:buChar char="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s éléments sont malléables, ce qui veut dire qu'on peut 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éformer sans provoquer de rupture. De plus, les alcalins doiv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être conservés dans l'huile, car lorsqu'ils sont en contact avec l'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l’humidité de l'air, ils réagissent violemment pour former une base. Ce sont des métaux légers, de couleur blanc argenté, qui s'oxydent facilement.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0"/>
            <a:ext cx="3178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0000"/>
                </a:solidFill>
                <a:latin typeface="Times New Roman"/>
              </a:rPr>
              <a:t>Les alcali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133720" y="228600"/>
            <a:ext cx="5308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LES ALCALINS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1480" y="1676520"/>
            <a:ext cx="2590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ithiu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17960" y="19810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275600" y="1666800"/>
            <a:ext cx="6350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09640" y="2514600"/>
            <a:ext cx="25146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diu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17960" y="28195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288200" y="2505240"/>
            <a:ext cx="6094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71480" y="3429000"/>
            <a:ext cx="2590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otassiu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17960" y="38098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351560" y="3495600"/>
            <a:ext cx="482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71480" y="4343400"/>
            <a:ext cx="2590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ubidiu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326360" y="4486320"/>
            <a:ext cx="5335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71480" y="5181480"/>
            <a:ext cx="2590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ésiu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17960" y="55627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51560" y="5248440"/>
            <a:ext cx="482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7960" y="47242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09640" y="5943600"/>
            <a:ext cx="25146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Franciu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17960" y="63244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389720" y="6010200"/>
            <a:ext cx="4064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F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640" y="1143000"/>
            <a:ext cx="34999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Times New Roman"/>
              </a:rPr>
              <a:t>Cliquez sur les noms  pour les renseign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32880" y="1133640"/>
            <a:ext cx="31204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ff"/>
                </a:solidFill>
                <a:uFillTx/>
                <a:latin typeface="Times New Roman"/>
              </a:rPr>
              <a:t>Cliquez sur les symboles pour les util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0" y="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28600"/>
            <a:ext cx="2590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ithium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990720"/>
            <a:ext cx="89154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Le Lithium fut découvert en composé minéral par August Arfvedson en 1817 et a été électriquement purifié par monsieur Humphrey Davy en 1818. Le lithium réagit fortement avec l ’eau. Voici quelques                             renseignements sur le Lithium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048120"/>
            <a:ext cx="4835520" cy="28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Numéro atomique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volumique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cc"/>
                </a:solidFill>
                <a:latin typeface="Times New Roman"/>
              </a:rPr>
              <a:t>0.53 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atomique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3333cc"/>
                </a:solidFill>
                <a:latin typeface="Times New Roman"/>
              </a:rPr>
              <a:t>6.941 u.m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e fusion: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 453.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 ’ébullition: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161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Électronégativité: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0,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figuration électronique: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1s</a:t>
            </a:r>
            <a:r>
              <a:rPr b="1" i="1" lang="fr-FR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 2s</a:t>
            </a:r>
            <a:r>
              <a:rPr b="1" i="1" lang="fr-FR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77080" y="3247920"/>
          <a:ext cx="127152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7080" y="3247920"/>
                    <a:ext cx="1271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413040" y="5468760"/>
            <a:ext cx="239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ithium dans l ’huil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8421840" y="0"/>
            <a:ext cx="722160" cy="403200"/>
          </a:xfrm>
          <a:custGeom>
            <a:avLst/>
            <a:gdLst>
              <a:gd name="textAreaLeft" fmla="*/ 25920 w 722160"/>
              <a:gd name="textAreaRight" fmla="*/ 696240 w 7221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672" h="21600">
                <a:moveTo>
                  <a:pt x="0" y="0"/>
                </a:moveTo>
                <a:lnTo>
                  <a:pt x="38672" y="0"/>
                </a:lnTo>
                <a:lnTo>
                  <a:pt x="38672" y="21600"/>
                </a:lnTo>
                <a:lnTo>
                  <a:pt x="0" y="21600"/>
                </a:lnTo>
                <a:close/>
              </a:path>
              <a:path fill="lightenLess" w="38672" h="21600">
                <a:moveTo>
                  <a:pt x="0" y="0"/>
                </a:moveTo>
                <a:lnTo>
                  <a:pt x="38672" y="0"/>
                </a:lnTo>
                <a:lnTo>
                  <a:pt x="37272" y="1400"/>
                </a:lnTo>
                <a:lnTo>
                  <a:pt x="1400" y="1400"/>
                </a:lnTo>
                <a:close/>
              </a:path>
              <a:path fill="darken" w="38672" h="21600">
                <a:moveTo>
                  <a:pt x="38672" y="0"/>
                </a:moveTo>
                <a:lnTo>
                  <a:pt x="38672" y="21600"/>
                </a:lnTo>
                <a:lnTo>
                  <a:pt x="37272" y="20200"/>
                </a:lnTo>
                <a:lnTo>
                  <a:pt x="37272" y="1400"/>
                </a:lnTo>
                <a:close/>
              </a:path>
              <a:path fill="darkenLess" w="38672" h="21600">
                <a:moveTo>
                  <a:pt x="3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72" y="20200"/>
                </a:lnTo>
                <a:close/>
              </a:path>
              <a:path fill="lighten" w="3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72" h="21600">
                <a:moveTo>
                  <a:pt x="12329" y="10800"/>
                </a:moveTo>
                <a:lnTo>
                  <a:pt x="26342" y="3794"/>
                </a:lnTo>
                <a:lnTo>
                  <a:pt x="26342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228600"/>
            <a:ext cx="18795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dium: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7640" y="1143000"/>
            <a:ext cx="8440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Humphrey Davy a électrolysé du Sodium pur de l ’hydroxyd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odium en 1807 à Londres. La réaction du Sodium en contact av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l ’eau et l ’air est très violente. Voici quelques renseign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upplémentaires sur le sodium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200400"/>
            <a:ext cx="52704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Numéro ato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volu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0,97 g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ato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22,98977 u.m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e fus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1156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 ’ébullit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371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Électronégativité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0,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figuration électronique: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(Ne) 3s</a:t>
            </a:r>
            <a:r>
              <a:rPr b="1" i="1" lang="fr-FR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92120" y="49118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491160" y="3516480"/>
          <a:ext cx="1752840" cy="13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1160" y="3516480"/>
                    <a:ext cx="175284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8421840" y="0"/>
            <a:ext cx="722160" cy="403200"/>
          </a:xfrm>
          <a:custGeom>
            <a:avLst/>
            <a:gdLst>
              <a:gd name="textAreaLeft" fmla="*/ 25920 w 722160"/>
              <a:gd name="textAreaRight" fmla="*/ 696240 w 7221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672" h="21600">
                <a:moveTo>
                  <a:pt x="0" y="0"/>
                </a:moveTo>
                <a:lnTo>
                  <a:pt x="38672" y="0"/>
                </a:lnTo>
                <a:lnTo>
                  <a:pt x="38672" y="21600"/>
                </a:lnTo>
                <a:lnTo>
                  <a:pt x="0" y="21600"/>
                </a:lnTo>
                <a:close/>
              </a:path>
              <a:path fill="lightenLess" w="38672" h="21600">
                <a:moveTo>
                  <a:pt x="0" y="0"/>
                </a:moveTo>
                <a:lnTo>
                  <a:pt x="38672" y="0"/>
                </a:lnTo>
                <a:lnTo>
                  <a:pt x="37272" y="1400"/>
                </a:lnTo>
                <a:lnTo>
                  <a:pt x="1400" y="1400"/>
                </a:lnTo>
                <a:close/>
              </a:path>
              <a:path fill="darken" w="38672" h="21600">
                <a:moveTo>
                  <a:pt x="38672" y="0"/>
                </a:moveTo>
                <a:lnTo>
                  <a:pt x="38672" y="21600"/>
                </a:lnTo>
                <a:lnTo>
                  <a:pt x="37272" y="20200"/>
                </a:lnTo>
                <a:lnTo>
                  <a:pt x="37272" y="1400"/>
                </a:lnTo>
                <a:close/>
              </a:path>
              <a:path fill="darkenLess" w="38672" h="21600">
                <a:moveTo>
                  <a:pt x="3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72" y="20200"/>
                </a:lnTo>
                <a:close/>
              </a:path>
              <a:path fill="lighten" w="3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72" h="21600">
                <a:moveTo>
                  <a:pt x="12329" y="10800"/>
                </a:moveTo>
                <a:lnTo>
                  <a:pt x="26342" y="3794"/>
                </a:lnTo>
                <a:lnTo>
                  <a:pt x="2634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228600"/>
            <a:ext cx="243864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otassium: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920" y="1143000"/>
            <a:ext cx="8660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 1807, Humphrey Davy a électrolysé du KOH pour obtenir 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tassium à la cathode. Le potassium est aussi connu sous le nom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Kalium, il est l’un des métaux les plus réactifs connus. Voi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ques renseignements supplémentaires sur le Potass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8120"/>
            <a:ext cx="585468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Numéro ato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volu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0,86 g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ato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39,0983 u.m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e fus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336,3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 ’ébullit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1032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Électronégativité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figuration électronique: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(Ar) 4s</a:t>
            </a:r>
            <a:r>
              <a:rPr b="1" i="1" lang="fr-FR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9080" y="49212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734160" y="3359160"/>
          <a:ext cx="2006640" cy="15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4160" y="3359160"/>
                    <a:ext cx="20066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8421840" y="0"/>
            <a:ext cx="722160" cy="403200"/>
          </a:xfrm>
          <a:custGeom>
            <a:avLst/>
            <a:gdLst>
              <a:gd name="textAreaLeft" fmla="*/ 25920 w 722160"/>
              <a:gd name="textAreaRight" fmla="*/ 696240 w 7221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672" h="21600">
                <a:moveTo>
                  <a:pt x="0" y="0"/>
                </a:moveTo>
                <a:lnTo>
                  <a:pt x="38672" y="0"/>
                </a:lnTo>
                <a:lnTo>
                  <a:pt x="38672" y="21600"/>
                </a:lnTo>
                <a:lnTo>
                  <a:pt x="0" y="21600"/>
                </a:lnTo>
                <a:close/>
              </a:path>
              <a:path fill="lightenLess" w="38672" h="21600">
                <a:moveTo>
                  <a:pt x="0" y="0"/>
                </a:moveTo>
                <a:lnTo>
                  <a:pt x="38672" y="0"/>
                </a:lnTo>
                <a:lnTo>
                  <a:pt x="37272" y="1400"/>
                </a:lnTo>
                <a:lnTo>
                  <a:pt x="1400" y="1400"/>
                </a:lnTo>
                <a:close/>
              </a:path>
              <a:path fill="darken" w="38672" h="21600">
                <a:moveTo>
                  <a:pt x="38672" y="0"/>
                </a:moveTo>
                <a:lnTo>
                  <a:pt x="38672" y="21600"/>
                </a:lnTo>
                <a:lnTo>
                  <a:pt x="37272" y="20200"/>
                </a:lnTo>
                <a:lnTo>
                  <a:pt x="37272" y="1400"/>
                </a:lnTo>
                <a:close/>
              </a:path>
              <a:path fill="darkenLess" w="38672" h="21600">
                <a:moveTo>
                  <a:pt x="3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72" y="20200"/>
                </a:lnTo>
                <a:close/>
              </a:path>
              <a:path fill="lighten" w="3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72" h="21600">
                <a:moveTo>
                  <a:pt x="12329" y="10800"/>
                </a:moveTo>
                <a:lnTo>
                  <a:pt x="26342" y="3794"/>
                </a:lnTo>
                <a:lnTo>
                  <a:pt x="2634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228600"/>
            <a:ext cx="23749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ubidium: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2360" y="1125360"/>
            <a:ext cx="8621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rubidium a été découvert en 1861 par Robert Bunsen et Kirch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à Heidelberg en Allemagne. Cette découverte a été rendue possible grâce à l’utilisation d ’un spectroscope. Voici quelques renseignements supplémenta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124080"/>
            <a:ext cx="5916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Numéro atomique: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volu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1,53 g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Masse atomiqu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85,4678 u.m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e fus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312,64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Point d ’ébull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lectronégativité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figuration électronique: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(Kr) 5s</a:t>
            </a:r>
            <a:r>
              <a:rPr b="1" i="1" lang="fr-FR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19840" y="3330720"/>
          <a:ext cx="1930320" cy="145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9840" y="3330720"/>
                    <a:ext cx="1930320" cy="14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113600" y="4898880"/>
            <a:ext cx="1401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ub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421840" y="0"/>
            <a:ext cx="722160" cy="403200"/>
          </a:xfrm>
          <a:custGeom>
            <a:avLst/>
            <a:gdLst>
              <a:gd name="textAreaLeft" fmla="*/ 25920 w 722160"/>
              <a:gd name="textAreaRight" fmla="*/ 696240 w 7221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672" h="21600">
                <a:moveTo>
                  <a:pt x="0" y="0"/>
                </a:moveTo>
                <a:lnTo>
                  <a:pt x="38672" y="0"/>
                </a:lnTo>
                <a:lnTo>
                  <a:pt x="38672" y="21600"/>
                </a:lnTo>
                <a:lnTo>
                  <a:pt x="0" y="21600"/>
                </a:lnTo>
                <a:close/>
              </a:path>
              <a:path fill="lightenLess" w="38672" h="21600">
                <a:moveTo>
                  <a:pt x="0" y="0"/>
                </a:moveTo>
                <a:lnTo>
                  <a:pt x="38672" y="0"/>
                </a:lnTo>
                <a:lnTo>
                  <a:pt x="37272" y="1400"/>
                </a:lnTo>
                <a:lnTo>
                  <a:pt x="1400" y="1400"/>
                </a:lnTo>
                <a:close/>
              </a:path>
              <a:path fill="darken" w="38672" h="21600">
                <a:moveTo>
                  <a:pt x="38672" y="0"/>
                </a:moveTo>
                <a:lnTo>
                  <a:pt x="38672" y="21600"/>
                </a:lnTo>
                <a:lnTo>
                  <a:pt x="37272" y="20200"/>
                </a:lnTo>
                <a:lnTo>
                  <a:pt x="37272" y="1400"/>
                </a:lnTo>
                <a:close/>
              </a:path>
              <a:path fill="darkenLess" w="38672" h="21600">
                <a:moveTo>
                  <a:pt x="3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72" y="20200"/>
                </a:lnTo>
                <a:close/>
              </a:path>
              <a:path fill="lighten" w="3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72" h="21600">
                <a:moveTo>
                  <a:pt x="12329" y="10800"/>
                </a:moveTo>
                <a:lnTo>
                  <a:pt x="26342" y="3794"/>
                </a:lnTo>
                <a:lnTo>
                  <a:pt x="2634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91680" y="6199200"/>
            <a:ext cx="652320" cy="658800"/>
          </a:xfrm>
          <a:custGeom>
            <a:avLst/>
            <a:gdLst>
              <a:gd name="textAreaLeft" fmla="*/ 42120 w 652320"/>
              <a:gd name="textAreaRight" fmla="*/ 610200 w 652320"/>
              <a:gd name="textAreaTop" fmla="*/ 42120 h 658800"/>
              <a:gd name="textAreaBottom" fmla="*/ 616680 h 658800"/>
            </a:gdLst>
            <a:ahLst/>
            <a:rect l="textAreaLeft" t="textAreaTop" r="textAreaRight" b="textAreaBottom"/>
            <a:pathLst>
              <a:path w="21600" h="21814">
                <a:moveTo>
                  <a:pt x="0" y="0"/>
                </a:moveTo>
                <a:lnTo>
                  <a:pt x="21600" y="0"/>
                </a:lnTo>
                <a:lnTo>
                  <a:pt x="21600" y="21814"/>
                </a:lnTo>
                <a:lnTo>
                  <a:pt x="0" y="21814"/>
                </a:lnTo>
                <a:close/>
              </a:path>
              <a:path fill="lightenLess" w="21600" h="218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4">
                <a:moveTo>
                  <a:pt x="21600" y="0"/>
                </a:moveTo>
                <a:lnTo>
                  <a:pt x="21600" y="21814"/>
                </a:lnTo>
                <a:lnTo>
                  <a:pt x="20200" y="20414"/>
                </a:lnTo>
                <a:lnTo>
                  <a:pt x="20200" y="1400"/>
                </a:lnTo>
                <a:close/>
              </a:path>
              <a:path fill="darkenLess" w="21600" h="21814">
                <a:moveTo>
                  <a:pt x="21600" y="21814"/>
                </a:moveTo>
                <a:lnTo>
                  <a:pt x="0" y="21814"/>
                </a:lnTo>
                <a:lnTo>
                  <a:pt x="1400" y="20414"/>
                </a:lnTo>
                <a:lnTo>
                  <a:pt x="20200" y="20414"/>
                </a:lnTo>
                <a:close/>
              </a:path>
              <a:path fill="lighten" w="21600" h="21814">
                <a:moveTo>
                  <a:pt x="0" y="218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4"/>
                </a:lnTo>
                <a:close/>
              </a:path>
              <a:path fill="darken" w="21600" h="21814">
                <a:moveTo>
                  <a:pt x="10800" y="3944"/>
                </a:moveTo>
                <a:lnTo>
                  <a:pt x="13376" y="6555"/>
                </a:ln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lnTo>
                  <a:pt x="17763" y="10907"/>
                </a:lnTo>
                <a:lnTo>
                  <a:pt x="16109" y="10907"/>
                </a:lnTo>
                <a:lnTo>
                  <a:pt x="16109" y="18096"/>
                </a:lnTo>
                <a:lnTo>
                  <a:pt x="5491" y="18096"/>
                </a:lnTo>
                <a:lnTo>
                  <a:pt x="5491" y="10907"/>
                </a:lnTo>
                <a:lnTo>
                  <a:pt x="3837" y="10907"/>
                </a:lnTo>
                <a:close/>
              </a:path>
              <a:path fill="darkenLess" w="21600" h="21814">
                <a:moveTo>
                  <a:pt x="13376" y="6555"/>
                </a:moveTo>
                <a:lnTo>
                  <a:pt x="13376" y="4815"/>
                </a:lnTo>
                <a:lnTo>
                  <a:pt x="15152" y="4815"/>
                </a:lnTo>
                <a:lnTo>
                  <a:pt x="15152" y="8331"/>
                </a:lnTo>
                <a:close/>
              </a:path>
              <a:path fill="darkenLess" w="21600" h="21814">
                <a:moveTo>
                  <a:pt x="9877" y="14406"/>
                </a:moveTo>
                <a:lnTo>
                  <a:pt x="11723" y="14406"/>
                </a:lnTo>
                <a:lnTo>
                  <a:pt x="11723" y="18096"/>
                </a:lnTo>
                <a:lnTo>
                  <a:pt x="16109" y="18096"/>
                </a:lnTo>
                <a:lnTo>
                  <a:pt x="16109" y="10907"/>
                </a:lnTo>
                <a:lnTo>
                  <a:pt x="5491" y="10907"/>
                </a:lnTo>
                <a:lnTo>
                  <a:pt x="5491" y="18096"/>
                </a:lnTo>
                <a:lnTo>
                  <a:pt x="9877" y="1809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6:57:51Z</dcterms:created>
  <dc:creator>Local_301_01</dc:creator>
  <dc:description/>
  <dc:language>en-US</dc:language>
  <cp:lastModifiedBy>A. Bensaada</cp:lastModifiedBy>
  <dcterms:modified xsi:type="dcterms:W3CDTF">2000-09-07T04:52:02Z</dcterms:modified>
  <cp:revision>125</cp:revision>
  <dc:subject/>
  <dc:title>Aucun titre de diapositive</dc:title>
</cp:coreProperties>
</file>