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2.gif" ContentType="image/gif"/>
  <Override PartName="/ppt/media/image2.png" ContentType="image/png"/>
  <Override PartName="/ppt/media/image16.png" ContentType="image/png"/>
  <Override PartName="/ppt/media/image13.gif" ContentType="image/gif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36.png" ContentType="image/png"/>
  <Override PartName="/ppt/media/image43.gif" ContentType="image/gif"/>
  <Override PartName="/ppt/media/image35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10.gif" ContentType="image/gif"/>
  <Override PartName="/ppt/media/image39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49.png" ContentType="image/png"/>
  <Override PartName="/ppt/media/image44.gif" ContentType="image/gif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EA9-0779-455B-9CB1-7029799F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23F-5C06-49DB-B38A-8A549D78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41F-02AA-4541-A6B1-45FCC252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9D3-EC84-49AF-AD98-28B2C5CE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357-632A-43C5-BA73-65BDD18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FBA-8B26-429D-8FC6-6A2DA8D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908-37E5-4487-95A8-EBA1B2DC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D1C-B2A6-490B-BC46-F0CBC373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80C-5329-4A91-BE97-C4967C4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E25-8FA3-42A6-8CB5-BFE0200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073-DC9A-430F-A7D4-4FAAD48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83B-F0D7-45D8-9A8C-E120A74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D4A-3C8D-416D-90F2-634D1E801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" Target="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" Target="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19.png"/><Relationship Id="rId5" Type="http://schemas.openxmlformats.org/officeDocument/2006/relationships/image" Target="../media/image45.png"/><Relationship Id="rId6" Type="http://schemas.openxmlformats.org/officeDocument/2006/relationships/slide" Target="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" Target="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" Target="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image" Target="../media/image9.png"/><Relationship Id="rId14" Type="http://schemas.openxmlformats.org/officeDocument/2006/relationships/image" Target="../media/image10.gif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0280" y="15228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nutrición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36600" y="2924280"/>
            <a:ext cx="84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or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Mélanie Rebello</a:t>
            </a:r>
            <a:r>
              <a:rPr b="0" lang="fr-CA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y Marie-Pascale Pelissier</a:t>
            </a:r>
            <a:r>
              <a:rPr b="0" lang="fr-CA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00800" y="3991680"/>
            <a:ext cx="70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secondaire Joseph-François Perrault, Montréal (Can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3920" y="4653360"/>
            <a:ext cx="563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Validación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el contenido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revisión lingüística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: Leïla To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Traducción al español: OSCAR CL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00320" y="6205680"/>
            <a:ext cx="2911320" cy="457200"/>
            <a:chOff x="3100320" y="6205680"/>
            <a:chExt cx="2911320" cy="457200"/>
          </a:xfrm>
        </p:grpSpPr>
        <p:sp>
          <p:nvSpPr>
            <p:cNvPr id="46" name=""/>
            <p:cNvSpPr/>
            <p:nvPr/>
          </p:nvSpPr>
          <p:spPr>
            <a:xfrm>
              <a:off x="3100320" y="6205680"/>
              <a:ext cx="291132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78080" y="6280560"/>
              <a:ext cx="280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ssia"/>
                </a:rPr>
                <a:t>Haga clic aquí para comenz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095640" y="621180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91880" y="304920"/>
            <a:ext cx="3501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ffffff"/>
                </a:solidFill>
                <a:latin typeface="Times New Roman"/>
              </a:rPr>
              <a:t>Los regul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840" y="1600200"/>
            <a:ext cx="35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Ricos en vitaminas, agua, sales 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5560" y="2057400"/>
            <a:ext cx="54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Son importantes para el buen desarrollo de nuestro metabo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7480" y="11174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3260880"/>
            <a:ext cx="81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Metabolismo: conjunto de reacciones químicas que se realizan en las células de nuestro org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218960" cy="1211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295280" cy="10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1457280" cy="58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29200" y="5334120"/>
            <a:ext cx="1752480" cy="113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90920" y="5105520"/>
            <a:ext cx="1493640" cy="143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2080" y="2711520"/>
            <a:ext cx="840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Entre otros, las sales minerales son muy importantes para la buena salud de nuestros huesos y d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0520" y="152280"/>
            <a:ext cx="712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ffcc"/>
                </a:solidFill>
                <a:latin typeface="Times New Roman"/>
              </a:rPr>
              <a:t>La guía alimentaria canadi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146240"/>
            <a:ext cx="648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</a:rPr>
              <a:t>La guía alimentaria canadiense es dividida en cuatro grupos ali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8320" y="2362320"/>
            <a:ext cx="262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00"/>
                </a:solidFill>
                <a:latin typeface="Times New Roman"/>
              </a:rPr>
              <a:t>Frutos y legu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19720"/>
            <a:ext cx="252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00"/>
                </a:solidFill>
                <a:latin typeface="Times New Roman"/>
              </a:rPr>
              <a:t>carnes y sub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10760" y="4419720"/>
            <a:ext cx="239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00"/>
                </a:solidFill>
                <a:latin typeface="Times New Roman"/>
              </a:rPr>
              <a:t>Productos lact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362320"/>
            <a:ext cx="199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00"/>
                </a:solidFill>
                <a:latin typeface="Times New Roman"/>
              </a:rPr>
              <a:t>Pan y ce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0960" y="29718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9400" y="3124080"/>
            <a:ext cx="2209680" cy="1008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85880" y="525780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86600" y="4876920"/>
            <a:ext cx="1496880" cy="1633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74640" y="228600"/>
            <a:ext cx="4659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00"/>
                </a:solidFill>
                <a:latin typeface="Times New Roman"/>
              </a:rPr>
              <a:t>Frutos y legum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5800" y="1143000"/>
            <a:ext cx="55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ecomendaciones de la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uía alimentaria canadi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2360" y="175248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5 à 10 porciones por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3600" y="2666880"/>
            <a:ext cx="48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Los frutos y legumbres nos proporcion glúcidos,  fibras, vitamina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040" y="388620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na leg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9480" y="39625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un fr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0360" y="403848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125 ml de ju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6920" y="40384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1 taza de lechu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79400" y="342900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U</a:t>
            </a:r>
            <a:r>
              <a:rPr b="1" lang="en-CA" sz="1600" spc="-1" strike="noStrike">
                <a:solidFill>
                  <a:srgbClr val="6666ff"/>
                </a:solidFill>
                <a:latin typeface="Times New Roman"/>
              </a:rPr>
              <a:t>na porción</a:t>
            </a: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 equiva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6480" y="4343400"/>
            <a:ext cx="1387440" cy="1676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905120" cy="1463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1433520" cy="160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1185840" cy="1676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1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9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2200" y="152280"/>
            <a:ext cx="3507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00"/>
                </a:solidFill>
                <a:latin typeface="Times New Roman"/>
              </a:rPr>
              <a:t>Pan y cer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62560" y="1143000"/>
            <a:ext cx="55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ecomendaciones de la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uía alimentaria canadi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0920" y="175248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5 à 12 porciones por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3600" y="2666880"/>
            <a:ext cx="48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Productos cereales nos proporcionan  glúcidos, fibras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77960" y="342900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U</a:t>
            </a:r>
            <a:r>
              <a:rPr b="1" lang="en-CA" sz="1600" spc="-1" strike="noStrike">
                <a:solidFill>
                  <a:srgbClr val="6666ff"/>
                </a:solidFill>
                <a:latin typeface="Times New Roman"/>
              </a:rPr>
              <a:t>na porción</a:t>
            </a: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 equiva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2960" y="39625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1 trozo de 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64280" y="39625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30g de cereales listos a serv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600200" cy="139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46360" y="441972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905120" cy="1481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72800" y="396252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pan pita: 2 por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5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635920" y="152280"/>
            <a:ext cx="4240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00"/>
                </a:solidFill>
                <a:latin typeface="Times New Roman"/>
              </a:rPr>
              <a:t>Productos lact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1143000"/>
            <a:ext cx="54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ecomendaciones de la guía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imentaria canadi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02800" y="175248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2 à 4 porciones por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3600" y="2666880"/>
            <a:ext cx="48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Productos lacteos nos proporcionan proteínas, las vitaminas A et D, calcio, materias grasas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79400" y="342900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U</a:t>
            </a:r>
            <a:r>
              <a:rPr b="1" lang="en-CA" sz="1600" spc="-1" strike="noStrike">
                <a:solidFill>
                  <a:srgbClr val="6666ff"/>
                </a:solidFill>
                <a:latin typeface="Times New Roman"/>
              </a:rPr>
              <a:t>na porción </a:t>
            </a: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equiva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0160" y="40384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250 ml de le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97360" y="403848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0 g de qu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2280" y="40384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75 g de yug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494000" cy="1508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587760" y="4572000"/>
            <a:ext cx="1967040" cy="1494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"/>
                            </p:stCondLst>
                            <p:childTnLst>
                              <p:par>
                                <p:cTn id="6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8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400"/>
                            </p:stCondLst>
                            <p:childTnLst>
                              <p:par>
                                <p:cTn id="6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200"/>
                            </p:stCondLst>
                            <p:childTnLst>
                              <p:par>
                                <p:cTn id="6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93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3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8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23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28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33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8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16440" y="304920"/>
            <a:ext cx="4598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ff00"/>
                </a:solidFill>
                <a:latin typeface="Times New Roman"/>
              </a:rPr>
              <a:t>Carnes y subtitu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64000" y="114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02800" y="175248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Times New Roman"/>
              </a:rPr>
              <a:t>2 a 3 porciones por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63600" y="2666880"/>
            <a:ext cx="48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Productos lacteos nos proporcionan proteínas, la vitamina B 12, materias grasas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7960" y="342900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U</a:t>
            </a:r>
            <a:r>
              <a:rPr b="1" lang="en-CA" sz="1600" spc="-1" strike="noStrike">
                <a:solidFill>
                  <a:srgbClr val="6666ff"/>
                </a:solidFill>
                <a:latin typeface="Times New Roman"/>
              </a:rPr>
              <a:t>na porción</a:t>
            </a:r>
            <a:r>
              <a:rPr b="1" lang="fr-CA" sz="1600" spc="-1" strike="noStrike">
                <a:solidFill>
                  <a:srgbClr val="6666ff"/>
                </a:solidFill>
                <a:latin typeface="Times New Roman"/>
              </a:rPr>
              <a:t> equiva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98080" y="396252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0 à 100 g de 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3962520"/>
            <a:ext cx="13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0 à100 g de 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9080" y="396252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50 à 100 g de ca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160" y="39625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1 à 2 h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65360" y="44197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010280" y="4419720"/>
            <a:ext cx="1524240" cy="1206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167652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677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54280" y="1125360"/>
            <a:ext cx="54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Recomendaciones de la guía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imentaria canadi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5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500"/>
                            </p:stCondLst>
                            <p:childTnLst>
                              <p:par>
                                <p:cTn id="7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50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14479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La nutrición es diferente en todo el mundo, ciertos paises comen de acuerdo a su hambre en cambio  otros no tienen nada que comer. De país en páis, los hábitos alimentecios varían. Por ejemplo, en Quebec se come much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185920" cy="950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81680" y="290988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imes New Roman"/>
              </a:rPr>
              <a:t>Y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1049400" cy="1067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362320" y="4495680"/>
            <a:ext cx="1295280" cy="12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029200" y="4724280"/>
            <a:ext cx="1981080" cy="889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37480" y="28260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ff0066"/>
                </a:solidFill>
                <a:latin typeface="Arial"/>
              </a:rPr>
              <a:t>Cultura alimen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00"/>
                            </p:stCondLst>
                            <p:childTnLst>
                              <p:par>
                                <p:cTn id="7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600"/>
                            </p:stCondLst>
                            <p:childTnLst>
                              <p:par>
                                <p:cTn id="7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6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100"/>
                            </p:stCondLst>
                            <p:childTnLst>
                              <p:par>
                                <p:cTn id="7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10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100"/>
                            </p:stCondLst>
                            <p:childTnLst>
                              <p:par>
                                <p:cTn id="7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1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71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2057400"/>
            <a:ext cx="778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¿Qué es el vegetarismo? He aquí la respuesta! Es un sistema de alimentación que suprime las carnes o todo producto animal. En resumen, es un sistema de alimentación que una persona elig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5000" y="282600"/>
            <a:ext cx="35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ff0066"/>
                </a:solidFill>
                <a:latin typeface="Arial"/>
              </a:rPr>
              <a:t>El vegetar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17524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a calidad nutritiva de un régimen alimenticio vegetariano es siempre juzgad como insufic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a ausencia de carne, no justifica una malnutrición en un vegetariano. Toda persona vegetariana o no puede tener problemas de malnutrición. Esta subtitución es facil de llenar, teniendo presente que una alimentación variada es neces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828800" cy="157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2055600" cy="1641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747960" y="4038480"/>
            <a:ext cx="164628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742120" y="380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0066"/>
                </a:solidFill>
                <a:latin typeface="Arial"/>
              </a:rPr>
              <a:t>El vege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5120" y="228600"/>
            <a:ext cx="699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CA" sz="4000" spc="-1" strike="noStrike">
                <a:solidFill>
                  <a:srgbClr val="ffff00"/>
                </a:solidFill>
                <a:latin typeface="Times New Roman"/>
              </a:rPr>
              <a:t>Un ejemplo de menu equilibr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080" y="17524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7c80"/>
                </a:solidFill>
                <a:latin typeface="Times New Roman"/>
              </a:rPr>
              <a:t>Desayu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1295280"/>
            <a:ext cx="34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vaso de jugo de naran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manz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bol de ce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yogo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3429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7c80"/>
                </a:solidFill>
                <a:latin typeface="Times New Roman"/>
              </a:rPr>
              <a:t>Alm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1400" y="2895480"/>
            <a:ext cx="243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vaso de le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zanah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porción de pollo a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bol de ensalada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trozo d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360" y="5257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7c80"/>
                </a:solidFill>
                <a:latin typeface="Times New Roman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1040" y="482904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porción de pes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bol de sopa de arve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2 trozos d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00600" y="2722680"/>
            <a:ext cx="2590920" cy="1392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6000"/>
                            </p:stCondLst>
                            <p:childTnLst>
                              <p:par>
                                <p:cTn id="9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7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182880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 nutrició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29068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043520" y="457200"/>
            <a:ext cx="113796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76212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66840" y="38412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99"/>
                </a:solidFill>
                <a:latin typeface="Times New Roman"/>
              </a:rPr>
              <a:t>Otro ejemplo de un menú, esta vez no equilib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000" y="20574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66"/>
                </a:solidFill>
                <a:latin typeface="Times New Roman"/>
              </a:rPr>
              <a:t>Des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3680" y="17524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2 huevos f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vaso de coca 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bol de ce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200" y="35812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CA" sz="1800" spc="-1" strike="noStrike">
                <a:solidFill>
                  <a:srgbClr val="ffff66"/>
                </a:solidFill>
                <a:latin typeface="Times New Roman"/>
              </a:rPr>
              <a:t>Alm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31528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rededor de  20 trozos de manz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apas f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trozo de torta choco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5029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1 trozo de pizza          20 papas fritas                1 vaso de co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560" y="525780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fr-CA" sz="1800" spc="-1" strike="noStrike">
                <a:solidFill>
                  <a:srgbClr val="ffff66"/>
                </a:solidFill>
                <a:latin typeface="Times New Roman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685800" cy="696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7500"/>
                            </p:stCondLst>
                            <p:childTnLst>
                              <p:par>
                                <p:cTn id="9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09480" y="129528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Épicerie des jeunes, CEMIS. (Page consultée le 15 mai 2001). 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Épicerie des jeunes,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www.csdm.qc.ca/cemis/panier/aliments/index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2209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AAAclipart. (Page consultée le 15 mai 2001). Clipart, [En ligne]. Adresse URL: </a:t>
            </a:r>
            <a:r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http://www.aaaclipar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151000"/>
            <a:ext cx="769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Le guide alimentaire canadien. (Page consultée le 10 mai 2001). 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Les recommandation du quide alimentaire canadien,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En ligne]. Adresse URL: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members.nbci.com/gourmands/cuisine_sante/guide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04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ff0066"/>
                </a:solidFill>
                <a:latin typeface="Arial"/>
              </a:rPr>
              <a:t>Media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076640"/>
            <a:ext cx="772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Microsoft Office. (Page consultée le 15 mai 2001). Design Gallery Live, [En ligne]. Adresse URL: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dgl.microsof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4933800"/>
            <a:ext cx="83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lip-world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. (Page consultée le 20 mars 2001). 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Clipart,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www.clip-world.net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560" y="5791320"/>
            <a:ext cx="572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JANSON, Johanne. 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Comme un souffle de vie, </a:t>
            </a: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Montréal, LIDEC, 1986, 501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3962520"/>
            <a:ext cx="4648320" cy="155628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3300"/>
                </a:solidFill>
                <a:latin typeface="Times New Roman"/>
              </a:rPr>
              <a:t>Marie-Pascale Pelissier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00400" y="53352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9900"/>
                </a:solidFill>
                <a:latin typeface="Times New Roman"/>
              </a:rPr>
              <a:t>p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4000" y="1600200"/>
            <a:ext cx="4534560" cy="8251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CA" sz="4800" spc="-1" strike="noStrike">
                <a:solidFill>
                  <a:srgbClr val="ff3300"/>
                </a:solidFill>
                <a:latin typeface="Times New Roman"/>
              </a:rPr>
              <a:t>Mélanie Rebell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99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742680" cy="857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914400" cy="644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00480" y="1371600"/>
            <a:ext cx="2543040" cy="125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1676520" cy="16527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930240" y="152388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Los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5" action="ppaction://hlinksldjump"/>
              </a:rPr>
              <a:t>al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54360" y="2241720"/>
            <a:ext cx="24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Función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7" action="ppaction://hlinksldjump"/>
              </a:rPr>
              <a:t> de 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8" action="ppaction://hlinksldjump"/>
              </a:rPr>
              <a:t>los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10" action="ppaction://hlinksldjump"/>
              </a:rPr>
              <a:t>al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98200" y="29592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99"/>
                </a:solidFill>
                <a:latin typeface="Times New Roman"/>
              </a:rPr>
              <a:t>La guía alimentaria canadi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920" y="36766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99"/>
                </a:solidFill>
                <a:latin typeface="Times New Roman"/>
              </a:rPr>
              <a:t>Cultura alimen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43941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99"/>
                </a:solidFill>
                <a:latin typeface="Times New Roman"/>
              </a:rPr>
              <a:t>El vegetar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48240" y="51116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11" action="ppaction://hlinksldjump"/>
              </a:rPr>
              <a:t>Ejemplos</a:t>
            </a:r>
            <a:r>
              <a:rPr b="0" lang="fr-CA" sz="1800" spc="-1" strike="noStrike" u="sng">
                <a:solidFill>
                  <a:srgbClr val="cc00cc"/>
                </a:solidFill>
                <a:uFillTx/>
                <a:latin typeface="Times New Roman"/>
                <a:hlinkClick r:id="rId12" action="ppaction://hlinksldjump"/>
              </a:rPr>
              <a:t> de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99280" y="58294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99"/>
                </a:solidFill>
                <a:latin typeface="Times New Roman"/>
              </a:rPr>
              <a:t>Media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609480" y="1600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6629400" y="318924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24160" y="4129200"/>
            <a:ext cx="2664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66"/>
                </a:solidFill>
                <a:latin typeface="Times New Roman"/>
              </a:rPr>
              <a:t>Cliquez sobre un 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609480" y="29797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609480" y="37339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609480" y="442764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609480" y="51055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609480" y="586728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609480" y="2286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4520" y="260280"/>
            <a:ext cx="50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0066"/>
                </a:solidFill>
                <a:latin typeface="Arial"/>
              </a:rPr>
              <a:t>Table de conten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1"/>
          <a:stretch/>
        </p:blipFill>
        <p:spPr>
          <a:xfrm>
            <a:off x="-457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71880" y="2286000"/>
            <a:ext cx="47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os alimentos son las sustancias sólidas que nosotros comemos y las sustancias líquidas que nosotros beb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493640" cy="1432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163512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3480" y="304920"/>
            <a:ext cx="35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0066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600200"/>
            <a:ext cx="8991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   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Los alimentos están constituidos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glúcides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azúc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proteína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sustancia que se encuentra en las carnes y subtitu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Lípidos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materias gra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Vitaminas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A, B, C, D, E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sales minerales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calcium, fer, zinc, fósforo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fibras alimentarias</a:t>
            </a:r>
            <a:r>
              <a:rPr b="0" lang="fr-CA" sz="1800" spc="-1" strike="noStrike">
                <a:solidFill>
                  <a:srgbClr val="6600ff"/>
                </a:solidFill>
                <a:latin typeface="Times New Roman"/>
              </a:rPr>
              <a:t>: en los cereales y pan a grano entero, los frutos y las legum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958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13480" y="304920"/>
            <a:ext cx="35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0066"/>
                </a:solidFill>
                <a:latin typeface="Arial"/>
              </a:rPr>
              <a:t>Los ali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05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Los alimentos están divididos en varias categorías, según las funciones que cumplen en el organ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240" y="286056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6600ff"/>
                </a:solidFill>
                <a:latin typeface="Times New Roman"/>
              </a:rPr>
              <a:t>Los constructores y repa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120" y="38368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6600ff"/>
                </a:solidFill>
                <a:latin typeface="Times New Roman"/>
              </a:rPr>
              <a:t>Los productores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8480" y="47512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6600ff"/>
                </a:solidFill>
                <a:latin typeface="Times New Roman"/>
              </a:rPr>
              <a:t>Los regu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43040" cy="85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55240" y="333360"/>
            <a:ext cx="68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0066"/>
                </a:solidFill>
                <a:latin typeface="Arial"/>
              </a:rPr>
              <a:t>Funciones de los ali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6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80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600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1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7480" y="228600"/>
            <a:ext cx="680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ffffff"/>
                </a:solidFill>
                <a:latin typeface="Times New Roman"/>
              </a:rPr>
              <a:t>Los constructores y repar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16000" y="165096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ricos en proteí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7480" y="11174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1840" y="226044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Favorecen el 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895480"/>
            <a:ext cx="701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contienene los materiales  necesarios al desarrollo de las células y a su  multi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920" y="3632040"/>
            <a:ext cx="825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ricos en proteínas necesarias a la cicatrisación den las heridas y al reemplazo de los tejidos dañ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8320" y="419112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00ff"/>
                </a:solidFill>
                <a:latin typeface="Times New Roman"/>
              </a:rPr>
              <a:t>Estos  son las carnes y sub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259092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47960" y="4800600"/>
            <a:ext cx="1646280" cy="1211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19920" y="4724280"/>
            <a:ext cx="2762280" cy="1301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3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2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3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46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1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7120" y="228600"/>
            <a:ext cx="578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000" spc="-1" strike="noStrike">
                <a:solidFill>
                  <a:srgbClr val="ffffff"/>
                </a:solidFill>
                <a:latin typeface="Times New Roman"/>
              </a:rPr>
              <a:t>Los productores de energ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6640" y="160020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ricos en glúcidos y líp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17480" y="11174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9320" y="226044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Dan  la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8954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00ff"/>
                </a:solidFill>
                <a:latin typeface="Times New Roman"/>
              </a:rPr>
              <a:t>Nuestro cuerpo tiene necesidad de esta energía para cumplir todas sus fun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1523880" cy="137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57600" y="3657600"/>
            <a:ext cx="1752480" cy="1434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72400" y="61722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3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2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8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3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8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3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1:35:56Z</dcterms:created>
  <dc:creator>Personne</dc:creator>
  <dc:description/>
  <dc:language>en-US</dc:language>
  <cp:lastModifiedBy>ab</cp:lastModifiedBy>
  <dcterms:modified xsi:type="dcterms:W3CDTF">2007-03-08T14:25:27Z</dcterms:modified>
  <cp:revision>427</cp:revision>
  <dc:subject/>
  <dc:title>Aucun titre de diapositive</dc:title>
</cp:coreProperties>
</file>