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1.png" ContentType="image/png"/>
  <Override PartName="/ppt/media/image7.png" ContentType="image/png"/>
  <Override PartName="/ppt/media/image27.gif" ContentType="image/gif"/>
  <Override PartName="/ppt/media/image4.gif" ContentType="image/gif"/>
  <Override PartName="/ppt/media/image33.jpeg" ContentType="image/jpeg"/>
  <Override PartName="/ppt/media/image12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35.jpeg" ContentType="image/jpeg"/>
  <Override PartName="/ppt/media/image34.png" ContentType="image/png"/>
  <Override PartName="/ppt/media/image37.jpeg" ContentType="image/jpeg"/>
  <Override PartName="/ppt/media/image13.png" ContentType="image/png"/>
  <Override PartName="/ppt/media/image40.png" ContentType="image/png"/>
  <Override PartName="/ppt/media/image6.png" ContentType="image/pn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26.png" ContentType="image/png"/>
  <Override PartName="/ppt/media/image16.png" ContentType="image/png"/>
  <Override PartName="/ppt/media/image23.gif" ContentType="image/gif"/>
  <Override PartName="/ppt/media/image29.wmf" ContentType="image/x-wmf"/>
  <Override PartName="/ppt/media/image1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0993-E862-4E60-B2D1-CAD555CE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17A-F0BE-44D3-8171-CA664250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AE5-6579-4EBC-8258-BE09F293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163-55F2-411F-ADFA-B692F4D6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6A4-EE48-4501-AF34-D39DEE59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2B6-C665-4B5A-9A22-F76B9011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6CA-E0D5-44BC-B405-33720436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077-FFBF-4B82-BFF6-6DE6703A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ED1-689A-409D-BA27-E040737E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C06-F5BD-491B-AA1A-5A520659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B22C-63A0-4302-946D-0AC5E460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840-BA23-454B-928B-7A819453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8D6C-C22C-4226-ADF6-18DB4DA26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" Target="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" Target="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" Target="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8.png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29.wmf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29.wmf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00280" y="44280"/>
            <a:ext cx="7543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El sistema circulatorio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26360" y="2852640"/>
            <a:ext cx="87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000" spc="-1" strike="noStrike">
                <a:solidFill>
                  <a:srgbClr val="000000"/>
                </a:solidFill>
                <a:latin typeface="Garamond"/>
              </a:rPr>
              <a:t>Por Arianne Michaud y Laurianne Maheu-Hotte</a:t>
            </a:r>
            <a:r>
              <a:rPr b="0" lang="fr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46880" y="3613680"/>
            <a:ext cx="71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secondaire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 Joseph-François Perrault, Montréal (Cana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3920" y="4411800"/>
            <a:ext cx="563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Validación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l contenido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revisión lingüística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: Leïla To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Traducción al español: OSCAR CLA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100320" y="5943600"/>
            <a:ext cx="2911320" cy="457200"/>
            <a:chOff x="3100320" y="5943600"/>
            <a:chExt cx="2911320" cy="457200"/>
          </a:xfrm>
        </p:grpSpPr>
        <p:sp>
          <p:nvSpPr>
            <p:cNvPr id="46" name=""/>
            <p:cNvSpPr/>
            <p:nvPr/>
          </p:nvSpPr>
          <p:spPr>
            <a:xfrm>
              <a:off x="3100320" y="5943600"/>
              <a:ext cx="291132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178080" y="6018480"/>
              <a:ext cx="280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assia"/>
                </a:rPr>
                <a:t>Haga clic aquí para comenz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3095640" y="595008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477120" y="-1219320"/>
            <a:ext cx="3473280" cy="3614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1887480"/>
            <a:ext cx="82296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as plaquetas son pequeñas células sin núc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uegan un papel muy importante en la coagulación sangu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gulación: proceso por el cual la sangre se vuelve consistente y sólida para detener una pérdida de sangre en el momento de una her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16000" y="4114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216000" y="20574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01000" y="5943600"/>
            <a:ext cx="685800" cy="608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441520" y="304920"/>
            <a:ext cx="4685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ff"/>
                </a:solidFill>
                <a:latin typeface="Times New Roman"/>
              </a:rPr>
              <a:t>Función de las plaque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14400" y="1752480"/>
            <a:ext cx="80773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 linfa proviene del líquido intert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la circula en los vasos linf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stá constituida de plasma y glóbulos bla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ansporta los anticuerppos y los deshechos cel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íquido interticial: líquido en cual se ecuentran las células del org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lena el espacio entre los vasos sanguíneos y las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riva del plasma que sale de los vasos sanguíneos a nivel de los cap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47840" y="4029120"/>
            <a:ext cx="466560" cy="466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47840" y="1743120"/>
            <a:ext cx="466560" cy="466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67360" y="549360"/>
            <a:ext cx="8741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ff"/>
                </a:solidFill>
                <a:latin typeface="Bradley Hand ITC"/>
              </a:rPr>
              <a:t>Constituyentes y funciones de la linf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943600"/>
            <a:ext cx="685800" cy="608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2093760" cy="3489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362320" y="2819520"/>
            <a:ext cx="57909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El corazón es un órgano hueco cuyas paredes son mu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Está situado en la caja torác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Gracias a su sistema de bomba hace circular la sangre en todo el organ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761760" cy="649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001000" y="380880"/>
            <a:ext cx="762120" cy="649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506760" y="380880"/>
            <a:ext cx="2494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ff"/>
                </a:solidFill>
                <a:latin typeface="Times New Roman"/>
              </a:rPr>
              <a:t>El corazó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5943600"/>
            <a:ext cx="685800" cy="608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500"/>
                            </p:stCondLst>
                            <p:childTnLst>
                              <p:par>
                                <p:cTn id="6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52480" y="2293920"/>
            <a:ext cx="4800600" cy="376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stá com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- del coraz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- de vasos sanguíne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as arte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as v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os capi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441360"/>
            <a:ext cx="6705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ff"/>
                </a:solidFill>
                <a:latin typeface="Comic Sans MS"/>
              </a:rPr>
              <a:t>El sistema cardio-vasc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81080" y="4419720"/>
            <a:ext cx="365400" cy="274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981080" y="5029200"/>
            <a:ext cx="365400" cy="274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981080" y="5592600"/>
            <a:ext cx="365400" cy="274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772400" y="6172200"/>
            <a:ext cx="1143000" cy="4572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100"/>
                            </p:stCondLst>
                            <p:childTnLst>
                              <p:par>
                                <p:cTn id="6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600"/>
                            </p:stCondLst>
                            <p:childTnLst>
                              <p:par>
                                <p:cTn id="6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1100"/>
                            </p:stCondLst>
                            <p:childTnLst>
                              <p:par>
                                <p:cTn id="6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16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040280" y="404640"/>
            <a:ext cx="3340080" cy="6048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2286000"/>
            <a:ext cx="35812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0000"/>
                </a:solidFill>
                <a:latin typeface="Comic Sans MS"/>
              </a:rPr>
              <a:t>El sistema cardio-vascul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01000" y="6400800"/>
            <a:ext cx="1143000" cy="4572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400"/>
                            </p:stCondLst>
                            <p:childTnLst>
                              <p:par>
                                <p:cTn id="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1523880"/>
            <a:ext cx="8001000" cy="487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Las arterias vehiculan la sangre desde el corazón hacias los órg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Se ramifican en arteriolas luego en capilares arter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Tienen paredes elásticas que ayudan al corazón hacer circular la 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Se distienden bajo el efecto de la presión de la sangre propulsada por el corazón hacias los órg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Su elasticidad les permite volver enseguidad a su estado inicial y así volver a transportarn la 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1630440"/>
            <a:ext cx="365040" cy="274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365040" cy="274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365040" cy="274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04920" y="4373640"/>
            <a:ext cx="365040" cy="274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304920" y="5288040"/>
            <a:ext cx="365040" cy="274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772400" y="6172200"/>
            <a:ext cx="1143000" cy="4572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64320" y="363600"/>
            <a:ext cx="5188680" cy="703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ff"/>
                </a:solidFill>
                <a:latin typeface="Bradley Hand ITC"/>
              </a:rPr>
              <a:t>El rol de las arter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30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35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40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500"/>
                            </p:stCondLst>
                            <p:childTnLst>
                              <p:par>
                                <p:cTn id="7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 rot="5400000">
            <a:off x="-1981080" y="2971800"/>
            <a:ext cx="571500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Rol de las venas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248000" y="152280"/>
            <a:ext cx="951120" cy="1379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835280" y="1916280"/>
            <a:ext cx="4248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Transporta sangre desde los     órganos al coraz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547640" y="4221000"/>
            <a:ext cx="365400" cy="274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547640" y="3141720"/>
            <a:ext cx="365400" cy="274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1547640" y="2133720"/>
            <a:ext cx="365400" cy="274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6095880" y="2276640"/>
            <a:ext cx="3048120" cy="2296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7620120" y="6019920"/>
            <a:ext cx="1225440" cy="539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79640" y="3933720"/>
            <a:ext cx="397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Se ramifican en vénulas luego en capilares ven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35280" y="2852640"/>
            <a:ext cx="46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Están dotadas de válvulas que impiden el retorno de la sang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2000" y="4292640"/>
            <a:ext cx="313200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Las válvulas de las venas grue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000"/>
                            </p:stCondLst>
                            <p:childTnLst>
                              <p:par>
                                <p:cTn id="7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0"/>
                            </p:stCondLst>
                            <p:childTnLst>
                              <p:par>
                                <p:cTn id="7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000"/>
                            </p:stCondLst>
                            <p:childTnLst>
                              <p:par>
                                <p:cTn id="7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000"/>
                            </p:stCondLst>
                            <p:childTnLst>
                              <p:par>
                                <p:cTn id="7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43280" y="3068640"/>
            <a:ext cx="50328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16360" y="4149720"/>
            <a:ext cx="50328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052640"/>
            <a:ext cx="784872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cuerpo contiene numerosos vasos sanguíneos al interior de los cuales circula la sangre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sangre sigue 2 cami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 circulación me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 circulación may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i="1" lang="en-US" sz="1800" spc="-1" strike="noStrike">
                <a:solidFill>
                  <a:srgbClr val="ccffff"/>
                </a:solidFill>
                <a:latin typeface="Times New Roman"/>
              </a:rPr>
              <a:t>descubramos e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ffff"/>
                </a:solidFill>
                <a:latin typeface="Times New Roman"/>
              </a:rPr>
              <a:t>conjunt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620120" y="6019920"/>
            <a:ext cx="1225440" cy="539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2000"/>
                            </p:stCondLst>
                            <p:childTnLst>
                              <p:par>
                                <p:cTn id="8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000"/>
                            </p:stCondLst>
                            <p:childTnLst>
                              <p:par>
                                <p:cTn id="8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489040" y="1219320"/>
            <a:ext cx="4445280" cy="4419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04920" y="457200"/>
            <a:ext cx="80834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radley Hand ITC"/>
              </a:rPr>
              <a:t>El corazón propulsa la sangre sin oxígeno hacia los pulm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295280"/>
            <a:ext cx="1828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entras que é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917720"/>
            <a:ext cx="1600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pul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540160"/>
            <a:ext cx="1905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 sang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162240"/>
            <a:ext cx="160020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3784680"/>
            <a:ext cx="1600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rou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4406760"/>
            <a:ext cx="1523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5029200"/>
            <a:ext cx="1828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s órg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696080" y="6318360"/>
            <a:ext cx="1225800" cy="539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076720" y="1628640"/>
            <a:ext cx="15112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rteria pulmo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3141720"/>
            <a:ext cx="914400" cy="358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ena pulmo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2000" y="3645000"/>
            <a:ext cx="91440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uríc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zquier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19640" y="5445000"/>
            <a:ext cx="172872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entrículo izquier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5373720"/>
            <a:ext cx="129528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Ventrículo dere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5013360"/>
            <a:ext cx="91440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álvu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icúsp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56000" y="4437000"/>
            <a:ext cx="647640" cy="43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ava in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84360" y="3860640"/>
            <a:ext cx="792360" cy="5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urícu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re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3141720"/>
            <a:ext cx="79236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álvu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gmo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84360" y="2492280"/>
            <a:ext cx="71928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ava 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87640" y="1341360"/>
            <a:ext cx="64764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00"/>
                            </p:stCondLst>
                            <p:childTnLst>
                              <p:par>
                                <p:cTn id="8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500"/>
                            </p:stCondLst>
                            <p:childTnLst>
                              <p:par>
                                <p:cTn id="8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500"/>
                            </p:stCondLst>
                            <p:childTnLst>
                              <p:par>
                                <p:cTn id="8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45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048120" y="3429000"/>
            <a:ext cx="2970000" cy="20811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666880" y="0"/>
            <a:ext cx="4426200" cy="1191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Bradley Hand ITC"/>
              </a:rPr>
              <a:t>La circulación</a:t>
            </a:r>
            <a:r>
              <a:rPr b="1" lang="en-US" sz="2400" spc="-1" strike="noStrike">
                <a:solidFill>
                  <a:srgbClr val="ccffff"/>
                </a:solidFill>
                <a:latin typeface="Bradley Hand ITC"/>
              </a:rPr>
              <a:t> </a:t>
            </a:r>
            <a:r>
              <a:rPr b="1" lang="en-US" sz="3600" spc="-1" strike="noStrike">
                <a:solidFill>
                  <a:srgbClr val="ccffff"/>
                </a:solidFill>
                <a:latin typeface="Bradley Hand ITC"/>
              </a:rPr>
              <a:t>men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4112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2987640" y="155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6156360" y="1557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2280" y="5867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ffff"/>
                </a:solidFill>
                <a:latin typeface="Times New Roman"/>
              </a:rPr>
              <a:t>( r) rojo: sangre oxigenada         (b) azul: sangre sin oxíg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838080"/>
            <a:ext cx="843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imes New Roman"/>
              </a:rPr>
              <a:t>La sangre circula siempre en el mismo sentido, en la circulación menor, su camino se resume por</a:t>
            </a:r>
            <a:r>
              <a:rPr b="0" lang="en-US" sz="16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9680" y="155736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imes New Roman"/>
              </a:rPr>
              <a:t>Aurícula derecha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1320" y="1484280"/>
            <a:ext cx="25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imes New Roman"/>
              </a:rPr>
              <a:t>Ventrículo derecho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6400" y="206064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imes New Roman"/>
              </a:rPr>
              <a:t>pulmones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206064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imes New Roman"/>
              </a:rPr>
              <a:t>Venas pulmonares(r)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22600" y="213372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imes New Roman"/>
              </a:rPr>
              <a:t>Aurícula izquierda 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29120" y="148428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ccffff"/>
                </a:solidFill>
                <a:latin typeface="Times New Roman"/>
              </a:rPr>
              <a:t>Arteria pulmo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19640" y="402264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imes New Roman"/>
              </a:rPr>
              <a:t>Aurícula izquierda 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09000" y="4800600"/>
            <a:ext cx="25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imes New Roman"/>
              </a:rPr>
              <a:t>Ventrículo derecho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971800" y="5029200"/>
            <a:ext cx="175248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4267080"/>
            <a:ext cx="106668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7620120" y="6019920"/>
            <a:ext cx="1225440" cy="539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0" y="162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1000"/>
                            </p:stCondLst>
                            <p:childTnLst>
                              <p:par>
                                <p:cTn id="876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14400" y="1752480"/>
            <a:ext cx="2514600" cy="13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istema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3860640"/>
            <a:ext cx="3884760" cy="15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89800"/>
                  </a:outerShdw>
                </a:effectLst>
                <a:latin typeface="Impact"/>
              </a:rPr>
              <a:t>circulatorio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898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676520" y="304920"/>
            <a:ext cx="990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l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6555240" y="685800"/>
            <a:ext cx="76428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ff"/>
                </a:solidFill>
                <a:latin typeface="Times New Roman"/>
              </a:rPr>
              <a:t>p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4360" y="2057400"/>
            <a:ext cx="350604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ff"/>
                </a:solidFill>
                <a:latin typeface="Times New Roman"/>
              </a:rPr>
              <a:t>Arianne Michau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56520" y="4495680"/>
            <a:ext cx="45835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ff"/>
                </a:solidFill>
                <a:latin typeface="Times New Roman"/>
              </a:rPr>
              <a:t>Laurianne Maheu-Hot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31560" y="3200400"/>
            <a:ext cx="50976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ff"/>
                </a:solidFill>
                <a:latin typeface="Times New Roman"/>
              </a:rPr>
              <a:t>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1976400" cy="3924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057400" y="0"/>
            <a:ext cx="5486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Bradley Hand ITC"/>
              </a:rPr>
              <a:t>La circulación may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661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( r) roja: sangre oxigenad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(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b) azul: sangre sin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124000" y="3789360"/>
            <a:ext cx="304920" cy="30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6172200" y="3733920"/>
            <a:ext cx="304920" cy="304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3733920" y="441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4419720" y="3733920"/>
            <a:ext cx="304560" cy="304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</p:pic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2124000" y="2781360"/>
            <a:ext cx="304920" cy="30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4419720" y="2759040"/>
            <a:ext cx="304560" cy="30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</p:pic>
      <p:pic>
        <p:nvPicPr>
          <p:cNvPr id="247" name="" descr=""/>
          <p:cNvPicPr/>
          <p:nvPr/>
        </p:nvPicPr>
        <p:blipFill>
          <a:blip r:embed="rId9"/>
          <a:stretch/>
        </p:blipFill>
        <p:spPr>
          <a:xfrm>
            <a:off x="7164360" y="1844640"/>
            <a:ext cx="304920" cy="30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</p:pic>
      <p:sp>
        <p:nvSpPr>
          <p:cNvPr id="248" name=""/>
          <p:cNvSpPr/>
          <p:nvPr/>
        </p:nvSpPr>
        <p:spPr>
          <a:xfrm>
            <a:off x="578160" y="762120"/>
            <a:ext cx="75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a circulación mayor la sangre sigue el camino siguien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36760" y="1773360"/>
            <a:ext cx="3099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entrículo izquierdo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5640" y="1700280"/>
            <a:ext cx="1174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orta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94560" y="1700280"/>
            <a:ext cx="1463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rterias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88760" y="2682720"/>
            <a:ext cx="1701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rteriolas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2606760"/>
            <a:ext cx="3733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pilares (r) (intercambio entre la sangre y las células)-Capilares ven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3657600"/>
            <a:ext cx="1546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énulas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76920" y="3657600"/>
            <a:ext cx="1317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enas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76760" y="3657600"/>
            <a:ext cx="2062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enas cavas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13000" y="4343400"/>
            <a:ext cx="2631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urícula derecha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0"/>
          <a:stretch/>
        </p:blipFill>
        <p:spPr>
          <a:xfrm>
            <a:off x="7620120" y="6019920"/>
            <a:ext cx="1225440" cy="539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1"/>
          <a:stretch/>
        </p:blipFill>
        <p:spPr>
          <a:xfrm>
            <a:off x="2124000" y="1844640"/>
            <a:ext cx="304920" cy="30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</p:pic>
    </p:spTree>
  </p:cSld>
  <p:transition spd="slow">
    <p:randomBar dir="vert"/>
  </p:transition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5943600" cy="3043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1390680" y="152280"/>
            <a:ext cx="6667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gunas imágenes real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3962520" y="1371600"/>
            <a:ext cx="19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rte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225440" cy="539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35280" y="3068640"/>
            <a:ext cx="720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ji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dip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35280" y="4869000"/>
            <a:ext cx="649080" cy="28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u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32720" y="3933720"/>
            <a:ext cx="79200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dventi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32720" y="4724280"/>
            <a:ext cx="647640" cy="21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04000" y="5229360"/>
            <a:ext cx="64764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84360" y="3389400"/>
            <a:ext cx="6773760" cy="34686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380880" y="762120"/>
            <a:ext cx="355608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tras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278600" cy="21906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010280" y="2438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2971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6080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716360" y="1413000"/>
            <a:ext cx="71928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dote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44000" y="765000"/>
            <a:ext cx="7207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élu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anguín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4360" y="3933720"/>
            <a:ext cx="107928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pite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5640" y="5877000"/>
            <a:ext cx="79200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api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43640" y="4724280"/>
            <a:ext cx="865080" cy="21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r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2629080" y="333360"/>
            <a:ext cx="3886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ediagrafia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343400" y="6016680"/>
            <a:ext cx="801720" cy="801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0" y="1905120"/>
            <a:ext cx="66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niversité de Sherbrooke. (Page consultée le 13 avril 2001). </a:t>
            </a:r>
            <a:r>
              <a:rPr b="0" i="1" lang="en-US" sz="1600" spc="-1" strike="noStrike">
                <a:solidFill>
                  <a:srgbClr val="ffff00"/>
                </a:solidFill>
                <a:latin typeface="Times New Roman"/>
              </a:rPr>
              <a:t>Le corps humain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[En ligne]. Adresse URL: http://callisto.si.usherb.ca.8080/rblouin/hi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1384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00"/>
                </a:solidFill>
                <a:latin typeface="Times New Roman"/>
              </a:rPr>
              <a:t>Atlas du corps humain.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(Page consultée le 20 mai 2001). </a:t>
            </a:r>
            <a:r>
              <a:rPr b="0" i="1" lang="fr-CA" sz="1600" spc="-1" strike="noStrike">
                <a:solidFill>
                  <a:srgbClr val="ffff00"/>
                </a:solidFill>
                <a:latin typeface="Times New Roman"/>
              </a:rPr>
              <a:t>Le système cardio-vasculaire,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[En ligne]. Adresse URL: </a:t>
            </a:r>
            <a:r>
              <a:rPr b="0" lang="en-CA" sz="1600" spc="-1" strike="noStrike">
                <a:solidFill>
                  <a:srgbClr val="ffff00"/>
                </a:solidFill>
                <a:latin typeface="Times New Roman"/>
              </a:rPr>
              <a:t>http://www.doctissimo.fr/html/sante/atlas/atlas_syscardiovasc_63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914400" y="3808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"/>
          <a:stretch/>
        </p:blipFill>
        <p:spPr>
          <a:xfrm>
            <a:off x="7543800" y="380880"/>
            <a:ext cx="838080" cy="6699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4343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JANSON, Johanne.</a:t>
            </a:r>
            <a:r>
              <a:rPr b="0" i="1" lang="en-US" sz="1600" spc="-1" strike="noStrike">
                <a:solidFill>
                  <a:srgbClr val="ffff00"/>
                </a:solidFill>
                <a:latin typeface="Times New Roman"/>
              </a:rPr>
              <a:t>Comme un souffle de vie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,Outremont, Lidec, 1986, 470 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518148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00"/>
                </a:solidFill>
                <a:latin typeface="Times New Roman"/>
              </a:rPr>
              <a:t>WebEncyclo. (Page consultée le 18 mai 2001). </a:t>
            </a:r>
            <a:r>
              <a:rPr b="0" i="1" lang="fr-CA" sz="1600" spc="-1" strike="noStrike">
                <a:solidFill>
                  <a:srgbClr val="ffff00"/>
                </a:solidFill>
                <a:latin typeface="Times New Roman"/>
              </a:rPr>
              <a:t>Sang, </a:t>
            </a:r>
            <a:r>
              <a:rPr b="0" lang="fr-CA" sz="1600" spc="-1" strike="noStrike">
                <a:solidFill>
                  <a:srgbClr val="ffff00"/>
                </a:solidFill>
                <a:latin typeface="Times New Roman"/>
              </a:rPr>
              <a:t>[En ligne]. Adresse URL: </a:t>
            </a:r>
            <a:r>
              <a:rPr b="0" lang="en-CA" sz="1600" spc="-1" strike="noStrike">
                <a:solidFill>
                  <a:srgbClr val="ffff00"/>
                </a:solidFill>
                <a:latin typeface="Times New Roman"/>
              </a:rPr>
              <a:t>http://www.webencyclo.com/home/home.a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8001000" y="5943600"/>
            <a:ext cx="685800" cy="608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0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90720" y="3200400"/>
            <a:ext cx="42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l coraz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960480" y="1722600"/>
            <a:ext cx="56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s constituyentes de la sang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39466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l sistema cardio-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477120" y="2560680"/>
            <a:ext cx="1143000" cy="1736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5560" y="1905120"/>
            <a:ext cx="365040" cy="274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55560" y="4114800"/>
            <a:ext cx="365040" cy="274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55560" y="3398760"/>
            <a:ext cx="365040" cy="274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55560" y="4846680"/>
            <a:ext cx="365040" cy="274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867280" y="4486320"/>
            <a:ext cx="3373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3333cc"/>
                </a:solidFill>
                <a:latin typeface="Times New Roman"/>
              </a:rPr>
              <a:t>Clique sobre un tít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452680"/>
            <a:ext cx="42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 lin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4694400"/>
            <a:ext cx="42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dia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55560" y="2637000"/>
            <a:ext cx="365040" cy="274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742840" y="365040"/>
            <a:ext cx="4275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ff"/>
                </a:solidFill>
                <a:latin typeface="Times New Roman"/>
              </a:rPr>
              <a:t>Tabla de conteni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-4572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566640" cy="547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47800" cy="819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09480" y="1905120"/>
            <a:ext cx="703440" cy="636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23880" y="1981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glóbulos bla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8153280" y="441972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010280" y="4267080"/>
            <a:ext cx="968400" cy="995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5867280" y="4343400"/>
            <a:ext cx="804960" cy="728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172200" y="3657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plaqu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6324480" y="2057400"/>
            <a:ext cx="752760" cy="828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7086600" y="2666880"/>
            <a:ext cx="503280" cy="554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5257800" y="1600200"/>
            <a:ext cx="804960" cy="728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5486400"/>
            <a:ext cx="4572000" cy="609480"/>
          </a:xfrm>
          <a:prstGeom prst="ellipse">
            <a:avLst/>
          </a:prstGeom>
          <a:gradFill rotWithShape="0">
            <a:gsLst>
              <a:gs pos="0">
                <a:srgbClr val="ffa74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0"/>
          <a:stretch/>
        </p:blipFill>
        <p:spPr>
          <a:xfrm>
            <a:off x="4191120" y="4800600"/>
            <a:ext cx="804600" cy="728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76520" y="4876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pla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600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glóbulos ro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720" y="189000"/>
            <a:ext cx="9260640" cy="8251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800" spc="-1" strike="noStrike">
                <a:solidFill>
                  <a:srgbClr val="0000ff"/>
                </a:solidFill>
                <a:latin typeface="Bradley Hand ITC"/>
              </a:rPr>
              <a:t>Los constituyentes de la sang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72400" y="6172200"/>
            <a:ext cx="1143000" cy="4572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2209680"/>
            <a:ext cx="76197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s glóbulos rojos son células sin núcleo en forma de discos bicóncavos; no pueden entonces reproduci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cierran un pigmento rojo llamado hemoglobina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los tienen su origen en la médula osea de los huesos lar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 duración de vida es de alrededor de 120 d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ansportan el oxígeno y el dióx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54100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7200" y="3581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57200" y="230508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28440" y="297000"/>
            <a:ext cx="7626960" cy="703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ff"/>
                </a:solidFill>
                <a:latin typeface="Bradley Hand ITC"/>
              </a:rPr>
              <a:t>Función de los glóbulos rojos</a:t>
            </a:r>
            <a:r>
              <a:rPr b="0" lang="fr-CA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6172200"/>
            <a:ext cx="1143000" cy="4572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500"/>
                            </p:stCondLst>
                            <p:childTnLst>
                              <p:par>
                                <p:cTn id="2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09680" y="2671920"/>
            <a:ext cx="4753080" cy="319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472932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96720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312912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312912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72932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389088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79840" y="1752480"/>
            <a:ext cx="1984320" cy="914400"/>
          </a:xfrm>
          <a:prstGeom prst="downArrowCallout">
            <a:avLst>
              <a:gd name="adj1" fmla="val 54257"/>
              <a:gd name="adj2" fmla="val 54252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48040" y="1111320"/>
            <a:ext cx="1447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ULM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1981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O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O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19051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2062080"/>
            <a:ext cx="576000" cy="851040"/>
          </a:xfrm>
          <a:custGeom>
            <a:avLst/>
            <a:gdLst>
              <a:gd name="textAreaLeft" fmla="*/ 77040 w 576000"/>
              <a:gd name="textAreaRight" fmla="*/ 498960 w 576000"/>
              <a:gd name="textAreaTop" fmla="*/ 148680 h 851040"/>
              <a:gd name="textAreaBottom" fmla="*/ 617040 h 85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214720"/>
            <a:ext cx="209520" cy="612720"/>
          </a:xfrm>
          <a:prstGeom prst="upArrow">
            <a:avLst>
              <a:gd name="adj1" fmla="val 50000"/>
              <a:gd name="adj2" fmla="val 7311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3260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402264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48610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3281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O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40989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O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486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0" y="579132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LA SANGRE “VICIAD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0240" y="5835600"/>
            <a:ext cx="255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LA SANGRE OXIGEN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4572000"/>
            <a:ext cx="0" cy="1143000"/>
          </a:xfrm>
          <a:prstGeom prst="line">
            <a:avLst/>
          </a:prstGeom>
          <a:ln w="158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4648320"/>
            <a:ext cx="0" cy="1218960"/>
          </a:xfrm>
          <a:prstGeom prst="line">
            <a:avLst/>
          </a:prstGeom>
          <a:ln w="158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447920"/>
            <a:ext cx="0" cy="380880"/>
          </a:xfrm>
          <a:prstGeom prst="line">
            <a:avLst/>
          </a:prstGeom>
          <a:ln w="158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44280" y="208080"/>
            <a:ext cx="8864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rebuchet MS"/>
              </a:rPr>
              <a:t>Esquema del transporte de O</a:t>
            </a:r>
            <a:r>
              <a:rPr b="0" lang="fr-CA" sz="1600" spc="-1" strike="noStrike">
                <a:solidFill>
                  <a:srgbClr val="ffffff"/>
                </a:solidFill>
                <a:latin typeface="Trebuchet MS"/>
              </a:rPr>
              <a:t>2</a:t>
            </a:r>
            <a:r>
              <a:rPr b="0" lang="fr-CA" sz="2800" spc="-1" strike="noStrike">
                <a:solidFill>
                  <a:srgbClr val="ffffff"/>
                </a:solidFill>
                <a:latin typeface="Trebuchet MS"/>
              </a:rPr>
              <a:t> y del CO</a:t>
            </a:r>
            <a:r>
              <a:rPr b="0" lang="fr-CA" sz="1600" spc="-1" strike="noStrike">
                <a:solidFill>
                  <a:srgbClr val="ffffff"/>
                </a:solidFill>
                <a:latin typeface="Trebuchet MS"/>
              </a:rPr>
              <a:t>2</a:t>
            </a:r>
            <a:r>
              <a:rPr b="0" lang="fr-CA" sz="2800" spc="-1" strike="noStrike">
                <a:solidFill>
                  <a:srgbClr val="ffffff"/>
                </a:solidFill>
                <a:latin typeface="Trebuchet MS"/>
              </a:rPr>
              <a:t> por los glóbulos ro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72400" y="6172200"/>
            <a:ext cx="1143000" cy="4572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9000"/>
                            </p:stCondLst>
                            <p:childTnLst>
                              <p:par>
                                <p:cTn id="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819520" y="2019240"/>
            <a:ext cx="60958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 glóbulos blancos son células incoloras más gruesa que un glóbulo ro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glóbulo blanco está provisto de un núc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glóbulo blanco como las células muertas como también los glóbulos rojos muer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los defienden y protegen al organismo de dos maner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Ingiriendo los microbios, es la fagocit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produciendo anticuerp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4419720"/>
            <a:ext cx="393480" cy="393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362320" y="35686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362320" y="2971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362320" y="2057400"/>
            <a:ext cx="393480" cy="393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772400" y="6172200"/>
            <a:ext cx="1143000" cy="4572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87640" y="374760"/>
            <a:ext cx="738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ff"/>
                </a:solidFill>
                <a:latin typeface="Bradley Hand ITC"/>
              </a:rPr>
              <a:t>Función de los glóbulos blan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8900"/>
                            </p:stCondLst>
                            <p:childTnLst>
                              <p:par>
                                <p:cTn id="4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90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900"/>
                            </p:stCondLst>
                            <p:childTnLst>
                              <p:par>
                                <p:cTn id="4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1900"/>
                            </p:stCondLst>
                            <p:childTnLst>
                              <p:par>
                                <p:cTn id="4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2900"/>
                            </p:stCondLst>
                            <p:childTnLst>
                              <p:par>
                                <p:cTn id="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2438280"/>
            <a:ext cx="335304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El plasma es un líquido amarillento en el cual se encuentr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los glóbulos ro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los glóbulos blan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las plaqu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580536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Constituye el 55 % de la composición de la sang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350028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Está principalmente constituido de agu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393840" cy="393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34120" y="32004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371600" y="57913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276720" y="1905120"/>
            <a:ext cx="1976400" cy="3047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772400" y="6172200"/>
            <a:ext cx="1143000" cy="4572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4800" y="298440"/>
            <a:ext cx="7072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ff"/>
                </a:solidFill>
                <a:latin typeface="Bradley Hand ITC"/>
              </a:rPr>
              <a:t>Los constituyentes del plas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800"/>
                            </p:stCondLst>
                            <p:childTnLst>
                              <p:par>
                                <p:cTn id="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3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800"/>
                            </p:stCondLst>
                            <p:childTnLst>
                              <p:par>
                                <p:cTn id="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83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8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9300"/>
                            </p:stCondLst>
                            <p:childTnLst>
                              <p:par>
                                <p:cTn id="4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300"/>
                            </p:stCondLst>
                            <p:childTnLst>
                              <p:par>
                                <p:cTn id="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6280200" cy="1177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85800" y="1371600"/>
            <a:ext cx="84582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 plasma transporta los deshechos celulares: El gas carbónico y los deshechos nitroge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segura la fluidez de la sang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 plasma transporta los nutrientes: la glucosa, los amino ácidos, las vitaminas…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nsporta también nuestros queridos anticuer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01680" y="3733920"/>
            <a:ext cx="384120" cy="39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01680" y="3124080"/>
            <a:ext cx="384120" cy="397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301680" y="4800600"/>
            <a:ext cx="384120" cy="396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301680" y="2057400"/>
            <a:ext cx="384120" cy="396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772400" y="6172200"/>
            <a:ext cx="1143000" cy="4572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7120" y="228600"/>
            <a:ext cx="5790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ff"/>
                </a:solidFill>
                <a:latin typeface="Times New Roman"/>
              </a:rPr>
              <a:t>Función del plas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8T00:45:49Z</dcterms:created>
  <dc:creator>Tom Troughton</dc:creator>
  <dc:description/>
  <dc:language>en-US</dc:language>
  <cp:lastModifiedBy>ab</cp:lastModifiedBy>
  <dcterms:modified xsi:type="dcterms:W3CDTF">2007-03-08T14:15:35Z</dcterms:modified>
  <cp:revision>256</cp:revision>
  <dc:subject/>
  <dc:title>No Slide Title</dc:title>
</cp:coreProperties>
</file>