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C69-D915-4B6B-9FD2-03ABB8C3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C92-3F48-4378-8B7E-6F0159C5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7E0-C8C6-4A5F-8F92-FC688E0A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786-7C4C-4A91-B346-BD125FED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C307-8F24-4945-B3F6-26A93C85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293A-DFE6-417D-BDE4-A0D7076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22C3-2675-4DBF-AB68-ED09269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2688-D9BC-4363-BE3D-E74E593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CCFC-D8C2-443F-B102-BC96A9E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6A26-A78D-420A-BFBF-B0C80457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3955-02CB-46DA-96CB-8A81B7D8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129-5379-4B4F-A8CE-9AF9807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29EC-EC70-443B-8FDF-6216CF0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174F-C51C-4A4F-9612-EBACCE8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C6D-FB72-4002-AFF5-A07D8284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E5FF-6241-4156-BB0B-41E3F0C1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15C-7C1A-4B40-9C15-6697AF35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B47-3351-4B9A-8D48-F5AC01C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9EE-BC52-434F-81C5-F3911917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633-BB12-4846-8B75-5E64245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B3C-FB18-4BCA-914D-987BCE41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E60-001F-4F55-B650-EC5E08A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0C6-F231-4A88-9EBF-DA05DE0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B1E-31E7-44C9-A28D-1E0930B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0B67-C119-461F-832B-918810E723BF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8BF3-437A-4853-B2B2-735B7AECC773}" type="slidenum"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ac-lyon.fr/enseigne/philosophie/portraits/ppresoc/democr2.jpg" TargetMode="External"/><Relationship Id="rId2" Type="http://schemas.openxmlformats.org/officeDocument/2006/relationships/hyperlink" Target="http://www2.ac-lyon.fr/enseigne/philosophie/portraits/ppresoc/democr2.jpg" TargetMode="External"/><Relationship Id="rId3" Type="http://schemas.openxmlformats.org/officeDocument/2006/relationships/hyperlink" Target="http://www2.ac-lyon.fr/enseigne/philosophie/portraits/ppresoc/democr2.jpg" TargetMode="External"/><Relationship Id="rId4" Type="http://schemas.openxmlformats.org/officeDocument/2006/relationships/hyperlink" Target="http://www2.ac-lyon.fr/enseigne/philosophie/portraits/ppresoc/democr2.jpg" TargetMode="External"/><Relationship Id="rId5" Type="http://schemas.openxmlformats.org/officeDocument/2006/relationships/hyperlink" Target="http://www2.ac-lyon.fr/enseigne/philosophie/portraits/ppresoc/democr2.jpg" TargetMode="External"/><Relationship Id="rId6" Type="http://schemas.openxmlformats.org/officeDocument/2006/relationships/hyperlink" Target="http://www2.ac-lyon.fr/enseigne/philosophie/portraits/ppresoc/democr2.jpg" TargetMode="External"/><Relationship Id="rId7" Type="http://schemas.openxmlformats.org/officeDocument/2006/relationships/hyperlink" Target="http://www2.ac-lyon.fr/enseigne/philosophie/portraits/ppresoc/democr2.jpg" TargetMode="External"/><Relationship Id="rId8" Type="http://schemas.openxmlformats.org/officeDocument/2006/relationships/hyperlink" Target="http://www2.ac-lyon.fr/enseigne/philosophie/portraits/ppresoc/democr2.jpg" TargetMode="External"/><Relationship Id="rId9" Type="http://schemas.openxmlformats.org/officeDocument/2006/relationships/hyperlink" Target="http://www.th.physik.uni-frankfurt.de/~jr/gif/phys/thomson.jpg" TargetMode="External"/><Relationship Id="rId10" Type="http://schemas.openxmlformats.org/officeDocument/2006/relationships/hyperlink" Target="http://www.th.physik.uni-frankfurt.de/~jr/gif/phys/thomson.jpg" TargetMode="External"/><Relationship Id="rId11" Type="http://schemas.openxmlformats.org/officeDocument/2006/relationships/hyperlink" Target="http://www.th.physik.uni-frankfurt.de/~jr/gif/phys/thomson.jpg" TargetMode="External"/><Relationship Id="rId12" Type="http://schemas.openxmlformats.org/officeDocument/2006/relationships/hyperlink" Target="http://www.th.physik.uni-frankfurt.de/~jr/gif/phys/thomson.jpg" TargetMode="External"/><Relationship Id="rId13" Type="http://schemas.openxmlformats.org/officeDocument/2006/relationships/hyperlink" Target="http://www.th.physik.uni-frankfurt.de/~jr/gif/phys/thomson.jpg" TargetMode="External"/><Relationship Id="rId14" Type="http://schemas.openxmlformats.org/officeDocument/2006/relationships/hyperlink" Target="http://www.th.physik.uni-frankfurt.de/~jr/gif/phys/thomson.jpg" TargetMode="External"/><Relationship Id="rId15" Type="http://schemas.openxmlformats.org/officeDocument/2006/relationships/hyperlink" Target="http://www.th.physik.uni-frankfurt.de/~jr/gif/phys/thomson.jpg" TargetMode="External"/><Relationship Id="rId16" Type="http://schemas.openxmlformats.org/officeDocument/2006/relationships/hyperlink" Target="http://www.th.physik.uni-frankfurt.de/~jr/gif/phys/thomson.jpg" TargetMode="External"/><Relationship Id="rId17" Type="http://schemas.openxmlformats.org/officeDocument/2006/relationships/hyperlink" Target="http://www.th.physik.uni-frankfurt.de/~jr/gif/phys/thomson.jpg" TargetMode="External"/><Relationship Id="rId18" Type="http://schemas.openxmlformats.org/officeDocument/2006/relationships/hyperlink" Target="http://www.th.physik.uni-frankfurt.de/~jr/gif/phys/thomson.jpg" TargetMode="External"/><Relationship Id="rId19" Type="http://schemas.openxmlformats.org/officeDocument/2006/relationships/hyperlink" Target="http://www.th.physik.uni-frankfurt.de/~jr/gif/phys/thomson.jpg" TargetMode="External"/><Relationship Id="rId20" Type="http://schemas.openxmlformats.org/officeDocument/2006/relationships/hyperlink" Target="http://www.th.physik.uni-frankfurt.de/~jr/gif/phys/thomson.jpg" TargetMode="External"/><Relationship Id="rId21" Type="http://schemas.openxmlformats.org/officeDocument/2006/relationships/hyperlink" Target="http://www.thesciencebookstore.com/scienceguys/rutherford.jpg" TargetMode="External"/><Relationship Id="rId22" Type="http://schemas.openxmlformats.org/officeDocument/2006/relationships/hyperlink" Target="http://www.thesciencebookstore.com/scienceguys/rutherford.jpg" TargetMode="External"/><Relationship Id="rId23" Type="http://schemas.openxmlformats.org/officeDocument/2006/relationships/hyperlink" Target="http://www.thesciencebookstore.com/scienceguys/rutherford.jpg" TargetMode="External"/><Relationship Id="rId24" Type="http://schemas.openxmlformats.org/officeDocument/2006/relationships/hyperlink" Target="http://www.thesciencebookstore.com/scienceguys/rutherford.jpg" TargetMode="External"/><Relationship Id="rId25" Type="http://schemas.openxmlformats.org/officeDocument/2006/relationships/hyperlink" Target="http://www.thesciencebookstore.com/scienceguys/rutherford.jpg" TargetMode="External"/><Relationship Id="rId26" Type="http://schemas.openxmlformats.org/officeDocument/2006/relationships/hyperlink" Target="http://www.thesciencebookstore.com/scienceguys/rutherford.jpg" TargetMode="External"/><Relationship Id="rId27" Type="http://schemas.openxmlformats.org/officeDocument/2006/relationships/hyperlink" Target="http://www.thesciencebookstore.com/scienceguys/rutherford.jpg" TargetMode="External"/><Relationship Id="rId28" Type="http://schemas.openxmlformats.org/officeDocument/2006/relationships/hyperlink" Target="http://www.thesciencebookstore.com/scienceguys/rutherford.jpg" TargetMode="External"/><Relationship Id="rId29" Type="http://schemas.openxmlformats.org/officeDocument/2006/relationships/hyperlink" Target="http://www.thesciencebookstore.com/scienceguys/rutherford.jpg" TargetMode="External"/><Relationship Id="rId30" Type="http://schemas.openxmlformats.org/officeDocument/2006/relationships/hyperlink" Target="http://www.thesciencebookstore.com/scienceguys/rutherford.jpg" TargetMode="External"/><Relationship Id="rId31" Type="http://schemas.openxmlformats.org/officeDocument/2006/relationships/hyperlink" Target="http://www.thesciencebookstore.com/scienceguys/rutherford.jpg" TargetMode="External"/><Relationship Id="rId32" Type="http://schemas.openxmlformats.org/officeDocument/2006/relationships/hyperlink" Target="http://www.thesciencebookstore.com/scienceguys/rutherford.jpg" TargetMode="External"/><Relationship Id="rId3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.physik.uni-frankfurt.de/~jr/gif/phys/thomson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academic.brooklyn.cuny.edu/history/virtual/portrait/bohr.jpg&amp;imgrefurl=http://academic.brooklyn.cuny.edu/history/virtual/portrait.htm&amp;h=218&amp;w=200&amp;sz=8&amp;tbnid=-BHoASQTJeYJ:&amp;tbnh=101&amp;tbnw=93&amp;prev=/images%3Fq%3Dbohr%26svnum%3D10%26hl%3Den%26lr%3D%26ie%3DUTF-8%26oe%3DUTF-8" TargetMode="External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68360" y="260280"/>
            <a:ext cx="828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Évolution des atomes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3213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220011"/>
                </a:solidFill>
                <a:latin typeface="Garamond"/>
              </a:rPr>
              <a:t>Par </a:t>
            </a:r>
            <a:r>
              <a:rPr b="1" i="1" lang="fr-CA" sz="2400" spc="-1" strike="noStrike">
                <a:solidFill>
                  <a:srgbClr val="220011"/>
                </a:solidFill>
                <a:latin typeface="Garamond"/>
              </a:rPr>
              <a:t>Julie Labonté et Erika Jolin-Ouel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6760" y="3991680"/>
            <a:ext cx="69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20011"/>
                </a:solidFill>
                <a:latin typeface="Times New Roman"/>
              </a:rPr>
              <a:t>Polyvalente des Appalaches , Ste-Justine (Québec), Mars 200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520" y="4739400"/>
            <a:ext cx="58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220011"/>
                </a:solidFill>
                <a:latin typeface="Comic Sans MS"/>
              </a:rPr>
              <a:t>Validation du contenu et révision linguistique: Vicky Veilleu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220011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220011"/>
                </a:solidFill>
                <a:latin typeface="Times New Roman"/>
              </a:rPr>
              <a:t>Science animée, 200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79600" y="5943600"/>
            <a:ext cx="2669760" cy="457200"/>
            <a:chOff x="3279600" y="5943600"/>
            <a:chExt cx="2669760" cy="457200"/>
          </a:xfrm>
        </p:grpSpPr>
        <p:sp>
          <p:nvSpPr>
            <p:cNvPr id="105" name=""/>
            <p:cNvSpPr/>
            <p:nvPr/>
          </p:nvSpPr>
          <p:spPr>
            <a:xfrm>
              <a:off x="32796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>
              <a:hlinkClick r:id="" action="ppaction://hlinkshowjump?jump=nextslide"/>
            </p:cNvPr>
            <p:cNvSpPr/>
            <p:nvPr/>
          </p:nvSpPr>
          <p:spPr>
            <a:xfrm>
              <a:off x="331200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220011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ffcc00"/>
                </a:solidFill>
                <a:latin typeface="Tempus Sans ITC"/>
              </a:rPr>
              <a:t>Références</a:t>
            </a: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762120"/>
            <a:ext cx="8153280" cy="67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10000"/>
                </a:solidFill>
                <a:uFillTx/>
                <a:latin typeface="Times New Roman"/>
              </a:rPr>
              <a:t>INFORMATION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G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RENIER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, Eva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.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fr-CA" sz="1400" spc="-1" strike="noStrike">
                <a:solidFill>
                  <a:srgbClr val="010000"/>
                </a:solidFill>
                <a:latin typeface="Times New Roman"/>
              </a:rPr>
              <a:t>n quête des propriété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s</a:t>
            </a:r>
            <a:r>
              <a:rPr b="0" i="1" lang="fr-CA" sz="1400" spc="-1" strike="noStrike">
                <a:solidFill>
                  <a:srgbClr val="010000"/>
                </a:solidFill>
                <a:latin typeface="Times New Roman"/>
              </a:rPr>
              <a:t> de la structure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,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L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es éditions HRW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Lt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ée,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ibliothèque national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 du Québec, 1991,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150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 pag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10000"/>
                </a:solidFill>
                <a:uFillTx/>
                <a:latin typeface="Times New Roman"/>
              </a:rPr>
              <a:t>IMAG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Aristote.  (Page consultée le 26 janvier 2004). 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Aristote.gif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[En ligne].  Adresse URL: http://www.tvberlin.de/fb1/AGiW/auditorium/BeGriRoe/s09/Aristote.gif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Démocrite.  (Page consultée le 26 janvier 2004). 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Démocr2.jpg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[En ligne].  Adresse URL: 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http://www2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ac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-lyon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fr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/enseigne/philosophie/portraits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ppresoc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/democr2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Thomson.  (Page consultée le 28 janvier 2004). 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Thomson.jpg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[En ligne].  Adresse URL: 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www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1"/>
              </a:rPr>
              <a:t>.th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2"/>
              </a:rPr>
              <a:t>physik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3"/>
              </a:rPr>
              <a:t>.uni-frankfurt.de/~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4"/>
              </a:rPr>
              <a:t>jr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6"/>
              </a:rPr>
              <a:t>gif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7"/>
              </a:rPr>
              <a:t>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8"/>
              </a:rPr>
              <a:t>phys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19"/>
              </a:rPr>
              <a:t>/thomson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0"/>
              </a:rPr>
              <a:t>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Rutherford.  (Page consultée le 28 janvier 2004). 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Rutherford.jpg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[En ligne].  Adresse URL: 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1"/>
              </a:rPr>
              <a:t>http:/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2"/>
              </a:rPr>
              <a:t>www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3"/>
              </a:rPr>
              <a:t>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4"/>
              </a:rPr>
              <a:t>thesciencebookstore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5"/>
              </a:rPr>
              <a:t>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6"/>
              </a:rPr>
              <a:t>com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8"/>
              </a:rPr>
              <a:t>scienceguys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30"/>
              </a:rPr>
              <a:t>rutherford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fr-CA" sz="1400" spc="-1" strike="noStrike" u="sng">
                <a:solidFill>
                  <a:srgbClr val="9c004e"/>
                </a:solidFill>
                <a:uFillTx/>
                <a:latin typeface="Times New Roman"/>
                <a:hlinkClick r:id="rId32"/>
              </a:rPr>
              <a:t>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Bohr.  (Page consultée le 30 janvier 2004). 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Bohr.jpg </a:t>
            </a: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[En ligne].  Adresse URL: </a:t>
            </a:r>
            <a:r>
              <a:rPr b="0" lang="fr-CA" sz="1400" spc="-1" strike="noStrike">
                <a:solidFill>
                  <a:srgbClr val="010000"/>
                </a:solidFill>
                <a:latin typeface="Times New Roman"/>
              </a:rPr>
              <a:t>http://academic.brooklyn.cuny.edu/history/virtual/portrait/bohr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10000"/>
                </a:solidFill>
                <a:uFillTx/>
                <a:latin typeface="Times New Roman"/>
              </a:rPr>
              <a:t>MUSIQU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10000"/>
                </a:solidFill>
                <a:latin typeface="Times New Roman"/>
              </a:rPr>
              <a:t>Bibliothèque office 2000. </a:t>
            </a:r>
            <a:r>
              <a:rPr b="0" i="1" lang="en-CA" sz="1400" spc="-1" strike="noStrike">
                <a:solidFill>
                  <a:srgbClr val="010000"/>
                </a:solidFill>
                <a:latin typeface="Times New Roman"/>
              </a:rPr>
              <a:t>URBAN_01.mi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Démocri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51460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Démocrite était un grand philosophe et géomètre de la Grèce antique. Il est né à Abdère en l'an -460 et vécu très longtemps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.  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Son atomisme était fondé sur la notion de vide et de plein. Il déc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rit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le vide comme étant l'espace des êtres possibles. Le vide n'a d'autre propriété que de n'être rien. Il y a aussi le plein qu'il avait défini comme étant les formes atomiques qui sont en nombre infini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democr2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16398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Selon lui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3623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7493"/>
                </a:moveTo>
                <a:lnTo>
                  <a:pt x="12701" y="7493"/>
                </a:lnTo>
                <a:lnTo>
                  <a:pt x="12701" y="12828"/>
                </a:lnTo>
                <a:cubicBezTo>
                  <a:pt x="12701" y="13751"/>
                  <a:pt x="13502" y="14482"/>
                  <a:pt x="14538" y="14482"/>
                </a:cubicBezTo>
                <a:lnTo>
                  <a:pt x="16200" y="14482"/>
                </a:lnTo>
                <a:cubicBezTo>
                  <a:pt x="17236" y="14482"/>
                  <a:pt x="18036" y="13751"/>
                  <a:pt x="18036" y="12828"/>
                </a:cubicBezTo>
                <a:lnTo>
                  <a:pt x="18036" y="7493"/>
                </a:lnTo>
                <a:lnTo>
                  <a:pt x="16200" y="7493"/>
                </a:lnTo>
                <a:lnTo>
                  <a:pt x="19708" y="3985"/>
                </a:lnTo>
                <a:lnTo>
                  <a:pt x="23381" y="7493"/>
                </a:lnTo>
                <a:lnTo>
                  <a:pt x="21544" y="7493"/>
                </a:lnTo>
                <a:lnTo>
                  <a:pt x="21544" y="12828"/>
                </a:lnTo>
                <a:cubicBezTo>
                  <a:pt x="21544" y="15596"/>
                  <a:pt x="18968" y="18155"/>
                  <a:pt x="16200" y="18155"/>
                </a:cubicBezTo>
                <a:lnTo>
                  <a:pt x="14538" y="18155"/>
                </a:lnTo>
                <a:cubicBezTo>
                  <a:pt x="11770" y="18155"/>
                  <a:pt x="9194" y="15596"/>
                  <a:pt x="9194" y="12828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514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362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quark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962520" cy="266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220968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Selon lui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, 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’atome est composé d’unités indivisibles ,tou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te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s identiqu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Que la matière est composé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de particules séparées par des espaces vide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infiniment petites et ne peuvent pas être divisé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J.Dalt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286000"/>
            <a:ext cx="5257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Comic Sans MS"/>
              </a:rPr>
              <a:t>John Dalton, physicien, chimiste et naturaliste anglais, est connu pour être le "redécouvreur" de la théorie des atom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Comic Sans MS"/>
              </a:rPr>
              <a:t>En 1793, il est nommé professeur de mathématiques et de philosophie naturelle au New College dépendant de l’Académie de Manche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529080" y="1501920"/>
            <a:ext cx="2085480" cy="3857400"/>
            <a:chOff x="3529080" y="1501920"/>
            <a:chExt cx="2085480" cy="3857400"/>
          </a:xfrm>
        </p:grpSpPr>
        <p:sp>
          <p:nvSpPr>
            <p:cNvPr id="163" name=""/>
            <p:cNvSpPr/>
            <p:nvPr/>
          </p:nvSpPr>
          <p:spPr>
            <a:xfrm>
              <a:off x="3529080" y="1501920"/>
              <a:ext cx="18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20880" y="2369880"/>
              <a:ext cx="199368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  </a:t>
              </a:r>
              <a:r>
                <a:rPr b="0" lang="en-US" sz="11800" spc="-1" strike="noStrike">
                  <a:solidFill>
                    <a:srgbClr val="ffffcc"/>
                  </a:solidFill>
                  <a:latin typeface="Comic Sans MS"/>
                </a:rPr>
                <a:t> 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                 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9080" y="3511440"/>
              <a:ext cx="18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66" name="Dalton" descr="John Dalton"/>
          <p:cNvPicPr/>
          <p:nvPr/>
        </p:nvPicPr>
        <p:blipFill>
          <a:blip r:embed="rId1"/>
          <a:stretch/>
        </p:blipFill>
        <p:spPr>
          <a:xfrm>
            <a:off x="6019920" y="1752480"/>
            <a:ext cx="2560680" cy="31244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Selon lui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6285" y="7493"/>
                </a:moveTo>
                <a:lnTo>
                  <a:pt x="9792" y="7493"/>
                </a:lnTo>
                <a:lnTo>
                  <a:pt x="9792" y="12828"/>
                </a:lnTo>
                <a:cubicBezTo>
                  <a:pt x="9792" y="13751"/>
                  <a:pt x="10593" y="14482"/>
                  <a:pt x="11629" y="14482"/>
                </a:cubicBezTo>
                <a:lnTo>
                  <a:pt x="13291" y="14482"/>
                </a:lnTo>
                <a:cubicBezTo>
                  <a:pt x="14327" y="14482"/>
                  <a:pt x="15128" y="13751"/>
                  <a:pt x="15128" y="12828"/>
                </a:cubicBezTo>
                <a:lnTo>
                  <a:pt x="15128" y="7493"/>
                </a:lnTo>
                <a:lnTo>
                  <a:pt x="13291" y="7493"/>
                </a:lnTo>
                <a:lnTo>
                  <a:pt x="16799" y="3985"/>
                </a:lnTo>
                <a:lnTo>
                  <a:pt x="20472" y="7493"/>
                </a:lnTo>
                <a:lnTo>
                  <a:pt x="18635" y="7493"/>
                </a:lnTo>
                <a:lnTo>
                  <a:pt x="18635" y="12828"/>
                </a:lnTo>
                <a:cubicBezTo>
                  <a:pt x="18635" y="15596"/>
                  <a:pt x="16059" y="18155"/>
                  <a:pt x="13291" y="18155"/>
                </a:cubicBezTo>
                <a:lnTo>
                  <a:pt x="11629" y="18155"/>
                </a:lnTo>
                <a:cubicBezTo>
                  <a:pt x="8861" y="18155"/>
                  <a:pt x="6285" y="15596"/>
                  <a:pt x="6285" y="12828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75248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’instigateur  de la théorie atomiqu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Matière composé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de particule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indivisible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Tou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les atomes de l’élément sont identi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es atomes de différents éléments sont différ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Dans les réactions chimique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, les atomes se combinent pour former de nouveaux produits</a:t>
            </a:r>
            <a:r>
              <a:rPr b="0" lang="fr-CA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Thoms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3480" y="1523880"/>
            <a:ext cx="1917720" cy="2895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2133720"/>
            <a:ext cx="6019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Il est né en 176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Il est mort en 184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Il a fait la découverte de l’électron(charge négativ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Et il élabora le « pain aux raisins 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Selon lui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92468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2860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thomson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038480" cy="2243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19320" y="190512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Les unités sont divisibles et composé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s de charges négatives  et de charges positives réuni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s de façon homogène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Rutherfor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0574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rutherford" descr=""/>
          <p:cNvPicPr/>
          <p:nvPr/>
        </p:nvPicPr>
        <p:blipFill>
          <a:blip r:embed="rId1"/>
          <a:stretch/>
        </p:blipFill>
        <p:spPr>
          <a:xfrm>
            <a:off x="6477120" y="1905120"/>
            <a:ext cx="1825560" cy="2666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600" y="2057400"/>
            <a:ext cx="5943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Il est né en 1871 et il est mort  en 1937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Il a découvert les neutrons et les protons 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Il a découvert un nouveau modèle atomique grâce à la feuille d’or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2200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La matière est principalement constitué</a:t>
            </a:r>
            <a:r>
              <a:rPr b="0" lang="en-CA" sz="20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 de vide puisque la majorité de particules passent au trav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2200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Quelques particules reviennent comme si elles avaient  frappé un bloc massif dans l’atom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2200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Conclusion:le noyau dense  est entouré d’électron</a:t>
            </a:r>
            <a:r>
              <a:rPr b="0" lang="en-CA" sz="20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 qui se déplace</a:t>
            </a:r>
            <a:r>
              <a:rPr b="0" lang="en-CA" sz="2000" spc="-1" strike="noStrike">
                <a:solidFill>
                  <a:srgbClr val="220011"/>
                </a:solidFill>
                <a:latin typeface="Times New Roman"/>
              </a:rPr>
              <a:t>nt</a:t>
            </a:r>
            <a:r>
              <a:rPr b="0" lang="fr-CA" sz="2000" spc="-1" strike="noStrike">
                <a:solidFill>
                  <a:srgbClr val="220011"/>
                </a:solidFill>
                <a:latin typeface="Times New Roman"/>
              </a:rPr>
              <a:t> dans un espace très grand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Selon lui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7493"/>
                </a:moveTo>
                <a:lnTo>
                  <a:pt x="12696" y="7493"/>
                </a:lnTo>
                <a:lnTo>
                  <a:pt x="12696" y="12828"/>
                </a:lnTo>
                <a:cubicBezTo>
                  <a:pt x="12696" y="13751"/>
                  <a:pt x="13497" y="14482"/>
                  <a:pt x="14532" y="14482"/>
                </a:cubicBezTo>
                <a:lnTo>
                  <a:pt x="16195" y="14482"/>
                </a:lnTo>
                <a:cubicBezTo>
                  <a:pt x="17231" y="14482"/>
                  <a:pt x="18031" y="13751"/>
                  <a:pt x="18031" y="12828"/>
                </a:cubicBezTo>
                <a:lnTo>
                  <a:pt x="18031" y="7493"/>
                </a:lnTo>
                <a:lnTo>
                  <a:pt x="16195" y="7493"/>
                </a:lnTo>
                <a:lnTo>
                  <a:pt x="19702" y="3985"/>
                </a:lnTo>
                <a:lnTo>
                  <a:pt x="23375" y="7493"/>
                </a:lnTo>
                <a:lnTo>
                  <a:pt x="21539" y="7493"/>
                </a:lnTo>
                <a:lnTo>
                  <a:pt x="21539" y="12828"/>
                </a:lnTo>
                <a:cubicBezTo>
                  <a:pt x="21539" y="15596"/>
                  <a:pt x="18963" y="18155"/>
                  <a:pt x="16195" y="18155"/>
                </a:cubicBezTo>
                <a:lnTo>
                  <a:pt x="14532" y="18155"/>
                </a:lnTo>
                <a:cubicBezTo>
                  <a:pt x="11765" y="18155"/>
                  <a:pt x="9188" y="15596"/>
                  <a:pt x="9188" y="12828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rutherford-h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3810240" cy="2721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080" y="17524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Selon lui, les unités divisibles comportant des charges positives concentrées dans le noyau et des charges négatives évoluant autour</a:t>
            </a:r>
            <a:r>
              <a:rPr b="0" lang="fr-CA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Bohr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981080"/>
            <a:ext cx="2318040" cy="259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7200" y="1752480"/>
            <a:ext cx="58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Les unités sont divisible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 comportant des particules positives et des particules négatives  concentré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s dans le noyau et des particules sur des couches électronique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493"/>
                </a:moveTo>
                <a:lnTo>
                  <a:pt x="10382" y="7493"/>
                </a:lnTo>
                <a:lnTo>
                  <a:pt x="10382" y="12828"/>
                </a:lnTo>
                <a:cubicBezTo>
                  <a:pt x="10382" y="13751"/>
                  <a:pt x="11182" y="14482"/>
                  <a:pt x="12218" y="14482"/>
                </a:cubicBezTo>
                <a:lnTo>
                  <a:pt x="13881" y="14482"/>
                </a:lnTo>
                <a:cubicBezTo>
                  <a:pt x="14916" y="14482"/>
                  <a:pt x="15717" y="13751"/>
                  <a:pt x="15717" y="12828"/>
                </a:cubicBezTo>
                <a:lnTo>
                  <a:pt x="15717" y="7493"/>
                </a:lnTo>
                <a:lnTo>
                  <a:pt x="13881" y="7493"/>
                </a:lnTo>
                <a:lnTo>
                  <a:pt x="17388" y="3985"/>
                </a:lnTo>
                <a:lnTo>
                  <a:pt x="21061" y="7493"/>
                </a:lnTo>
                <a:lnTo>
                  <a:pt x="19225" y="7493"/>
                </a:lnTo>
                <a:lnTo>
                  <a:pt x="19225" y="12828"/>
                </a:lnTo>
                <a:cubicBezTo>
                  <a:pt x="19225" y="15596"/>
                  <a:pt x="16648" y="18155"/>
                  <a:pt x="13881" y="18155"/>
                </a:cubicBezTo>
                <a:lnTo>
                  <a:pt x="12218" y="18155"/>
                </a:lnTo>
                <a:cubicBezTo>
                  <a:pt x="9450" y="18155"/>
                  <a:pt x="6874" y="15596"/>
                  <a:pt x="6874" y="12828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20011"/>
                </a:solidFill>
                <a:latin typeface="Tempus Sans ITC"/>
              </a:rPr>
              <a:t>Par Julie Labont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20011"/>
                </a:solidFill>
                <a:latin typeface="Tempus Sans ITC"/>
              </a:rPr>
              <a:t>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20011"/>
                </a:solidFill>
                <a:latin typeface="Tempus Sans ITC"/>
              </a:rPr>
              <a:t>Erika Jolin-Ouell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209680"/>
            <a:ext cx="75438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empus Sans ITC"/>
              </a:rPr>
              <a:t>La matiè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24000" cy="1104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224000" cy="1104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1224000" cy="1104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224000" cy="1104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1128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Aristo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06400" y="2316240"/>
            <a:ext cx="5732640" cy="2225520"/>
            <a:chOff x="1706400" y="2316240"/>
            <a:chExt cx="5732640" cy="2225520"/>
          </a:xfrm>
        </p:grpSpPr>
        <p:sp>
          <p:nvSpPr>
            <p:cNvPr id="198" name=""/>
            <p:cNvSpPr/>
            <p:nvPr/>
          </p:nvSpPr>
          <p:spPr>
            <a:xfrm>
              <a:off x="1706400" y="2316240"/>
              <a:ext cx="57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706400" y="2316240"/>
              <a:ext cx="5537160" cy="2225520"/>
              <a:chOff x="1706400" y="2316240"/>
              <a:chExt cx="5537160" cy="2225520"/>
            </a:xfrm>
          </p:grpSpPr>
          <p:sp>
            <p:nvSpPr>
              <p:cNvPr id="200" name=""/>
              <p:cNvSpPr/>
              <p:nvPr/>
            </p:nvSpPr>
            <p:spPr>
              <a:xfrm>
                <a:off x="1706400" y="2316240"/>
                <a:ext cx="5537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706400" y="2316240"/>
                <a:ext cx="5537160" cy="22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0" lang="en-US" sz="11600" spc="-1" strike="noStrike">
                    <a:solidFill>
                      <a:srgbClr val="ffffcc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                  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2" name="aristote" descr="Aristote"/>
          <p:cNvPicPr/>
          <p:nvPr/>
        </p:nvPicPr>
        <p:blipFill>
          <a:blip r:embed="rId1"/>
          <a:stretch/>
        </p:blipFill>
        <p:spPr>
          <a:xfrm>
            <a:off x="6934320" y="1523880"/>
            <a:ext cx="1852560" cy="2308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0880" y="190512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81080"/>
            <a:ext cx="6400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220011"/>
                </a:solidFill>
                <a:latin typeface="Arial"/>
                <a:ea typeface="Arial"/>
              </a:rPr>
              <a:t>Né en 384 av. J.-C. ,Orphelin à l’âge de 10 ou 12 ans, Aristote poursuit ses études et s’intéresse à de nombreuses disciplines. Mais sa soif de connaissances l’oblige à partir pour Athènes, où les plus illustres savants et philosophes enseignent.</a:t>
            </a:r>
            <a:r>
              <a:rPr b="1" i="1" lang="fr-CA" sz="20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Selon lui 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5715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Tempus Sans IT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En résumé, la conception de la matière selon </a:t>
            </a:r>
            <a:r>
              <a:rPr b="1" i="1" lang="en-CA" sz="2400" spc="-1" strike="noStrike">
                <a:solidFill>
                  <a:srgbClr val="220011"/>
                </a:solidFill>
                <a:latin typeface="Tempus Sans ITC"/>
              </a:rPr>
              <a:t>A</a:t>
            </a: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ristot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Tempus Sans IT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La matière est continue et uniform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Tempus Sans IT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La matière est composée de quatre éléments :terre , air, eau, fe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Tempus Sans IT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Les quatre caractéristiques fondamentales sont:froid, sec, chaud, humid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20011"/>
              </a:buClr>
              <a:buFont typeface="Tempus Sans IT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Le vide n’existe p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533520"/>
              <a:gd name="textAreaBottom" fmla="*/ 48600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081" y="1929"/>
                </a:lnTo>
                <a:lnTo>
                  <a:pt x="1929" y="1929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081" y="19671"/>
                </a:lnTo>
                <a:lnTo>
                  <a:pt x="35081" y="1929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929" y="19671"/>
                </a:lnTo>
                <a:lnTo>
                  <a:pt x="35081" y="19671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929" y="1929"/>
                </a:lnTo>
                <a:lnTo>
                  <a:pt x="1929" y="19671"/>
                </a:lnTo>
                <a:close/>
              </a:path>
              <a:path fill="darken" w="37010" h="21600">
                <a:moveTo>
                  <a:pt x="11893" y="7679"/>
                </a:moveTo>
                <a:lnTo>
                  <a:pt x="15203" y="7679"/>
                </a:lnTo>
                <a:lnTo>
                  <a:pt x="15203" y="12714"/>
                </a:lnTo>
                <a:cubicBezTo>
                  <a:pt x="15203" y="13585"/>
                  <a:pt x="15959" y="14274"/>
                  <a:pt x="16936" y="14274"/>
                </a:cubicBezTo>
                <a:lnTo>
                  <a:pt x="18505" y="14274"/>
                </a:lnTo>
                <a:cubicBezTo>
                  <a:pt x="19482" y="14274"/>
                  <a:pt x="20238" y="13585"/>
                  <a:pt x="20238" y="12714"/>
                </a:cubicBezTo>
                <a:lnTo>
                  <a:pt x="20238" y="7679"/>
                </a:lnTo>
                <a:lnTo>
                  <a:pt x="18505" y="7679"/>
                </a:lnTo>
                <a:lnTo>
                  <a:pt x="21815" y="4369"/>
                </a:lnTo>
                <a:lnTo>
                  <a:pt x="25281" y="7679"/>
                </a:lnTo>
                <a:lnTo>
                  <a:pt x="23548" y="7679"/>
                </a:lnTo>
                <a:lnTo>
                  <a:pt x="23548" y="12714"/>
                </a:lnTo>
                <a:cubicBezTo>
                  <a:pt x="23548" y="15326"/>
                  <a:pt x="21117" y="17741"/>
                  <a:pt x="18505" y="17741"/>
                </a:cubicBezTo>
                <a:lnTo>
                  <a:pt x="16936" y="17741"/>
                </a:lnTo>
                <a:cubicBezTo>
                  <a:pt x="14324" y="17741"/>
                  <a:pt x="11893" y="15326"/>
                  <a:pt x="11893" y="12714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493"/>
                </a:moveTo>
                <a:lnTo>
                  <a:pt x="15006" y="7493"/>
                </a:lnTo>
                <a:lnTo>
                  <a:pt x="15006" y="12828"/>
                </a:lnTo>
                <a:cubicBezTo>
                  <a:pt x="15006" y="13751"/>
                  <a:pt x="15807" y="14482"/>
                  <a:pt x="16843" y="14482"/>
                </a:cubicBezTo>
                <a:lnTo>
                  <a:pt x="18505" y="14482"/>
                </a:lnTo>
                <a:cubicBezTo>
                  <a:pt x="19541" y="14482"/>
                  <a:pt x="20341" y="13751"/>
                  <a:pt x="20341" y="12828"/>
                </a:cubicBezTo>
                <a:lnTo>
                  <a:pt x="20341" y="7493"/>
                </a:lnTo>
                <a:lnTo>
                  <a:pt x="18505" y="7493"/>
                </a:lnTo>
                <a:lnTo>
                  <a:pt x="22013" y="3985"/>
                </a:lnTo>
                <a:lnTo>
                  <a:pt x="25685" y="7493"/>
                </a:lnTo>
                <a:lnTo>
                  <a:pt x="23849" y="7493"/>
                </a:lnTo>
                <a:lnTo>
                  <a:pt x="23849" y="12828"/>
                </a:lnTo>
                <a:cubicBezTo>
                  <a:pt x="23849" y="15596"/>
                  <a:pt x="21273" y="18155"/>
                  <a:pt x="18505" y="18155"/>
                </a:cubicBezTo>
                <a:lnTo>
                  <a:pt x="16843" y="18155"/>
                </a:lnTo>
                <a:cubicBezTo>
                  <a:pt x="14075" y="18155"/>
                  <a:pt x="11498" y="15596"/>
                  <a:pt x="11498" y="12828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Table des matière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905120"/>
            <a:ext cx="8915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’introd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es scientifiqu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’historique de l’ato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es définiti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Qu’est-ce qu’un atome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es référenc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a con</a:t>
            </a:r>
            <a:r>
              <a:rPr b="0" lang="en-CA" sz="2400" spc="-1" strike="noStrike">
                <a:solidFill>
                  <a:srgbClr val="220011"/>
                </a:solidFill>
                <a:latin typeface="Times New Roman"/>
              </a:rPr>
              <a:t>c</a:t>
            </a: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lu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2200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00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c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Aujourd’hui nous allons vous présente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r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 les modèles atomiques selon certain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 scientifique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 au cours du temps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,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 c’est à dire Démocrite, J. Dalton, John James Thomson, Rutherford et puis 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B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oh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Les scientifique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133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Démocri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1120" y="288756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J.Dal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Thoms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191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220011"/>
                </a:solidFill>
                <a:latin typeface="Tempus Sans ITC"/>
              </a:rPr>
              <a:t>Rutherf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685800" y="21337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2819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685800" y="35053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685800" y="4191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>
            <a:hlinkClick r:id="rId5" action="ppaction://hlinksldjump"/>
          </p:cNvPr>
          <p:cNvSpPr/>
          <p:nvPr/>
        </p:nvSpPr>
        <p:spPr>
          <a:xfrm>
            <a:off x="6858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20011"/>
                </a:solidFill>
                <a:latin typeface="Times New Roman"/>
              </a:rPr>
              <a:t>Boh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5486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220011"/>
                </a:solidFill>
                <a:latin typeface="Tempus Sans ITC"/>
              </a:rPr>
              <a:t>Aristo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864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61722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09588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6172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220011"/>
                </a:solidFill>
                <a:latin typeface="Tempus Sans ITC"/>
              </a:rPr>
              <a:t>Conclu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L’historique de l’atom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9810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Vers l’an 400 avant j.-c. certain grecs se ralliaient à Démocrite qui affirmait que la matière était discontinue. Ce philosophe enseignait que la matière était constitué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de particules séparé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s à la façon du sable qui était composé de grains. Selon lui la matière était particulière c’est à dire quelle était constitué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d’unité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infiniment petites qui ne pouvaient être divisé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atome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61928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Les définition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828800"/>
            <a:ext cx="88390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20011"/>
                </a:solidFill>
                <a:latin typeface="Times New Roman"/>
              </a:rPr>
              <a:t>L’élément 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:Substance pure considéré</a:t>
            </a:r>
            <a:r>
              <a:rPr b="0" lang="en-CA" sz="3200" spc="-1" strike="noStrike">
                <a:solidFill>
                  <a:srgbClr val="220011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 comme indécomposable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20011"/>
                </a:solidFill>
                <a:latin typeface="Times New Roman"/>
              </a:rPr>
              <a:t>Molécule </a:t>
            </a:r>
            <a:r>
              <a:rPr b="0" lang="fr-CA" sz="3200" spc="-1" strike="noStrike">
                <a:solidFill>
                  <a:srgbClr val="220011"/>
                </a:solidFill>
                <a:latin typeface="Times New Roman"/>
              </a:rPr>
              <a:t>: C’est la plus petite  partie d’un corps (composé ou élément) qui puissent exister et posséder les propriété caractéristiques de ce cor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Qu’est-ce qu’un atome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2" name="atome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590920" cy="330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2133720"/>
            <a:ext cx="59436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Un atome c’est la plus petite partie d’un élément chimique ,qui peut être seule ou en combinaison avec d’autres atomes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2200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La différence entre un atome et un élément :Un atome c’est la plus petite partie d’un élément tandis qu’une molécule c’est la plus petite partie d’un corp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ffcc00"/>
                </a:solidFill>
                <a:latin typeface="Tempus Sans ITC"/>
              </a:rPr>
              <a:t>La 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9810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Finalement , les scientifiques 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n’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on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t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peut-être pas la même vision des chose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mais ils en sont tous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 venus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à la même conclusion , que le noyau dense est entouré d’électron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qui se déplace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nt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dans un espace très grand .On espère que vous avez aimé cette présentation on lui a mi</a:t>
            </a:r>
            <a:r>
              <a:rPr b="0" lang="en-CA" sz="2800" spc="-1" strike="noStrike">
                <a:solidFill>
                  <a:srgbClr val="220011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220011"/>
                </a:solidFill>
                <a:latin typeface="Times New Roman"/>
              </a:rPr>
              <a:t> tout ce qu’on savait 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5:40:16Z</dcterms:created>
  <dc:creator>C.S.B.E.</dc:creator>
  <dc:description/>
  <dc:language>en-US</dc:language>
  <cp:lastModifiedBy>ab</cp:lastModifiedBy>
  <dcterms:modified xsi:type="dcterms:W3CDTF">2004-04-01T05:01:12Z</dcterms:modified>
  <cp:revision>19</cp:revision>
  <dc:subject/>
  <dc:title>Présentation PowerPoint</dc:title>
</cp:coreProperties>
</file>