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glass.wav" ContentType="audio/x-wav"/>
  <Override PartName="/ppt/media/gunshot.wav" ContentType="audio/x-wav"/>
  <Override PartName="/ppt/media/image3.png" ContentType="image/png"/>
  <Override PartName="/ppt/media/chimes.wav" ContentType="audio/x-wav"/>
  <Override PartName="/ppt/media/image4.png" ContentType="image/png"/>
  <Override PartName="/ppt/media/image1.gif" ContentType="image/gif"/>
  <Override PartName="/ppt/media/type.wav" ContentType="audio/x-wav"/>
  <Override PartName="/ppt/media/image9.jpeg" ContentType="image/jpeg"/>
  <Override PartName="/ppt/media/image10.gif" ContentType="image/gif"/>
  <Override PartName="/ppt/media/cashreg.wav" ContentType="audio/x-wav"/>
  <Override PartName="/ppt/media/driveby.wav" ContentType="audio/x-wav"/>
  <Override PartName="/ppt/media/image7.png" ContentType="image/png"/>
  <Override PartName="/ppt/media/image6.png" ContentType="image/png"/>
  <Override PartName="/ppt/media/camera.wav" ContentType="audio/x-wav"/>
  <Override PartName="/ppt/media/explode.wav" ContentType="audio/x-wav"/>
  <Override PartName="/ppt/media/whoosh.wav" ContentType="audio/x-wav"/>
  <Override PartName="/ppt/media/image2.gif" ContentType="image/gif"/>
  <Override PartName="/ppt/media/image8.jpeg" ContentType="image/jpeg"/>
  <Override PartName="/ppt/media/image5.png" ContentType="image/png"/>
  <Override PartName="/ppt/media/carbrak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5BF-8F81-4862-85BB-470B675D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ABD-5060-44D0-A9F3-58E636B2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EB1-C882-47B1-9B10-1F6AE11C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0235-AFA8-40EC-A5E9-8621DB57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F8D-1E7C-414B-B2F1-518A3739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5A9-C4B0-4498-AC43-130A0D70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6C1-3E0F-4374-BDCB-325624C2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C97-9C68-4D33-87A9-3640B938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4F0-B452-46E4-AA34-83C89AF8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F88-13C7-4124-B4CC-25FD7015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201-9907-40D7-9610-0212881F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250-C80D-4996-BFC4-5AD40DC9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4CF2-0864-4136-A921-FF20BE3DC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jpe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png"/><Relationship Id="rId8" Type="http://schemas.openxmlformats.org/officeDocument/2006/relationships/audio" Target="../media/carbrak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explode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audio" Target="../media/carbrake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6.xml"/><Relationship Id="rId6" Type="http://schemas.openxmlformats.org/officeDocument/2006/relationships/audio" Target="../media/glass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audio" Target="../media/typ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audio" Target="../media/applaus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0000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81120" y="26028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atomes dans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notre vie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3213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1" i="1" lang="fr-CA" sz="2400" spc="-1" strike="noStrike">
                <a:solidFill>
                  <a:srgbClr val="000000"/>
                </a:solidFill>
                <a:latin typeface="Garamond"/>
              </a:rPr>
              <a:t>Keven Lapierre, Carolane Labrecque et François Pouli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66760" y="3991680"/>
            <a:ext cx="69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Polyvalente des Appalaches , Ste-Justine (Québec), Mars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85520" y="4739400"/>
            <a:ext cx="58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Vicky Veill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79600" y="5943600"/>
            <a:ext cx="2669760" cy="457200"/>
            <a:chOff x="3279600" y="5943600"/>
            <a:chExt cx="2669760" cy="457200"/>
          </a:xfrm>
        </p:grpSpPr>
        <p:sp>
          <p:nvSpPr>
            <p:cNvPr id="48" name=""/>
            <p:cNvSpPr/>
            <p:nvPr/>
          </p:nvSpPr>
          <p:spPr>
            <a:xfrm>
              <a:off x="32796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>
              <a:hlinkClick r:id="" action="ppaction://hlinkshowjump?jump=nextslide"/>
            </p:cNvPr>
            <p:cNvSpPr/>
            <p:nvPr/>
          </p:nvSpPr>
          <p:spPr>
            <a:xfrm>
              <a:off x="331200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Caractéristique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és divisibles, composées de charges négatives et de charges positives réunies de façon homogè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901800" y="533520"/>
          <a:ext cx="741672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533520"/>
                    <a:ext cx="74167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zoom dir="in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 observ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couvertes des charges négatives dans la matière (électr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800100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7493"/>
                </a:moveTo>
                <a:lnTo>
                  <a:pt x="10000" y="7493"/>
                </a:lnTo>
                <a:lnTo>
                  <a:pt x="10000" y="12828"/>
                </a:lnTo>
                <a:cubicBezTo>
                  <a:pt x="10000" y="13751"/>
                  <a:pt x="10801" y="14482"/>
                  <a:pt x="11837" y="14482"/>
                </a:cubicBezTo>
                <a:lnTo>
                  <a:pt x="13499" y="14482"/>
                </a:lnTo>
                <a:cubicBezTo>
                  <a:pt x="14535" y="14482"/>
                  <a:pt x="15335" y="13751"/>
                  <a:pt x="15335" y="12828"/>
                </a:cubicBezTo>
                <a:lnTo>
                  <a:pt x="15335" y="7493"/>
                </a:lnTo>
                <a:lnTo>
                  <a:pt x="13499" y="7493"/>
                </a:lnTo>
                <a:lnTo>
                  <a:pt x="17007" y="3985"/>
                </a:lnTo>
                <a:lnTo>
                  <a:pt x="20679" y="7493"/>
                </a:lnTo>
                <a:lnTo>
                  <a:pt x="18843" y="7493"/>
                </a:lnTo>
                <a:lnTo>
                  <a:pt x="18843" y="12828"/>
                </a:lnTo>
                <a:cubicBezTo>
                  <a:pt x="18843" y="15596"/>
                  <a:pt x="16267" y="18155"/>
                  <a:pt x="13499" y="18155"/>
                </a:cubicBezTo>
                <a:lnTo>
                  <a:pt x="11837" y="18155"/>
                </a:lnTo>
                <a:cubicBezTo>
                  <a:pt x="9069" y="18155"/>
                  <a:pt x="6492" y="15596"/>
                  <a:pt x="6492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ér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és divisibles comportant des particules positives concentrées dans le noyau et des charges négatives évaluant autour. Masse concentrée dans le noy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over dir="l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 observ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adioactivité, le comportement des particules alpha traversant un échantillon de matiè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over dir="r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900"/>
                            </p:stCondLst>
                            <p:childTnLst>
                              <p:par>
                                <p:cTn id="2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153280" y="60199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7493"/>
                </a:moveTo>
                <a:lnTo>
                  <a:pt x="9267" y="7493"/>
                </a:lnTo>
                <a:lnTo>
                  <a:pt x="9267" y="12828"/>
                </a:lnTo>
                <a:cubicBezTo>
                  <a:pt x="9267" y="13751"/>
                  <a:pt x="10068" y="14482"/>
                  <a:pt x="11104" y="14482"/>
                </a:cubicBezTo>
                <a:lnTo>
                  <a:pt x="12766" y="14482"/>
                </a:lnTo>
                <a:cubicBezTo>
                  <a:pt x="13802" y="14482"/>
                  <a:pt x="14603" y="13751"/>
                  <a:pt x="14603" y="12828"/>
                </a:cubicBezTo>
                <a:lnTo>
                  <a:pt x="14603" y="7493"/>
                </a:lnTo>
                <a:lnTo>
                  <a:pt x="12766" y="7493"/>
                </a:lnTo>
                <a:lnTo>
                  <a:pt x="16274" y="3985"/>
                </a:lnTo>
                <a:lnTo>
                  <a:pt x="19947" y="7493"/>
                </a:lnTo>
                <a:lnTo>
                  <a:pt x="18110" y="7493"/>
                </a:lnTo>
                <a:lnTo>
                  <a:pt x="18110" y="12828"/>
                </a:lnTo>
                <a:cubicBezTo>
                  <a:pt x="18110" y="15596"/>
                  <a:pt x="15534" y="18155"/>
                  <a:pt x="12766" y="18155"/>
                </a:cubicBezTo>
                <a:lnTo>
                  <a:pt x="11104" y="18155"/>
                </a:lnTo>
                <a:cubicBezTo>
                  <a:pt x="8336" y="18155"/>
                  <a:pt x="5760" y="15596"/>
                  <a:pt x="5760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0996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RutherfordModele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7238880" cy="556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ér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és divisibles comportant des particules positives et des particules neutres, concentrées dans le noyau et des particules négatives évoluant sur des couches électroni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split dir="out" orient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2412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'atom18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6019920"/>
          </a:xfrm>
          <a:prstGeom prst="rect">
            <a:avLst/>
          </a:prstGeom>
          <a:ln w="0">
            <a:noFill/>
          </a:ln>
        </p:spPr>
      </p:pic>
    </p:spTree>
  </p:cSld>
  <p:transition advTm="6000">
    <p:pull dir="lu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 observ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Découverte du neutron. Absorption et émission discontinue de l’énergie lumineuse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t des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pect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pull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Atome: Plus petit d’un élément chimique,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qui peut être seul ou combiné avec d’autr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at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Élément: Substance pure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ui ne compote qu’une seule sorte de parti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Molécule: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lus petite partie d’un co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s qui puisse exister et posséder les propriétés caractéristiques de ce cor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0" y="380880"/>
            <a:ext cx="4648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Définition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advTm="13000"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500"/>
                            </p:stCondLst>
                            <p:childTnLst>
                              <p:par>
                                <p:cTn id="3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Keven Lapier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arolane Labrec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François Pouli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3720" y="1523880"/>
            <a:ext cx="48574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 atomes dans notre vi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15440" y="0"/>
            <a:ext cx="628560" cy="61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515440" y="6240600"/>
            <a:ext cx="628560" cy="61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28560" cy="61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240600"/>
            <a:ext cx="628560" cy="61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10080" y="320040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971800" y="320040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46836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3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9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4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9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4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9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Les atomes sont de petit particules  qu’on ne peut voir a l’œil nu. Il y a plusieurs modèles de particules que l’on ne peut distinguer, Démocrite, Aristote, ec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362320" y="457200"/>
            <a:ext cx="5105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clu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648320"/>
            <a:ext cx="1219320" cy="974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1219320" cy="974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886200" y="4724280"/>
            <a:ext cx="1219320" cy="974880"/>
          </a:xfrm>
          <a:prstGeom prst="rect">
            <a:avLst/>
          </a:prstGeom>
          <a:ln w="0">
            <a:noFill/>
          </a:ln>
        </p:spPr>
      </p:pic>
    </p:spTree>
  </p:cSld>
  <p:transition advTm="9000">
    <p:checker dir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ffffff"/>
                </a:solidFill>
                <a:uFillTx/>
                <a:latin typeface="Times New Roman"/>
              </a:rPr>
              <a:t>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RENIER, E</a:t>
            </a: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va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En quête des propriétés et de la</a:t>
            </a:r>
            <a:r>
              <a:rPr b="0" i="1" lang="en-CA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  L</a:t>
            </a: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es éditions HRN Bibliothè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national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 du Québec, 1991,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150 pages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Modèle atomique. (Page consultée le 28 janvier 2004).  </a:t>
            </a:r>
            <a:r>
              <a:rPr b="0" i="1" lang="en-CA" sz="1400" spc="-1" strike="noStrike">
                <a:solidFill>
                  <a:srgbClr val="ffffff"/>
                </a:solidFill>
                <a:latin typeface="Times New Roman"/>
              </a:rPr>
              <a:t>Modèle atomique, 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[En ligne].  Adresse URL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http://membres.lycos.fr/modeleatomique/-http://perso.club-internet.fr/molaire1/histoire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ffffff"/>
                </a:solidFill>
                <a:uFillTx/>
                <a:latin typeface="Times New Roman"/>
              </a:rPr>
              <a:t>IM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Atome. (Page consultée le 28 janvier 2004).  </a:t>
            </a:r>
            <a:r>
              <a:rPr b="0" i="1" lang="en-CA" sz="1400" spc="-1" strike="noStrike">
                <a:solidFill>
                  <a:srgbClr val="ffffff"/>
                </a:solidFill>
                <a:latin typeface="Times New Roman"/>
              </a:rPr>
              <a:t>L’Atom18.jpg 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[En ligne].  Adresse UR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1400" spc="-1" strike="noStrike" u="sng">
                <a:solidFill>
                  <a:srgbClr val="ffffff"/>
                </a:solidFill>
                <a:uFillTx/>
                <a:latin typeface="Times New Roman"/>
              </a:rPr>
              <a:t>http://</a:t>
            </a:r>
            <a:r>
              <a:rPr b="0" lang="fr-CA" sz="1400" spc="-1" strike="noStrike" u="sng">
                <a:solidFill>
                  <a:srgbClr val="ffffff"/>
                </a:solidFill>
                <a:uFillTx/>
                <a:latin typeface="Times New Roman"/>
              </a:rPr>
              <a:t>www.cscv.qc.ca/ecole/eco010/sciences/ sciences%20physiques/images/atome/l'atom18.jp</a:t>
            </a:r>
            <a:r>
              <a:rPr b="0" lang="en-CA" sz="1400" spc="-1" strike="noStrike" u="sng">
                <a:solidFill>
                  <a:srgbClr val="ffffff"/>
                </a:solidFill>
                <a:uFillTx/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CA" sz="1400" spc="-1" strike="noStrike">
                <a:solidFill>
                  <a:srgbClr val="ffffff"/>
                </a:solidFill>
                <a:latin typeface="Times New Roman"/>
              </a:rPr>
              <a:t>Image grat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Atome. (Page consultée le 26 janvier 2004).  </a:t>
            </a:r>
            <a:r>
              <a:rPr b="0" i="1" lang="en-CA" sz="1400" spc="-1" strike="noStrike">
                <a:solidFill>
                  <a:srgbClr val="ffffff"/>
                </a:solidFill>
                <a:latin typeface="Times New Roman"/>
              </a:rPr>
              <a:t>BohrModele1.jpg 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[En ligne].  Adresse UR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http://membres.licos.fr/veloclub/sagas/atome/hpbimg/BohrModele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ffffff"/>
                </a:solidFill>
                <a:latin typeface="Times New Roman"/>
              </a:rPr>
              <a:t>Image grat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Atome. (Page consultée le 26 janvier 2004).  </a:t>
            </a:r>
            <a:r>
              <a:rPr b="0" i="1" lang="en-CA" sz="1400" spc="-1" strike="noStrike">
                <a:solidFill>
                  <a:srgbClr val="ffffff"/>
                </a:solidFill>
                <a:latin typeface="Times New Roman"/>
              </a:rPr>
              <a:t>BohrModele2.jpg </a:t>
            </a: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[En ligne].  Adresse UR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http://membres.licos.fr/veloclub/sagas/atome/hpbimg/BohrModele2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ffffff"/>
                </a:solidFill>
                <a:latin typeface="Times New Roman"/>
              </a:rPr>
              <a:t>Image grat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ffffff"/>
                </a:solidFill>
                <a:uFillTx/>
                <a:latin typeface="Times New Roman"/>
              </a:rPr>
              <a:t>MUS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Bibliothèque office 2000. </a:t>
            </a:r>
            <a:r>
              <a:rPr b="0" i="1" lang="en-CA" sz="1400" spc="-1" strike="noStrike">
                <a:solidFill>
                  <a:srgbClr val="ffffff"/>
                </a:solidFill>
                <a:latin typeface="Times New Roman"/>
              </a:rPr>
              <a:t>FINCL_02.m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14600" y="304920"/>
            <a:ext cx="48769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ediagraphi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35960" y="0"/>
            <a:ext cx="1508040" cy="1154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35960" y="5703840"/>
            <a:ext cx="1508040" cy="1154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5703840"/>
            <a:ext cx="1508040" cy="1154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08040" cy="1154160"/>
          </a:xfrm>
          <a:prstGeom prst="rect">
            <a:avLst/>
          </a:prstGeom>
          <a:ln w="0">
            <a:noFill/>
          </a:ln>
        </p:spPr>
      </p:pic>
    </p:spTree>
  </p:cSld>
  <p:transition advTm="15000">
    <p:randomBar dir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90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55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7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85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1500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Nous allons vous renseign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sur l'atome et ses composan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n vous montrant des images et des diapositives concernant ce suje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380880"/>
            <a:ext cx="7238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ntroduction 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5000">
    <p:cover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828800" y="152280"/>
            <a:ext cx="5638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cientifiqu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1828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moc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990720" y="1828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990720" y="2666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27432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990720" y="3429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3581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J 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990720" y="4191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990720" y="51055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23979" y="10800"/>
                </a:lnTo>
                <a:lnTo>
                  <a:pt x="996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4343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-Ruther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5257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N.bo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175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675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275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775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60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31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éristique du modè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Unités indivisibles, il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 ont une forme ident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7924680" y="60958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438280" y="2286000"/>
          <a:ext cx="3810240" cy="285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2286000"/>
                    <a:ext cx="381024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5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95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éristique du modè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és indivisibles, identiques pour un même élé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split dir="in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9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 observ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Solubilité des gaz.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ombinaison des éléments dans les proportions défin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1600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133720" y="1219320"/>
          <a:ext cx="4914720" cy="44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219320"/>
                    <a:ext cx="491472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9:30:21Z</dcterms:created>
  <dc:creator>C.S.B.E.</dc:creator>
  <dc:description/>
  <dc:language>en-US</dc:language>
  <cp:lastModifiedBy>ab</cp:lastModifiedBy>
  <dcterms:modified xsi:type="dcterms:W3CDTF">2004-04-01T04:14:53Z</dcterms:modified>
  <cp:revision>22</cp:revision>
  <dc:subject/>
  <dc:title>Présentation PowerPoint</dc:title>
</cp:coreProperties>
</file>