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ComBeep1.wav" ContentType="audio/x-wav"/>
  <Override PartName="/ppt/media/menu%20click.wav" ContentType="audio/x-wav"/>
  <Override PartName="/ppt/media/image14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1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80E-E665-4804-9544-D383C93A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B22-828D-4113-B3C2-E4F556F5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322-DFFF-4794-836C-6EE9CFF7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703-14C6-41D9-81C0-77BF4B79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E9B-62DB-4586-97C6-441716FA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35E-71D0-4402-9D5D-3BE46783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130-3C22-4862-AA84-B3EED730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08F-11A5-49EF-8F4D-755A2612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9BF-E0DA-4D02-A7BD-24DF1F7C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0FE-5D95-4BC1-BDA9-FB39A2E2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71B-E868-460B-9A97-B7B497D5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07E-C55F-40DE-85AD-B9A2FFDA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51AC-B70F-40CE-BF3E-DBC1E5F4D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2.png"/><Relationship Id="rId22" Type="http://schemas.openxmlformats.org/officeDocument/2006/relationships/image" Target="../media/image1.png"/><Relationship Id="rId23" Type="http://schemas.openxmlformats.org/officeDocument/2006/relationships/slide" Target=""/><Relationship Id="rId24" Type="http://schemas.openxmlformats.org/officeDocument/2006/relationships/image" Target="../media/image5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.png"/><Relationship Id="rId9" Type="http://schemas.openxmlformats.org/officeDocument/2006/relationships/audio" Target="../media/ComBeep1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1.png"/><Relationship Id="rId7" Type="http://schemas.openxmlformats.org/officeDocument/2006/relationships/image" Target="../media/image18.png"/><Relationship Id="rId8" Type="http://schemas.openxmlformats.org/officeDocument/2006/relationships/image" Target="../media/image20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slide" Target="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image" Target="../media/image11.png"/><Relationship Id="rId9" Type="http://schemas.openxmlformats.org/officeDocument/2006/relationships/image" Target="../media/image23.png"/><Relationship Id="rId10" Type="http://schemas.openxmlformats.org/officeDocument/2006/relationships/image" Target="../media/image20.png"/><Relationship Id="rId11" Type="http://schemas.openxmlformats.org/officeDocument/2006/relationships/image" Target="../media/image23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0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" Target="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9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9.png"/><Relationship Id="rId10" Type="http://schemas.openxmlformats.org/officeDocument/2006/relationships/image" Target="../media/image20.png"/><Relationship Id="rId11" Type="http://schemas.openxmlformats.org/officeDocument/2006/relationships/slide" Target=""/><Relationship Id="rId12" Type="http://schemas.openxmlformats.org/officeDocument/2006/relationships/image" Target="../media/image5.png"/><Relationship Id="rId13" Type="http://schemas.openxmlformats.org/officeDocument/2006/relationships/image" Target="../media/image11.png"/><Relationship Id="rId14" Type="http://schemas.openxmlformats.org/officeDocument/2006/relationships/image" Target="../media/image28.png"/><Relationship Id="rId15" Type="http://schemas.openxmlformats.org/officeDocument/2006/relationships/image" Target="../media/image1.png"/><Relationship Id="rId16" Type="http://schemas.openxmlformats.org/officeDocument/2006/relationships/audio" Target="../media/ComBeep1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31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4.png"/><Relationship Id="rId3" Type="http://schemas.openxmlformats.org/officeDocument/2006/relationships/image" Target="../media/image33.png"/><Relationship Id="rId4" Type="http://schemas.openxmlformats.org/officeDocument/2006/relationships/slide" Target="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audio" Target="../media/ComBeep1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25.png"/><Relationship Id="rId18" Type="http://schemas.openxmlformats.org/officeDocument/2006/relationships/slide" Target=""/><Relationship Id="rId19" Type="http://schemas.openxmlformats.org/officeDocument/2006/relationships/image" Target="../media/image5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omBeep1.wav"/><Relationship Id="rId3" Type="http://schemas.openxmlformats.org/officeDocument/2006/relationships/audio" Target="../media/menu%20click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4.png"/><Relationship Id="rId8" Type="http://schemas.openxmlformats.org/officeDocument/2006/relationships/slide" Target=""/><Relationship Id="rId9" Type="http://schemas.openxmlformats.org/officeDocument/2006/relationships/image" Target="../media/image4.png"/><Relationship Id="rId10" Type="http://schemas.openxmlformats.org/officeDocument/2006/relationships/hyperlink" Target="file:///tmp/home/.config/libreoffice/4/user/gallery/menu%20click.wav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tmp/home/.config/libreoffice/4/user/gallery/menu%20click.wav" TargetMode="External"/><Relationship Id="rId13" Type="http://schemas.openxmlformats.org/officeDocument/2006/relationships/image" Target="../media/image4.png"/><Relationship Id="rId14" Type="http://schemas.openxmlformats.org/officeDocument/2006/relationships/audio" Target="../media/ComBeep1.wav"/><Relationship Id="rId15" Type="http://schemas.openxmlformats.org/officeDocument/2006/relationships/audio" Target="../media/ComBeep1.wav"/><Relationship Id="rId16" Type="http://schemas.openxmlformats.org/officeDocument/2006/relationships/audio" Target="../media/ComBeep1.wav"/><Relationship Id="rId17" Type="http://schemas.openxmlformats.org/officeDocument/2006/relationships/audio" Target="../media/ComBeep1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audio" Target="../media/ComBeep1.wav"/><Relationship Id="rId5" Type="http://schemas.openxmlformats.org/officeDocument/2006/relationships/audio" Target="../media/menu%20click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audio" Target="../media/ComBeep1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slide" Target=""/><Relationship Id="rId14" Type="http://schemas.openxmlformats.org/officeDocument/2006/relationships/image" Target="../media/image5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33360"/>
            <a:ext cx="8064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a leucémie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3125880"/>
            <a:ext cx="802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1" i="1" lang="fr-CH" sz="2800" spc="-1" strike="noStrike">
                <a:solidFill>
                  <a:srgbClr val="000000"/>
                </a:solidFill>
                <a:latin typeface="Garamond"/>
              </a:rPr>
              <a:t>Joey C.Vézina et  Julien Bé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21880" y="3991680"/>
            <a:ext cx="58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ouis-Joseph-Papineau, Montréal, Mars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9800" y="4739400"/>
            <a:ext cx="649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Marjorie Jean-P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9600" y="5943600"/>
            <a:ext cx="2669760" cy="457200"/>
            <a:chOff x="327960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96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>
              <a:off x="331200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480" y="14400"/>
            <a:ext cx="88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heureusement, un dérèglement de l’ADN dans les protéines des cellules pe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êcher les globules blancs de mûrir et de plus, ce même dérèglement fait divi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globules sans arrêt. Le surnombre oblige la moelle a relâcher les globules, mê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’ils ne sont pas mûrs. Ils sont nommés leucoblastes et ne peuvent accomplir leu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âch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contrast="22000"/>
          </a:blip>
          <a:stretch/>
        </p:blipFill>
        <p:spPr>
          <a:xfrm>
            <a:off x="380880" y="1447920"/>
            <a:ext cx="5715000" cy="3886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29000" y="3886200"/>
            <a:ext cx="522360" cy="152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895480" y="4495680"/>
            <a:ext cx="522360" cy="152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600200" y="3809880"/>
            <a:ext cx="522360" cy="15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286000" y="4267080"/>
            <a:ext cx="522360" cy="152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191120" y="4114800"/>
            <a:ext cx="522000" cy="15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4038480" y="4419720"/>
            <a:ext cx="522360" cy="152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4800600" y="3962520"/>
            <a:ext cx="52236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3657600" y="4724280"/>
            <a:ext cx="522360" cy="15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2133720" y="4800600"/>
            <a:ext cx="52200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4114800" y="3657600"/>
            <a:ext cx="52236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1447920" y="4343400"/>
            <a:ext cx="522000" cy="152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2286000" y="3581280"/>
            <a:ext cx="52236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7467480" y="4648320"/>
            <a:ext cx="52236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6"/>
          <a:stretch/>
        </p:blipFill>
        <p:spPr>
          <a:xfrm>
            <a:off x="8153280" y="4876920"/>
            <a:ext cx="52236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7"/>
          <a:stretch/>
        </p:blipFill>
        <p:spPr>
          <a:xfrm>
            <a:off x="7543800" y="5029200"/>
            <a:ext cx="522360" cy="152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8"/>
          <a:stretch/>
        </p:blipFill>
        <p:spPr>
          <a:xfrm>
            <a:off x="7772400" y="5410080"/>
            <a:ext cx="522360" cy="152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9"/>
          <a:stretch/>
        </p:blipFill>
        <p:spPr>
          <a:xfrm>
            <a:off x="2819520" y="3733920"/>
            <a:ext cx="522000" cy="152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940000" y="289548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-- Moelle oss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0"/>
          <a:stretch/>
        </p:blipFill>
        <p:spPr>
          <a:xfrm>
            <a:off x="5410080" y="4343400"/>
            <a:ext cx="2082960" cy="939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35160" y="525780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les blancs non-mûrs (leucoblastes)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6320" y="411480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4572000" y="1447920"/>
            <a:ext cx="146376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38200" y="190512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-- Dérèglement de l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2"/>
          <a:stretch/>
        </p:blipFill>
        <p:spPr>
          <a:xfrm>
            <a:off x="9753480" y="34290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25"/>
          <a:stretch/>
        </p:blipFill>
        <p:spPr>
          <a:xfrm>
            <a:off x="7162920" y="5864400"/>
            <a:ext cx="1981080" cy="609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33600" y="64897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95520" y="3808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Avez-vous tout compris, ag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066680" y="3048120"/>
            <a:ext cx="1981440" cy="1776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4952880"/>
            <a:ext cx="3886200" cy="762120"/>
          </a:xfrm>
          <a:custGeom>
            <a:avLst/>
            <a:gdLst>
              <a:gd name="textAreaLeft" fmla="*/ 49320 w 3886200"/>
              <a:gd name="textAreaRight" fmla="*/ 3836880 w 3886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0101" h="21600">
                <a:moveTo>
                  <a:pt x="0" y="0"/>
                </a:moveTo>
                <a:lnTo>
                  <a:pt x="110101" y="0"/>
                </a:lnTo>
                <a:lnTo>
                  <a:pt x="110101" y="21600"/>
                </a:lnTo>
                <a:lnTo>
                  <a:pt x="0" y="21600"/>
                </a:lnTo>
                <a:close/>
              </a:path>
              <a:path fill="lightenLess" w="110101" h="21600">
                <a:moveTo>
                  <a:pt x="0" y="0"/>
                </a:moveTo>
                <a:lnTo>
                  <a:pt x="110101" y="0"/>
                </a:lnTo>
                <a:lnTo>
                  <a:pt x="108701" y="1400"/>
                </a:lnTo>
                <a:lnTo>
                  <a:pt x="1400" y="1400"/>
                </a:lnTo>
                <a:close/>
              </a:path>
              <a:path fill="darken" w="110101" h="21600">
                <a:moveTo>
                  <a:pt x="110101" y="0"/>
                </a:moveTo>
                <a:lnTo>
                  <a:pt x="110101" y="21600"/>
                </a:lnTo>
                <a:lnTo>
                  <a:pt x="108701" y="20200"/>
                </a:lnTo>
                <a:lnTo>
                  <a:pt x="108701" y="1400"/>
                </a:lnTo>
                <a:close/>
              </a:path>
              <a:path fill="darkenLess" w="110101" h="21600">
                <a:moveTo>
                  <a:pt x="110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701" y="20200"/>
                </a:lnTo>
                <a:close/>
              </a:path>
              <a:path fill="lighten" w="110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puter"/>
              </a:rPr>
              <a:t>Non, je veux revenir aux 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3581280" y="990720"/>
            <a:ext cx="179244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791320" y="3276720"/>
            <a:ext cx="2057400" cy="162864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4800600" y="4952880"/>
            <a:ext cx="3886200" cy="762120"/>
          </a:xfrm>
          <a:custGeom>
            <a:avLst/>
            <a:gdLst>
              <a:gd name="textAreaLeft" fmla="*/ 49320 w 3886200"/>
              <a:gd name="textAreaRight" fmla="*/ 3836880 w 3886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0101" h="21600">
                <a:moveTo>
                  <a:pt x="0" y="0"/>
                </a:moveTo>
                <a:lnTo>
                  <a:pt x="110101" y="0"/>
                </a:lnTo>
                <a:lnTo>
                  <a:pt x="110101" y="21600"/>
                </a:lnTo>
                <a:lnTo>
                  <a:pt x="0" y="21600"/>
                </a:lnTo>
                <a:close/>
              </a:path>
              <a:path fill="lightenLess" w="110101" h="21600">
                <a:moveTo>
                  <a:pt x="0" y="0"/>
                </a:moveTo>
                <a:lnTo>
                  <a:pt x="110101" y="0"/>
                </a:lnTo>
                <a:lnTo>
                  <a:pt x="108701" y="1400"/>
                </a:lnTo>
                <a:lnTo>
                  <a:pt x="1400" y="1400"/>
                </a:lnTo>
                <a:close/>
              </a:path>
              <a:path fill="darken" w="110101" h="21600">
                <a:moveTo>
                  <a:pt x="110101" y="0"/>
                </a:moveTo>
                <a:lnTo>
                  <a:pt x="110101" y="21600"/>
                </a:lnTo>
                <a:lnTo>
                  <a:pt x="108701" y="20200"/>
                </a:lnTo>
                <a:lnTo>
                  <a:pt x="108701" y="1400"/>
                </a:lnTo>
                <a:close/>
              </a:path>
              <a:path fill="darkenLess" w="110101" h="21600">
                <a:moveTo>
                  <a:pt x="110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701" y="20200"/>
                </a:lnTo>
                <a:close/>
              </a:path>
              <a:path fill="lighten" w="110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puter"/>
              </a:rPr>
              <a:t>Oui, Poursuivons jusqu’à la 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0134720" y="2895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25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25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25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525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25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97920" y="0"/>
            <a:ext cx="75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&gt;Vous voilà maintenant rendu à la partie #2 de votre 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85920" y="60948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les sont les principales causes de la leucém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960" y="1600200"/>
            <a:ext cx="89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puter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s (nucléaires ou radioactives) qui peuvent causer le dérèglement de l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1819440" cy="198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1461960" cy="1904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841120" y="3276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puter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0080" y="32767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puter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400800" y="2971800"/>
            <a:ext cx="1673280" cy="1828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14400" y="49528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4240" y="495288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N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68960" y="4952880"/>
            <a:ext cx="26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règlement de l 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162920" y="5864400"/>
            <a:ext cx="1981080" cy="609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833600" y="64897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10058400" y="33526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825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325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825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325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825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325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825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7325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825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325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12240" y="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ertaines substances chimiques (comme le benzè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480" y="2514600"/>
            <a:ext cx="58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’activation d’oncogènes (gène à l’origine du canc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133360" cy="1633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657600" y="3200400"/>
            <a:ext cx="1285920" cy="1676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11280" y="5486400"/>
            <a:ext cx="58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s’activant, l’oncogène cause un dérèglement d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410080" y="3429000"/>
            <a:ext cx="1143000" cy="1041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44640" y="3429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858000" y="3048120"/>
            <a:ext cx="1673280" cy="1828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4640" y="495288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ogène qui s’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88040" y="496728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N régu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5280" y="495288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règlement de l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57200" y="380880"/>
            <a:ext cx="1257480" cy="1257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49040" y="182880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ance chi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3048120" y="304920"/>
            <a:ext cx="1110960" cy="1447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35160" y="609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1760" y="182880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N régu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4495680" y="533520"/>
            <a:ext cx="1143000" cy="1041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5867280" y="0"/>
            <a:ext cx="1673280" cy="1828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407200" y="18288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règlement de l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7162920" y="5864400"/>
            <a:ext cx="1981080" cy="609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833600" y="64897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500"/>
                            </p:stCondLst>
                            <p:childTnLst>
                              <p:par>
                                <p:cTn id="6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6500"/>
                            </p:stCondLst>
                            <p:childTnLst>
                              <p:par>
                                <p:cTn id="6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7000"/>
                            </p:stCondLst>
                            <p:childTnLst>
                              <p:par>
                                <p:cTn id="6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6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8500"/>
                            </p:stCondLst>
                            <p:childTnLst>
                              <p:par>
                                <p:cTn id="6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9000"/>
                            </p:stCondLst>
                            <p:childTnLst>
                              <p:par>
                                <p:cTn id="6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2760" y="380880"/>
            <a:ext cx="12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n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7200" y="312408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nomalies des chrom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1265040" cy="129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666880" y="685800"/>
            <a:ext cx="1111320" cy="1447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53920" y="990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6840" y="228600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N régu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4343400" y="1066680"/>
            <a:ext cx="1143000" cy="1041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943600" y="609480"/>
            <a:ext cx="1673280" cy="1828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559480" y="23623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règlement de l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286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162920" y="5864400"/>
            <a:ext cx="1981080" cy="609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833600" y="64897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9"/>
          <a:stretch/>
        </p:blipFill>
        <p:spPr>
          <a:xfrm>
            <a:off x="762120" y="3733920"/>
            <a:ext cx="101592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5440" y="4738680"/>
            <a:ext cx="24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omosome régu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2286000" y="3809880"/>
            <a:ext cx="1143000" cy="1041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180960" y="4738680"/>
            <a:ext cx="26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contre une anom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4267080" y="3733920"/>
            <a:ext cx="22860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792760" y="41148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6553080" y="3429000"/>
            <a:ext cx="1673280" cy="1828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169320" y="518148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règlement de l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3480" y="38088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t finalement la perte de gènes suppresseurs de tum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752480" y="1736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2270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523880" y="23464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590920" y="1660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2133720" y="2727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3200400" y="2575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3276720" y="19652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9"/>
          <a:stretch/>
        </p:blipFill>
        <p:spPr>
          <a:xfrm>
            <a:off x="1752480" y="127944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11400" y="341316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ènes suppresseurs de tum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0"/>
          <a:stretch/>
        </p:blipFill>
        <p:spPr>
          <a:xfrm>
            <a:off x="4191120" y="2117880"/>
            <a:ext cx="1143000" cy="1041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1"/>
          <a:stretch/>
        </p:blipFill>
        <p:spPr>
          <a:xfrm>
            <a:off x="5791320" y="1660680"/>
            <a:ext cx="1673280" cy="182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407200" y="341316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règlement de l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7360" y="4175280"/>
            <a:ext cx="86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absence de gènes suppresseurs de tumeurs peut causer un dérèglement de l’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7162920" y="5864400"/>
            <a:ext cx="1981080" cy="609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156800" y="649116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Chapitre 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500"/>
                            </p:stCondLst>
                            <p:childTnLst>
                              <p:par>
                                <p:cTn id="7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6000"/>
                            </p:stCondLst>
                            <p:childTnLst>
                              <p:par>
                                <p:cTn id="7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500"/>
                            </p:stCondLst>
                            <p:childTnLst>
                              <p:par>
                                <p:cTn id="7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43880" y="68580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les sont les symptômes et les manifestations de la leucém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9880" y="1676520"/>
            <a:ext cx="90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remièrement, le malade fera souvent et continuellement de la fièvre et sera beauc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s sensible aux infections à cause du manque de globules blancs ma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546120" cy="558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200400" y="3809880"/>
            <a:ext cx="1371600" cy="1163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124080" y="2895480"/>
            <a:ext cx="1371600" cy="1163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4343400" y="4114800"/>
            <a:ext cx="1371600" cy="1163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1905120" y="4038480"/>
            <a:ext cx="1371600" cy="1163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4495680" y="2971800"/>
            <a:ext cx="1371600" cy="11635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1676520" y="2895480"/>
            <a:ext cx="1371600" cy="1163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685800" y="4267080"/>
            <a:ext cx="546120" cy="559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5867280" y="3657600"/>
            <a:ext cx="1143000" cy="1041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7162920" y="5864400"/>
            <a:ext cx="1981080" cy="6094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833600" y="64897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4"/>
          <a:stretch/>
        </p:blipFill>
        <p:spPr>
          <a:xfrm>
            <a:off x="6934320" y="3200400"/>
            <a:ext cx="1638360" cy="1790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-2160" y="510552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les blan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0840" y="51195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5"/>
          <a:stretch/>
        </p:blipFill>
        <p:spPr>
          <a:xfrm>
            <a:off x="10058400" y="28954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60" y="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Partie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600"/>
                            </p:stCondLst>
                            <p:childTnLst>
                              <p:par>
                                <p:cTn id="8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3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600"/>
                            </p:stCondLst>
                            <p:childTnLst>
                              <p:par>
                                <p:cTn id="8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100"/>
                            </p:stCondLst>
                            <p:childTnLst>
                              <p:par>
                                <p:cTn id="8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600"/>
                            </p:stCondLst>
                            <p:childTnLst>
                              <p:par>
                                <p:cTn id="8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100"/>
                            </p:stCondLst>
                            <p:childTnLst>
                              <p:par>
                                <p:cTn id="8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600"/>
                            </p:stCondLst>
                            <p:childTnLst>
                              <p:par>
                                <p:cTn id="8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100"/>
                            </p:stCondLst>
                            <p:childTnLst>
                              <p:par>
                                <p:cTn id="8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600"/>
                            </p:stCondLst>
                            <p:childTnLst>
                              <p:par>
                                <p:cTn id="8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4100"/>
                            </p:stCondLst>
                            <p:childTnLst>
                              <p:par>
                                <p:cTn id="8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4600"/>
                            </p:stCondLst>
                            <p:childTnLst>
                              <p:par>
                                <p:cTn id="8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100"/>
                            </p:stCondLst>
                            <p:childTnLst>
                              <p:par>
                                <p:cTn id="8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600"/>
                            </p:stCondLst>
                            <p:childTnLst>
                              <p:par>
                                <p:cTn id="8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6100"/>
                            </p:stCondLst>
                            <p:childTnLst>
                              <p:par>
                                <p:cTn id="8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6600"/>
                            </p:stCondLst>
                            <p:childTnLst>
                              <p:par>
                                <p:cTn id="8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7100"/>
                            </p:stCondLst>
                            <p:childTnLst>
                              <p:par>
                                <p:cTn id="8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09880" y="457200"/>
            <a:ext cx="852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a leucémie apportera aussi une baisse de plaquettes ce qui causera de l’aném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 hémorragies mineures et des palp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162920" y="5864400"/>
            <a:ext cx="1981080" cy="6094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833600" y="64897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819520" y="1828800"/>
            <a:ext cx="3619440" cy="30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19760" y="318960"/>
            <a:ext cx="808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inalement, la surpopulation de globules blancs non-matures (leucoblast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s les organes amènera par exemple des plaques rouges sur la peau ou 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mentation du volume des ganglions lympha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2590920" cy="1951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162920" y="5864400"/>
            <a:ext cx="1981080" cy="609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218000" y="64911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Chapitre 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57200" y="2133720"/>
            <a:ext cx="3048120" cy="2695320"/>
            <a:chOff x="457200" y="2133720"/>
            <a:chExt cx="3048120" cy="2695320"/>
          </a:xfrm>
        </p:grpSpPr>
        <p:pic>
          <p:nvPicPr>
            <p:cNvPr id="286" name="" descr=""/>
            <p:cNvPicPr/>
            <p:nvPr/>
          </p:nvPicPr>
          <p:blipFill>
            <a:blip r:embed="rId6"/>
            <a:stretch/>
          </p:blipFill>
          <p:spPr>
            <a:xfrm>
              <a:off x="457200" y="2133720"/>
              <a:ext cx="3048120" cy="26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"/>
            <a:stretch/>
          </p:blipFill>
          <p:spPr>
            <a:xfrm>
              <a:off x="1600200" y="2209680"/>
              <a:ext cx="22860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8"/>
            <a:stretch/>
          </p:blipFill>
          <p:spPr>
            <a:xfrm>
              <a:off x="990720" y="2743200"/>
              <a:ext cx="22860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9"/>
            <a:stretch/>
          </p:blipFill>
          <p:spPr>
            <a:xfrm>
              <a:off x="1676520" y="3200400"/>
              <a:ext cx="22860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0"/>
            <a:stretch/>
          </p:blipFill>
          <p:spPr>
            <a:xfrm>
              <a:off x="2362320" y="3048120"/>
              <a:ext cx="22860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1"/>
            <a:stretch/>
          </p:blipFill>
          <p:spPr>
            <a:xfrm>
              <a:off x="2133720" y="3809880"/>
              <a:ext cx="22860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2"/>
            <a:stretch/>
          </p:blipFill>
          <p:spPr>
            <a:xfrm>
              <a:off x="1447920" y="3962520"/>
              <a:ext cx="22860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13"/>
            <a:stretch/>
          </p:blipFill>
          <p:spPr>
            <a:xfrm>
              <a:off x="2743200" y="3200400"/>
              <a:ext cx="22860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14"/>
            <a:stretch/>
          </p:blipFill>
          <p:spPr>
            <a:xfrm>
              <a:off x="1143000" y="3581280"/>
              <a:ext cx="22860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15"/>
            <a:stretch/>
          </p:blipFill>
          <p:spPr>
            <a:xfrm>
              <a:off x="2133720" y="2362320"/>
              <a:ext cx="228600" cy="71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" descr=""/>
          <p:cNvPicPr/>
          <p:nvPr/>
        </p:nvPicPr>
        <p:blipFill>
          <a:blip r:embed="rId16"/>
          <a:stretch/>
        </p:blipFill>
        <p:spPr>
          <a:xfrm>
            <a:off x="4114800" y="2895480"/>
            <a:ext cx="1143000" cy="1041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-8280" y="4800600"/>
            <a:ext cx="37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population de leucoblastes d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ains org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7920" y="4572000"/>
            <a:ext cx="40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malies comme des plaques rou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 la peau ou des gonflement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ains org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500"/>
                            </p:stCondLst>
                            <p:childTnLst>
                              <p:par>
                                <p:cTn id="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12000" y="838080"/>
            <a:ext cx="58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eucémie se traite-t-elle? Si oui, com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20520" y="1676520"/>
            <a:ext cx="885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i elle se traite, mais la réussite du traitement n’est que de 70 % à 80 %. De plus,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tement est terriblement difficile pour le patien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1911240" cy="21938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895480" y="1523880"/>
            <a:ext cx="5639040" cy="4181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182840" y="3124080"/>
            <a:ext cx="321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chimiothérapie 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traitement le plus comm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quez sur suivant p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 explication de 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162920" y="5864400"/>
            <a:ext cx="1981080" cy="609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833600" y="64911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10287000" y="30481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60" y="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Partie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7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7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"/>
                            </p:stCondLst>
                            <p:childTnLst>
                              <p:par>
                                <p:cTn id="9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0" dur="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100"/>
                            </p:stCondLst>
                            <p:childTnLst>
                              <p:par>
                                <p:cTn id="9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600"/>
                            </p:stCondLst>
                            <p:childTnLst>
                              <p:par>
                                <p:cTn id="9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100"/>
                            </p:stCondLst>
                            <p:childTnLst>
                              <p:par>
                                <p:cTn id="9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600"/>
                            </p:stCondLst>
                            <p:childTnLst>
                              <p:par>
                                <p:cTn id="9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82080" y="43434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2440" y="1932120"/>
            <a:ext cx="3918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Lt BT"/>
              </a:rPr>
              <a:t>JOEY C.VÉZ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Lt BT"/>
              </a:rPr>
              <a:t>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Lt BT"/>
              </a:rPr>
              <a:t>JULIEN BÉD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Lt BT"/>
              </a:rPr>
              <a:t>STUDIOS IN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Lt BT"/>
              </a:rPr>
              <a:t>PRÉSE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5280" y="318960"/>
            <a:ext cx="908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chimiothérapie consiste à la destruction de toutes les cellules (globules blanc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les rouges) de la moelle, même celles qui sont «normales». Ceci rend le 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ès fragile aux maladies et aux hémorragies. Le patient nécessitera durant le 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plusieurs transfusions sanguines pour combler la destruction de ses propres glob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ges. Plusieurs de ces cures sont nécessaires. Le traitement dure environ 6 mo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057400" y="2590920"/>
            <a:ext cx="3213000" cy="3149640"/>
            <a:chOff x="2057400" y="2590920"/>
            <a:chExt cx="3213000" cy="31496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3048120" y="4572000"/>
              <a:ext cx="15228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4724280" y="3276720"/>
              <a:ext cx="54612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2438280" y="3276720"/>
              <a:ext cx="54612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5"/>
            <a:stretch/>
          </p:blipFill>
          <p:spPr>
            <a:xfrm>
              <a:off x="2057400" y="3733920"/>
              <a:ext cx="54612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4343400" y="3809880"/>
              <a:ext cx="54612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7"/>
            <a:stretch/>
          </p:blipFill>
          <p:spPr>
            <a:xfrm>
              <a:off x="4343400" y="5181480"/>
              <a:ext cx="15228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8"/>
            <a:stretch/>
          </p:blipFill>
          <p:spPr>
            <a:xfrm>
              <a:off x="3581280" y="4267080"/>
              <a:ext cx="15264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"/>
            <a:stretch/>
          </p:blipFill>
          <p:spPr>
            <a:xfrm>
              <a:off x="4114800" y="3048120"/>
              <a:ext cx="15228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0"/>
            <a:stretch/>
          </p:blipFill>
          <p:spPr>
            <a:xfrm>
              <a:off x="2438280" y="4572000"/>
              <a:ext cx="15264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1"/>
            <a:stretch/>
          </p:blipFill>
          <p:spPr>
            <a:xfrm>
              <a:off x="3276720" y="3505320"/>
              <a:ext cx="15228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2"/>
            <a:stretch/>
          </p:blipFill>
          <p:spPr>
            <a:xfrm>
              <a:off x="2514600" y="4114800"/>
              <a:ext cx="6094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3"/>
            <a:stretch/>
          </p:blipFill>
          <p:spPr>
            <a:xfrm>
              <a:off x="4495680" y="2590920"/>
              <a:ext cx="60984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4"/>
            <a:stretch/>
          </p:blipFill>
          <p:spPr>
            <a:xfrm>
              <a:off x="3657600" y="3657600"/>
              <a:ext cx="6094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5"/>
            <a:stretch/>
          </p:blipFill>
          <p:spPr>
            <a:xfrm>
              <a:off x="3352680" y="2819520"/>
              <a:ext cx="60984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6"/>
            <a:stretch/>
          </p:blipFill>
          <p:spPr>
            <a:xfrm>
              <a:off x="2743200" y="2590920"/>
              <a:ext cx="609480" cy="5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5160960" y="2604960"/>
            <a:ext cx="21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-- Globule ro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90280" y="32907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-- Globule bla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1760" y="5257800"/>
            <a:ext cx="18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-- Leucobl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7"/>
          <a:stretch/>
        </p:blipFill>
        <p:spPr>
          <a:xfrm>
            <a:off x="1752480" y="1828800"/>
            <a:ext cx="3895920" cy="42670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>
            <a:hlinkClick r:id="" action="ppaction://hlinkshowjump?jump=nextslide"/>
          </p:cNvPr>
          <p:cNvPicPr/>
          <p:nvPr/>
        </p:nvPicPr>
        <p:blipFill>
          <a:blip r:embed="rId20"/>
          <a:stretch/>
        </p:blipFill>
        <p:spPr>
          <a:xfrm>
            <a:off x="6781680" y="5867280"/>
            <a:ext cx="1981440" cy="6098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399360" y="64911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Conclusion de la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-378360" y="23760"/>
            <a:ext cx="990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Bravo agent! Votre mission s’est avérée un succès! Vous connaissez mainte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tout ce que j’ai en mémoire sur la leucémie. Vous pouvez vous même const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l’atrocité de cette maladie. Ces pauvres gens qui combattent pour surv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face à ce simple petit dérèglement d’ADN. C’est dans ces moments que je suis 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d’être un ordinateur. Nous, nous n’avons point de virus pour… 79967??…</a:t>
            </a:r>
            <a:r>
              <a:rPr b="0" lang="en-US" sz="2000" spc="-1" strike="noStrike">
                <a:solidFill>
                  <a:srgbClr val="000000"/>
                </a:solidFill>
                <a:latin typeface="Compute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9480" y="2286000"/>
            <a:ext cx="70264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Computer"/>
              </a:rPr>
              <a:t>FATAL ERRO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puter"/>
              </a:rPr>
              <a:t>Virus: Initi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puter"/>
              </a:rPr>
              <a:t>Destruction des fichiers: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puter"/>
              </a:rPr>
              <a:t>DISQUE DUR: EFFAC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9753480" y="35053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2286000" cy="76212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4769" h="21600">
                <a:moveTo>
                  <a:pt x="0" y="0"/>
                </a:moveTo>
                <a:lnTo>
                  <a:pt x="64769" y="0"/>
                </a:lnTo>
                <a:lnTo>
                  <a:pt x="64769" y="21600"/>
                </a:lnTo>
                <a:lnTo>
                  <a:pt x="0" y="21600"/>
                </a:lnTo>
                <a:close/>
              </a:path>
              <a:path fill="lightenLess" w="64769" h="21600">
                <a:moveTo>
                  <a:pt x="0" y="0"/>
                </a:moveTo>
                <a:lnTo>
                  <a:pt x="64769" y="0"/>
                </a:lnTo>
                <a:lnTo>
                  <a:pt x="63369" y="1400"/>
                </a:lnTo>
                <a:lnTo>
                  <a:pt x="1400" y="1400"/>
                </a:lnTo>
                <a:close/>
              </a:path>
              <a:path fill="darken" w="64769" h="21600">
                <a:moveTo>
                  <a:pt x="64769" y="0"/>
                </a:moveTo>
                <a:lnTo>
                  <a:pt x="64769" y="21600"/>
                </a:lnTo>
                <a:lnTo>
                  <a:pt x="63369" y="20200"/>
                </a:lnTo>
                <a:lnTo>
                  <a:pt x="63369" y="1400"/>
                </a:lnTo>
                <a:close/>
              </a:path>
              <a:path fill="darkenLess" w="64769" h="21600">
                <a:moveTo>
                  <a:pt x="64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9" y="20200"/>
                </a:lnTo>
                <a:close/>
              </a:path>
              <a:path fill="lighten" w="64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Médiagrap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7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23" presetSubtype="16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nu%20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75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75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525"/>
                            </p:stCondLst>
                            <p:childTnLst>
                              <p:par>
                                <p:cTn id="9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99320" y="609480"/>
            <a:ext cx="24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Médiagrap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2080" y="2620800"/>
            <a:ext cx="781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- Vulgaris-Medical.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(Page consultée le 13 janvier 2004). </a:t>
            </a:r>
            <a:r>
              <a:rPr b="0" i="1" lang="fr-CA" sz="1600" spc="-1" strike="noStrike">
                <a:solidFill>
                  <a:srgbClr val="ffffff"/>
                </a:solidFill>
                <a:latin typeface="Times New Roman"/>
              </a:rPr>
              <a:t>Leucémie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, [En ligne]: Adresse UR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http://www.vulgaris-medical.com/textl/leucemi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2080" y="3611520"/>
            <a:ext cx="884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-Association Laurette Fugain.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(Page consultée le 13 janvier 2004). </a:t>
            </a:r>
            <a:r>
              <a:rPr b="0" i="1" lang="fr-CH" sz="1600" spc="-1" strike="noStrike">
                <a:solidFill>
                  <a:srgbClr val="ffffff"/>
                </a:solidFill>
                <a:latin typeface="Times New Roman"/>
              </a:rPr>
              <a:t>La leucémie</a:t>
            </a: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[En ligne]: Adresse UR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http://www.laurettefugain.org/tout_savoir2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134720" y="41893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32280" y="17701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028000" y="6308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5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99320" y="609480"/>
            <a:ext cx="24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Médiagrap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400" y="4707000"/>
            <a:ext cx="7584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-VGMusic.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(Page consultée le 13 janvier 2004). </a:t>
            </a:r>
            <a:r>
              <a:rPr b="0" i="1" lang="fr-CA" sz="1600" spc="-1" strike="noStrike">
                <a:solidFill>
                  <a:srgbClr val="ffffff"/>
                </a:solidFill>
                <a:latin typeface="Times New Roman"/>
              </a:rPr>
              <a:t>Music-archive,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[En ligne]: Adresse URL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http://www.vgmusic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600" spc="-1" strike="noStrike">
                <a:solidFill>
                  <a:srgbClr val="ffffff"/>
                </a:solidFill>
                <a:latin typeface="Times New Roman"/>
              </a:rPr>
              <a:t>Musiques gratu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4960" y="2349360"/>
            <a:ext cx="641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-Gamehiker.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(Page consultée le 13 janvier 2004). [En ligne]: Adresse URL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Times New Roman"/>
              </a:rPr>
              <a:t>http://www.gamehiker.com/gallery/categories.php?cat_id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600" spc="-1" strike="noStrike">
                <a:solidFill>
                  <a:srgbClr val="ffffff"/>
                </a:solidFill>
                <a:latin typeface="Times New Roman"/>
              </a:rPr>
              <a:t>Images gratu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6553080" y="5867280"/>
            <a:ext cx="2133720" cy="762120"/>
          </a:xfrm>
          <a:custGeom>
            <a:avLst/>
            <a:gdLst>
              <a:gd name="textAreaLeft" fmla="*/ 49320 w 2133720"/>
              <a:gd name="textAreaRight" fmla="*/ 2084400 w 2133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é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560" y="17701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ffffff"/>
                </a:solidFill>
                <a:uFillTx/>
                <a:latin typeface="Times New Roman"/>
              </a:rPr>
              <a:t>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0560" y="39686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ffffff"/>
                </a:solidFill>
                <a:uFillTx/>
                <a:latin typeface="Times New Roman"/>
              </a:rPr>
              <a:t>Mu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052360" y="533520"/>
            <a:ext cx="472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rée p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Joey C.Véz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Email: nm3k@hot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6240" y="2392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440" y="3429000"/>
            <a:ext cx="812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Julien Bé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Email: rainningblood_best_skater@hot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endshow"/>
          </p:cNvPr>
          <p:cNvSpPr/>
          <p:nvPr/>
        </p:nvSpPr>
        <p:spPr>
          <a:xfrm>
            <a:off x="7086600" y="57913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0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82240" y="990720"/>
            <a:ext cx="472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Lt BT"/>
              </a:rPr>
              <a:t>Inconnue avan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Lt BT"/>
              </a:rPr>
              <a:t>Maintenan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Lt BT"/>
              </a:rPr>
              <a:t>ELLE TU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25495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77200" y="838080"/>
            <a:ext cx="677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oper Lt BT"/>
              </a:rPr>
              <a:t>LA LEUCÉMI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8520" y="259092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iesGotDLig"/>
              </a:rPr>
              <a:t>Jamais vous n’aurez combattu d ’adversaire aussi coriac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71800" y="3886200"/>
            <a:ext cx="2995560" cy="253692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25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6120" y="33526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" y="547560"/>
            <a:ext cx="31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&gt;Autorisation: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19520" y="882720"/>
            <a:ext cx="39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&gt;Bienvenue agent X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120" y="1386000"/>
            <a:ext cx="55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Veuillez choisir votre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1066680" y="2743200"/>
            <a:ext cx="7239240" cy="395280"/>
          </a:xfrm>
          <a:custGeom>
            <a:avLst/>
            <a:gdLst>
              <a:gd name="textAreaLeft" fmla="*/ 25560 w 7239240"/>
              <a:gd name="textAreaRight" fmla="*/ 7213680 w 72392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5247" h="21600">
                <a:moveTo>
                  <a:pt x="0" y="0"/>
                </a:moveTo>
                <a:lnTo>
                  <a:pt x="395247" y="0"/>
                </a:lnTo>
                <a:lnTo>
                  <a:pt x="395247" y="21600"/>
                </a:lnTo>
                <a:lnTo>
                  <a:pt x="0" y="21600"/>
                </a:lnTo>
                <a:close/>
              </a:path>
              <a:path fill="lightenLess" w="395247" h="21600">
                <a:moveTo>
                  <a:pt x="0" y="0"/>
                </a:moveTo>
                <a:lnTo>
                  <a:pt x="395247" y="0"/>
                </a:lnTo>
                <a:lnTo>
                  <a:pt x="393847" y="1400"/>
                </a:lnTo>
                <a:lnTo>
                  <a:pt x="1400" y="1400"/>
                </a:lnTo>
                <a:close/>
              </a:path>
              <a:path fill="darken" w="395247" h="21600">
                <a:moveTo>
                  <a:pt x="395247" y="0"/>
                </a:moveTo>
                <a:lnTo>
                  <a:pt x="395247" y="21600"/>
                </a:lnTo>
                <a:lnTo>
                  <a:pt x="393847" y="20200"/>
                </a:lnTo>
                <a:lnTo>
                  <a:pt x="393847" y="1400"/>
                </a:lnTo>
                <a:close/>
              </a:path>
              <a:path fill="darkenLess" w="395247" h="21600">
                <a:moveTo>
                  <a:pt x="395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47" y="20200"/>
                </a:lnTo>
                <a:close/>
              </a:path>
              <a:path fill="lighten" w="395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ypunch"/>
              </a:rPr>
              <a:t>Qu’est ce que la leucémie ?</a:t>
            </a:r>
            <a:r>
              <a:rPr b="0" lang="en-US" sz="1800" spc="-1" strike="noStrike">
                <a:solidFill>
                  <a:srgbClr val="000000"/>
                </a:solidFill>
                <a:latin typeface="Cooper Lt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655920" y="1600200"/>
            <a:ext cx="92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-----------------------------------------------------------------------------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1680" y="6553080"/>
            <a:ext cx="42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Orbit-B BT"/>
              </a:rPr>
              <a:t>Système 09870865 BETA, enregistré à : Agent 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1066680" y="3414600"/>
            <a:ext cx="7239240" cy="395280"/>
          </a:xfrm>
          <a:custGeom>
            <a:avLst/>
            <a:gdLst>
              <a:gd name="textAreaLeft" fmla="*/ 25560 w 7239240"/>
              <a:gd name="textAreaRight" fmla="*/ 7213680 w 72392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5247" h="21600">
                <a:moveTo>
                  <a:pt x="0" y="0"/>
                </a:moveTo>
                <a:lnTo>
                  <a:pt x="395247" y="0"/>
                </a:lnTo>
                <a:lnTo>
                  <a:pt x="395247" y="21600"/>
                </a:lnTo>
                <a:lnTo>
                  <a:pt x="0" y="21600"/>
                </a:lnTo>
                <a:close/>
              </a:path>
              <a:path fill="lightenLess" w="395247" h="21600">
                <a:moveTo>
                  <a:pt x="0" y="0"/>
                </a:moveTo>
                <a:lnTo>
                  <a:pt x="395247" y="0"/>
                </a:lnTo>
                <a:lnTo>
                  <a:pt x="393847" y="1400"/>
                </a:lnTo>
                <a:lnTo>
                  <a:pt x="1400" y="1400"/>
                </a:lnTo>
                <a:close/>
              </a:path>
              <a:path fill="darken" w="395247" h="21600">
                <a:moveTo>
                  <a:pt x="395247" y="0"/>
                </a:moveTo>
                <a:lnTo>
                  <a:pt x="395247" y="21600"/>
                </a:lnTo>
                <a:lnTo>
                  <a:pt x="393847" y="20200"/>
                </a:lnTo>
                <a:lnTo>
                  <a:pt x="393847" y="1400"/>
                </a:lnTo>
                <a:close/>
              </a:path>
              <a:path fill="darkenLess" w="395247" h="21600">
                <a:moveTo>
                  <a:pt x="395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47" y="20200"/>
                </a:lnTo>
                <a:close/>
              </a:path>
              <a:path fill="lighten" w="395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ypunch"/>
              </a:rPr>
              <a:t>Quelles sont les principales causes de la maladi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6" action="ppaction://hlinksldjump"/>
          </p:cNvPr>
          <p:cNvSpPr/>
          <p:nvPr/>
        </p:nvSpPr>
        <p:spPr>
          <a:xfrm>
            <a:off x="1066680" y="4114800"/>
            <a:ext cx="7239240" cy="395280"/>
          </a:xfrm>
          <a:custGeom>
            <a:avLst/>
            <a:gdLst>
              <a:gd name="textAreaLeft" fmla="*/ 25560 w 7239240"/>
              <a:gd name="textAreaRight" fmla="*/ 7213680 w 72392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5247" h="21600">
                <a:moveTo>
                  <a:pt x="0" y="0"/>
                </a:moveTo>
                <a:lnTo>
                  <a:pt x="395247" y="0"/>
                </a:lnTo>
                <a:lnTo>
                  <a:pt x="395247" y="21600"/>
                </a:lnTo>
                <a:lnTo>
                  <a:pt x="0" y="21600"/>
                </a:lnTo>
                <a:close/>
              </a:path>
              <a:path fill="lightenLess" w="395247" h="21600">
                <a:moveTo>
                  <a:pt x="0" y="0"/>
                </a:moveTo>
                <a:lnTo>
                  <a:pt x="395247" y="0"/>
                </a:lnTo>
                <a:lnTo>
                  <a:pt x="393847" y="1400"/>
                </a:lnTo>
                <a:lnTo>
                  <a:pt x="1400" y="1400"/>
                </a:lnTo>
                <a:close/>
              </a:path>
              <a:path fill="darken" w="395247" h="21600">
                <a:moveTo>
                  <a:pt x="395247" y="0"/>
                </a:moveTo>
                <a:lnTo>
                  <a:pt x="395247" y="21600"/>
                </a:lnTo>
                <a:lnTo>
                  <a:pt x="393847" y="20200"/>
                </a:lnTo>
                <a:lnTo>
                  <a:pt x="393847" y="1400"/>
                </a:lnTo>
                <a:close/>
              </a:path>
              <a:path fill="darkenLess" w="395247" h="21600">
                <a:moveTo>
                  <a:pt x="395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47" y="20200"/>
                </a:lnTo>
                <a:close/>
              </a:path>
              <a:path fill="lighten" w="395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ypunch"/>
              </a:rPr>
              <a:t>Quels sont les symptômes et les manifestations de la leucémi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8" action="ppaction://hlinksldjump"/>
          </p:cNvPr>
          <p:cNvSpPr/>
          <p:nvPr/>
        </p:nvSpPr>
        <p:spPr>
          <a:xfrm>
            <a:off x="1066680" y="4862520"/>
            <a:ext cx="7239240" cy="395280"/>
          </a:xfrm>
          <a:custGeom>
            <a:avLst/>
            <a:gdLst>
              <a:gd name="textAreaLeft" fmla="*/ 25560 w 7239240"/>
              <a:gd name="textAreaRight" fmla="*/ 7213680 w 72392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5247" h="21600">
                <a:moveTo>
                  <a:pt x="0" y="0"/>
                </a:moveTo>
                <a:lnTo>
                  <a:pt x="395247" y="0"/>
                </a:lnTo>
                <a:lnTo>
                  <a:pt x="395247" y="21600"/>
                </a:lnTo>
                <a:lnTo>
                  <a:pt x="0" y="21600"/>
                </a:lnTo>
                <a:close/>
              </a:path>
              <a:path fill="lightenLess" w="395247" h="21600">
                <a:moveTo>
                  <a:pt x="0" y="0"/>
                </a:moveTo>
                <a:lnTo>
                  <a:pt x="395247" y="0"/>
                </a:lnTo>
                <a:lnTo>
                  <a:pt x="393847" y="1400"/>
                </a:lnTo>
                <a:lnTo>
                  <a:pt x="1400" y="1400"/>
                </a:lnTo>
                <a:close/>
              </a:path>
              <a:path fill="darken" w="395247" h="21600">
                <a:moveTo>
                  <a:pt x="395247" y="0"/>
                </a:moveTo>
                <a:lnTo>
                  <a:pt x="395247" y="21600"/>
                </a:lnTo>
                <a:lnTo>
                  <a:pt x="393847" y="20200"/>
                </a:lnTo>
                <a:lnTo>
                  <a:pt x="393847" y="1400"/>
                </a:lnTo>
                <a:close/>
              </a:path>
              <a:path fill="darkenLess" w="395247" h="21600">
                <a:moveTo>
                  <a:pt x="395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47" y="20200"/>
                </a:lnTo>
                <a:close/>
              </a:path>
              <a:path fill="lighten" w="395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ypunch"/>
              </a:rPr>
              <a:t>La leucémie se traite-t-elle? Si oui, comment?</a:t>
            </a:r>
            <a:r>
              <a:rPr b="0" lang="en-US" sz="1800" spc="-1" strike="noStrike">
                <a:solidFill>
                  <a:srgbClr val="000000"/>
                </a:solidFill>
                <a:latin typeface="Cooper Lt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59040" y="15732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&gt;Char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16680" y="166680"/>
            <a:ext cx="37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……………………………</a:t>
            </a: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  <a:hlinkClick r:id="rId10"/>
          </p:cNvPr>
          <p:cNvSpPr/>
          <p:nvPr/>
        </p:nvSpPr>
        <p:spPr>
          <a:xfrm>
            <a:off x="1066680" y="2057400"/>
            <a:ext cx="7239240" cy="395280"/>
          </a:xfrm>
          <a:custGeom>
            <a:avLst/>
            <a:gdLst>
              <a:gd name="textAreaLeft" fmla="*/ 25560 w 7239240"/>
              <a:gd name="textAreaRight" fmla="*/ 7213680 w 72392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5247" h="21600">
                <a:moveTo>
                  <a:pt x="0" y="0"/>
                </a:moveTo>
                <a:lnTo>
                  <a:pt x="395247" y="0"/>
                </a:lnTo>
                <a:lnTo>
                  <a:pt x="395247" y="21600"/>
                </a:lnTo>
                <a:lnTo>
                  <a:pt x="0" y="21600"/>
                </a:lnTo>
                <a:close/>
              </a:path>
              <a:path fill="lightenLess" w="395247" h="21600">
                <a:moveTo>
                  <a:pt x="0" y="0"/>
                </a:moveTo>
                <a:lnTo>
                  <a:pt x="395247" y="0"/>
                </a:lnTo>
                <a:lnTo>
                  <a:pt x="393847" y="1400"/>
                </a:lnTo>
                <a:lnTo>
                  <a:pt x="1400" y="1400"/>
                </a:lnTo>
                <a:close/>
              </a:path>
              <a:path fill="darken" w="395247" h="21600">
                <a:moveTo>
                  <a:pt x="395247" y="0"/>
                </a:moveTo>
                <a:lnTo>
                  <a:pt x="395247" y="21600"/>
                </a:lnTo>
                <a:lnTo>
                  <a:pt x="393847" y="20200"/>
                </a:lnTo>
                <a:lnTo>
                  <a:pt x="393847" y="1400"/>
                </a:lnTo>
                <a:close/>
              </a:path>
              <a:path fill="darkenLess" w="395247" h="21600">
                <a:moveTo>
                  <a:pt x="395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47" y="20200"/>
                </a:lnTo>
                <a:close/>
              </a:path>
              <a:path fill="lighten" w="395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ypunch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2"/>
          </p:cNvPr>
          <p:cNvSpPr/>
          <p:nvPr/>
        </p:nvSpPr>
        <p:spPr>
          <a:xfrm>
            <a:off x="1066680" y="5548320"/>
            <a:ext cx="7239240" cy="395280"/>
          </a:xfrm>
          <a:custGeom>
            <a:avLst/>
            <a:gdLst>
              <a:gd name="textAreaLeft" fmla="*/ 25560 w 7239240"/>
              <a:gd name="textAreaRight" fmla="*/ 7213680 w 72392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5247" h="21600">
                <a:moveTo>
                  <a:pt x="0" y="0"/>
                </a:moveTo>
                <a:lnTo>
                  <a:pt x="395247" y="0"/>
                </a:lnTo>
                <a:lnTo>
                  <a:pt x="395247" y="21600"/>
                </a:lnTo>
                <a:lnTo>
                  <a:pt x="0" y="21600"/>
                </a:lnTo>
                <a:close/>
              </a:path>
              <a:path fill="lightenLess" w="395247" h="21600">
                <a:moveTo>
                  <a:pt x="0" y="0"/>
                </a:moveTo>
                <a:lnTo>
                  <a:pt x="395247" y="0"/>
                </a:lnTo>
                <a:lnTo>
                  <a:pt x="393847" y="1400"/>
                </a:lnTo>
                <a:lnTo>
                  <a:pt x="1400" y="1400"/>
                </a:lnTo>
                <a:close/>
              </a:path>
              <a:path fill="darken" w="395247" h="21600">
                <a:moveTo>
                  <a:pt x="395247" y="0"/>
                </a:moveTo>
                <a:lnTo>
                  <a:pt x="395247" y="21600"/>
                </a:lnTo>
                <a:lnTo>
                  <a:pt x="393847" y="20200"/>
                </a:lnTo>
                <a:lnTo>
                  <a:pt x="393847" y="1400"/>
                </a:lnTo>
                <a:close/>
              </a:path>
              <a:path fill="darkenLess" w="395247" h="21600">
                <a:moveTo>
                  <a:pt x="395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47" y="20200"/>
                </a:lnTo>
                <a:close/>
              </a:path>
              <a:path fill="lighten" w="395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ypunch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25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25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225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65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15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3475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975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475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975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475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975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6475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47880" y="15732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&gt;Char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16680" y="166680"/>
            <a:ext cx="37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……………………………</a:t>
            </a:r>
            <a:r>
              <a:rPr b="0" lang="en-US" sz="2800" spc="-1" strike="noStrike">
                <a:solidFill>
                  <a:srgbClr val="006600"/>
                </a:solidFill>
                <a:latin typeface="Computer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480" y="1112760"/>
            <a:ext cx="9064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00"/>
                </a:solidFill>
                <a:latin typeface="Computer"/>
              </a:rPr>
              <a:t>&gt;Salutations agent xc. Mon nom est </a:t>
            </a:r>
            <a:r>
              <a:rPr b="0" lang="fr-CH" sz="1600" spc="-1" strike="noStrike">
                <a:solidFill>
                  <a:srgbClr val="006600"/>
                </a:solidFill>
                <a:latin typeface="Orbit-B BT"/>
              </a:rPr>
              <a:t>09870865 BETA</a:t>
            </a:r>
            <a:r>
              <a:rPr b="0" lang="fr-CH" sz="1800" spc="-1" strike="noStrike">
                <a:solidFill>
                  <a:srgbClr val="006600"/>
                </a:solidFill>
                <a:latin typeface="Computer"/>
              </a:rPr>
              <a:t>, et si vous vous posiez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00"/>
                </a:solidFill>
                <a:latin typeface="Computer"/>
              </a:rPr>
              <a:t>question, je suis votre ordinateur personnel haute-technologie. Je suis ici pour v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00"/>
                </a:solidFill>
                <a:latin typeface="Computer"/>
              </a:rPr>
              <a:t>informer de votre mission : vous renseigner sur la maladie de la leucém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00"/>
                </a:solidFill>
                <a:latin typeface="Computer"/>
              </a:rPr>
              <a:t>J’ai inclus à mon disque dur des fichiers pouvant vous renseigner, je l’espère bi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6600"/>
                </a:solidFill>
                <a:latin typeface="Computer"/>
              </a:rPr>
              <a:t>suffisamment sur la maladie mortelle. Mon système simulera une infiltration dans le corps humain pour mieux illustrer la situation. Je suis le narrateur de ce «voyage», alors vous vous y retrouverez plus facilement. Bon succès dans votre mission agent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3581280" y="4114800"/>
            <a:ext cx="1828800" cy="1600200"/>
          </a:xfrm>
          <a:custGeom>
            <a:avLst/>
            <a:gdLst>
              <a:gd name="textAreaLeft" fmla="*/ 103680 w 1828800"/>
              <a:gd name="textAreaRight" fmla="*/ 1725120 w 1828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4685" h="21600">
                <a:moveTo>
                  <a:pt x="0" y="0"/>
                </a:moveTo>
                <a:lnTo>
                  <a:pt x="24685" y="0"/>
                </a:lnTo>
                <a:lnTo>
                  <a:pt x="24685" y="21600"/>
                </a:lnTo>
                <a:lnTo>
                  <a:pt x="0" y="21600"/>
                </a:lnTo>
                <a:close/>
              </a:path>
              <a:path fill="lightenLess" w="24685" h="21600">
                <a:moveTo>
                  <a:pt x="0" y="0"/>
                </a:moveTo>
                <a:lnTo>
                  <a:pt x="24685" y="0"/>
                </a:lnTo>
                <a:lnTo>
                  <a:pt x="23285" y="1400"/>
                </a:lnTo>
                <a:lnTo>
                  <a:pt x="1400" y="1400"/>
                </a:lnTo>
                <a:close/>
              </a:path>
              <a:path fill="darken" w="24685" h="21600">
                <a:moveTo>
                  <a:pt x="24685" y="0"/>
                </a:moveTo>
                <a:lnTo>
                  <a:pt x="24685" y="21600"/>
                </a:lnTo>
                <a:lnTo>
                  <a:pt x="23285" y="20200"/>
                </a:lnTo>
                <a:lnTo>
                  <a:pt x="23285" y="1400"/>
                </a:lnTo>
                <a:close/>
              </a:path>
              <a:path fill="darkenLess" w="24685" h="21600">
                <a:moveTo>
                  <a:pt x="24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5" y="20200"/>
                </a:lnTo>
                <a:close/>
              </a:path>
              <a:path fill="lighten" w="24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5" h="21600">
                <a:moveTo>
                  <a:pt x="5336" y="3794"/>
                </a:moveTo>
                <a:lnTo>
                  <a:pt x="19349" y="10800"/>
                </a:lnTo>
                <a:lnTo>
                  <a:pt x="5336" y="17806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65680" y="365760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puter"/>
              </a:rPr>
              <a:t>Débuter la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440"/>
            <a:ext cx="914400" cy="763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677520" y="33526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1080" y="62164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25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25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nu%20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25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25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32640" y="104760"/>
            <a:ext cx="54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puter"/>
              </a:rPr>
              <a:t>&gt;Simulation en cours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puter"/>
              </a:rPr>
              <a:t>&gt;Veuillez pati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3440" y="2157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4680" y="337644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9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6160" y="307188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9ijuy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6680" y="2995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72680" y="33764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97gh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97240" y="406224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978h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7400" y="497664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7h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53840" y="44434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76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36440" y="413856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6789hu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71200" y="23097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98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32680" y="490068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7779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59760" y="215748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67h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90480" y="144792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j4x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05480" y="18525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90f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289548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9640" y="2666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79y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48920" y="17524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79y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4000" y="5029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79y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97440" y="5715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79y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0400" y="52578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79y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16200" y="3886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79y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1520" y="16002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97gh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78680" y="30481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97gh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9880" y="38336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97gh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12400" y="47242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97gh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2000" y="39625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897gh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66200" y="266688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9ijuy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1080" y="337644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9ijuy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46880" y="457200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9ijuy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601200" y="2743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5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410080" y="1523880"/>
            <a:ext cx="33069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920" y="68580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’est-ce que la leucém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89720" y="0"/>
            <a:ext cx="69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6600"/>
                </a:solidFill>
                <a:latin typeface="Computer"/>
              </a:rPr>
              <a:t>&gt;Rebienvenue Agent XC. Nous allons débuter la 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6080" y="2057400"/>
            <a:ext cx="614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i Mario. Ce petit bonhomme a malheureu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leucémie. Nous allons donc nous rendre dans son cor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voir, premièrement, en quoi consiste cette malad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ns-y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8040" y="4114800"/>
            <a:ext cx="488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puter"/>
              </a:rPr>
              <a:t>Cliquez sur Mario pour poursuivre 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9906120" y="3124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Beep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25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25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25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525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2240" y="304920"/>
            <a:ext cx="871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i le fonctionnement normal d’une production de globules blanc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moelle osseuse produits des globules blancs jusqu’à ce qu’ils mûrissent et so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êts à défendre l’organis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>
            <a:lum contrast="22000"/>
          </a:blip>
          <a:stretch/>
        </p:blipFill>
        <p:spPr>
          <a:xfrm>
            <a:off x="380880" y="1447920"/>
            <a:ext cx="5715000" cy="388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522360" cy="533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124080" y="4191120"/>
            <a:ext cx="522360" cy="533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828800" y="4343400"/>
            <a:ext cx="5223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743200" y="3657600"/>
            <a:ext cx="5223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676520" y="3733920"/>
            <a:ext cx="52200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229600" y="4114800"/>
            <a:ext cx="52236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4191120" y="4419720"/>
            <a:ext cx="522000" cy="533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8001000" y="4952880"/>
            <a:ext cx="522360" cy="53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5791320" y="4191120"/>
            <a:ext cx="2082600" cy="939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863680" y="228600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-- Moelle oss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27280" y="510552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les blancs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2438280" y="4343400"/>
            <a:ext cx="522360" cy="533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168600" y="396252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609300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21080" y="62150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d’u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15"/>
          <a:stretch/>
        </p:blipFill>
        <p:spPr>
          <a:xfrm>
            <a:off x="7162920" y="5867280"/>
            <a:ext cx="1981080" cy="609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833600" y="64929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puter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6:15:48Z</dcterms:created>
  <dc:creator>Joey C.Vézina</dc:creator>
  <dc:description/>
  <dc:language>en-US</dc:language>
  <cp:lastModifiedBy>ab</cp:lastModifiedBy>
  <dcterms:modified xsi:type="dcterms:W3CDTF">2004-04-04T18:18:07Z</dcterms:modified>
  <cp:revision>46</cp:revision>
  <dc:subject>Leucémie</dc:subject>
  <dc:title>Recherche Powerpoint</dc:title>
</cp:coreProperties>
</file>