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gif" ContentType="image/gif"/>
  <Override PartName="/ppt/media/image9.gif" ContentType="image/gif"/>
  <Override PartName="/ppt/media/image13.gif" ContentType="image/gif"/>
  <Override PartName="/ppt/media/image16.png" ContentType="image/png"/>
  <Override PartName="/ppt/media/image8.gif" ContentType="image/gif"/>
  <Override PartName="/ppt/media/image12.gif" ContentType="image/gif"/>
  <Override PartName="/ppt/media/image7.gif" ContentType="image/gif"/>
  <Override PartName="/ppt/media/image6.png" ContentType="image/png"/>
  <Override PartName="/ppt/media/image3.gif" ContentType="image/gif"/>
  <Override PartName="/ppt/media/image5.png" ContentType="image/png"/>
  <Override PartName="/ppt/media/image25.gif" ContentType="image/gif"/>
  <Override PartName="/ppt/media/image11.jpeg" ContentType="image/jpeg"/>
  <Override PartName="/ppt/media/image24.wmf" ContentType="image/x-wmf"/>
  <Override PartName="/ppt/media/image23.png" ContentType="image/png"/>
  <Override PartName="/ppt/media/image22.png" ContentType="image/png"/>
  <Override PartName="/ppt/media/image21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7.jpeg" ContentType="image/jpeg"/>
  <Override PartName="/ppt/media/image14.png" ContentType="image/png"/>
  <Override PartName="/ppt/media/image19.gif" ContentType="image/gif"/>
  <Override PartName="/ppt/media/image1.png" ContentType="image/png"/>
  <Override PartName="/ppt/media/image4.gif" ContentType="image/gif"/>
  <Override PartName="/ppt/media/image15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83A40-D532-4828-A7A9-FF1E6CD05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5C5C6-7EE2-4E1D-868D-0375F5E6D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44D2D-EB09-476D-8AE1-70D0DE026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AE0D8-546B-4CB2-9605-B938F8CEC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16C8A-9FC3-440C-8814-41852DA2E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0EAE0-A198-4179-BB39-552AECB2B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AD50F-8D51-42C7-882E-FA089B915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CB591-C409-44E7-B503-03A06C37D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0F897-6641-4FB1-AFB3-4352DC2C8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B64EA-9E38-4F39-AA10-877269269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03D08-BD41-4A76-B7EB-0B7DB3A6C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E53E0-100E-41BD-8102-E8C83CAF0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07cc"/>
            </a:gs>
            <a:gs pos="100000">
              <a:srgbClr val="da02b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2D543-AF52-454E-B3B0-297E9DA902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oleObject" Target="../embeddings/oleObject1.bin"/><Relationship Id="rId3" Type="http://schemas.openxmlformats.org/officeDocument/2006/relationships/slide" Target="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oleObject" Target="../embeddings/oleObject2.bin"/><Relationship Id="rId4" Type="http://schemas.openxmlformats.org/officeDocument/2006/relationships/slide" Target="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slide" Target="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slide" Target="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7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png"/><Relationship Id="rId5" Type="http://schemas.openxmlformats.org/officeDocument/2006/relationships/image" Target="../media/image19.gif"/><Relationship Id="rId6" Type="http://schemas.openxmlformats.org/officeDocument/2006/relationships/slide" Target="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" Target="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slide" Target="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" Target="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" Target="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slide" Target="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animatedgif.net/" TargetMode="External"/><Relationship Id="rId2" Type="http://schemas.openxmlformats.org/officeDocument/2006/relationships/hyperlink" Target="http://www.animatedgif.net/" TargetMode="External"/><Relationship Id="rId3" Type="http://schemas.openxmlformats.org/officeDocument/2006/relationships/hyperlink" Target="http://www.aaa-clipart.com/" TargetMode="External"/><Relationship Id="rId4" Type="http://schemas.openxmlformats.org/officeDocument/2006/relationships/hyperlink" Target="http://free-clipart.net/" TargetMode="External"/><Relationship Id="rId5" Type="http://schemas.openxmlformats.org/officeDocument/2006/relationships/hyperlink" Target="http://free-clipart.net/" TargetMode="External"/><Relationship Id="rId6" Type="http://schemas.openxmlformats.org/officeDocument/2006/relationships/slide" Target="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6.xml"/><Relationship Id="rId3" Type="http://schemas.openxmlformats.org/officeDocument/2006/relationships/slide" Target="slide13.xml"/><Relationship Id="rId4" Type="http://schemas.openxmlformats.org/officeDocument/2006/relationships/slide" Target="slide14.xml"/><Relationship Id="rId5" Type="http://schemas.openxmlformats.org/officeDocument/2006/relationships/slide" Target="slide16.xml"/><Relationship Id="rId6" Type="http://schemas.openxmlformats.org/officeDocument/2006/relationships/slide" Target="slide17.xml"/><Relationship Id="rId7" Type="http://schemas.openxmlformats.org/officeDocument/2006/relationships/slide" Target="slide18.xml"/><Relationship Id="rId8" Type="http://schemas.openxmlformats.org/officeDocument/2006/relationships/slide" Target="slide19.xml"/><Relationship Id="rId9" Type="http://schemas.openxmlformats.org/officeDocument/2006/relationships/slide" Target="slide20.xml"/><Relationship Id="rId10" Type="http://schemas.openxmlformats.org/officeDocument/2006/relationships/slide" Target="slide22.xml"/><Relationship Id="rId11" Type="http://schemas.openxmlformats.org/officeDocument/2006/relationships/image" Target="../media/image4.gif"/><Relationship Id="rId1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slide" Target=""/><Relationship Id="rId3" Type="http://schemas.openxmlformats.org/officeDocument/2006/relationships/image" Target="../media/image5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8.xml"/><Relationship Id="rId3" Type="http://schemas.openxmlformats.org/officeDocument/2006/relationships/slide" Target="slide9.xml"/><Relationship Id="rId4" Type="http://schemas.openxmlformats.org/officeDocument/2006/relationships/slide" Target="slide10.xml"/><Relationship Id="rId5" Type="http://schemas.openxmlformats.org/officeDocument/2006/relationships/slide" Target="slide12.xml"/><Relationship Id="rId6" Type="http://schemas.openxmlformats.org/officeDocument/2006/relationships/slide" Target="slide11.xml"/><Relationship Id="rId7" Type="http://schemas.openxmlformats.org/officeDocument/2006/relationships/slide" Target="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oleObject" Target="../embeddings/oleObject1.bin"/><Relationship Id="rId3" Type="http://schemas.openxmlformats.org/officeDocument/2006/relationships/slide" Target=""/><Relationship Id="rId4" Type="http://schemas.openxmlformats.org/officeDocument/2006/relationships/image" Target="../media/image5.png"/><Relationship Id="rId5" Type="http://schemas.openxmlformats.org/officeDocument/2006/relationships/hyperlink" Target="http://www.aaa-clipart.com/html/anim.shtml" TargetMode="External"/><Relationship Id="rId6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gif"/><Relationship Id="rId3" Type="http://schemas.openxmlformats.org/officeDocument/2006/relationships/hyperlink" Target="http://www.aaa-clipart.com/html/anim.shtml" TargetMode="External"/><Relationship Id="rId4" Type="http://schemas.openxmlformats.org/officeDocument/2006/relationships/image" Target="../media/image10.gif"/><Relationship Id="rId5" Type="http://schemas.openxmlformats.org/officeDocument/2006/relationships/oleObject" Target="../embeddings/oleObject1.bin"/><Relationship Id="rId6" Type="http://schemas.openxmlformats.org/officeDocument/2006/relationships/slide" Target="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gif"/><Relationship Id="rId3" Type="http://schemas.openxmlformats.org/officeDocument/2006/relationships/oleObject" Target="../embeddings/oleObject1.bin"/><Relationship Id="rId4" Type="http://schemas.openxmlformats.org/officeDocument/2006/relationships/slide" Target="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07cc"/>
            </a:gs>
            <a:gs pos="100000">
              <a:srgbClr val="da02b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539640" y="333360"/>
            <a:ext cx="806472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latin typeface="Impact"/>
              </a:rPr>
              <a:t>Les groupes</a:t>
            </a:r>
            <a:endParaRPr b="1" i="1" lang="en-US" sz="60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latin typeface="Impact"/>
              </a:rPr>
              <a:t> </a:t>
            </a:r>
            <a:r>
              <a:rPr b="1" i="1" lang="en-US" sz="60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latin typeface="Impact"/>
              </a:rPr>
              <a:t>sanguins</a:t>
            </a:r>
            <a:endParaRPr b="1" i="1" lang="en-US" sz="60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42" name=""/>
          <p:cNvSpPr/>
          <p:nvPr/>
        </p:nvSpPr>
        <p:spPr>
          <a:xfrm>
            <a:off x="539640" y="3125880"/>
            <a:ext cx="8023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sz="2800" spc="-1" strike="noStrike">
                <a:solidFill>
                  <a:srgbClr val="000000"/>
                </a:solidFill>
                <a:latin typeface="Garamond"/>
              </a:rPr>
              <a:t>Par </a:t>
            </a:r>
            <a:r>
              <a:rPr b="1" i="1" lang="fr-FR" sz="2800" spc="-1" strike="noStrike">
                <a:solidFill>
                  <a:srgbClr val="000000"/>
                </a:solidFill>
                <a:latin typeface="Garamond"/>
              </a:rPr>
              <a:t>Audrey Pierre et Marjorie Desilets-Beno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21880" y="3991680"/>
            <a:ext cx="581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Times New Roman"/>
              </a:rPr>
              <a:t>École Louis-Joseph-Papineau, Montréal, Mars 20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69800" y="4739400"/>
            <a:ext cx="6496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000000"/>
                </a:solidFill>
                <a:latin typeface="Comic Sans MS"/>
              </a:rPr>
              <a:t>Validation du contenu et révision linguistique: Marjorie Jean-Pier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</a:t>
            </a:r>
            <a:r>
              <a:rPr b="0" i="1" lang="fr-CA" sz="1400" spc="-1" strike="noStrike">
                <a:solidFill>
                  <a:srgbClr val="000000"/>
                </a:solidFill>
                <a:latin typeface="Times New Roman"/>
              </a:rPr>
              <a:t>Science animée,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3279600" y="5943600"/>
            <a:ext cx="2669760" cy="457200"/>
            <a:chOff x="3279600" y="5943600"/>
            <a:chExt cx="2669760" cy="457200"/>
          </a:xfrm>
        </p:grpSpPr>
        <p:sp>
          <p:nvSpPr>
            <p:cNvPr id="46" name=""/>
            <p:cNvSpPr/>
            <p:nvPr/>
          </p:nvSpPr>
          <p:spPr>
            <a:xfrm>
              <a:off x="3279600" y="5943600"/>
              <a:ext cx="2666880" cy="457200"/>
            </a:xfrm>
            <a:prstGeom prst="rect">
              <a:avLst/>
            </a:prstGeom>
            <a:gradFill rotWithShape="0">
              <a:gsLst>
                <a:gs pos="0">
                  <a:srgbClr val="fff4c3"/>
                </a:gs>
                <a:gs pos="100000">
                  <a:srgbClr val="ffcc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>
              <a:hlinkClick r:id="" action="ppaction://hlinkshowjump?jump=nextslide"/>
            </p:cNvPr>
            <p:cNvSpPr/>
            <p:nvPr/>
          </p:nvSpPr>
          <p:spPr>
            <a:xfrm>
              <a:off x="3312000" y="6018480"/>
              <a:ext cx="2637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1400" spc="-1" strike="noStrike">
                  <a:solidFill>
                    <a:srgbClr val="000000"/>
                  </a:solidFill>
                  <a:latin typeface="Cassia"/>
                </a:rPr>
                <a:t>Cliquez ici pour commenc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16549"/>
            </a:gs>
            <a:gs pos="100000">
              <a:srgbClr val="d2180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3203640" y="620640"/>
            <a:ext cx="28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Times New Roman"/>
              </a:rPr>
              <a:t>AB pour Moder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916360" y="5300640"/>
            <a:ext cx="5616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Times New Roman"/>
              </a:rPr>
              <a:t>Il y a 10 ou 12 siècles, il n’y avait pas de type AB. Ce sont les tribus barbares qui ont émigré en Europe qui l’ont introdui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340000" y="1557360"/>
            <a:ext cx="511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Times New Roman"/>
              </a:rPr>
              <a:t>La rencontre des types A et des types B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3780000" y="2133720"/>
            <a:ext cx="2041200" cy="2881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6" name=""/>
          <p:cNvGraphicFramePr/>
          <p:nvPr/>
        </p:nvGraphicFramePr>
        <p:xfrm>
          <a:off x="179280" y="5805360"/>
          <a:ext cx="2210040" cy="866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7" name="" descr="">
                    <a:hlinkClick r:id="rId3" action="ppaction://hlinksldjump"/>
                  </p:cNvPr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9280" y="5805360"/>
                    <a:ext cx="221004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">
            <a:hlinkClick r:id="" action="ppaction://hlinkshowjump?jump=previousslide"/>
          </p:cNvPr>
          <p:cNvSpPr/>
          <p:nvPr/>
        </p:nvSpPr>
        <p:spPr>
          <a:xfrm>
            <a:off x="8101080" y="6093000"/>
            <a:ext cx="792000" cy="576000"/>
          </a:xfrm>
          <a:custGeom>
            <a:avLst/>
            <a:gdLst>
              <a:gd name="textAreaLeft" fmla="*/ 37080 w 792000"/>
              <a:gd name="textAreaRight" fmla="*/ 754920 w 79200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9695" h="21600">
                <a:moveTo>
                  <a:pt x="0" y="0"/>
                </a:moveTo>
                <a:lnTo>
                  <a:pt x="29695" y="0"/>
                </a:lnTo>
                <a:lnTo>
                  <a:pt x="29695" y="21600"/>
                </a:lnTo>
                <a:lnTo>
                  <a:pt x="0" y="21600"/>
                </a:lnTo>
                <a:close/>
              </a:path>
              <a:path fill="lightenLess" w="29695" h="21600">
                <a:moveTo>
                  <a:pt x="0" y="0"/>
                </a:moveTo>
                <a:lnTo>
                  <a:pt x="29695" y="0"/>
                </a:lnTo>
                <a:lnTo>
                  <a:pt x="28295" y="1400"/>
                </a:lnTo>
                <a:lnTo>
                  <a:pt x="1400" y="1400"/>
                </a:lnTo>
                <a:close/>
              </a:path>
              <a:path fill="darken" w="29695" h="21600">
                <a:moveTo>
                  <a:pt x="29695" y="0"/>
                </a:moveTo>
                <a:lnTo>
                  <a:pt x="29695" y="21600"/>
                </a:lnTo>
                <a:lnTo>
                  <a:pt x="28295" y="20200"/>
                </a:lnTo>
                <a:lnTo>
                  <a:pt x="28295" y="1400"/>
                </a:lnTo>
                <a:close/>
              </a:path>
              <a:path fill="darkenLess" w="29695" h="21600">
                <a:moveTo>
                  <a:pt x="296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5" y="20200"/>
                </a:lnTo>
                <a:close/>
              </a:path>
              <a:path fill="lighten" w="296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5" h="21600">
                <a:moveTo>
                  <a:pt x="7841" y="7493"/>
                </a:moveTo>
                <a:lnTo>
                  <a:pt x="11349" y="7493"/>
                </a:lnTo>
                <a:lnTo>
                  <a:pt x="11349" y="12828"/>
                </a:lnTo>
                <a:cubicBezTo>
                  <a:pt x="11349" y="13751"/>
                  <a:pt x="12149" y="14482"/>
                  <a:pt x="13185" y="14482"/>
                </a:cubicBezTo>
                <a:lnTo>
                  <a:pt x="14847" y="14482"/>
                </a:lnTo>
                <a:cubicBezTo>
                  <a:pt x="15883" y="14482"/>
                  <a:pt x="16684" y="13751"/>
                  <a:pt x="16684" y="12828"/>
                </a:cubicBezTo>
                <a:lnTo>
                  <a:pt x="16684" y="7493"/>
                </a:lnTo>
                <a:lnTo>
                  <a:pt x="14847" y="7493"/>
                </a:lnTo>
                <a:lnTo>
                  <a:pt x="18355" y="3985"/>
                </a:lnTo>
                <a:lnTo>
                  <a:pt x="22028" y="7493"/>
                </a:lnTo>
                <a:lnTo>
                  <a:pt x="20192" y="7493"/>
                </a:lnTo>
                <a:lnTo>
                  <a:pt x="20192" y="12828"/>
                </a:lnTo>
                <a:cubicBezTo>
                  <a:pt x="20192" y="15596"/>
                  <a:pt x="17615" y="18155"/>
                  <a:pt x="14847" y="18155"/>
                </a:cubicBezTo>
                <a:lnTo>
                  <a:pt x="13185" y="18155"/>
                </a:lnTo>
                <a:cubicBezTo>
                  <a:pt x="10417" y="18155"/>
                  <a:pt x="7841" y="15596"/>
                  <a:pt x="7841" y="12828"/>
                </a:cubicBezTo>
                <a:close/>
              </a:path>
            </a:pathLst>
          </a:custGeom>
          <a:solidFill>
            <a:srgbClr val="33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1000"/>
                            </p:stCondLst>
                            <p:childTnLst>
                              <p:par>
                                <p:cTn id="2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1500"/>
                            </p:stCondLst>
                            <p:childTnLst>
                              <p:par>
                                <p:cTn id="21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7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2500"/>
                            </p:stCondLst>
                            <p:childTnLst>
                              <p:par>
                                <p:cTn id="2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16549"/>
            </a:gs>
            <a:gs pos="100000">
              <a:srgbClr val="d2180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9" name=""/>
          <p:cNvGraphicFramePr/>
          <p:nvPr/>
        </p:nvGraphicFramePr>
        <p:xfrm>
          <a:off x="324000" y="2924280"/>
          <a:ext cx="8569080" cy="1650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2924280"/>
                    <a:ext cx="8569080" cy="165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" name=""/>
          <p:cNvGraphicFramePr/>
          <p:nvPr/>
        </p:nvGraphicFramePr>
        <p:xfrm>
          <a:off x="179280" y="5805360"/>
          <a:ext cx="2210040" cy="86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2" name="" descr="">
                    <a:hlinkClick r:id="rId4" action="ppaction://hlinksldjump"/>
                  </p:cNvPr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79280" y="5805360"/>
                    <a:ext cx="221004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"/>
          <p:cNvSpPr txBox="1"/>
          <p:nvPr/>
        </p:nvSpPr>
        <p:spPr>
          <a:xfrm>
            <a:off x="1258920" y="549360"/>
            <a:ext cx="6624720" cy="1390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SimSun"/>
              </a:rPr>
              <a:t>Ligne du temps</a:t>
            </a: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SimSun"/>
              <a:ea typeface="SimSun"/>
            </a:endParaRPr>
          </a:p>
        </p:txBody>
      </p:sp>
      <p:sp>
        <p:nvSpPr>
          <p:cNvPr id="114" name="">
            <a:hlinkClick r:id="" action="ppaction://hlinkshowjump?jump=previousslide"/>
          </p:cNvPr>
          <p:cNvSpPr/>
          <p:nvPr/>
        </p:nvSpPr>
        <p:spPr>
          <a:xfrm>
            <a:off x="8101080" y="6093000"/>
            <a:ext cx="792000" cy="576000"/>
          </a:xfrm>
          <a:custGeom>
            <a:avLst/>
            <a:gdLst>
              <a:gd name="textAreaLeft" fmla="*/ 37080 w 792000"/>
              <a:gd name="textAreaRight" fmla="*/ 754920 w 79200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9695" h="21600">
                <a:moveTo>
                  <a:pt x="0" y="0"/>
                </a:moveTo>
                <a:lnTo>
                  <a:pt x="29695" y="0"/>
                </a:lnTo>
                <a:lnTo>
                  <a:pt x="29695" y="21600"/>
                </a:lnTo>
                <a:lnTo>
                  <a:pt x="0" y="21600"/>
                </a:lnTo>
                <a:close/>
              </a:path>
              <a:path fill="lightenLess" w="29695" h="21600">
                <a:moveTo>
                  <a:pt x="0" y="0"/>
                </a:moveTo>
                <a:lnTo>
                  <a:pt x="29695" y="0"/>
                </a:lnTo>
                <a:lnTo>
                  <a:pt x="28295" y="1400"/>
                </a:lnTo>
                <a:lnTo>
                  <a:pt x="1400" y="1400"/>
                </a:lnTo>
                <a:close/>
              </a:path>
              <a:path fill="darken" w="29695" h="21600">
                <a:moveTo>
                  <a:pt x="29695" y="0"/>
                </a:moveTo>
                <a:lnTo>
                  <a:pt x="29695" y="21600"/>
                </a:lnTo>
                <a:lnTo>
                  <a:pt x="28295" y="20200"/>
                </a:lnTo>
                <a:lnTo>
                  <a:pt x="28295" y="1400"/>
                </a:lnTo>
                <a:close/>
              </a:path>
              <a:path fill="darkenLess" w="29695" h="21600">
                <a:moveTo>
                  <a:pt x="296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5" y="20200"/>
                </a:lnTo>
                <a:close/>
              </a:path>
              <a:path fill="lighten" w="296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5" h="21600">
                <a:moveTo>
                  <a:pt x="7841" y="7493"/>
                </a:moveTo>
                <a:lnTo>
                  <a:pt x="11349" y="7493"/>
                </a:lnTo>
                <a:lnTo>
                  <a:pt x="11349" y="12828"/>
                </a:lnTo>
                <a:cubicBezTo>
                  <a:pt x="11349" y="13751"/>
                  <a:pt x="12149" y="14482"/>
                  <a:pt x="13185" y="14482"/>
                </a:cubicBezTo>
                <a:lnTo>
                  <a:pt x="14847" y="14482"/>
                </a:lnTo>
                <a:cubicBezTo>
                  <a:pt x="15883" y="14482"/>
                  <a:pt x="16684" y="13751"/>
                  <a:pt x="16684" y="12828"/>
                </a:cubicBezTo>
                <a:lnTo>
                  <a:pt x="16684" y="7493"/>
                </a:lnTo>
                <a:lnTo>
                  <a:pt x="14847" y="7493"/>
                </a:lnTo>
                <a:lnTo>
                  <a:pt x="18355" y="3985"/>
                </a:lnTo>
                <a:lnTo>
                  <a:pt x="22028" y="7493"/>
                </a:lnTo>
                <a:lnTo>
                  <a:pt x="20192" y="7493"/>
                </a:lnTo>
                <a:lnTo>
                  <a:pt x="20192" y="12828"/>
                </a:lnTo>
                <a:cubicBezTo>
                  <a:pt x="20192" y="15596"/>
                  <a:pt x="17615" y="18155"/>
                  <a:pt x="14847" y="18155"/>
                </a:cubicBezTo>
                <a:lnTo>
                  <a:pt x="13185" y="18155"/>
                </a:lnTo>
                <a:cubicBezTo>
                  <a:pt x="10417" y="18155"/>
                  <a:pt x="7841" y="15596"/>
                  <a:pt x="7841" y="12828"/>
                </a:cubicBezTo>
                <a:close/>
              </a:path>
            </a:pathLst>
          </a:custGeom>
          <a:solidFill>
            <a:srgbClr val="33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0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29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31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4000"/>
                            </p:stCondLst>
                            <p:childTnLst>
                              <p:par>
                                <p:cTn id="2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16549"/>
            </a:gs>
            <a:gs pos="100000">
              <a:srgbClr val="d2180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"/>
          <p:cNvGraphicFramePr/>
          <p:nvPr/>
        </p:nvGraphicFramePr>
        <p:xfrm>
          <a:off x="1908000" y="1773360"/>
          <a:ext cx="5688360" cy="379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8000" y="1773360"/>
                    <a:ext cx="5688360" cy="379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7" name=""/>
          <p:cNvGraphicFramePr/>
          <p:nvPr/>
        </p:nvGraphicFramePr>
        <p:xfrm>
          <a:off x="179280" y="5805360"/>
          <a:ext cx="2210040" cy="86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8" name="" descr="">
                    <a:hlinkClick r:id="rId4" action="ppaction://hlinksldjump"/>
                  </p:cNvPr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79280" y="5805360"/>
                    <a:ext cx="221004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" name=""/>
          <p:cNvSpPr txBox="1"/>
          <p:nvPr/>
        </p:nvSpPr>
        <p:spPr>
          <a:xfrm>
            <a:off x="2124000" y="189000"/>
            <a:ext cx="4969080" cy="1535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SimSun"/>
              </a:rPr>
              <a:t>Âge des</a:t>
            </a: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SimSun"/>
              <a:ea typeface="SimSu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SimSun"/>
              </a:rPr>
              <a:t>groupes sanguins</a:t>
            </a: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SimSun"/>
              <a:ea typeface="SimSun"/>
            </a:endParaRPr>
          </a:p>
        </p:txBody>
      </p:sp>
      <p:sp>
        <p:nvSpPr>
          <p:cNvPr id="120" name="">
            <a:hlinkClick r:id="" action="ppaction://hlinkshowjump?jump=previousslide"/>
          </p:cNvPr>
          <p:cNvSpPr/>
          <p:nvPr/>
        </p:nvSpPr>
        <p:spPr>
          <a:xfrm>
            <a:off x="8101080" y="6093000"/>
            <a:ext cx="792000" cy="576000"/>
          </a:xfrm>
          <a:custGeom>
            <a:avLst/>
            <a:gdLst>
              <a:gd name="textAreaLeft" fmla="*/ 37080 w 792000"/>
              <a:gd name="textAreaRight" fmla="*/ 754920 w 79200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9695" h="21600">
                <a:moveTo>
                  <a:pt x="0" y="0"/>
                </a:moveTo>
                <a:lnTo>
                  <a:pt x="29695" y="0"/>
                </a:lnTo>
                <a:lnTo>
                  <a:pt x="29695" y="21600"/>
                </a:lnTo>
                <a:lnTo>
                  <a:pt x="0" y="21600"/>
                </a:lnTo>
                <a:close/>
              </a:path>
              <a:path fill="lightenLess" w="29695" h="21600">
                <a:moveTo>
                  <a:pt x="0" y="0"/>
                </a:moveTo>
                <a:lnTo>
                  <a:pt x="29695" y="0"/>
                </a:lnTo>
                <a:lnTo>
                  <a:pt x="28295" y="1400"/>
                </a:lnTo>
                <a:lnTo>
                  <a:pt x="1400" y="1400"/>
                </a:lnTo>
                <a:close/>
              </a:path>
              <a:path fill="darken" w="29695" h="21600">
                <a:moveTo>
                  <a:pt x="29695" y="0"/>
                </a:moveTo>
                <a:lnTo>
                  <a:pt x="29695" y="21600"/>
                </a:lnTo>
                <a:lnTo>
                  <a:pt x="28295" y="20200"/>
                </a:lnTo>
                <a:lnTo>
                  <a:pt x="28295" y="1400"/>
                </a:lnTo>
                <a:close/>
              </a:path>
              <a:path fill="darkenLess" w="29695" h="21600">
                <a:moveTo>
                  <a:pt x="296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5" y="20200"/>
                </a:lnTo>
                <a:close/>
              </a:path>
              <a:path fill="lighten" w="296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5" h="21600">
                <a:moveTo>
                  <a:pt x="7841" y="7493"/>
                </a:moveTo>
                <a:lnTo>
                  <a:pt x="11349" y="7493"/>
                </a:lnTo>
                <a:lnTo>
                  <a:pt x="11349" y="12828"/>
                </a:lnTo>
                <a:cubicBezTo>
                  <a:pt x="11349" y="13751"/>
                  <a:pt x="12149" y="14482"/>
                  <a:pt x="13185" y="14482"/>
                </a:cubicBezTo>
                <a:lnTo>
                  <a:pt x="14847" y="14482"/>
                </a:lnTo>
                <a:cubicBezTo>
                  <a:pt x="15883" y="14482"/>
                  <a:pt x="16684" y="13751"/>
                  <a:pt x="16684" y="12828"/>
                </a:cubicBezTo>
                <a:lnTo>
                  <a:pt x="16684" y="7493"/>
                </a:lnTo>
                <a:lnTo>
                  <a:pt x="14847" y="7493"/>
                </a:lnTo>
                <a:lnTo>
                  <a:pt x="18355" y="3985"/>
                </a:lnTo>
                <a:lnTo>
                  <a:pt x="22028" y="7493"/>
                </a:lnTo>
                <a:lnTo>
                  <a:pt x="20192" y="7493"/>
                </a:lnTo>
                <a:lnTo>
                  <a:pt x="20192" y="12828"/>
                </a:lnTo>
                <a:cubicBezTo>
                  <a:pt x="20192" y="15596"/>
                  <a:pt x="17615" y="18155"/>
                  <a:pt x="14847" y="18155"/>
                </a:cubicBezTo>
                <a:lnTo>
                  <a:pt x="13185" y="18155"/>
                </a:lnTo>
                <a:cubicBezTo>
                  <a:pt x="10417" y="18155"/>
                  <a:pt x="7841" y="15596"/>
                  <a:pt x="7841" y="12828"/>
                </a:cubicBezTo>
                <a:close/>
              </a:path>
            </a:pathLst>
          </a:custGeom>
          <a:solidFill>
            <a:srgbClr val="33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0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245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3000"/>
                            </p:stCondLst>
                            <p:childTnLst>
                              <p:par>
                                <p:cTn id="2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16549"/>
            </a:gs>
            <a:gs pos="100000">
              <a:srgbClr val="d2180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1403280" y="189000"/>
            <a:ext cx="6562800" cy="1200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660033"/>
                  </a:solidFill>
                  <a:miter/>
                </a:ln>
                <a:gradFill rotWithShape="0">
                  <a:gsLst>
                    <a:gs pos="0">
                      <a:srgbClr val="660033"/>
                    </a:gs>
                    <a:gs pos="50000">
                      <a:srgbClr val="dddddd"/>
                    </a:gs>
                    <a:gs pos="100000">
                      <a:srgbClr val="660033"/>
                    </a:gs>
                  </a:gsLst>
                  <a:lin ang="8100000"/>
                </a:gradFill>
                <a:latin typeface="SimSun"/>
              </a:rPr>
              <a:t>Le système ABO</a:t>
            </a:r>
            <a:endParaRPr b="1" i="1" lang="en-US" sz="2400" spc="1" strike="noStrike">
              <a:ln w="9360">
                <a:solidFill>
                  <a:srgbClr val="660033"/>
                </a:solidFill>
                <a:miter/>
              </a:ln>
              <a:gradFill rotWithShape="0">
                <a:gsLst>
                  <a:gs pos="0">
                    <a:srgbClr val="660033"/>
                  </a:gs>
                  <a:gs pos="50000">
                    <a:srgbClr val="dddddd"/>
                  </a:gs>
                  <a:gs pos="100000">
                    <a:srgbClr val="660033"/>
                  </a:gs>
                </a:gsLst>
                <a:lin ang="8100000"/>
              </a:gradFill>
              <a:latin typeface="SimSun"/>
              <a:ea typeface="SimSun"/>
            </a:endParaRPr>
          </a:p>
        </p:txBody>
      </p:sp>
      <p:sp>
        <p:nvSpPr>
          <p:cNvPr id="122" name=""/>
          <p:cNvSpPr/>
          <p:nvPr/>
        </p:nvSpPr>
        <p:spPr>
          <a:xfrm>
            <a:off x="6877080" y="1557360"/>
            <a:ext cx="1800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En 1900, Karl Landsteiner l’a découver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826920" y="1557360"/>
          <a:ext cx="5975640" cy="4029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1557360"/>
                    <a:ext cx="5975640" cy="402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5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79280" y="5875200"/>
            <a:ext cx="2210040" cy="866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0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5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2000"/>
                            </p:stCondLst>
                            <p:childTnLst>
                              <p:par>
                                <p:cTn id="2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2000"/>
                            </p:stCondLst>
                            <p:childTnLst>
                              <p:par>
                                <p:cTn id="26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2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16549"/>
            </a:gs>
            <a:gs pos="100000">
              <a:srgbClr val="d2180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1835280" y="260280"/>
            <a:ext cx="57610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SimSun"/>
              </a:rPr>
              <a:t>Le système Rhésus</a:t>
            </a: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SimSun"/>
              <a:ea typeface="SimSun"/>
            </a:endParaRPr>
          </a:p>
        </p:txBody>
      </p:sp>
      <p:sp>
        <p:nvSpPr>
          <p:cNvPr id="127" name=""/>
          <p:cNvSpPr/>
          <p:nvPr/>
        </p:nvSpPr>
        <p:spPr>
          <a:xfrm>
            <a:off x="324000" y="4653000"/>
            <a:ext cx="4608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Times New Roman"/>
              </a:rPr>
              <a:t>Découvert dans le sérum  du singe Macacus Rhésus en 1940, le facteur Rhésus donne son nom au système Rhésu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95280" y="1197000"/>
            <a:ext cx="439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Times New Roman"/>
              </a:rPr>
              <a:t>Il est basé sur les agglutinogènes présents à la surface des globules roug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5076720" y="1341360"/>
          <a:ext cx="3870360" cy="4896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76720" y="1341360"/>
                    <a:ext cx="3870360" cy="489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1" name="" descr=""/>
          <p:cNvPicPr/>
          <p:nvPr/>
        </p:nvPicPr>
        <p:blipFill>
          <a:blip r:embed="rId5"/>
          <a:stretch/>
        </p:blipFill>
        <p:spPr>
          <a:xfrm>
            <a:off x="755640" y="2060640"/>
            <a:ext cx="3598920" cy="245880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79280" y="5875200"/>
            <a:ext cx="2210040" cy="866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0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69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2000"/>
                            </p:stCondLst>
                            <p:childTnLst>
                              <p:par>
                                <p:cTn id="27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76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3000"/>
                            </p:stCondLst>
                            <p:childTnLst>
                              <p:par>
                                <p:cTn id="2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3000"/>
                            </p:stCondLst>
                            <p:childTnLst>
                              <p:par>
                                <p:cTn id="28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3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16549"/>
            </a:gs>
            <a:gs pos="100000">
              <a:srgbClr val="d2180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2268360" y="189000"/>
            <a:ext cx="4826160" cy="99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2d1da3"/>
                  </a:solidFill>
                  <a:miter/>
                </a:ln>
                <a:gradFill rotWithShape="0">
                  <a:gsLst>
                    <a:gs pos="0">
                      <a:srgbClr val="1cf6bd"/>
                    </a:gs>
                    <a:gs pos="50000">
                      <a:srgbClr val="7305d7"/>
                    </a:gs>
                    <a:gs pos="100000">
                      <a:srgbClr val="1cf6bd"/>
                    </a:gs>
                  </a:gsLst>
                  <a:lin ang="13500000"/>
                </a:gradFill>
                <a:latin typeface="Arial Black"/>
              </a:rPr>
              <a:t>Comment déterminer notre</a:t>
            </a:r>
            <a:endParaRPr b="0" lang="en-US" sz="2400" spc="1" strike="noStrike">
              <a:ln w="12600">
                <a:solidFill>
                  <a:srgbClr val="2d1da3"/>
                </a:solidFill>
                <a:miter/>
              </a:ln>
              <a:gradFill rotWithShape="0">
                <a:gsLst>
                  <a:gs pos="0">
                    <a:srgbClr val="1cf6bd"/>
                  </a:gs>
                  <a:gs pos="50000">
                    <a:srgbClr val="7305d7"/>
                  </a:gs>
                  <a:gs pos="100000">
                    <a:srgbClr val="1cf6bd"/>
                  </a:gs>
                </a:gsLst>
                <a:lin ang="13500000"/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2d1da3"/>
                  </a:solidFill>
                  <a:miter/>
                </a:ln>
                <a:gradFill rotWithShape="0">
                  <a:gsLst>
                    <a:gs pos="0">
                      <a:srgbClr val="1cf6bd"/>
                    </a:gs>
                    <a:gs pos="50000">
                      <a:srgbClr val="7305d7"/>
                    </a:gs>
                    <a:gs pos="100000">
                      <a:srgbClr val="1cf6bd"/>
                    </a:gs>
                  </a:gsLst>
                  <a:lin ang="13500000"/>
                </a:gradFill>
                <a:latin typeface="Arial Black"/>
              </a:rPr>
              <a:t>groupe sanguin</a:t>
            </a:r>
            <a:endParaRPr b="0" lang="en-US" sz="2400" spc="1" strike="noStrike">
              <a:ln w="12600">
                <a:solidFill>
                  <a:srgbClr val="2d1da3"/>
                </a:solidFill>
                <a:miter/>
              </a:ln>
              <a:gradFill rotWithShape="0">
                <a:gsLst>
                  <a:gs pos="0">
                    <a:srgbClr val="1cf6bd"/>
                  </a:gs>
                  <a:gs pos="50000">
                    <a:srgbClr val="7305d7"/>
                  </a:gs>
                  <a:gs pos="100000">
                    <a:srgbClr val="1cf6bd"/>
                  </a:gs>
                </a:gsLst>
                <a:lin ang="13500000"/>
              </a:gradFill>
              <a:latin typeface="Arial Black"/>
              <a:ea typeface="Arial Black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3995640" y="1557360"/>
          <a:ext cx="4897440" cy="475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95640" y="1557360"/>
                    <a:ext cx="4897440" cy="475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7" name=""/>
          <p:cNvSpPr/>
          <p:nvPr/>
        </p:nvSpPr>
        <p:spPr>
          <a:xfrm>
            <a:off x="468360" y="1844640"/>
            <a:ext cx="3168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Il suffit de mettre, dans notre sang, du sérum anti-A, anti-B &amp; anti-Rh, puis, s’il y a agglutination, ça veut dire que tu es de ce groupe sangu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4647960" y="1981080"/>
            <a:ext cx="3809880" cy="198144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250920" y="5730840"/>
            <a:ext cx="2209680" cy="866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0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0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2000"/>
                            </p:stCondLst>
                            <p:childTnLst>
                              <p:par>
                                <p:cTn id="2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2000"/>
                            </p:stCondLst>
                            <p:childTnLst>
                              <p:par>
                                <p:cTn id="29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7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16549"/>
            </a:gs>
            <a:gs pos="100000">
              <a:srgbClr val="d2180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900000" y="189000"/>
            <a:ext cx="7515360" cy="655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33ccff">
                    <a:alpha val="71000"/>
                  </a:srgbClr>
                </a:solidFill>
                <a:latin typeface="SimSun"/>
              </a:rPr>
              <a:t>Compatibilité sanguine</a:t>
            </a:r>
            <a:endParaRPr b="1" i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33ccff">
                  <a:alpha val="71000"/>
                </a:srgbClr>
              </a:solidFill>
              <a:latin typeface="SimSun"/>
              <a:ea typeface="SimSun"/>
            </a:endParaRPr>
          </a:p>
        </p:txBody>
      </p:sp>
      <p:sp>
        <p:nvSpPr>
          <p:cNvPr id="141" name=""/>
          <p:cNvSpPr/>
          <p:nvPr/>
        </p:nvSpPr>
        <p:spPr>
          <a:xfrm>
            <a:off x="7020000" y="2276640"/>
            <a:ext cx="18716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Times New Roman"/>
              </a:rPr>
              <a:t>Les agglutinogènes et les agglutinines sont la base de la compatibilité sanguin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4360" y="1268280"/>
          <a:ext cx="5976720" cy="406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268280"/>
                    <a:ext cx="5976720" cy="406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4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250920" y="5734080"/>
            <a:ext cx="2209680" cy="866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0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04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2000"/>
                            </p:stCondLst>
                            <p:childTnLst>
                              <p:par>
                                <p:cTn id="30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8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4000"/>
                            </p:stCondLst>
                            <p:childTnLst>
                              <p:par>
                                <p:cTn id="31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2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16549"/>
            </a:gs>
            <a:gs pos="100000">
              <a:srgbClr val="d2180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2124000" y="260280"/>
            <a:ext cx="482616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12600">
                  <a:solidFill>
                    <a:srgbClr val="3333cc"/>
                  </a:solidFill>
                  <a:miter/>
                </a:ln>
                <a:gradFill rotWithShape="0">
                  <a:gsLst>
                    <a:gs pos="0">
                      <a:srgbClr val="ffffff">
                        <a:alpha val="95294"/>
                      </a:srgbClr>
                    </a:gs>
                    <a:gs pos="50000">
                      <a:srgbClr val="05699b"/>
                    </a:gs>
                    <a:gs pos="100000">
                      <a:srgbClr val="ffffff">
                        <a:alpha val="95294"/>
                      </a:srgbClr>
                    </a:gs>
                  </a:gsLst>
                  <a:lin ang="8100000"/>
                </a:gradFill>
                <a:latin typeface="SimSun"/>
              </a:rPr>
              <a:t>Compatibilité</a:t>
            </a:r>
            <a:endParaRPr b="1" i="1" lang="en-US" sz="2400" spc="1" strike="noStrike">
              <a:ln w="12600">
                <a:solidFill>
                  <a:srgbClr val="3333cc"/>
                </a:solidFill>
                <a:miter/>
              </a:ln>
              <a:gradFill rotWithShape="0">
                <a:gsLst>
                  <a:gs pos="0">
                    <a:srgbClr val="ffffff">
                      <a:alpha val="95294"/>
                    </a:srgbClr>
                  </a:gs>
                  <a:gs pos="50000">
                    <a:srgbClr val="05699b"/>
                  </a:gs>
                  <a:gs pos="100000">
                    <a:srgbClr val="ffffff">
                      <a:alpha val="95294"/>
                    </a:srgbClr>
                  </a:gs>
                </a:gsLst>
                <a:lin ang="8100000"/>
              </a:gradFill>
              <a:latin typeface="SimSun"/>
              <a:ea typeface="SimSu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12600">
                  <a:solidFill>
                    <a:srgbClr val="3333cc"/>
                  </a:solidFill>
                  <a:miter/>
                </a:ln>
                <a:gradFill rotWithShape="0">
                  <a:gsLst>
                    <a:gs pos="0">
                      <a:srgbClr val="ffffff">
                        <a:alpha val="95294"/>
                      </a:srgbClr>
                    </a:gs>
                    <a:gs pos="50000">
                      <a:srgbClr val="05699b"/>
                    </a:gs>
                    <a:gs pos="100000">
                      <a:srgbClr val="ffffff">
                        <a:alpha val="95294"/>
                      </a:srgbClr>
                    </a:gs>
                  </a:gsLst>
                  <a:lin ang="8100000"/>
                </a:gradFill>
                <a:latin typeface="SimSun"/>
              </a:rPr>
              <a:t>foeto-maternelle</a:t>
            </a:r>
            <a:endParaRPr b="1" i="1" lang="en-US" sz="2400" spc="1" strike="noStrike">
              <a:ln w="12600">
                <a:solidFill>
                  <a:srgbClr val="3333cc"/>
                </a:solidFill>
                <a:miter/>
              </a:ln>
              <a:gradFill rotWithShape="0">
                <a:gsLst>
                  <a:gs pos="0">
                    <a:srgbClr val="ffffff">
                      <a:alpha val="95294"/>
                    </a:srgbClr>
                  </a:gs>
                  <a:gs pos="50000">
                    <a:srgbClr val="05699b"/>
                  </a:gs>
                  <a:gs pos="100000">
                    <a:srgbClr val="ffffff">
                      <a:alpha val="95294"/>
                    </a:srgbClr>
                  </a:gs>
                </a:gsLst>
                <a:lin ang="8100000"/>
              </a:gradFill>
              <a:latin typeface="SimSun"/>
              <a:ea typeface="SimSun"/>
            </a:endParaRPr>
          </a:p>
        </p:txBody>
      </p:sp>
      <p:sp>
        <p:nvSpPr>
          <p:cNvPr id="146" name=""/>
          <p:cNvSpPr/>
          <p:nvPr/>
        </p:nvSpPr>
        <p:spPr>
          <a:xfrm>
            <a:off x="6659640" y="2492280"/>
            <a:ext cx="23050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Times New Roman"/>
              </a:rPr>
              <a:t>Des incidents peuvent arriver si la mère est de type Rh- et que le fœtus est de type Rh+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468360" y="1844640"/>
          <a:ext cx="6048360" cy="4591080"/>
        </p:xfrm>
        <a:graphic>
          <a:graphicData uri="http://schemas.openxmlformats.org/drawingml/2006/table">
            <a:tbl>
              <a:tblPr/>
              <a:tblGrid>
                <a:gridCol w="1606680"/>
                <a:gridCol w="2641320"/>
                <a:gridCol w="1800360"/>
              </a:tblGrid>
              <a:tr h="938160">
                <a:tc>
                  <a:txBody>
                    <a:bodyPr lIns="36000" rIns="36000" tIns="36000" bIns="36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5f5f9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œtus de groupe Rh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5f5f9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œtus de groupe Rh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5f5f9"/>
                    </a:solidFill>
                  </a:tcPr>
                </a:tc>
              </a:tr>
              <a:tr h="1352520"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ère de groupe             Rh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5f5f9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l n’y a pas de problème car le type</a:t>
                      </a:r>
                      <a:r>
                        <a:rPr b="1" lang="fr-CA" sz="16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 </a:t>
                      </a:r>
                      <a:r>
                        <a:rPr b="1" lang="fr-CA" sz="1600" spc="-1" strike="noStrike">
                          <a:solidFill>
                            <a:srgbClr val="2e0bff"/>
                          </a:solidFill>
                          <a:latin typeface="Times New Roman"/>
                        </a:rPr>
                        <a:t>Rhésus</a:t>
                      </a:r>
                      <a:r>
                        <a:rPr b="1" lang="fr-CA" sz="16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 </a:t>
                      </a: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st le même</a:t>
                      </a:r>
                      <a:r>
                        <a:rPr b="1" lang="fr-CA" sz="16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5f5f9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l n’y a pas de problème car le fœtus n’a pas de</a:t>
                      </a:r>
                      <a:r>
                        <a:rPr b="1" lang="fr-CA" sz="16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 </a:t>
                      </a:r>
                      <a:r>
                        <a:rPr b="1" lang="fr-CA" sz="1600" spc="-1" strike="noStrike">
                          <a:solidFill>
                            <a:srgbClr val="2e0bff"/>
                          </a:solidFill>
                          <a:latin typeface="Times New Roman"/>
                        </a:rPr>
                        <a:t>protéines Rh</a:t>
                      </a:r>
                      <a:r>
                        <a:rPr b="1" lang="fr-CA" sz="16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5f5f9"/>
                    </a:solidFill>
                  </a:tcPr>
                </a:tc>
              </a:tr>
              <a:tr h="2300400"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ère de groupe Rh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45f5f9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près avoir été exposé aux cellules</a:t>
                      </a:r>
                      <a:r>
                        <a:rPr b="1" lang="fr-CA" sz="16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 </a:t>
                      </a:r>
                      <a:r>
                        <a:rPr b="1" lang="fr-CA" sz="1600" spc="-1" strike="noStrike">
                          <a:solidFill>
                            <a:srgbClr val="2e0bff"/>
                          </a:solidFill>
                          <a:latin typeface="Times New Roman"/>
                        </a:rPr>
                        <a:t>Rh+</a:t>
                      </a:r>
                      <a:r>
                        <a:rPr b="1" lang="fr-CA" sz="16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 </a:t>
                      </a: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 son embryon, le métabolisme fabrique  des</a:t>
                      </a:r>
                      <a:r>
                        <a:rPr b="1" lang="fr-CA" sz="16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 </a:t>
                      </a:r>
                      <a:r>
                        <a:rPr b="1" lang="fr-CA" sz="1600" spc="-1" strike="noStrike">
                          <a:solidFill>
                            <a:srgbClr val="2e0bff"/>
                          </a:solidFill>
                          <a:latin typeface="Times New Roman"/>
                        </a:rPr>
                        <a:t>agglutinines Rh.</a:t>
                      </a:r>
                      <a:r>
                        <a:rPr b="1" lang="fr-CA" sz="16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 </a:t>
                      </a: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 elle est enceinte à nouveau, ces anti-corps vont traverser le placenta et se rendre dans la circulation sanguine du fœtus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45f5f9"/>
                    </a:soli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l n’y a pas de problème car le type</a:t>
                      </a:r>
                      <a:r>
                        <a:rPr b="1" lang="fr-CA" sz="16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 </a:t>
                      </a:r>
                      <a:r>
                        <a:rPr b="1" lang="fr-CA" sz="1600" spc="-1" strike="noStrike">
                          <a:solidFill>
                            <a:srgbClr val="2e0bff"/>
                          </a:solidFill>
                          <a:latin typeface="Times New Roman"/>
                        </a:rPr>
                        <a:t>Rhésus</a:t>
                      </a:r>
                      <a:r>
                        <a:rPr b="1" lang="fr-CA" sz="16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 </a:t>
                      </a:r>
                      <a:r>
                        <a:rPr b="1" lang="fr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st le même</a:t>
                      </a:r>
                      <a:r>
                        <a:rPr b="1" lang="fr-CA" sz="16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45f5f9"/>
                    </a:solidFill>
                  </a:tcPr>
                </a:tc>
              </a:tr>
            </a:tbl>
          </a:graphicData>
        </a:graphic>
      </p:graphicFrame>
      <p:pic>
        <p:nvPicPr>
          <p:cNvPr id="14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732720" y="5802480"/>
            <a:ext cx="2209680" cy="866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0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1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500"/>
                            </p:stCondLst>
                            <p:childTnLst>
                              <p:par>
                                <p:cTn id="32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2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1000"/>
                            </p:stCondLst>
                            <p:childTnLst>
                              <p:par>
                                <p:cTn id="3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16549"/>
            </a:gs>
            <a:gs pos="100000">
              <a:srgbClr val="d2180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2556000" y="189000"/>
            <a:ext cx="41767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b67e3a">
                        <a:alpha val="72156"/>
                      </a:srgbClr>
                    </a:gs>
                    <a:gs pos="50000">
                      <a:srgbClr val="58aae2"/>
                    </a:gs>
                    <a:gs pos="100000">
                      <a:srgbClr val="b67e3a">
                        <a:alpha val="72156"/>
                      </a:srgbClr>
                    </a:gs>
                  </a:gsLst>
                  <a:lin ang="8100000"/>
                </a:gradFill>
                <a:latin typeface="SimSun"/>
              </a:rPr>
              <a:t>Hérédité</a:t>
            </a: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b67e3a">
                      <a:alpha val="72156"/>
                    </a:srgbClr>
                  </a:gs>
                  <a:gs pos="50000">
                    <a:srgbClr val="58aae2"/>
                  </a:gs>
                  <a:gs pos="100000">
                    <a:srgbClr val="b67e3a">
                      <a:alpha val="72156"/>
                    </a:srgbClr>
                  </a:gs>
                </a:gsLst>
                <a:lin ang="8100000"/>
              </a:gradFill>
              <a:latin typeface="SimSun"/>
              <a:ea typeface="SimSun"/>
            </a:endParaRPr>
          </a:p>
        </p:txBody>
      </p:sp>
      <p:sp>
        <p:nvSpPr>
          <p:cNvPr id="150" name=""/>
          <p:cNvSpPr/>
          <p:nvPr/>
        </p:nvSpPr>
        <p:spPr>
          <a:xfrm>
            <a:off x="3348000" y="5805360"/>
            <a:ext cx="41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Times New Roman"/>
              </a:rPr>
              <a:t>Le type O cède place aux types A &amp; B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539640" y="2276640"/>
          <a:ext cx="8136000" cy="320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2276640"/>
                    <a:ext cx="8136000" cy="32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"/>
          <p:cNvSpPr/>
          <p:nvPr/>
        </p:nvSpPr>
        <p:spPr>
          <a:xfrm>
            <a:off x="539640" y="1413000"/>
            <a:ext cx="4537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Times New Roman"/>
              </a:rPr>
              <a:t>Nos parents nous donnent un gène chacu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395280" y="5805360"/>
            <a:ext cx="2209680" cy="866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0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3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35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37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3000"/>
                            </p:stCondLst>
                            <p:childTnLst>
                              <p:par>
                                <p:cTn id="33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1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4000"/>
                            </p:stCondLst>
                            <p:childTnLst>
                              <p:par>
                                <p:cTn id="34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5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16549"/>
            </a:gs>
            <a:gs pos="100000">
              <a:srgbClr val="d2180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1763640" y="189000"/>
            <a:ext cx="5905440" cy="154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12600">
                  <a:solidFill>
                    <a:srgbClr val="3333cc"/>
                  </a:solidFill>
                  <a:miter/>
                </a:ln>
                <a:gradFill rotWithShape="0">
                  <a:gsLst>
                    <a:gs pos="0">
                      <a:srgbClr val="5e9eff"/>
                    </a:gs>
                    <a:gs pos="100000">
                      <a:srgbClr val="ffebfa"/>
                    </a:gs>
                  </a:gsLst>
                  <a:lin ang="5400000"/>
                </a:gradFill>
                <a:latin typeface="SimSun"/>
              </a:rPr>
              <a:t>Pourcentages de</a:t>
            </a:r>
            <a:endParaRPr b="1" i="1" lang="en-US" sz="2400" spc="1" strike="noStrike">
              <a:ln w="12600">
                <a:solidFill>
                  <a:srgbClr val="3333cc"/>
                </a:solidFill>
                <a:miter/>
              </a:ln>
              <a:gradFill rotWithShape="0">
                <a:gsLst>
                  <a:gs pos="0">
                    <a:srgbClr val="5e9eff"/>
                  </a:gs>
                  <a:gs pos="100000">
                    <a:srgbClr val="ffebfa"/>
                  </a:gs>
                </a:gsLst>
                <a:lin ang="5400000"/>
              </a:gradFill>
              <a:latin typeface="SimSun"/>
              <a:ea typeface="SimSu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12600">
                  <a:solidFill>
                    <a:srgbClr val="3333cc"/>
                  </a:solidFill>
                  <a:miter/>
                </a:ln>
                <a:gradFill rotWithShape="0">
                  <a:gsLst>
                    <a:gs pos="0">
                      <a:srgbClr val="5e9eff"/>
                    </a:gs>
                    <a:gs pos="100000">
                      <a:srgbClr val="ffebfa"/>
                    </a:gs>
                  </a:gsLst>
                  <a:lin ang="5400000"/>
                </a:gradFill>
                <a:latin typeface="SimSun"/>
              </a:rPr>
              <a:t>personnes de</a:t>
            </a:r>
            <a:endParaRPr b="1" i="1" lang="en-US" sz="2400" spc="1" strike="noStrike">
              <a:ln w="12600">
                <a:solidFill>
                  <a:srgbClr val="3333cc"/>
                </a:solidFill>
                <a:miter/>
              </a:ln>
              <a:gradFill rotWithShape="0">
                <a:gsLst>
                  <a:gs pos="0">
                    <a:srgbClr val="5e9eff"/>
                  </a:gs>
                  <a:gs pos="100000">
                    <a:srgbClr val="ffebfa"/>
                  </a:gs>
                </a:gsLst>
                <a:lin ang="5400000"/>
              </a:gradFill>
              <a:latin typeface="SimSun"/>
              <a:ea typeface="SimSu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12600">
                  <a:solidFill>
                    <a:srgbClr val="3333cc"/>
                  </a:solidFill>
                  <a:miter/>
                </a:ln>
                <a:gradFill rotWithShape="0">
                  <a:gsLst>
                    <a:gs pos="0">
                      <a:srgbClr val="5e9eff"/>
                    </a:gs>
                    <a:gs pos="100000">
                      <a:srgbClr val="ffebfa"/>
                    </a:gs>
                  </a:gsLst>
                  <a:lin ang="5400000"/>
                </a:gradFill>
                <a:latin typeface="SimSun"/>
              </a:rPr>
              <a:t>chaque groupe</a:t>
            </a:r>
            <a:endParaRPr b="1" i="1" lang="en-US" sz="2400" spc="1" strike="noStrike">
              <a:ln w="12600">
                <a:solidFill>
                  <a:srgbClr val="3333cc"/>
                </a:solidFill>
                <a:miter/>
              </a:ln>
              <a:gradFill rotWithShape="0">
                <a:gsLst>
                  <a:gs pos="0">
                    <a:srgbClr val="5e9eff"/>
                  </a:gs>
                  <a:gs pos="100000">
                    <a:srgbClr val="ffebfa"/>
                  </a:gs>
                </a:gsLst>
                <a:lin ang="5400000"/>
              </a:gradFill>
              <a:latin typeface="SimSun"/>
              <a:ea typeface="SimSun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1187280" y="1844640"/>
          <a:ext cx="6939000" cy="3759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844640"/>
                    <a:ext cx="6939000" cy="375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58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539640" y="5734080"/>
            <a:ext cx="2210040" cy="866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0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2000"/>
                            </p:stCondLst>
                            <p:childTnLst>
                              <p:par>
                                <p:cTn id="356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58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07cc"/>
            </a:gs>
            <a:gs pos="100000">
              <a:srgbClr val="da02b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132000" y="4581360"/>
            <a:ext cx="3200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e9d3"/>
                </a:solidFill>
                <a:latin typeface="Times New Roman"/>
              </a:rPr>
              <a:t>Éco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e9d3"/>
                </a:solidFill>
                <a:latin typeface="Times New Roman"/>
              </a:rPr>
              <a:t>Louis-Joseph-Papinea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124000" y="328464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1adfd"/>
                </a:solidFill>
                <a:latin typeface="Times New Roman"/>
              </a:rPr>
              <a:t>Audrey Pierre &amp; Marjorie Desilets-Beno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590920" y="2438280"/>
            <a:ext cx="404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ee9b"/>
                </a:solidFill>
                <a:latin typeface="Times New Roman"/>
              </a:rPr>
              <a:t>Science Animé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380880" y="762120"/>
            <a:ext cx="8282160" cy="1152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12600">
                  <a:solidFill>
                    <a:srgbClr val="8e8fcc"/>
                  </a:solidFill>
                  <a:miter/>
                </a:ln>
                <a:gradFill rotWithShape="0">
                  <a:gsLst>
                    <a:gs pos="0">
                      <a:srgbClr val="5f5f5f">
                        <a:alpha val="50196"/>
                      </a:srgbClr>
                    </a:gs>
                    <a:gs pos="50000">
                      <a:srgbClr val="dddddd"/>
                    </a:gs>
                    <a:gs pos="100000">
                      <a:srgbClr val="5f5f5f">
                        <a:alpha val="50196"/>
                      </a:srgbClr>
                    </a:gs>
                  </a:gsLst>
                  <a:lin ang="8100000"/>
                </a:gradFill>
                <a:latin typeface="SimSun"/>
              </a:rPr>
              <a:t>Les groupes sanguins</a:t>
            </a:r>
            <a:endParaRPr b="1" i="1" lang="en-US" sz="2400" spc="1" strike="noStrike">
              <a:ln w="12600">
                <a:solidFill>
                  <a:srgbClr val="8e8fcc"/>
                </a:solidFill>
                <a:miter/>
              </a:ln>
              <a:gradFill rotWithShape="0">
                <a:gsLst>
                  <a:gs pos="0">
                    <a:srgbClr val="5f5f5f">
                      <a:alpha val="50196"/>
                    </a:srgbClr>
                  </a:gs>
                  <a:gs pos="50000">
                    <a:srgbClr val="dddddd"/>
                  </a:gs>
                  <a:gs pos="100000">
                    <a:srgbClr val="5f5f5f">
                      <a:alpha val="50196"/>
                    </a:srgbClr>
                  </a:gs>
                </a:gsLst>
                <a:lin ang="8100000"/>
              </a:gradFill>
              <a:latin typeface="SimSun"/>
              <a:ea typeface="SimSu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9828360" y="3141720"/>
            <a:ext cx="504720" cy="504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" dur="1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4000"/>
                            </p:stCondLst>
                            <p:childTnLst>
                              <p:par>
                                <p:cTn id="26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" dur="3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7000"/>
                            </p:stCondLst>
                            <p:childTnLst>
                              <p:par>
                                <p:cTn id="3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07cc"/>
            </a:gs>
            <a:gs pos="100000">
              <a:srgbClr val="da02b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2411280" y="189000"/>
            <a:ext cx="4465800" cy="85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171ff"/>
                    </a:gs>
                    <a:gs pos="100000">
                      <a:srgbClr val="0041e4">
                        <a:alpha val="50196"/>
                      </a:srgbClr>
                    </a:gs>
                  </a:gsLst>
                  <a:lin ang="13500000"/>
                </a:gradFill>
                <a:latin typeface="SimSun"/>
              </a:rPr>
              <a:t>Conclusion</a:t>
            </a: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171ff"/>
                  </a:gs>
                  <a:gs pos="100000">
                    <a:srgbClr val="0041e4">
                      <a:alpha val="50196"/>
                    </a:srgbClr>
                  </a:gs>
                </a:gsLst>
                <a:lin ang="13500000"/>
              </a:gradFill>
              <a:latin typeface="SimSun"/>
              <a:ea typeface="SimSun"/>
            </a:endParaRPr>
          </a:p>
        </p:txBody>
      </p:sp>
      <p:sp>
        <p:nvSpPr>
          <p:cNvPr id="160" name=""/>
          <p:cNvSpPr/>
          <p:nvPr/>
        </p:nvSpPr>
        <p:spPr>
          <a:xfrm>
            <a:off x="914400" y="1981080"/>
            <a:ext cx="5688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ffffcc"/>
                </a:solidFill>
                <a:latin typeface="Times New Roman"/>
              </a:rPr>
              <a:t>Maintenant, je sais c’est quoi des groupes sanguins, je sais aussi qu’il y a des protéines sur les globules rouges, que le type O est le plus vieux de tous les groupes sanguins et qu’il y a quatre groupes, huit avec le système Rhésu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6019920" y="4191120"/>
            <a:ext cx="3352680" cy="306216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228600" y="1295280"/>
            <a:ext cx="7315200" cy="2971800"/>
          </a:xfrm>
          <a:prstGeom prst="ellipse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867280" y="4038480"/>
            <a:ext cx="304920" cy="68580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>
            <a:hlinkClick r:id="" action="ppaction://hlinkshowjump?jump=nextslide"/>
          </p:cNvPr>
          <p:cNvSpPr/>
          <p:nvPr/>
        </p:nvSpPr>
        <p:spPr>
          <a:xfrm>
            <a:off x="755640" y="5877000"/>
            <a:ext cx="863640" cy="647640"/>
          </a:xfrm>
          <a:custGeom>
            <a:avLst/>
            <a:gdLst>
              <a:gd name="textAreaLeft" fmla="*/ 41760 w 863640"/>
              <a:gd name="textAreaRight" fmla="*/ 821880 w 86364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0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500"/>
                            </p:stCondLst>
                            <p:childTnLst>
                              <p:par>
                                <p:cTn id="3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1000"/>
                            </p:stCondLst>
                            <p:childTnLst>
                              <p:par>
                                <p:cTn id="37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2000"/>
                            </p:stCondLst>
                            <p:childTnLst>
                              <p:par>
                                <p:cTn id="3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2500"/>
                            </p:stCondLst>
                            <p:childTnLst>
                              <p:par>
                                <p:cTn id="381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07cc"/>
            </a:gs>
            <a:gs pos="100000">
              <a:srgbClr val="da02b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295280" y="3276720"/>
            <a:ext cx="4038840" cy="29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ffffcc"/>
                </a:solidFill>
                <a:latin typeface="Times New Roman"/>
              </a:rPr>
              <a:t>Je sais aussi qu’une mère peut produire des anticorps contre son propre foetus. La seule chose que je ne sais pas, c’est : les régimes alimentaire par rapport aux groupes sanguins. Ça peut être un bon sujet de recherche, une autre fois peut-être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5651640" y="620640"/>
            <a:ext cx="1285560" cy="12859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609480" y="2666880"/>
            <a:ext cx="5639040" cy="3505320"/>
          </a:xfrm>
          <a:prstGeom prst="ellipse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4876920" y="1600200"/>
            <a:ext cx="990360" cy="129528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659640" y="5589720"/>
            <a:ext cx="2209680" cy="866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0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500"/>
                            </p:stCondLst>
                            <p:childTnLst>
                              <p:par>
                                <p:cTn id="39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1500"/>
                            </p:stCondLst>
                            <p:childTnLst>
                              <p:par>
                                <p:cTn id="3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2000"/>
                            </p:stCondLst>
                            <p:childTnLst>
                              <p:par>
                                <p:cTn id="40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03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07cc"/>
            </a:gs>
            <a:gs pos="100000">
              <a:srgbClr val="da02b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1979640" y="0"/>
            <a:ext cx="5316480" cy="851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5e9eff"/>
                    </a:gs>
                    <a:gs pos="50000">
                      <a:srgbClr val="ffebfa"/>
                    </a:gs>
                    <a:gs pos="100000">
                      <a:srgbClr val="5e9eff"/>
                    </a:gs>
                  </a:gsLst>
                  <a:lin ang="8100000"/>
                </a:gradFill>
                <a:latin typeface="SimSun"/>
              </a:rPr>
              <a:t>Médiagraphie</a:t>
            </a: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5e9eff"/>
                  </a:gs>
                  <a:gs pos="50000">
                    <a:srgbClr val="ffebfa"/>
                  </a:gs>
                  <a:gs pos="100000">
                    <a:srgbClr val="5e9eff"/>
                  </a:gs>
                </a:gsLst>
                <a:lin ang="8100000"/>
              </a:gradFill>
              <a:latin typeface="SimSun"/>
              <a:ea typeface="SimSun"/>
            </a:endParaRPr>
          </a:p>
        </p:txBody>
      </p:sp>
      <p:sp>
        <p:nvSpPr>
          <p:cNvPr id="172" name=""/>
          <p:cNvSpPr/>
          <p:nvPr/>
        </p:nvSpPr>
        <p:spPr>
          <a:xfrm>
            <a:off x="682560" y="1484280"/>
            <a:ext cx="7777080" cy="488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ca4e1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000000"/>
                </a:solidFill>
                <a:latin typeface="Times New Roman"/>
              </a:rPr>
              <a:t>Dr. J. D’Adamo, Peter &amp; Whitney, Catherine (1996). « 4 Blood types, 4 Diets EAT RIGHT FOR YOUR TYPE The INDIVIDUALIZED Diet Solution to Staying Healthy, Living Longer &amp; Achieving Your Ideal Weight ». G. P. Putnam’s S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buClr>
                <a:srgbClr val="ca4e1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000000"/>
                </a:solidFill>
                <a:latin typeface="Times New Roman"/>
              </a:rPr>
              <a:t>Doré, René (1999). « Bio-logique Biologie Humaine 3e secondaire ». Éditions CEC IN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buClr>
                <a:srgbClr val="ca4e1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buClr>
                <a:srgbClr val="ca4e1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000000"/>
                </a:solidFill>
                <a:latin typeface="Times New Roman"/>
              </a:rPr>
              <a:t>Doctissimo. (Page consultée le 15 Février). </a:t>
            </a:r>
            <a:r>
              <a:rPr b="0" i="1" lang="fr-CA" sz="1600" spc="-1" strike="noStrike">
                <a:solidFill>
                  <a:srgbClr val="000000"/>
                </a:solidFill>
                <a:latin typeface="Times New Roman"/>
              </a:rPr>
              <a:t>Immuno-hématologie,</a:t>
            </a:r>
            <a:r>
              <a:rPr b="0" lang="fr-CA" sz="1600" spc="-1" strike="noStrike">
                <a:solidFill>
                  <a:srgbClr val="000000"/>
                </a:solidFill>
                <a:latin typeface="Times New Roman"/>
              </a:rPr>
              <a:t> [En ligne]. Adresse URL:</a:t>
            </a:r>
            <a:r>
              <a:rPr b="0" lang="fr-CA" sz="1600" spc="-1" strike="noStrike">
                <a:solidFill>
                  <a:srgbClr val="ffffcc"/>
                </a:solidFill>
                <a:latin typeface="Times New Roman"/>
              </a:rPr>
              <a:t> http://www.doctissimo.fr/html/sante/analyses/sa_682_immuno_hematologie.ht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buClr>
                <a:srgbClr val="ca4e1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000000"/>
                </a:solidFill>
                <a:latin typeface="Times New Roman"/>
              </a:rPr>
              <a:t>Service-vie. (Page consultée le 15 Février). </a:t>
            </a:r>
            <a:r>
              <a:rPr b="0" i="1" lang="fr-CA" sz="1600" spc="-1" strike="noStrike">
                <a:solidFill>
                  <a:srgbClr val="000000"/>
                </a:solidFill>
                <a:latin typeface="Times New Roman"/>
              </a:rPr>
              <a:t>Santé,</a:t>
            </a:r>
            <a:r>
              <a:rPr b="0" lang="fr-CA" sz="1600" spc="-1" strike="noStrike">
                <a:solidFill>
                  <a:srgbClr val="000000"/>
                </a:solidFill>
                <a:latin typeface="Times New Roman"/>
              </a:rPr>
              <a:t> [En ligne]. Adresse URL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ffffcc"/>
                </a:solidFill>
                <a:latin typeface="Times New Roman"/>
              </a:rPr>
              <a:t>http://www.servicevie.com/02Sante/Test_medical/Test070699/test070699.cf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000000"/>
                </a:solidFill>
                <a:latin typeface="Times New Roman"/>
              </a:rPr>
              <a:t>Croix rouge de Belgique</a:t>
            </a:r>
            <a:r>
              <a:rPr b="0" i="1" lang="fr-CA" sz="16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fr-CA" sz="1600" spc="-1" strike="noStrike">
                <a:solidFill>
                  <a:srgbClr val="000000"/>
                </a:solidFill>
                <a:latin typeface="Times New Roman"/>
              </a:rPr>
              <a:t>(Page consultée le 15 janvier 2004). </a:t>
            </a:r>
            <a:r>
              <a:rPr b="0" i="1" lang="fr-CA" sz="1600" spc="-1" strike="noStrike">
                <a:solidFill>
                  <a:srgbClr val="000000"/>
                </a:solidFill>
                <a:latin typeface="Times New Roman"/>
              </a:rPr>
              <a:t>Don de sang,</a:t>
            </a:r>
            <a:r>
              <a:rPr b="0" lang="fr-CA" sz="1600" spc="-1" strike="noStrike">
                <a:solidFill>
                  <a:srgbClr val="000000"/>
                </a:solidFill>
                <a:latin typeface="Times New Roman"/>
              </a:rPr>
              <a:t> [En ligne]. Adresse URL: http://www.transfusion.be/sang/groupes%20sanguins.ht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>
            <a:hlinkClick r:id="" action="ppaction://hlinkshowjump?jump=nextslide"/>
          </p:cNvPr>
          <p:cNvSpPr/>
          <p:nvPr/>
        </p:nvSpPr>
        <p:spPr>
          <a:xfrm>
            <a:off x="7956720" y="5950080"/>
            <a:ext cx="863280" cy="647640"/>
          </a:xfrm>
          <a:custGeom>
            <a:avLst/>
            <a:gdLst>
              <a:gd name="textAreaLeft" fmla="*/ 41760 w 863280"/>
              <a:gd name="textAreaRight" fmla="*/ 821520 w 86328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8788" h="21600">
                <a:moveTo>
                  <a:pt x="0" y="0"/>
                </a:moveTo>
                <a:lnTo>
                  <a:pt x="28788" y="0"/>
                </a:lnTo>
                <a:lnTo>
                  <a:pt x="28788" y="21600"/>
                </a:lnTo>
                <a:lnTo>
                  <a:pt x="0" y="21600"/>
                </a:lnTo>
                <a:close/>
              </a:path>
              <a:path fill="lightenLess" w="28788" h="21600">
                <a:moveTo>
                  <a:pt x="0" y="0"/>
                </a:moveTo>
                <a:lnTo>
                  <a:pt x="28788" y="0"/>
                </a:lnTo>
                <a:lnTo>
                  <a:pt x="27388" y="1400"/>
                </a:lnTo>
                <a:lnTo>
                  <a:pt x="1400" y="1400"/>
                </a:lnTo>
                <a:close/>
              </a:path>
              <a:path fill="darken" w="28788" h="21600">
                <a:moveTo>
                  <a:pt x="28788" y="0"/>
                </a:moveTo>
                <a:lnTo>
                  <a:pt x="28788" y="21600"/>
                </a:lnTo>
                <a:lnTo>
                  <a:pt x="27388" y="20200"/>
                </a:lnTo>
                <a:lnTo>
                  <a:pt x="27388" y="1400"/>
                </a:lnTo>
                <a:close/>
              </a:path>
              <a:path fill="darkenLess" w="28788" h="21600">
                <a:moveTo>
                  <a:pt x="287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8" y="20200"/>
                </a:lnTo>
                <a:close/>
              </a:path>
              <a:path fill="lighten" w="287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8" h="21600">
                <a:moveTo>
                  <a:pt x="7388" y="3794"/>
                </a:moveTo>
                <a:lnTo>
                  <a:pt x="21400" y="10800"/>
                </a:lnTo>
                <a:lnTo>
                  <a:pt x="7388" y="17806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64200" y="955800"/>
            <a:ext cx="189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Times New Roman"/>
              </a:rPr>
              <a:t>Inform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0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2000"/>
                            </p:stCondLst>
                            <p:childTnLst>
                              <p:par>
                                <p:cTn id="4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2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4000"/>
                            </p:stCondLst>
                            <p:childTnLst>
                              <p:par>
                                <p:cTn id="41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9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07cc"/>
            </a:gs>
            <a:gs pos="100000">
              <a:srgbClr val="da02b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900000" y="1125360"/>
            <a:ext cx="7344000" cy="459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000000"/>
                </a:solidFill>
                <a:latin typeface="Times New Roman"/>
              </a:rPr>
              <a:t>Société canadienne du sang. (Page consultée le 13 janvier 2004). </a:t>
            </a:r>
            <a:r>
              <a:rPr b="0" i="1" lang="fr-CA" sz="1600" spc="-1" strike="noStrike">
                <a:solidFill>
                  <a:srgbClr val="000000"/>
                </a:solidFill>
                <a:latin typeface="Times New Roman"/>
              </a:rPr>
              <a:t>Le sang,</a:t>
            </a:r>
            <a:r>
              <a:rPr b="0" lang="fr-CA" sz="1600" spc="-1" strike="noStrike">
                <a:solidFill>
                  <a:srgbClr val="000000"/>
                </a:solidFill>
                <a:latin typeface="Times New Roman"/>
              </a:rPr>
              <a:t> [En ligne]. Adresse URL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000000"/>
                </a:solidFill>
                <a:latin typeface="Times New Roman"/>
              </a:rPr>
              <a:t>http://www.bloodservices.ca/centreapps/internet/uw_v502_mainengine.nsf/page/F_Home?OpenDocu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Times New Roman"/>
              </a:rPr>
              <a:t>Im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000000"/>
                </a:solidFill>
                <a:latin typeface="Times New Roman"/>
              </a:rPr>
              <a:t>Animated gif. (Page consultée le 13 janvier 2004). [En ligne]. Adresse URL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 u="sng">
                <a:solidFill>
                  <a:srgbClr val="ffff99"/>
                </a:solidFill>
                <a:uFillTx/>
                <a:latin typeface="Times New Roman"/>
                <a:hlinkClick r:id="rId1"/>
              </a:rPr>
              <a:t>www.animatedgif.net</a:t>
            </a:r>
            <a:r>
              <a:rPr b="0" lang="fr-CA" sz="1600" spc="-1" strike="noStrike" u="sng">
                <a:solidFill>
                  <a:srgbClr val="ffff99"/>
                </a:solidFill>
                <a:uFillTx/>
                <a:latin typeface="Times New Roman"/>
                <a:hlinkClick r:id="rId2"/>
              </a:rPr>
              <a:t>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Times New Roman"/>
              </a:rPr>
              <a:t>Aaa-clipart. </a:t>
            </a:r>
            <a:r>
              <a:rPr b="0" lang="fr-CA" sz="1600" spc="-1" strike="noStrike">
                <a:solidFill>
                  <a:srgbClr val="000000"/>
                </a:solidFill>
                <a:latin typeface="Times New Roman"/>
              </a:rPr>
              <a:t>(Page consultée le 13 janvier 2004). [En ligne]. Adresse URL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 u="sng">
                <a:solidFill>
                  <a:srgbClr val="ffff99"/>
                </a:solidFill>
                <a:uFillTx/>
                <a:latin typeface="Times New Roman"/>
                <a:hlinkClick r:id="rId3"/>
              </a:rPr>
              <a:t>www.aaa-clipar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000000"/>
                </a:solidFill>
                <a:latin typeface="Times New Roman"/>
              </a:rPr>
              <a:t>All free clipart. (Page consultée le 13 février 2004). [En ligne]. Adresse URL: </a:t>
            </a:r>
            <a:r>
              <a:rPr b="0" lang="fr-CA" sz="1600" spc="-1" strike="noStrike" u="sng">
                <a:solidFill>
                  <a:srgbClr val="ffff99"/>
                </a:solidFill>
                <a:uFillTx/>
                <a:latin typeface="Times New Roman"/>
                <a:hlinkClick r:id="rId4"/>
              </a:rPr>
              <a:t>http://</a:t>
            </a:r>
            <a:r>
              <a:rPr b="0" lang="fr-CA" sz="1600" spc="-1" strike="noStrike" u="sng">
                <a:solidFill>
                  <a:srgbClr val="ffff99"/>
                </a:solidFill>
                <a:uFillTx/>
                <a:latin typeface="Times New Roman"/>
                <a:hlinkClick r:id="rId5"/>
              </a:rPr>
              <a:t>Free-clipart.net</a:t>
            </a:r>
            <a:r>
              <a:rPr b="0" lang="fr-CA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1600" spc="-1" strike="noStrike">
                <a:solidFill>
                  <a:srgbClr val="000000"/>
                </a:solidFill>
                <a:latin typeface="Times New Roman"/>
              </a:rPr>
              <a:t>Images gratui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79280" y="5805360"/>
            <a:ext cx="2210040" cy="86688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 txBox="1"/>
          <p:nvPr/>
        </p:nvSpPr>
        <p:spPr>
          <a:xfrm>
            <a:off x="1979640" y="0"/>
            <a:ext cx="5316480" cy="851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5e9eff"/>
                    </a:gs>
                    <a:gs pos="50000">
                      <a:srgbClr val="ffebfa"/>
                    </a:gs>
                    <a:gs pos="100000">
                      <a:srgbClr val="5e9eff"/>
                    </a:gs>
                  </a:gsLst>
                  <a:lin ang="8100000"/>
                </a:gradFill>
                <a:latin typeface="SimSun"/>
              </a:rPr>
              <a:t>Médiagraphie</a:t>
            </a: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5e9eff"/>
                  </a:gs>
                  <a:gs pos="50000">
                    <a:srgbClr val="ffebfa"/>
                  </a:gs>
                  <a:gs pos="100000">
                    <a:srgbClr val="5e9eff"/>
                  </a:gs>
                </a:gsLst>
                <a:lin ang="8100000"/>
              </a:gradFill>
              <a:latin typeface="SimSun"/>
              <a:ea typeface="SimSu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0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07cc"/>
            </a:gs>
            <a:gs pos="100000">
              <a:srgbClr val="da02b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900000" y="1125360"/>
            <a:ext cx="7344000" cy="27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Times New Roman"/>
              </a:rPr>
              <a:t>Mus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000000"/>
                </a:solidFill>
                <a:latin typeface="Times New Roman"/>
              </a:rPr>
              <a:t>Franck Riedlinger. (Page consultée le 10 janvier 2004). </a:t>
            </a:r>
            <a:r>
              <a:rPr b="0" i="1" lang="fr-CA" sz="1600" spc="-1" strike="noStrike">
                <a:solidFill>
                  <a:srgbClr val="000000"/>
                </a:solidFill>
                <a:latin typeface="Times New Roman"/>
              </a:rPr>
              <a:t>saína_lunita.mid</a:t>
            </a: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fr-CA" sz="1600" spc="-1" strike="noStrike">
                <a:solidFill>
                  <a:srgbClr val="000000"/>
                </a:solidFill>
                <a:latin typeface="Times New Roman"/>
              </a:rPr>
              <a:t>[En ligne]. Adresse URL: http://www.chez.com/friedler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1600" spc="-1" strike="noStrike">
                <a:solidFill>
                  <a:srgbClr val="000000"/>
                </a:solidFill>
                <a:latin typeface="Times New Roman"/>
              </a:rPr>
              <a:t>Musique gratui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179280" y="5805360"/>
            <a:ext cx="2210040" cy="86688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 txBox="1"/>
          <p:nvPr/>
        </p:nvSpPr>
        <p:spPr>
          <a:xfrm>
            <a:off x="1979640" y="0"/>
            <a:ext cx="5316480" cy="851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5e9eff"/>
                    </a:gs>
                    <a:gs pos="50000">
                      <a:srgbClr val="ffebfa"/>
                    </a:gs>
                    <a:gs pos="100000">
                      <a:srgbClr val="5e9eff"/>
                    </a:gs>
                  </a:gsLst>
                  <a:lin ang="8100000"/>
                </a:gradFill>
                <a:latin typeface="SimSun"/>
              </a:rPr>
              <a:t>Médiagraphie</a:t>
            </a: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5e9eff"/>
                  </a:gs>
                  <a:gs pos="50000">
                    <a:srgbClr val="ffebfa"/>
                  </a:gs>
                  <a:gs pos="100000">
                    <a:srgbClr val="5e9eff"/>
                  </a:gs>
                </a:gsLst>
                <a:lin ang="8100000"/>
              </a:gradFill>
              <a:latin typeface="SimSun"/>
              <a:ea typeface="SimSu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07cc"/>
            </a:gs>
            <a:gs pos="100000">
              <a:srgbClr val="da02b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523880" y="1981080"/>
            <a:ext cx="49532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Les groupes sanguins m’ont toujours intrigué. Je me suis demandé à quoi ils servent, ce que c ’est, bref, ce que nous devons savoir sur les groupes sangui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2700360" y="549360"/>
            <a:ext cx="388764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SimSun"/>
              </a:rPr>
              <a:t>Introduction</a:t>
            </a:r>
            <a:endParaRPr b="1" i="1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SimSun"/>
              <a:ea typeface="SimSu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 rot="183600">
            <a:off x="5904000" y="4584240"/>
            <a:ext cx="3240000" cy="22734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04920" y="1447920"/>
            <a:ext cx="7315200" cy="2971800"/>
          </a:xfrm>
          <a:prstGeom prst="ellipse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943600" y="4191120"/>
            <a:ext cx="228600" cy="83808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3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000"/>
                            </p:stCondLst>
                            <p:childTnLst>
                              <p:par>
                                <p:cTn id="4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000"/>
                            </p:stCondLst>
                            <p:childTnLst>
                              <p:par>
                                <p:cTn id="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2500"/>
                            </p:stCondLst>
                            <p:childTnLst>
                              <p:par>
                                <p:cTn id="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07cc"/>
            </a:gs>
            <a:gs pos="100000">
              <a:srgbClr val="da02b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2700360" y="260280"/>
            <a:ext cx="4286160" cy="76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50000">
                      <a:srgbClr val="b33939"/>
                    </a:gs>
                    <a:gs pos="100000">
                      <a:srgbClr val="000000"/>
                    </a:gs>
                  </a:gsLst>
                  <a:lin ang="8100000"/>
                </a:gradFill>
                <a:latin typeface="Impact"/>
              </a:rPr>
              <a:t>Table des matière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50000">
                    <a:srgbClr val="b33939"/>
                  </a:gs>
                  <a:gs pos="100000">
                    <a:srgbClr val="000000"/>
                  </a:gs>
                </a:gsLst>
                <a:lin ang="8100000"/>
              </a:gradFill>
              <a:latin typeface="Impact"/>
              <a:ea typeface="Impact"/>
            </a:endParaRPr>
          </a:p>
        </p:txBody>
      </p:sp>
      <p:sp>
        <p:nvSpPr>
          <p:cNvPr id="59" name=""/>
          <p:cNvSpPr/>
          <p:nvPr/>
        </p:nvSpPr>
        <p:spPr>
          <a:xfrm>
            <a:off x="971640" y="1125360"/>
            <a:ext cx="6192720" cy="54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buClr>
                <a:srgbClr val="b3393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 u="sng">
                <a:solidFill>
                  <a:srgbClr val="ffff99"/>
                </a:solidFill>
                <a:uFillTx/>
                <a:latin typeface="Times New Roman"/>
                <a:hlinkClick r:id="rId1" action="ppaction://hlinksldjump"/>
              </a:rPr>
              <a:t>Qu’est ce que les groupes sangui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buClr>
                <a:srgbClr val="b3393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 u="sng">
                <a:solidFill>
                  <a:srgbClr val="ffff99"/>
                </a:solidFill>
                <a:uFillTx/>
                <a:latin typeface="Times New Roman"/>
                <a:hlinkClick r:id="rId2" action="ppaction://hlinksldjump"/>
              </a:rPr>
              <a:t>L’histoire des groupes sangu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buClr>
                <a:srgbClr val="b3393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 u="sng">
                <a:solidFill>
                  <a:srgbClr val="ffff99"/>
                </a:solidFill>
                <a:uFillTx/>
                <a:latin typeface="Times New Roman"/>
                <a:hlinkClick r:id="rId3" action="ppaction://hlinksldjump"/>
              </a:rPr>
              <a:t>Le système AB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buClr>
                <a:srgbClr val="b3393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 u="sng">
                <a:solidFill>
                  <a:srgbClr val="ffff99"/>
                </a:solidFill>
                <a:uFillTx/>
                <a:latin typeface="Times New Roman"/>
                <a:hlinkClick r:id="rId4" action="ppaction://hlinksldjump"/>
              </a:rPr>
              <a:t>Le système Rhés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buClr>
                <a:srgbClr val="b3393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 u="sng">
                <a:solidFill>
                  <a:srgbClr val="ffff99"/>
                </a:solidFill>
                <a:uFillTx/>
                <a:latin typeface="Times New Roman"/>
                <a:hlinkClick r:id="rId5" action="ppaction://hlinksldjump"/>
              </a:rPr>
              <a:t>Compatibilité sangu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buClr>
                <a:srgbClr val="b3393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 u="sng">
                <a:solidFill>
                  <a:srgbClr val="ffff99"/>
                </a:solidFill>
                <a:uFillTx/>
                <a:latin typeface="Times New Roman"/>
                <a:hlinkClick r:id="rId6" action="ppaction://hlinksldjump"/>
              </a:rPr>
              <a:t>Incompatibilité foeto-maternel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buClr>
                <a:srgbClr val="b3393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 u="sng">
                <a:solidFill>
                  <a:srgbClr val="ffff99"/>
                </a:solidFill>
                <a:uFillTx/>
                <a:latin typeface="Times New Roman"/>
                <a:hlinkClick r:id="rId7" action="ppaction://hlinksldjump"/>
              </a:rPr>
              <a:t>Hérédit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buClr>
                <a:srgbClr val="b3393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 u="sng">
                <a:solidFill>
                  <a:srgbClr val="ffff99"/>
                </a:solidFill>
                <a:uFillTx/>
                <a:latin typeface="Times New Roman"/>
                <a:hlinkClick r:id="rId8" action="ppaction://hlinksldjump"/>
              </a:rPr>
              <a:t>Pourcent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buClr>
                <a:srgbClr val="b3393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 u="sng">
                <a:solidFill>
                  <a:srgbClr val="ffff99"/>
                </a:solidFill>
                <a:uFillTx/>
                <a:latin typeface="Times New Roman"/>
                <a:hlinkClick r:id="rId9" action="ppaction://hlinksldjump"/>
              </a:rPr>
              <a:t>Conclu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buClr>
                <a:srgbClr val="b3393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 u="sng">
                <a:solidFill>
                  <a:srgbClr val="ffff99"/>
                </a:solidFill>
                <a:uFillTx/>
                <a:latin typeface="Times New Roman"/>
                <a:hlinkClick r:id="rId10" action="ppaction://hlinksldjump"/>
              </a:rPr>
              <a:t>Médiagraph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1"/>
          <a:stretch/>
        </p:blipFill>
        <p:spPr>
          <a:xfrm>
            <a:off x="6227640" y="2205000"/>
            <a:ext cx="2556000" cy="255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62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000"/>
                            </p:stCondLst>
                            <p:childTnLst>
                              <p:par>
                                <p:cTn id="6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6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16549"/>
            </a:gs>
            <a:gs pos="100000">
              <a:srgbClr val="d2180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611280" y="260280"/>
            <a:ext cx="8096040" cy="7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9933">
                    <a:alpha val="50000"/>
                  </a:srgbClr>
                </a:solidFill>
                <a:latin typeface="SimSun"/>
              </a:rPr>
              <a:t>Q'est ce que les groupes sanguins?</a:t>
            </a: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9933">
                  <a:alpha val="50000"/>
                </a:srgbClr>
              </a:solidFill>
              <a:latin typeface="SimSun"/>
              <a:ea typeface="SimSun"/>
            </a:endParaRPr>
          </a:p>
        </p:txBody>
      </p:sp>
      <p:sp>
        <p:nvSpPr>
          <p:cNvPr id="62" name=""/>
          <p:cNvSpPr/>
          <p:nvPr/>
        </p:nvSpPr>
        <p:spPr>
          <a:xfrm>
            <a:off x="250920" y="1413000"/>
            <a:ext cx="2050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La détermination des protéines sur la surface d’un globule rou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179280" y="5805360"/>
          <a:ext cx="221004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" descr="">
                    <a:hlinkClick r:id="rId2" action="ppaction://hlinksldjump"/>
                  </p:cNvPr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9280" y="5805360"/>
                    <a:ext cx="221004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" name=""/>
          <p:cNvGraphicFramePr/>
          <p:nvPr/>
        </p:nvGraphicFramePr>
        <p:xfrm>
          <a:off x="2556000" y="1268280"/>
          <a:ext cx="6408720" cy="5185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56000" y="1268280"/>
                    <a:ext cx="6408720" cy="518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2000"/>
                            </p:stCondLst>
                            <p:childTnLst>
                              <p:par>
                                <p:cTn id="77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9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4000"/>
                            </p:stCondLst>
                            <p:childTnLst>
                              <p:par>
                                <p:cTn id="8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83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5000"/>
                            </p:stCondLst>
                            <p:childTnLst>
                              <p:par>
                                <p:cTn id="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16549"/>
            </a:gs>
            <a:gs pos="100000">
              <a:srgbClr val="d2180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324000" y="260280"/>
            <a:ext cx="8600760" cy="81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ba580e"/>
                    </a:gs>
                    <a:gs pos="50000">
                      <a:srgbClr val="deca34"/>
                    </a:gs>
                    <a:gs pos="100000">
                      <a:srgbClr val="ba580e"/>
                    </a:gs>
                  </a:gsLst>
                  <a:lin ang="8100000"/>
                </a:gradFill>
                <a:latin typeface="SimSun"/>
              </a:rPr>
              <a:t>L'histoire des groupes sanguins</a:t>
            </a: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ba580e"/>
                  </a:gs>
                  <a:gs pos="50000">
                    <a:srgbClr val="deca34"/>
                  </a:gs>
                  <a:gs pos="100000">
                    <a:srgbClr val="ba580e"/>
                  </a:gs>
                </a:gsLst>
                <a:lin ang="8100000"/>
              </a:gradFill>
              <a:latin typeface="SimSun"/>
              <a:ea typeface="SimSun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1557360"/>
            <a:ext cx="34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600" spc="-1" strike="noStrike">
                <a:solidFill>
                  <a:srgbClr val="9b4e15"/>
                </a:solidFill>
                <a:latin typeface="Times New Roman"/>
              </a:rPr>
              <a:t>1-</a:t>
            </a:r>
            <a:r>
              <a:rPr b="0" lang="fr-CA" sz="3600" spc="-1" strike="noStrike" u="sng">
                <a:solidFill>
                  <a:srgbClr val="ffff99"/>
                </a:solidFill>
                <a:uFillTx/>
                <a:latin typeface="Times New Roman"/>
                <a:hlinkClick r:id="rId1" action="ppaction://hlinksldjump"/>
              </a:rPr>
              <a:t>Le groupe 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843280" y="2708280"/>
            <a:ext cx="28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600" spc="-1" strike="noStrike">
                <a:solidFill>
                  <a:srgbClr val="aa0a0a"/>
                </a:solidFill>
                <a:latin typeface="Times New Roman"/>
              </a:rPr>
              <a:t>2-</a:t>
            </a:r>
            <a:r>
              <a:rPr b="0" lang="fr-CA" sz="3600" spc="-1" strike="noStrike" u="sng">
                <a:solidFill>
                  <a:srgbClr val="ffff99"/>
                </a:solidFill>
                <a:uFillTx/>
                <a:latin typeface="Times New Roman"/>
                <a:hlinkClick r:id="rId2" action="ppaction://hlinksldjump"/>
              </a:rPr>
              <a:t>Le groupe 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843280" y="4005360"/>
            <a:ext cx="28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600" spc="-1" strike="noStrike">
                <a:solidFill>
                  <a:srgbClr val="aa0a0a"/>
                </a:solidFill>
                <a:latin typeface="Times New Roman"/>
              </a:rPr>
              <a:t>3-</a:t>
            </a:r>
            <a:r>
              <a:rPr b="0" lang="fr-CA" sz="3600" spc="-1" strike="noStrike" u="sng">
                <a:solidFill>
                  <a:srgbClr val="ffff99"/>
                </a:solidFill>
                <a:uFillTx/>
                <a:latin typeface="Times New Roman"/>
                <a:hlinkClick r:id="rId3" action="ppaction://hlinksldjump"/>
              </a:rPr>
              <a:t>Le groupe 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5640" y="1557360"/>
            <a:ext cx="32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600" spc="-1" strike="noStrike">
                <a:solidFill>
                  <a:srgbClr val="aa0a0a"/>
                </a:solidFill>
                <a:latin typeface="Times New Roman"/>
              </a:rPr>
              <a:t>4-</a:t>
            </a:r>
            <a:r>
              <a:rPr b="0" lang="fr-CA" sz="3600" spc="-1" strike="noStrike" u="sng">
                <a:solidFill>
                  <a:srgbClr val="ffff99"/>
                </a:solidFill>
                <a:uFillTx/>
                <a:latin typeface="Times New Roman"/>
                <a:hlinkClick r:id="rId4" action="ppaction://hlinksldjump"/>
              </a:rPr>
              <a:t>Le groupe 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651640" y="5013360"/>
            <a:ext cx="26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 u="sng">
                <a:solidFill>
                  <a:srgbClr val="ffff99"/>
                </a:solidFill>
                <a:uFillTx/>
                <a:latin typeface="Times New Roman"/>
                <a:hlinkClick r:id="rId5" action="ppaction://hlinksldjump"/>
              </a:rPr>
              <a:t>Histogram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39640" y="4941720"/>
            <a:ext cx="309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600" spc="-1" strike="noStrike" u="sng">
                <a:solidFill>
                  <a:srgbClr val="ffff99"/>
                </a:solidFill>
                <a:uFillTx/>
                <a:latin typeface="Times New Roman"/>
                <a:hlinkClick r:id="rId6" action="ppaction://hlinksldjump"/>
              </a:rPr>
              <a:t>Ligne du temp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179280" y="5805360"/>
            <a:ext cx="2210040" cy="866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3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000"/>
                            </p:stCondLst>
                            <p:childTnLst>
                              <p:par>
                                <p:cTn id="9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7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3000"/>
                            </p:stCondLst>
                            <p:childTnLst>
                              <p:par>
                                <p:cTn id="9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1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0"/>
                            </p:stCondLst>
                            <p:childTnLst>
                              <p:par>
                                <p:cTn id="10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5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7000"/>
                            </p:stCondLst>
                            <p:childTnLst>
                              <p:par>
                                <p:cTn id="10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9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9000"/>
                            </p:stCondLst>
                            <p:childTnLst>
                              <p:par>
                                <p:cTn id="11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3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1000"/>
                            </p:stCondLst>
                            <p:childTnLst>
                              <p:par>
                                <p:cTn id="11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7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3000"/>
                            </p:stCondLst>
                            <p:childTnLst>
                              <p:par>
                                <p:cTn id="1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16549"/>
            </a:gs>
            <a:gs pos="100000">
              <a:srgbClr val="d2180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2843280" y="692280"/>
            <a:ext cx="38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Times New Roman"/>
              </a:rPr>
              <a:t>O pour « old » (vieu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258920" y="234936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Le surviv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348000" y="5661000"/>
            <a:ext cx="403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Times New Roman"/>
              </a:rPr>
              <a:t>Le plus vieux des groupes sanguins. L’homme de Cro-Magnon l’étai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3635280" y="1413000"/>
            <a:ext cx="3529080" cy="3528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9" name=""/>
          <p:cNvGraphicFramePr/>
          <p:nvPr/>
        </p:nvGraphicFramePr>
        <p:xfrm>
          <a:off x="179280" y="5805360"/>
          <a:ext cx="2210040" cy="866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0" name="" descr="">
                    <a:hlinkClick r:id="rId3" action="ppaction://hlinksldjump"/>
                  </p:cNvPr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9280" y="5805360"/>
                    <a:ext cx="221004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4356000" y="5084640"/>
            <a:ext cx="2700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 u="sng">
                <a:solidFill>
                  <a:srgbClr val="ffff99"/>
                </a:solidFill>
                <a:uFillTx/>
                <a:latin typeface="Times New Roman"/>
                <a:hlinkClick r:id="rId5"/>
              </a:rPr>
              <a:t>www.aaa-clipart.com/html/anim.shtm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>
            <a:hlinkClick r:id="" action="ppaction://hlinkshowjump?jump=previousslide"/>
          </p:cNvPr>
          <p:cNvSpPr/>
          <p:nvPr/>
        </p:nvSpPr>
        <p:spPr>
          <a:xfrm>
            <a:off x="8101080" y="6093000"/>
            <a:ext cx="792000" cy="576000"/>
          </a:xfrm>
          <a:custGeom>
            <a:avLst/>
            <a:gdLst>
              <a:gd name="textAreaLeft" fmla="*/ 37080 w 792000"/>
              <a:gd name="textAreaRight" fmla="*/ 754920 w 79200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9695" h="21600">
                <a:moveTo>
                  <a:pt x="0" y="0"/>
                </a:moveTo>
                <a:lnTo>
                  <a:pt x="29695" y="0"/>
                </a:lnTo>
                <a:lnTo>
                  <a:pt x="29695" y="21600"/>
                </a:lnTo>
                <a:lnTo>
                  <a:pt x="0" y="21600"/>
                </a:lnTo>
                <a:close/>
              </a:path>
              <a:path fill="lightenLess" w="29695" h="21600">
                <a:moveTo>
                  <a:pt x="0" y="0"/>
                </a:moveTo>
                <a:lnTo>
                  <a:pt x="29695" y="0"/>
                </a:lnTo>
                <a:lnTo>
                  <a:pt x="28295" y="1400"/>
                </a:lnTo>
                <a:lnTo>
                  <a:pt x="1400" y="1400"/>
                </a:lnTo>
                <a:close/>
              </a:path>
              <a:path fill="darken" w="29695" h="21600">
                <a:moveTo>
                  <a:pt x="29695" y="0"/>
                </a:moveTo>
                <a:lnTo>
                  <a:pt x="29695" y="21600"/>
                </a:lnTo>
                <a:lnTo>
                  <a:pt x="28295" y="20200"/>
                </a:lnTo>
                <a:lnTo>
                  <a:pt x="28295" y="1400"/>
                </a:lnTo>
                <a:close/>
              </a:path>
              <a:path fill="darkenLess" w="29695" h="21600">
                <a:moveTo>
                  <a:pt x="296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5" y="20200"/>
                </a:lnTo>
                <a:close/>
              </a:path>
              <a:path fill="lighten" w="296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5" h="21600">
                <a:moveTo>
                  <a:pt x="7841" y="7493"/>
                </a:moveTo>
                <a:lnTo>
                  <a:pt x="11349" y="7493"/>
                </a:lnTo>
                <a:lnTo>
                  <a:pt x="11349" y="12828"/>
                </a:lnTo>
                <a:cubicBezTo>
                  <a:pt x="11349" y="13751"/>
                  <a:pt x="12149" y="14482"/>
                  <a:pt x="13185" y="14482"/>
                </a:cubicBezTo>
                <a:lnTo>
                  <a:pt x="14847" y="14482"/>
                </a:lnTo>
                <a:cubicBezTo>
                  <a:pt x="15883" y="14482"/>
                  <a:pt x="16684" y="13751"/>
                  <a:pt x="16684" y="12828"/>
                </a:cubicBezTo>
                <a:lnTo>
                  <a:pt x="16684" y="7493"/>
                </a:lnTo>
                <a:lnTo>
                  <a:pt x="14847" y="7493"/>
                </a:lnTo>
                <a:lnTo>
                  <a:pt x="18355" y="3985"/>
                </a:lnTo>
                <a:lnTo>
                  <a:pt x="22028" y="7493"/>
                </a:lnTo>
                <a:lnTo>
                  <a:pt x="20192" y="7493"/>
                </a:lnTo>
                <a:lnTo>
                  <a:pt x="20192" y="12828"/>
                </a:lnTo>
                <a:cubicBezTo>
                  <a:pt x="20192" y="15596"/>
                  <a:pt x="17615" y="18155"/>
                  <a:pt x="14847" y="18155"/>
                </a:cubicBezTo>
                <a:lnTo>
                  <a:pt x="13185" y="18155"/>
                </a:lnTo>
                <a:cubicBezTo>
                  <a:pt x="10417" y="18155"/>
                  <a:pt x="7841" y="15596"/>
                  <a:pt x="7841" y="12828"/>
                </a:cubicBezTo>
                <a:close/>
              </a:path>
            </a:pathLst>
          </a:custGeom>
          <a:solidFill>
            <a:srgbClr val="33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7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1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2000"/>
                            </p:stCondLst>
                            <p:childTnLst>
                              <p:par>
                                <p:cTn id="13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0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000"/>
                            </p:stCondLst>
                            <p:childTnLst>
                              <p:par>
                                <p:cTn id="1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16549"/>
            </a:gs>
            <a:gs pos="100000">
              <a:srgbClr val="d2180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203640" y="692280"/>
            <a:ext cx="266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Times New Roman"/>
              </a:rPr>
              <a:t>A pour Agrari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132000" y="5229360"/>
            <a:ext cx="3168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Times New Roman"/>
              </a:rPr>
              <a:t>Il est apparut proche de l’Asie entre 25 000 et 15 000 av. J.-C. dû aux changements de l’époqu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6732720" y="3716280"/>
            <a:ext cx="1865160" cy="23767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611280" y="3573360"/>
            <a:ext cx="2158920" cy="15336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3348000" y="4653000"/>
            <a:ext cx="270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 u="sng">
                <a:solidFill>
                  <a:srgbClr val="ffff99"/>
                </a:solidFill>
                <a:uFillTx/>
                <a:latin typeface="Times New Roman"/>
                <a:hlinkClick r:id="rId3"/>
              </a:rPr>
              <a:t>www.aaa-clipart.com/html/anim.shtml</a:t>
            </a:r>
            <a:r>
              <a:rPr b="0" lang="fr-C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3995640" y="1341360"/>
            <a:ext cx="1568520" cy="3024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9" name=""/>
          <p:cNvGraphicFramePr/>
          <p:nvPr/>
        </p:nvGraphicFramePr>
        <p:xfrm>
          <a:off x="179280" y="5805360"/>
          <a:ext cx="2210040" cy="866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0" name="" descr="">
                    <a:hlinkClick r:id="rId6" action="ppaction://hlinksldjump"/>
                  </p:cNvPr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79280" y="5805360"/>
                    <a:ext cx="221004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" name=""/>
          <p:cNvSpPr/>
          <p:nvPr/>
        </p:nvSpPr>
        <p:spPr>
          <a:xfrm>
            <a:off x="684360" y="2924280"/>
            <a:ext cx="2017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000000"/>
                </a:solidFill>
                <a:latin typeface="Times New Roman"/>
              </a:rPr>
              <a:t>Domestication du che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877080" y="3141720"/>
            <a:ext cx="107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000000"/>
                </a:solidFill>
                <a:latin typeface="Times New Roman"/>
              </a:rPr>
              <a:t>Élev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>
            <a:hlinkClick r:id="" action="ppaction://hlinkshowjump?jump=previousslide"/>
          </p:cNvPr>
          <p:cNvSpPr/>
          <p:nvPr/>
        </p:nvSpPr>
        <p:spPr>
          <a:xfrm>
            <a:off x="8101080" y="6093000"/>
            <a:ext cx="792000" cy="576000"/>
          </a:xfrm>
          <a:custGeom>
            <a:avLst/>
            <a:gdLst>
              <a:gd name="textAreaLeft" fmla="*/ 37080 w 792000"/>
              <a:gd name="textAreaRight" fmla="*/ 754920 w 79200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9695" h="21600">
                <a:moveTo>
                  <a:pt x="0" y="0"/>
                </a:moveTo>
                <a:lnTo>
                  <a:pt x="29695" y="0"/>
                </a:lnTo>
                <a:lnTo>
                  <a:pt x="29695" y="21600"/>
                </a:lnTo>
                <a:lnTo>
                  <a:pt x="0" y="21600"/>
                </a:lnTo>
                <a:close/>
              </a:path>
              <a:path fill="lightenLess" w="29695" h="21600">
                <a:moveTo>
                  <a:pt x="0" y="0"/>
                </a:moveTo>
                <a:lnTo>
                  <a:pt x="29695" y="0"/>
                </a:lnTo>
                <a:lnTo>
                  <a:pt x="28295" y="1400"/>
                </a:lnTo>
                <a:lnTo>
                  <a:pt x="1400" y="1400"/>
                </a:lnTo>
                <a:close/>
              </a:path>
              <a:path fill="darken" w="29695" h="21600">
                <a:moveTo>
                  <a:pt x="29695" y="0"/>
                </a:moveTo>
                <a:lnTo>
                  <a:pt x="29695" y="21600"/>
                </a:lnTo>
                <a:lnTo>
                  <a:pt x="28295" y="20200"/>
                </a:lnTo>
                <a:lnTo>
                  <a:pt x="28295" y="1400"/>
                </a:lnTo>
                <a:close/>
              </a:path>
              <a:path fill="darkenLess" w="29695" h="21600">
                <a:moveTo>
                  <a:pt x="296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5" y="20200"/>
                </a:lnTo>
                <a:close/>
              </a:path>
              <a:path fill="lighten" w="296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5" h="21600">
                <a:moveTo>
                  <a:pt x="7841" y="7493"/>
                </a:moveTo>
                <a:lnTo>
                  <a:pt x="11349" y="7493"/>
                </a:lnTo>
                <a:lnTo>
                  <a:pt x="11349" y="12828"/>
                </a:lnTo>
                <a:cubicBezTo>
                  <a:pt x="11349" y="13751"/>
                  <a:pt x="12149" y="14482"/>
                  <a:pt x="13185" y="14482"/>
                </a:cubicBezTo>
                <a:lnTo>
                  <a:pt x="14847" y="14482"/>
                </a:lnTo>
                <a:cubicBezTo>
                  <a:pt x="15883" y="14482"/>
                  <a:pt x="16684" y="13751"/>
                  <a:pt x="16684" y="12828"/>
                </a:cubicBezTo>
                <a:lnTo>
                  <a:pt x="16684" y="7493"/>
                </a:lnTo>
                <a:lnTo>
                  <a:pt x="14847" y="7493"/>
                </a:lnTo>
                <a:lnTo>
                  <a:pt x="18355" y="3985"/>
                </a:lnTo>
                <a:lnTo>
                  <a:pt x="22028" y="7493"/>
                </a:lnTo>
                <a:lnTo>
                  <a:pt x="20192" y="7493"/>
                </a:lnTo>
                <a:lnTo>
                  <a:pt x="20192" y="12828"/>
                </a:lnTo>
                <a:cubicBezTo>
                  <a:pt x="20192" y="15596"/>
                  <a:pt x="17615" y="18155"/>
                  <a:pt x="14847" y="18155"/>
                </a:cubicBezTo>
                <a:lnTo>
                  <a:pt x="13185" y="18155"/>
                </a:lnTo>
                <a:cubicBezTo>
                  <a:pt x="10417" y="18155"/>
                  <a:pt x="7841" y="15596"/>
                  <a:pt x="7841" y="12828"/>
                </a:cubicBezTo>
                <a:close/>
              </a:path>
            </a:pathLst>
          </a:custGeom>
          <a:solidFill>
            <a:srgbClr val="33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50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000"/>
                            </p:stCondLst>
                            <p:childTnLst>
                              <p:par>
                                <p:cTn id="1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1000"/>
                            </p:stCondLst>
                            <p:childTnLst>
                              <p:par>
                                <p:cTn id="15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9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2000"/>
                            </p:stCondLst>
                            <p:childTnLst>
                              <p:par>
                                <p:cTn id="16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5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3000"/>
                            </p:stCondLst>
                            <p:childTnLst>
                              <p:par>
                                <p:cTn id="16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9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4000"/>
                            </p:stCondLst>
                            <p:childTnLst>
                              <p:par>
                                <p:cTn id="1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4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16549"/>
            </a:gs>
            <a:gs pos="100000">
              <a:srgbClr val="d2180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3203640" y="69228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Times New Roman"/>
              </a:rPr>
              <a:t>B pour Bal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826920" y="1197000"/>
            <a:ext cx="20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L’assimilate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492360" y="5013360"/>
            <a:ext cx="5185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Times New Roman"/>
              </a:rPr>
              <a:t>Il s’est développé entre 10 000 et 15 000 av J.-C. dans les hautes terres de l’Himalaya. Le type B, nomade, s’est déplacé partout en Asi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3059280" y="1989000"/>
            <a:ext cx="5867280" cy="29815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755640" y="1844640"/>
            <a:ext cx="1866960" cy="3600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9" name=""/>
          <p:cNvGraphicFramePr/>
          <p:nvPr/>
        </p:nvGraphicFramePr>
        <p:xfrm>
          <a:off x="179280" y="5805360"/>
          <a:ext cx="2210040" cy="86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0" name="" descr="">
                    <a:hlinkClick r:id="rId4" action="ppaction://hlinksldjump"/>
                  </p:cNvPr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79280" y="5805360"/>
                    <a:ext cx="221004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">
            <a:hlinkClick r:id="" action="ppaction://hlinkshowjump?jump=previousslide"/>
          </p:cNvPr>
          <p:cNvSpPr/>
          <p:nvPr/>
        </p:nvSpPr>
        <p:spPr>
          <a:xfrm>
            <a:off x="8101080" y="6093000"/>
            <a:ext cx="792000" cy="576000"/>
          </a:xfrm>
          <a:custGeom>
            <a:avLst/>
            <a:gdLst>
              <a:gd name="textAreaLeft" fmla="*/ 37080 w 792000"/>
              <a:gd name="textAreaRight" fmla="*/ 754920 w 79200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9695" h="21600">
                <a:moveTo>
                  <a:pt x="0" y="0"/>
                </a:moveTo>
                <a:lnTo>
                  <a:pt x="29695" y="0"/>
                </a:lnTo>
                <a:lnTo>
                  <a:pt x="29695" y="21600"/>
                </a:lnTo>
                <a:lnTo>
                  <a:pt x="0" y="21600"/>
                </a:lnTo>
                <a:close/>
              </a:path>
              <a:path fill="lightenLess" w="29695" h="21600">
                <a:moveTo>
                  <a:pt x="0" y="0"/>
                </a:moveTo>
                <a:lnTo>
                  <a:pt x="29695" y="0"/>
                </a:lnTo>
                <a:lnTo>
                  <a:pt x="28295" y="1400"/>
                </a:lnTo>
                <a:lnTo>
                  <a:pt x="1400" y="1400"/>
                </a:lnTo>
                <a:close/>
              </a:path>
              <a:path fill="darken" w="29695" h="21600">
                <a:moveTo>
                  <a:pt x="29695" y="0"/>
                </a:moveTo>
                <a:lnTo>
                  <a:pt x="29695" y="21600"/>
                </a:lnTo>
                <a:lnTo>
                  <a:pt x="28295" y="20200"/>
                </a:lnTo>
                <a:lnTo>
                  <a:pt x="28295" y="1400"/>
                </a:lnTo>
                <a:close/>
              </a:path>
              <a:path fill="darkenLess" w="29695" h="21600">
                <a:moveTo>
                  <a:pt x="296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5" y="20200"/>
                </a:lnTo>
                <a:close/>
              </a:path>
              <a:path fill="lighten" w="296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5" h="21600">
                <a:moveTo>
                  <a:pt x="7841" y="7493"/>
                </a:moveTo>
                <a:lnTo>
                  <a:pt x="11349" y="7493"/>
                </a:lnTo>
                <a:lnTo>
                  <a:pt x="11349" y="12828"/>
                </a:lnTo>
                <a:cubicBezTo>
                  <a:pt x="11349" y="13751"/>
                  <a:pt x="12149" y="14482"/>
                  <a:pt x="13185" y="14482"/>
                </a:cubicBezTo>
                <a:lnTo>
                  <a:pt x="14847" y="14482"/>
                </a:lnTo>
                <a:cubicBezTo>
                  <a:pt x="15883" y="14482"/>
                  <a:pt x="16684" y="13751"/>
                  <a:pt x="16684" y="12828"/>
                </a:cubicBezTo>
                <a:lnTo>
                  <a:pt x="16684" y="7493"/>
                </a:lnTo>
                <a:lnTo>
                  <a:pt x="14847" y="7493"/>
                </a:lnTo>
                <a:lnTo>
                  <a:pt x="18355" y="3985"/>
                </a:lnTo>
                <a:lnTo>
                  <a:pt x="22028" y="7493"/>
                </a:lnTo>
                <a:lnTo>
                  <a:pt x="20192" y="7493"/>
                </a:lnTo>
                <a:lnTo>
                  <a:pt x="20192" y="12828"/>
                </a:lnTo>
                <a:cubicBezTo>
                  <a:pt x="20192" y="15596"/>
                  <a:pt x="17615" y="18155"/>
                  <a:pt x="14847" y="18155"/>
                </a:cubicBezTo>
                <a:lnTo>
                  <a:pt x="13185" y="18155"/>
                </a:lnTo>
                <a:cubicBezTo>
                  <a:pt x="10417" y="18155"/>
                  <a:pt x="7841" y="15596"/>
                  <a:pt x="7841" y="12828"/>
                </a:cubicBezTo>
                <a:close/>
              </a:path>
            </a:pathLst>
          </a:custGeom>
          <a:solidFill>
            <a:srgbClr val="33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2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1000"/>
                            </p:stCondLst>
                            <p:childTnLst>
                              <p:par>
                                <p:cTn id="1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1000"/>
                            </p:stCondLst>
                            <p:childTnLst>
                              <p:par>
                                <p:cTn id="18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9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2000"/>
                            </p:stCondLst>
                            <p:childTnLst>
                              <p:par>
                                <p:cTn id="19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6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3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1T18:47:50Z</dcterms:created>
  <dc:creator>Louis-Joseph-Papineau</dc:creator>
  <dc:description/>
  <dc:language>en-US</dc:language>
  <cp:lastModifiedBy>ab</cp:lastModifiedBy>
  <dcterms:modified xsi:type="dcterms:W3CDTF">2004-04-04T17:58:55Z</dcterms:modified>
  <cp:revision>107</cp:revision>
  <dc:subject/>
  <dc:title>Aucun titre de diapositive</dc:title>
</cp:coreProperties>
</file>