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D09-6952-4ADC-8FC6-DC6799F2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C1E-84C4-479D-8D27-A5239E5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A23-15C5-42BD-8993-52451088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724-9883-4AB8-B27A-4A913430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D6A-4DA7-4BD3-8300-86D0B743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81F0-544C-4E62-A183-91A03EF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080-B743-409E-8787-5C75B9D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39D6-1785-4BBE-A6B3-3BAD85D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FC10-00A0-4D42-B146-BBEF37D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E569-8AC2-4F6B-B1C6-7574738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9530-8877-47B3-BAB4-2DA6D84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488-543D-4D08-A8EC-F5B9A3D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9BE-D5AE-433E-B068-6AF71A3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8F5-2383-45E5-AED8-9B7FBE6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A3D-FFB5-4165-AB8D-DEA4B2F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CA7-8F78-457F-A812-0F7CE8A8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41FD-8694-4E3A-8A83-B026E282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D6C-6BDC-4582-A1F1-2CB00BF1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D87-17E8-433D-AAD2-C6189EA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625-54E3-4D09-AEF6-E484BE3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EB7-D901-4A37-B501-1AF4C153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6AF-DCC0-4067-A924-4DBB48E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8B1-1F7B-47D9-BFF3-90F4E33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E46-1952-415C-9C6C-B6BE2F5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51A-77A2-4EBE-9F96-24FCBEE0478C}" type="slidenum"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C75-7F65-41D8-89E4-E7CDE7680AB9}" type="slidenum">
              <a:rPr b="0" lang="fr-F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bmss.org.uk/images/thomson.gif&amp;imgrefurl=http://www.bmss.org.uk/&amp;hl=fr&amp;h=198&amp;w=140&amp;start=1&amp;prev=/images%3Fq%3DThomson%26svnum%3D10%26hl%3Dfr%26lr%3D%26ie%3DUTF-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windows.ucar.edu/people/images/rutherford.gif&amp;imgrefurl=http://www.windows.ucar.edu/tour/link%3D/art_and_music/people_art_archive.html&amp;hl=fr&amp;h=288&amp;w=214&amp;start=10&amp;prev=/images%3Fq%3DRutherford%26svnum%3D10%26hl%3Dfr%26lr%3D%26ie%3DUTF-8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academic.brooklyn.cuny.edu/history/virtual/portrait/bohr.jpg&amp;imgrefurl=http://academic.brooklyn.cuny.edu/history/virtual/portrait.htm&amp;hl=fr&amp;h=218&amp;w=200&amp;start=4&amp;prev=/images%3Fq%3DBohr%26svnum%3D10%26hl%3Dfr%26lr%3D%26ie%3DUTF-8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erso.wanadoo.fr/jlf/hors/quark.gif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cite-sciences.fr/francais/ala_cite/act_educ/education/liaison%2520chimique/democrite.jpg&amp;imgrefurl=http://www.cite-sciences.fr/francais/ala_cite/act_educ/education/liaison%2520chimique/historique.htm&amp;hl=fr&amp;h=1569&amp;w=1102&amp;start=1&amp;prev=/images%3Fq%3DD%25C3%25A9mocrite%26svnum%3D10%26hl%3Dfr%26lr%3D%26i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filol.csic.es/departamentos/bizantinos/aristote.jpg&amp;imgrefurl=http://www.filol.csic.es/departamentos/bizantinos/arist_hisp.html&amp;hl=fr&amp;h=290&amp;w=236&amp;start=1&amp;prev=/images%3Fq%3DAristote%26svnum%3D10%26hl%3Dfr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www.mcallister.com/graphics/dalton.jpg&amp;imgrefurl=http://www.mcallister.com/vacuum.html&amp;hl=fr&amp;h=260&amp;w=225&amp;start=1&amp;prev=/images%3Fq%3DDalton%26svnum%3D10%26hl%3Dfr%26lr%3D%26ie%3DUTF-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1066680"/>
            <a:ext cx="7391520" cy="312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60ee6"/>
                </a:solidFill>
                <a:latin typeface="Arial Black"/>
              </a:rPr>
              <a:t>Le phénomè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60ee6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743200" y="19051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465e"/>
                    </a:gs>
                  </a:gsLst>
                  <a:lin ang="5400000"/>
                </a:gradFill>
                <a:latin typeface="Arial Black"/>
              </a:rPr>
              <a:t>de la matiè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5181480"/>
            <a:ext cx="7920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it par Frédéric Larochelle et Francis Tangua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AG00564_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498760" cy="191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52480" y="685800"/>
            <a:ext cx="5486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s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048120"/>
            <a:ext cx="2286000" cy="32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162920" y="59436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32" h="21600">
                <a:moveTo>
                  <a:pt x="17659" y="7493"/>
                </a:moveTo>
                <a:lnTo>
                  <a:pt x="21167" y="7493"/>
                </a:lnTo>
                <a:lnTo>
                  <a:pt x="21167" y="12828"/>
                </a:lnTo>
                <a:cubicBezTo>
                  <a:pt x="21167" y="13751"/>
                  <a:pt x="21968" y="14482"/>
                  <a:pt x="23004" y="14482"/>
                </a:cubicBezTo>
                <a:lnTo>
                  <a:pt x="24666" y="14482"/>
                </a:lnTo>
                <a:cubicBezTo>
                  <a:pt x="25702" y="14482"/>
                  <a:pt x="26502" y="13751"/>
                  <a:pt x="26502" y="12828"/>
                </a:cubicBezTo>
                <a:lnTo>
                  <a:pt x="26502" y="7493"/>
                </a:lnTo>
                <a:lnTo>
                  <a:pt x="24666" y="7493"/>
                </a:lnTo>
                <a:lnTo>
                  <a:pt x="28174" y="3985"/>
                </a:lnTo>
                <a:lnTo>
                  <a:pt x="31847" y="7493"/>
                </a:lnTo>
                <a:lnTo>
                  <a:pt x="30010" y="7493"/>
                </a:lnTo>
                <a:lnTo>
                  <a:pt x="30010" y="12828"/>
                </a:lnTo>
                <a:cubicBezTo>
                  <a:pt x="30010" y="15596"/>
                  <a:pt x="27434" y="18155"/>
                  <a:pt x="24666" y="18155"/>
                </a:cubicBezTo>
                <a:lnTo>
                  <a:pt x="23004" y="18155"/>
                </a:lnTo>
                <a:cubicBezTo>
                  <a:pt x="20236" y="18155"/>
                  <a:pt x="17659" y="15596"/>
                  <a:pt x="17659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57200"/>
            <a:ext cx="69343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Il a découvert les électrons qui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ont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 une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charge négative.</a:t>
            </a: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Il a trouvé le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modè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atomique en élaborant le pain au</a:t>
            </a: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raisin</a:t>
            </a: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s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La pâte est positive et le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raisin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sont négati</a:t>
            </a:r>
            <a:r>
              <a:rPr b="1" lang="en-CA" sz="3200" spc="-1" strike="noStrike">
                <a:solidFill>
                  <a:srgbClr val="ff33cc"/>
                </a:solidFill>
                <a:latin typeface="Times New Roman"/>
              </a:rPr>
              <a:t>fs</a:t>
            </a:r>
            <a:r>
              <a:rPr b="1" lang="fr-CA" sz="32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743200" y="914400"/>
            <a:ext cx="5486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7f27"/>
                </a:solidFill>
                <a:latin typeface="Impact"/>
              </a:rPr>
              <a:t>Rutherfo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f7f27"/>
              </a:solidFill>
              <a:latin typeface="Impact"/>
              <a:ea typeface="Impact"/>
            </a:endParaRPr>
          </a:p>
        </p:txBody>
      </p:sp>
      <p:pic>
        <p:nvPicPr>
          <p:cNvPr id="15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048120"/>
            <a:ext cx="2489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91520" y="43434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19203" y="7493"/>
                </a:moveTo>
                <a:lnTo>
                  <a:pt x="22711" y="7493"/>
                </a:lnTo>
                <a:lnTo>
                  <a:pt x="22711" y="12828"/>
                </a:lnTo>
                <a:cubicBezTo>
                  <a:pt x="22711" y="13751"/>
                  <a:pt x="23512" y="14482"/>
                  <a:pt x="24547" y="14482"/>
                </a:cubicBezTo>
                <a:lnTo>
                  <a:pt x="26210" y="14482"/>
                </a:lnTo>
                <a:cubicBezTo>
                  <a:pt x="27246" y="14482"/>
                  <a:pt x="28046" y="13751"/>
                  <a:pt x="28046" y="12828"/>
                </a:cubicBezTo>
                <a:lnTo>
                  <a:pt x="28046" y="7493"/>
                </a:lnTo>
                <a:lnTo>
                  <a:pt x="26210" y="7493"/>
                </a:lnTo>
                <a:lnTo>
                  <a:pt x="29717" y="3985"/>
                </a:lnTo>
                <a:lnTo>
                  <a:pt x="33390" y="7493"/>
                </a:lnTo>
                <a:lnTo>
                  <a:pt x="31554" y="7493"/>
                </a:lnTo>
                <a:lnTo>
                  <a:pt x="31554" y="12828"/>
                </a:lnTo>
                <a:cubicBezTo>
                  <a:pt x="31554" y="15596"/>
                  <a:pt x="28978" y="18155"/>
                  <a:pt x="26210" y="18155"/>
                </a:cubicBezTo>
                <a:lnTo>
                  <a:pt x="24547" y="18155"/>
                </a:lnTo>
                <a:cubicBezTo>
                  <a:pt x="21780" y="18155"/>
                  <a:pt x="19203" y="15596"/>
                  <a:pt x="19203" y="12828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533520"/>
            <a:ext cx="586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Il a découvert un nouveau modèle atomique grâce à l’expérience de la feuille d’or.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Il dit que la matière est principalement constitu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ée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 de vide puisque la majorité des particules passent au travers. Aussi que quelque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 particules reviennent comme si elles avaient frappé un bloc massif dans l’atome qui est le noyau.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Il conclue que le noyau dense est entouré d’électron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 qui se déplace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nt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 dans un espace très grand.</a:t>
            </a:r>
            <a:r>
              <a:rPr b="1" lang="en-CA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800000"/>
                </a:solidFill>
                <a:latin typeface="Times New Roman"/>
              </a:rPr>
              <a:t>Il a aussi découvert les neutrons et les proto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609624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7a0dd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Bohr</a:t>
            </a:r>
            <a:endParaRPr b="0" lang="en-US" sz="2400" spc="1" strike="noStrike">
              <a:ln w="0">
                <a:noFill/>
              </a:ln>
              <a:solidFill>
                <a:srgbClr val="07a0dd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46360" y="3200400"/>
            <a:ext cx="26798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543800" y="6095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7493"/>
                </a:moveTo>
                <a:lnTo>
                  <a:pt x="16550" y="7493"/>
                </a:lnTo>
                <a:lnTo>
                  <a:pt x="16550" y="12828"/>
                </a:lnTo>
                <a:cubicBezTo>
                  <a:pt x="16550" y="13751"/>
                  <a:pt x="17351" y="14482"/>
                  <a:pt x="18386" y="14482"/>
                </a:cubicBezTo>
                <a:lnTo>
                  <a:pt x="20049" y="14482"/>
                </a:lnTo>
                <a:cubicBezTo>
                  <a:pt x="21085" y="14482"/>
                  <a:pt x="21885" y="13751"/>
                  <a:pt x="21885" y="12828"/>
                </a:cubicBezTo>
                <a:lnTo>
                  <a:pt x="21885" y="7493"/>
                </a:lnTo>
                <a:lnTo>
                  <a:pt x="20049" y="7493"/>
                </a:lnTo>
                <a:lnTo>
                  <a:pt x="23556" y="3985"/>
                </a:lnTo>
                <a:lnTo>
                  <a:pt x="27229" y="7493"/>
                </a:lnTo>
                <a:lnTo>
                  <a:pt x="25393" y="7493"/>
                </a:lnTo>
                <a:lnTo>
                  <a:pt x="25393" y="12828"/>
                </a:lnTo>
                <a:cubicBezTo>
                  <a:pt x="25393" y="15596"/>
                  <a:pt x="22817" y="18155"/>
                  <a:pt x="20049" y="18155"/>
                </a:cubicBezTo>
                <a:lnTo>
                  <a:pt x="18386" y="18155"/>
                </a:lnTo>
                <a:cubicBezTo>
                  <a:pt x="15619" y="18155"/>
                  <a:pt x="13042" y="15596"/>
                  <a:pt x="13042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8088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Bohr est né Copenhague en 1885 et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mort en 1962.</a:t>
            </a:r>
            <a:r>
              <a:rPr b="1" lang="en-CA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Ce physicien a trouv</a:t>
            </a:r>
            <a:r>
              <a:rPr b="1" lang="en-CA" sz="36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 l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dernier modèle atomique d’un atom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Il a découvert le neutron qui gravit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autour du noyau.</a:t>
            </a:r>
            <a:r>
              <a:rPr b="1" lang="en-CA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Il a découver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l’absorption et </a:t>
            </a:r>
            <a:r>
              <a:rPr b="1" lang="en-CA" sz="3600" spc="-1" strike="noStrike">
                <a:solidFill>
                  <a:srgbClr val="0000ff"/>
                </a:solidFill>
                <a:latin typeface="Times New Roman"/>
              </a:rPr>
              <a:t>l’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émission discontinu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de l’énergie lumineuse et </a:t>
            </a:r>
            <a:r>
              <a:rPr b="1" lang="en-CA" sz="3600" spc="-1" strike="noStrike">
                <a:solidFill>
                  <a:srgbClr val="0000ff"/>
                </a:solidFill>
                <a:latin typeface="Times New Roman"/>
              </a:rPr>
              <a:t> des </a:t>
            </a:r>
            <a:r>
              <a:rPr b="1" lang="fr-CA" sz="3600" spc="-1" strike="noStrike">
                <a:solidFill>
                  <a:srgbClr val="0000ff"/>
                </a:solidFill>
                <a:latin typeface="Times New Roman"/>
              </a:rPr>
              <a:t>spectr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ee0f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762120"/>
            <a:ext cx="2533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lécul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51460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Élémen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4572000"/>
            <a:ext cx="1847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tom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9144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Plus petite partie d’un corps (composé ou élément) qui puisse exister et posséder les propriétés caractéristique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 de ce corps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29718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Substance pure considérée comme indécomposabl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952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Plus petite partie d’élément chimique,</a:t>
            </a:r>
            <a:r>
              <a:rPr b="1" lang="en-C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qui peut être seule ou en combinaison avec d’autres atom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533520" y="60199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7493"/>
                </a:moveTo>
                <a:lnTo>
                  <a:pt x="21184" y="7493"/>
                </a:lnTo>
                <a:lnTo>
                  <a:pt x="21184" y="12828"/>
                </a:lnTo>
                <a:cubicBezTo>
                  <a:pt x="21184" y="13751"/>
                  <a:pt x="21984" y="14482"/>
                  <a:pt x="23020" y="14482"/>
                </a:cubicBezTo>
                <a:lnTo>
                  <a:pt x="24683" y="14482"/>
                </a:lnTo>
                <a:cubicBezTo>
                  <a:pt x="25718" y="14482"/>
                  <a:pt x="26519" y="13751"/>
                  <a:pt x="26519" y="12828"/>
                </a:cubicBezTo>
                <a:lnTo>
                  <a:pt x="26519" y="7493"/>
                </a:lnTo>
                <a:lnTo>
                  <a:pt x="24683" y="7493"/>
                </a:lnTo>
                <a:lnTo>
                  <a:pt x="28190" y="3985"/>
                </a:lnTo>
                <a:lnTo>
                  <a:pt x="31863" y="7493"/>
                </a:lnTo>
                <a:lnTo>
                  <a:pt x="30027" y="7493"/>
                </a:lnTo>
                <a:lnTo>
                  <a:pt x="30027" y="12828"/>
                </a:lnTo>
                <a:cubicBezTo>
                  <a:pt x="30027" y="15596"/>
                  <a:pt x="27450" y="18155"/>
                  <a:pt x="24683" y="18155"/>
                </a:cubicBezTo>
                <a:lnTo>
                  <a:pt x="23020" y="18155"/>
                </a:lnTo>
                <a:cubicBezTo>
                  <a:pt x="20252" y="18155"/>
                  <a:pt x="17676" y="15596"/>
                  <a:pt x="17676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52480" y="0"/>
            <a:ext cx="5410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Modéles atomiq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pic>
        <p:nvPicPr>
          <p:cNvPr id="17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54440"/>
            <a:ext cx="2971800" cy="220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809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Structure de l’atome selon Démocrit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4" name="images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515960" cy="2895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72428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Une atome selon Dalt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6" name="thomson" descr=""/>
          <p:cNvPicPr/>
          <p:nvPr/>
        </p:nvPicPr>
        <p:blipFill>
          <a:blip r:embed="rId4"/>
          <a:stretch/>
        </p:blipFill>
        <p:spPr>
          <a:xfrm>
            <a:off x="5715000" y="4954680"/>
            <a:ext cx="3429000" cy="1903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79132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Le modèle de Thoms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exp-rutherford-3" descr=""/>
          <p:cNvPicPr/>
          <p:nvPr/>
        </p:nvPicPr>
        <p:blipFill>
          <a:blip r:embed="rId5"/>
          <a:stretch/>
        </p:blipFill>
        <p:spPr>
          <a:xfrm>
            <a:off x="5867280" y="2514600"/>
            <a:ext cx="3276720" cy="1739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666880" y="2743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La différence du modèle de Thomson et de celui de Rutherford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bohr" descr=""/>
          <p:cNvPicPr/>
          <p:nvPr/>
        </p:nvPicPr>
        <p:blipFill>
          <a:blip r:embed="rId6"/>
          <a:stretch/>
        </p:blipFill>
        <p:spPr>
          <a:xfrm>
            <a:off x="457200" y="2286000"/>
            <a:ext cx="1981080" cy="1424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Le modèle de Boh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057400" y="380880"/>
            <a:ext cx="521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ractéristiques des modèle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990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Le modèle de Démocrite est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 fait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 d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unités indivisible,toutes identiqu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752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Times New Roman"/>
              </a:rPr>
              <a:t>Aristote n’a pas de modè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133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99"/>
                </a:solidFill>
                <a:latin typeface="Times New Roman"/>
              </a:rPr>
              <a:t>Celui de Dalton est aussi</a:t>
            </a:r>
            <a:r>
              <a:rPr b="1" lang="en-CA" sz="2400" spc="-1" strike="noStrike">
                <a:solidFill>
                  <a:srgbClr val="cc0099"/>
                </a:solidFill>
                <a:latin typeface="Times New Roman"/>
              </a:rPr>
              <a:t> fait</a:t>
            </a:r>
            <a:r>
              <a:rPr b="1" lang="fr-CA" sz="2400" spc="-1" strike="noStrike">
                <a:solidFill>
                  <a:srgbClr val="cc0099"/>
                </a:solidFill>
                <a:latin typeface="Times New Roman"/>
              </a:rPr>
              <a:t> d</a:t>
            </a:r>
            <a:r>
              <a:rPr b="1" lang="en-CA" sz="2400" spc="-1" strike="noStrike">
                <a:solidFill>
                  <a:srgbClr val="cc0099"/>
                </a:solidFill>
                <a:latin typeface="Times New Roman"/>
              </a:rPr>
              <a:t>’</a:t>
            </a:r>
            <a:r>
              <a:rPr b="1" lang="fr-CA" sz="2400" spc="-1" strike="noStrike">
                <a:solidFill>
                  <a:srgbClr val="cc0099"/>
                </a:solidFill>
                <a:latin typeface="Times New Roman"/>
              </a:rPr>
              <a:t>unités indivisibles,</a:t>
            </a:r>
            <a:r>
              <a:rPr b="1" lang="en-CA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cc0099"/>
                </a:solidFill>
                <a:latin typeface="Times New Roman"/>
              </a:rPr>
              <a:t>identiques pour un même élément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895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6600"/>
                </a:solidFill>
                <a:latin typeface="Times New Roman"/>
              </a:rPr>
              <a:t>J.J. Thomson a un modèle qui a des unités divisibles,</a:t>
            </a:r>
            <a:r>
              <a:rPr b="1" lang="en-CA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cc6600"/>
                </a:solidFill>
                <a:latin typeface="Times New Roman"/>
              </a:rPr>
              <a:t>composées de charges négatives et de charges positives réunies de façon homogèn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00"/>
                </a:solidFill>
                <a:latin typeface="Times New Roman"/>
              </a:rPr>
              <a:t>Celui de Rutherford a des unités divisibles comportant des charges positives concentrées dans le noyau et des charges négatives évoluant autour d’un noyau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5257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Bohr a un modèles avec des unités divisibles comportant des charges positives,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neutres et négatives avec un noyau dans le centre.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808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32" h="21600">
                <a:moveTo>
                  <a:pt x="17659" y="7493"/>
                </a:moveTo>
                <a:lnTo>
                  <a:pt x="21167" y="7493"/>
                </a:lnTo>
                <a:lnTo>
                  <a:pt x="21167" y="12828"/>
                </a:lnTo>
                <a:cubicBezTo>
                  <a:pt x="21167" y="13751"/>
                  <a:pt x="21968" y="14482"/>
                  <a:pt x="23004" y="14482"/>
                </a:cubicBezTo>
                <a:lnTo>
                  <a:pt x="24666" y="14482"/>
                </a:lnTo>
                <a:cubicBezTo>
                  <a:pt x="25702" y="14482"/>
                  <a:pt x="26502" y="13751"/>
                  <a:pt x="26502" y="12828"/>
                </a:cubicBezTo>
                <a:lnTo>
                  <a:pt x="26502" y="7493"/>
                </a:lnTo>
                <a:lnTo>
                  <a:pt x="24666" y="7493"/>
                </a:lnTo>
                <a:lnTo>
                  <a:pt x="28174" y="3985"/>
                </a:lnTo>
                <a:lnTo>
                  <a:pt x="31847" y="7493"/>
                </a:lnTo>
                <a:lnTo>
                  <a:pt x="30010" y="7493"/>
                </a:lnTo>
                <a:lnTo>
                  <a:pt x="30010" y="12828"/>
                </a:lnTo>
                <a:cubicBezTo>
                  <a:pt x="30010" y="15596"/>
                  <a:pt x="27434" y="18155"/>
                  <a:pt x="24666" y="18155"/>
                </a:cubicBezTo>
                <a:lnTo>
                  <a:pt x="23004" y="18155"/>
                </a:lnTo>
                <a:cubicBezTo>
                  <a:pt x="20236" y="18155"/>
                  <a:pt x="17659" y="15596"/>
                  <a:pt x="17659" y="12828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600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8f8f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8f8f8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01028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7493"/>
                </a:moveTo>
                <a:lnTo>
                  <a:pt x="24255" y="7493"/>
                </a:lnTo>
                <a:lnTo>
                  <a:pt x="24255" y="12828"/>
                </a:lnTo>
                <a:cubicBezTo>
                  <a:pt x="24255" y="13751"/>
                  <a:pt x="25056" y="14482"/>
                  <a:pt x="26091" y="14482"/>
                </a:cubicBezTo>
                <a:lnTo>
                  <a:pt x="27754" y="14482"/>
                </a:lnTo>
                <a:cubicBezTo>
                  <a:pt x="28789" y="14482"/>
                  <a:pt x="29590" y="13751"/>
                  <a:pt x="29590" y="12828"/>
                </a:cubicBezTo>
                <a:lnTo>
                  <a:pt x="29590" y="7493"/>
                </a:lnTo>
                <a:lnTo>
                  <a:pt x="27754" y="7493"/>
                </a:lnTo>
                <a:lnTo>
                  <a:pt x="31261" y="3985"/>
                </a:lnTo>
                <a:lnTo>
                  <a:pt x="34934" y="7493"/>
                </a:lnTo>
                <a:lnTo>
                  <a:pt x="33098" y="7493"/>
                </a:lnTo>
                <a:lnTo>
                  <a:pt x="33098" y="12828"/>
                </a:lnTo>
                <a:cubicBezTo>
                  <a:pt x="33098" y="15596"/>
                  <a:pt x="30522" y="18155"/>
                  <a:pt x="27754" y="18155"/>
                </a:cubicBezTo>
                <a:lnTo>
                  <a:pt x="26091" y="18155"/>
                </a:lnTo>
                <a:cubicBezTo>
                  <a:pt x="23324" y="18155"/>
                  <a:pt x="20747" y="15596"/>
                  <a:pt x="20747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133720"/>
            <a:ext cx="5638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Nous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esp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érons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que vous avez aim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é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not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présentation du phénomène de l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matière.Vous devez en savoir plus sur 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éléments,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les molécules et les 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tomes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Vous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avez connu ceux qui les ont découverts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qui sont des scientifiques ou des philosophes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Vous 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en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avez pris connaiss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avec leur modèle atomiqu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cc33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ble des matiè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990720" y="2514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émocr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990720" y="2971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Aristo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990720" y="34290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alt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990720" y="3886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homs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990720" y="4343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Rutherfor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990720" y="4800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oh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990720" y="5257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334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Molécules,Éléments et Atom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>
            <a:hlinkClick r:id="rId8" action="ppaction://hlinksldjump"/>
          </p:cNvPr>
          <p:cNvSpPr/>
          <p:nvPr/>
        </p:nvSpPr>
        <p:spPr>
          <a:xfrm>
            <a:off x="990720" y="57150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Modèle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corpusculaire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>
            <a:hlinkClick r:id="rId9" action="ppaction://hlinksldjump"/>
          </p:cNvPr>
          <p:cNvSpPr/>
          <p:nvPr/>
        </p:nvSpPr>
        <p:spPr>
          <a:xfrm>
            <a:off x="4191120" y="2895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2971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>
            <a:hlinkClick r:id="rId10" action="ppaction://hlinksldjump"/>
          </p:cNvPr>
          <p:cNvSpPr/>
          <p:nvPr/>
        </p:nvSpPr>
        <p:spPr>
          <a:xfrm>
            <a:off x="990720" y="2133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>
            <a:hlinkClick r:id="rId11" action="ppaction://hlinksldjump"/>
          </p:cNvPr>
          <p:cNvSpPr/>
          <p:nvPr/>
        </p:nvSpPr>
        <p:spPr>
          <a:xfrm>
            <a:off x="4191120" y="2438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df7f27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19280" y="40464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df7f27"/>
                    </a:gs>
                  </a:gsLst>
                  <a:lin ang="5400000"/>
                </a:gradFill>
                <a:latin typeface="Arial Black"/>
              </a:rPr>
              <a:t>Média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df7f2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162920" y="60958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21774" y="7493"/>
                </a:moveTo>
                <a:lnTo>
                  <a:pt x="25281" y="7493"/>
                </a:lnTo>
                <a:lnTo>
                  <a:pt x="25281" y="12828"/>
                </a:lnTo>
                <a:cubicBezTo>
                  <a:pt x="25281" y="13751"/>
                  <a:pt x="26082" y="14482"/>
                  <a:pt x="27118" y="14482"/>
                </a:cubicBezTo>
                <a:lnTo>
                  <a:pt x="28780" y="14482"/>
                </a:lnTo>
                <a:cubicBezTo>
                  <a:pt x="29816" y="14482"/>
                  <a:pt x="30617" y="13751"/>
                  <a:pt x="30617" y="12828"/>
                </a:cubicBezTo>
                <a:lnTo>
                  <a:pt x="30617" y="7493"/>
                </a:lnTo>
                <a:lnTo>
                  <a:pt x="28780" y="7493"/>
                </a:lnTo>
                <a:lnTo>
                  <a:pt x="32288" y="3985"/>
                </a:lnTo>
                <a:lnTo>
                  <a:pt x="35961" y="7493"/>
                </a:lnTo>
                <a:lnTo>
                  <a:pt x="34124" y="7493"/>
                </a:lnTo>
                <a:lnTo>
                  <a:pt x="34124" y="12828"/>
                </a:lnTo>
                <a:cubicBezTo>
                  <a:pt x="34124" y="15596"/>
                  <a:pt x="31548" y="18155"/>
                  <a:pt x="28780" y="18155"/>
                </a:cubicBezTo>
                <a:lnTo>
                  <a:pt x="27118" y="18155"/>
                </a:lnTo>
                <a:cubicBezTo>
                  <a:pt x="24350" y="18155"/>
                  <a:pt x="21774" y="15596"/>
                  <a:pt x="21774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60020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8f8f8"/>
                </a:solidFill>
                <a:uFillTx/>
                <a:latin typeface="Times New Roman"/>
              </a:rPr>
              <a:t>INFORM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8f8f8"/>
                </a:solidFill>
                <a:latin typeface="Times New Roman"/>
              </a:rPr>
              <a:t>GRENIER, Eva. 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fr-CA" sz="1800" spc="-1" strike="noStrike">
                <a:solidFill>
                  <a:srgbClr val="f8f8f8"/>
                </a:solidFill>
                <a:latin typeface="Times New Roman"/>
              </a:rPr>
              <a:t>En quête des propriétés et de la structure</a:t>
            </a:r>
            <a:r>
              <a:rPr b="1" lang="en-CA" sz="1800" spc="-1" strike="noStrike">
                <a:solidFill>
                  <a:srgbClr val="f8f8f8"/>
                </a:solidFill>
                <a:latin typeface="Times New Roman"/>
              </a:rPr>
              <a:t>.  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Les Édition HRW </a:t>
            </a:r>
            <a:r>
              <a:rPr b="1" lang="en-CA" sz="1800" spc="-1" strike="noStrike">
                <a:solidFill>
                  <a:srgbClr val="f8f8f8"/>
                </a:solidFill>
                <a:latin typeface="Times New Roman"/>
              </a:rPr>
              <a:t>L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tée</a:t>
            </a:r>
            <a:r>
              <a:rPr b="1" lang="en-CA" sz="1800" spc="-1" strike="noStrike">
                <a:solidFill>
                  <a:srgbClr val="f8f8f8"/>
                </a:solidFill>
                <a:latin typeface="Times New Roman"/>
              </a:rPr>
              <a:t>, Bibliothèque nationale du Québec, 1991, 150 pages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666880"/>
            <a:ext cx="7696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8f8f8"/>
                </a:solidFill>
                <a:uFillTx/>
                <a:latin typeface="Times New Roman"/>
              </a:rPr>
              <a:t>IMAG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Dalton.  (Page consultée le 26 janvier 2004).  </a:t>
            </a: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Dalton.jpg </a:t>
            </a: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[En ligne].  Adresse URL: 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http://www.mcallister.com/graphic/dalton.jpg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Image gratui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114800"/>
            <a:ext cx="82296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Aristote.  (Page consultée le 26 janvier 2004).  </a:t>
            </a: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Aristote.jpg </a:t>
            </a: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[En ligne].  Adresse URL: </a:t>
            </a:r>
            <a:r>
              <a:rPr b="1" lang="fr-CA" sz="1800" spc="-1" strike="noStrike">
                <a:solidFill>
                  <a:srgbClr val="f8f8f8"/>
                </a:solidFill>
                <a:latin typeface="Times New Roman"/>
              </a:rPr>
              <a:t>http://www.filol.csic.es/departementos/bizentos/aristote.jpg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Image gratui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Atome. (Page consultée le 26 janvier 2004).  </a:t>
            </a: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Rutherfordface.jpg </a:t>
            </a: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[En ligne].  Adresse URL: http://membres.licos.fr/veloclub/sagas/atome/hpbimg/Rutherfordface.jpg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Image gratui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8f8f8"/>
                </a:solidFill>
                <a:uFillTx/>
                <a:latin typeface="Times New Roman"/>
              </a:rPr>
              <a:t>MUS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8f8f8"/>
                </a:solidFill>
                <a:latin typeface="Times New Roman"/>
              </a:rPr>
              <a:t>Bibliothèque office 2000: </a:t>
            </a:r>
            <a:r>
              <a:rPr b="0" i="1" lang="en-CA" sz="1800" spc="-1" strike="noStrike">
                <a:solidFill>
                  <a:srgbClr val="f8f8f8"/>
                </a:solidFill>
                <a:latin typeface="Times New Roman"/>
              </a:rPr>
              <a:t>JOO74281.mi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90920" y="53352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troduc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019240"/>
            <a:ext cx="6172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Ce diaporama va vous présent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er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le phénomène de la matière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 Nous allons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vous parler des éléments,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des molécules et des atomes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 Nous allons vous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présent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er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 ceux qui les on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t élaboré: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les scientifiques et les philosophes.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 Nous allons v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ous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dire leur opinions et vous montrer</a:t>
            </a:r>
            <a:r>
              <a:rPr b="1" lang="en-CA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leurs modèl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8f8f8"/>
                </a:solidFill>
                <a:latin typeface="Times New Roman"/>
              </a:rPr>
              <a:t>atomiques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1629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7493"/>
                </a:moveTo>
                <a:lnTo>
                  <a:pt x="19646" y="7493"/>
                </a:lnTo>
                <a:lnTo>
                  <a:pt x="19646" y="12828"/>
                </a:lnTo>
                <a:cubicBezTo>
                  <a:pt x="19646" y="13751"/>
                  <a:pt x="20447" y="14482"/>
                  <a:pt x="21483" y="14482"/>
                </a:cubicBezTo>
                <a:lnTo>
                  <a:pt x="23145" y="14482"/>
                </a:lnTo>
                <a:cubicBezTo>
                  <a:pt x="24181" y="14482"/>
                  <a:pt x="24981" y="13751"/>
                  <a:pt x="24981" y="12828"/>
                </a:cubicBezTo>
                <a:lnTo>
                  <a:pt x="24981" y="7493"/>
                </a:lnTo>
                <a:lnTo>
                  <a:pt x="23145" y="7493"/>
                </a:lnTo>
                <a:lnTo>
                  <a:pt x="26653" y="3985"/>
                </a:lnTo>
                <a:lnTo>
                  <a:pt x="30325" y="7493"/>
                </a:lnTo>
                <a:lnTo>
                  <a:pt x="28489" y="7493"/>
                </a:lnTo>
                <a:lnTo>
                  <a:pt x="28489" y="12828"/>
                </a:lnTo>
                <a:cubicBezTo>
                  <a:pt x="28489" y="15596"/>
                  <a:pt x="25913" y="18155"/>
                  <a:pt x="23145" y="18155"/>
                </a:cubicBezTo>
                <a:lnTo>
                  <a:pt x="21483" y="18155"/>
                </a:lnTo>
                <a:cubicBezTo>
                  <a:pt x="18715" y="18155"/>
                  <a:pt x="16138" y="15596"/>
                  <a:pt x="16138" y="1282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28800" y="609480"/>
            <a:ext cx="437688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3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émocrit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663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2248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895480"/>
            <a:ext cx="2523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457200"/>
            <a:ext cx="7543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(400ans av J-C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Il dit que la matière est discontinue.Que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l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particules sont sépar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ées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par des espac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vides.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Les particules sont indéfinimen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petite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s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et 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elles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ne peuvent pas être divisé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es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.</a:t>
            </a:r>
            <a:r>
              <a:rPr b="1" lang="en-CA" sz="3200" spc="-1" strike="noStrike">
                <a:solidFill>
                  <a:srgbClr val="32c5d4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L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disposition et arrangement des particul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32c5d4"/>
                </a:solidFill>
                <a:latin typeface="Times New Roman"/>
              </a:rPr>
              <a:t>varient d’une substance à l’autre.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620120" y="60199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7493"/>
                </a:moveTo>
                <a:lnTo>
                  <a:pt x="21184" y="7493"/>
                </a:lnTo>
                <a:lnTo>
                  <a:pt x="21184" y="12828"/>
                </a:lnTo>
                <a:cubicBezTo>
                  <a:pt x="21184" y="13751"/>
                  <a:pt x="21984" y="14482"/>
                  <a:pt x="23020" y="14482"/>
                </a:cubicBezTo>
                <a:lnTo>
                  <a:pt x="24683" y="14482"/>
                </a:lnTo>
                <a:cubicBezTo>
                  <a:pt x="25718" y="14482"/>
                  <a:pt x="26519" y="13751"/>
                  <a:pt x="26519" y="12828"/>
                </a:cubicBezTo>
                <a:lnTo>
                  <a:pt x="26519" y="7493"/>
                </a:lnTo>
                <a:lnTo>
                  <a:pt x="24683" y="7493"/>
                </a:lnTo>
                <a:lnTo>
                  <a:pt x="28190" y="3985"/>
                </a:lnTo>
                <a:lnTo>
                  <a:pt x="31863" y="7493"/>
                </a:lnTo>
                <a:lnTo>
                  <a:pt x="30027" y="7493"/>
                </a:lnTo>
                <a:lnTo>
                  <a:pt x="30027" y="12828"/>
                </a:lnTo>
                <a:cubicBezTo>
                  <a:pt x="30027" y="15596"/>
                  <a:pt x="27450" y="18155"/>
                  <a:pt x="24683" y="18155"/>
                </a:cubicBezTo>
                <a:lnTo>
                  <a:pt x="23020" y="18155"/>
                </a:lnTo>
                <a:cubicBezTo>
                  <a:pt x="20252" y="18155"/>
                  <a:pt x="17676" y="15596"/>
                  <a:pt x="17676" y="128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304920"/>
            <a:ext cx="35053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risto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743200"/>
            <a:ext cx="27478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1523880"/>
            <a:ext cx="7086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(380 ans av J-C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Contrairement à Démocrite,il dit que l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matière est </a:t>
            </a:r>
            <a:r>
              <a:rPr b="1" lang="fr-CA" sz="3200" spc="-1" strike="noStrike">
                <a:solidFill>
                  <a:srgbClr val="ff0000"/>
                </a:solidFill>
                <a:latin typeface="Times New Roman"/>
              </a:rPr>
              <a:t>discontinue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.</a:t>
            </a:r>
            <a:r>
              <a:rPr b="1" lang="en-CA" sz="3200" spc="-1" strike="noStrike">
                <a:solidFill>
                  <a:srgbClr val="fbfb35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Qu’il n’y a pa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d’espace entre les particules.</a:t>
            </a:r>
            <a:r>
              <a:rPr b="1" lang="en-CA" sz="3200" spc="-1" strike="noStrike">
                <a:solidFill>
                  <a:srgbClr val="fbfb35"/>
                </a:solidFill>
                <a:latin typeface="Times New Roman"/>
              </a:rPr>
              <a:t>  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L’espac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est rempli</a:t>
            </a:r>
            <a:r>
              <a:rPr b="1" lang="en-CA" sz="3200" spc="-1" strike="noStrike">
                <a:solidFill>
                  <a:srgbClr val="fbfb35"/>
                </a:solidFill>
                <a:latin typeface="Times New Roman"/>
              </a:rPr>
              <a:t>e</a:t>
            </a:r>
            <a:r>
              <a:rPr b="1" lang="fr-CA" sz="3200" spc="-1" strike="noStrike">
                <a:solidFill>
                  <a:srgbClr val="fbfb35"/>
                </a:solidFill>
                <a:latin typeface="Times New Roman"/>
              </a:rPr>
              <a:t> d’une substance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2920" y="58672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21774" y="7493"/>
                </a:moveTo>
                <a:lnTo>
                  <a:pt x="25281" y="7493"/>
                </a:lnTo>
                <a:lnTo>
                  <a:pt x="25281" y="12828"/>
                </a:lnTo>
                <a:cubicBezTo>
                  <a:pt x="25281" y="13751"/>
                  <a:pt x="26082" y="14482"/>
                  <a:pt x="27118" y="14482"/>
                </a:cubicBezTo>
                <a:lnTo>
                  <a:pt x="28780" y="14482"/>
                </a:lnTo>
                <a:cubicBezTo>
                  <a:pt x="29816" y="14482"/>
                  <a:pt x="30617" y="13751"/>
                  <a:pt x="30617" y="12828"/>
                </a:cubicBezTo>
                <a:lnTo>
                  <a:pt x="30617" y="7493"/>
                </a:lnTo>
                <a:lnTo>
                  <a:pt x="28780" y="7493"/>
                </a:lnTo>
                <a:lnTo>
                  <a:pt x="32288" y="3985"/>
                </a:lnTo>
                <a:lnTo>
                  <a:pt x="35961" y="7493"/>
                </a:lnTo>
                <a:lnTo>
                  <a:pt x="34124" y="7493"/>
                </a:lnTo>
                <a:lnTo>
                  <a:pt x="34124" y="12828"/>
                </a:lnTo>
                <a:cubicBezTo>
                  <a:pt x="34124" y="15596"/>
                  <a:pt x="31548" y="18155"/>
                  <a:pt x="28780" y="18155"/>
                </a:cubicBezTo>
                <a:lnTo>
                  <a:pt x="27118" y="18155"/>
                </a:lnTo>
                <a:cubicBezTo>
                  <a:pt x="24350" y="18155"/>
                  <a:pt x="21774" y="15596"/>
                  <a:pt x="21774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5600"/>
            </a:gs>
            <a:gs pos="50000">
              <a:srgbClr val="ffa800"/>
            </a:gs>
            <a:gs pos="100000">
              <a:srgbClr val="825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1cb61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alton</a:t>
            </a:r>
            <a:endParaRPr b="0" lang="en-US" sz="2400" spc="1" strike="noStrike">
              <a:ln w="0">
                <a:noFill/>
              </a:ln>
              <a:solidFill>
                <a:srgbClr val="f1cb61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819520"/>
            <a:ext cx="303984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457200"/>
            <a:ext cx="7315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(1766-1844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Il reprit l’idée de Démocrite.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Pour lui tous le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atomes d’un élément sont indiques.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Il dit qu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matière est composé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e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de particule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indivisible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.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Aussi que les atomes de différent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élément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sont différent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.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  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Et dans les réaction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chimique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,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les atomes se combinent pour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form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er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 d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nouveaux produit</a:t>
            </a:r>
            <a:r>
              <a:rPr b="1" lang="en-CA" sz="2800" spc="-1" strike="noStrike">
                <a:solidFill>
                  <a:srgbClr val="fbfb35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bfb3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086600" y="5943600"/>
            <a:ext cx="1295280" cy="609480"/>
          </a:xfrm>
          <a:custGeom>
            <a:avLst/>
            <a:gdLst>
              <a:gd name="textAreaLeft" fmla="*/ 39240 w 1295280"/>
              <a:gd name="textAreaRight" fmla="*/ 1256040 w 1295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0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0" y="20200"/>
                </a:lnTo>
                <a:lnTo>
                  <a:pt x="44490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0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90" h="21600">
                <a:moveTo>
                  <a:pt x="15939" y="7493"/>
                </a:moveTo>
                <a:lnTo>
                  <a:pt x="19446" y="7493"/>
                </a:lnTo>
                <a:lnTo>
                  <a:pt x="19446" y="12828"/>
                </a:lnTo>
                <a:cubicBezTo>
                  <a:pt x="19446" y="13751"/>
                  <a:pt x="20247" y="14482"/>
                  <a:pt x="21283" y="14482"/>
                </a:cubicBezTo>
                <a:lnTo>
                  <a:pt x="22945" y="14482"/>
                </a:lnTo>
                <a:cubicBezTo>
                  <a:pt x="23981" y="14482"/>
                  <a:pt x="24782" y="13751"/>
                  <a:pt x="24782" y="12828"/>
                </a:cubicBezTo>
                <a:lnTo>
                  <a:pt x="24782" y="7493"/>
                </a:lnTo>
                <a:lnTo>
                  <a:pt x="22945" y="7493"/>
                </a:lnTo>
                <a:lnTo>
                  <a:pt x="26453" y="3985"/>
                </a:lnTo>
                <a:lnTo>
                  <a:pt x="30126" y="7493"/>
                </a:lnTo>
                <a:lnTo>
                  <a:pt x="28289" y="7493"/>
                </a:lnTo>
                <a:lnTo>
                  <a:pt x="28289" y="12828"/>
                </a:lnTo>
                <a:cubicBezTo>
                  <a:pt x="28289" y="15596"/>
                  <a:pt x="25713" y="18155"/>
                  <a:pt x="22945" y="18155"/>
                </a:cubicBezTo>
                <a:lnTo>
                  <a:pt x="21283" y="18155"/>
                </a:lnTo>
                <a:cubicBezTo>
                  <a:pt x="18515" y="18155"/>
                  <a:pt x="15939" y="15596"/>
                  <a:pt x="15939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9:00Z</dcterms:created>
  <dc:creator>Maurice Larochelle</dc:creator>
  <dc:description/>
  <dc:language>en-US</dc:language>
  <cp:lastModifiedBy>ab</cp:lastModifiedBy>
  <dcterms:modified xsi:type="dcterms:W3CDTF">2004-03-22T23:12:44Z</dcterms:modified>
  <cp:revision>17</cp:revision>
  <dc:subject/>
  <dc:title>Présentation PowerPoint</dc:title>
</cp:coreProperties>
</file>