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12.gif" ContentType="image/gif"/>
  <Override PartName="/ppt/media/clap.wav" ContentType="audio/x-wav"/>
  <Override PartName="/ppt/media/explode.wav" ContentType="audio/x-wav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919-BA10-4912-B684-95D66683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71D-3E46-43DC-90D6-857A587A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DB6-50A3-4B18-B8C0-FAC8CEE5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8B1-5870-4DD0-B6AD-7A9AA9FB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6A0-E11D-42DB-ACED-343E3AB5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90D-D2BB-417B-8862-2D36D952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7D7-BBC2-40BC-A5CE-ECB6079E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0AF-08E4-4BC9-BD49-B759B6FD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676-F453-4E23-BBB8-E3FB4802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D75-34D5-4A34-BAA1-E4C7CC2F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5B5-582B-46EE-BD39-60CCDBC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45C-C995-4307-886A-24FEE25A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66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9367-357D-4D9B-9345-5C17FC616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angelfire.com/sc2/atomtheory/water_molecule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zebu.uoregon.edu/~js/21st_century_science/images/thomson.gif&amp;imgrefurl=http://zebu.uoregon.edu/~js/21st_century_science/lectures/lec11.html&amp;h=290&amp;w=522&amp;sz=17&amp;tbnid=nosIveB1imgJ:&amp;tbnh=71&amp;tbnw=127&amp;prev=/images%3Fq%3Dthomson%26svnum%3D10%26hl%3Dfr%26lr%3D%26ie%3DUTF-8" TargetMode="External"/><Relationship Id="rId2" Type="http://schemas.openxmlformats.org/officeDocument/2006/relationships/hyperlink" Target="http://images.google.ca/imgres?imgurl=www.bmss.org.uk/images/thomson.gif&amp;imgrefurl=http://www.bmss.org.uk/&amp;h=198&amp;w=140&amp;sz=14&amp;tbnid=c6spkIagvu4J:&amp;tbnh=99&amp;tbnw=70&amp;prev=/images%3Fq%3Dthomson%26svnum%3D10%26hl%3Dfr%26lr%3D%26ie%3DUTF-8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alphalink.com.au/~vmck/thom.gif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c-reims.fr/datice/math-sciences/doc_peda/atome/images/ruther1.gif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cscv.qc.ca/ecole/eco010/sciences/sciences%2520physiques/images/atome/l%27atom18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te-sciences.fr/francais/ala_cite/act_educ/education/liaison%2520chimique/democrit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www.lutecium.org/efedition/images/aristote.gif&amp;imgrefurl=http://www.lutecium.org/efedition/actions/but.htm&amp;h=333&amp;w=251&amp;sz=21&amp;tbnid=R7rYs3FOjKsJ:&amp;tbnh=114&amp;tbnw=86&amp;prev=/images%3Fq%3Daristote%26svnum%3D10%26hl%3Dfr%26lr%3D%26ie%3DUTF-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www.mcallister.com/graphics/dalton.jpg&amp;imgrefurl=http://www.mcallister.com/vacuum.html&amp;h=260&amp;w=225&amp;sz=14&amp;tbnid=muchJa7AQhAJ:&amp;tbnh=106&amp;tbnw=92&amp;prev=/images%3Fq%3Ddalton%26svnum%3D10%26hl%3Dfr%26lr%3D%26ie%3DUTF-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66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4191120"/>
            <a:ext cx="8534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t p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Blanch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ël Po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75248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À la découverte de la matière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534520" y="6477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lton est né en 1766 et meurt en 1844.Il reprit l’idée de Démocrite. C’est l’instigateur de la théorie atomiqu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00200" y="533520"/>
            <a:ext cx="51814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3032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alton</a:t>
            </a:r>
            <a:endParaRPr b="0" lang="en-US" sz="2400" spc="1" strike="noStrike">
              <a:ln w="13032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8000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696080" y="6095880"/>
            <a:ext cx="719280" cy="468360"/>
          </a:xfrm>
          <a:custGeom>
            <a:avLst/>
            <a:gdLst>
              <a:gd name="textAreaLeft" fmla="*/ 30240 w 719280"/>
              <a:gd name="textAreaRight" fmla="*/ 689040 w 719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3163" h="21600">
                <a:moveTo>
                  <a:pt x="0" y="0"/>
                </a:moveTo>
                <a:lnTo>
                  <a:pt x="33163" y="0"/>
                </a:lnTo>
                <a:lnTo>
                  <a:pt x="33163" y="21600"/>
                </a:lnTo>
                <a:lnTo>
                  <a:pt x="0" y="21600"/>
                </a:lnTo>
                <a:close/>
              </a:path>
              <a:path fill="lightenLess" w="33163" h="21600">
                <a:moveTo>
                  <a:pt x="0" y="0"/>
                </a:moveTo>
                <a:lnTo>
                  <a:pt x="33163" y="0"/>
                </a:lnTo>
                <a:lnTo>
                  <a:pt x="31763" y="1400"/>
                </a:lnTo>
                <a:lnTo>
                  <a:pt x="1400" y="1400"/>
                </a:lnTo>
                <a:close/>
              </a:path>
              <a:path fill="darken" w="33163" h="21600">
                <a:moveTo>
                  <a:pt x="33163" y="0"/>
                </a:moveTo>
                <a:lnTo>
                  <a:pt x="33163" y="21600"/>
                </a:lnTo>
                <a:lnTo>
                  <a:pt x="31763" y="20200"/>
                </a:lnTo>
                <a:lnTo>
                  <a:pt x="31763" y="1400"/>
                </a:lnTo>
                <a:close/>
              </a:path>
              <a:path fill="darkenLess" w="33163" h="21600">
                <a:moveTo>
                  <a:pt x="33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63" y="20200"/>
                </a:lnTo>
                <a:close/>
              </a:path>
              <a:path fill="lighten" w="33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63" h="21600">
                <a:moveTo>
                  <a:pt x="9575" y="7493"/>
                </a:moveTo>
                <a:lnTo>
                  <a:pt x="13083" y="7493"/>
                </a:lnTo>
                <a:lnTo>
                  <a:pt x="13083" y="12828"/>
                </a:lnTo>
                <a:cubicBezTo>
                  <a:pt x="13083" y="13751"/>
                  <a:pt x="13883" y="14482"/>
                  <a:pt x="14919" y="14482"/>
                </a:cubicBezTo>
                <a:lnTo>
                  <a:pt x="16582" y="14482"/>
                </a:lnTo>
                <a:cubicBezTo>
                  <a:pt x="17617" y="14482"/>
                  <a:pt x="18418" y="13751"/>
                  <a:pt x="18418" y="12828"/>
                </a:cubicBezTo>
                <a:lnTo>
                  <a:pt x="18418" y="7493"/>
                </a:lnTo>
                <a:lnTo>
                  <a:pt x="16582" y="7493"/>
                </a:lnTo>
                <a:lnTo>
                  <a:pt x="20089" y="3985"/>
                </a:lnTo>
                <a:lnTo>
                  <a:pt x="23762" y="7493"/>
                </a:lnTo>
                <a:lnTo>
                  <a:pt x="21926" y="7493"/>
                </a:lnTo>
                <a:lnTo>
                  <a:pt x="21926" y="12828"/>
                </a:lnTo>
                <a:cubicBezTo>
                  <a:pt x="21926" y="15596"/>
                  <a:pt x="19349" y="18155"/>
                  <a:pt x="16582" y="18155"/>
                </a:cubicBezTo>
                <a:lnTo>
                  <a:pt x="14919" y="18155"/>
                </a:lnTo>
                <a:cubicBezTo>
                  <a:pt x="12151" y="18155"/>
                  <a:pt x="9575" y="15596"/>
                  <a:pt x="9575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00200" y="457200"/>
            <a:ext cx="55720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dèle atomique de Dalt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0" y="2362320"/>
            <a:ext cx="396252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1981080"/>
            <a:ext cx="3313080" cy="4496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971800" y="228600"/>
            <a:ext cx="3962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oms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 scientifique a vécu entre1856 et 1940 et il est anglais. Thomson a découvert l’électron. En 1906, il reçut le prix Nobel pour avoir prouver l’existence de cette particule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133720" y="304920"/>
            <a:ext cx="4876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oms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620120" y="6095880"/>
            <a:ext cx="718920" cy="468360"/>
          </a:xfrm>
          <a:custGeom>
            <a:avLst/>
            <a:gdLst>
              <a:gd name="textAreaLeft" fmla="*/ 30240 w 718920"/>
              <a:gd name="textAreaRight" fmla="*/ 688680 w 718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3147" h="21600">
                <a:moveTo>
                  <a:pt x="0" y="0"/>
                </a:moveTo>
                <a:lnTo>
                  <a:pt x="33147" y="0"/>
                </a:lnTo>
                <a:lnTo>
                  <a:pt x="33147" y="21600"/>
                </a:lnTo>
                <a:lnTo>
                  <a:pt x="0" y="21600"/>
                </a:lnTo>
                <a:close/>
              </a:path>
              <a:path fill="lightenLess" w="33147" h="21600">
                <a:moveTo>
                  <a:pt x="0" y="0"/>
                </a:moveTo>
                <a:lnTo>
                  <a:pt x="33147" y="0"/>
                </a:lnTo>
                <a:lnTo>
                  <a:pt x="31747" y="1400"/>
                </a:lnTo>
                <a:lnTo>
                  <a:pt x="1400" y="1400"/>
                </a:lnTo>
                <a:close/>
              </a:path>
              <a:path fill="darken" w="33147" h="21600">
                <a:moveTo>
                  <a:pt x="33147" y="0"/>
                </a:moveTo>
                <a:lnTo>
                  <a:pt x="33147" y="21600"/>
                </a:lnTo>
                <a:lnTo>
                  <a:pt x="31747" y="20200"/>
                </a:lnTo>
                <a:lnTo>
                  <a:pt x="31747" y="1400"/>
                </a:lnTo>
                <a:close/>
              </a:path>
              <a:path fill="darkenLess" w="33147" h="21600">
                <a:moveTo>
                  <a:pt x="33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47" y="20200"/>
                </a:lnTo>
                <a:close/>
              </a:path>
              <a:path fill="lighten" w="33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47" h="21600">
                <a:moveTo>
                  <a:pt x="9567" y="7493"/>
                </a:moveTo>
                <a:lnTo>
                  <a:pt x="13074" y="7493"/>
                </a:lnTo>
                <a:lnTo>
                  <a:pt x="13074" y="12828"/>
                </a:lnTo>
                <a:cubicBezTo>
                  <a:pt x="13074" y="13751"/>
                  <a:pt x="13875" y="14482"/>
                  <a:pt x="14911" y="14482"/>
                </a:cubicBezTo>
                <a:lnTo>
                  <a:pt x="16573" y="14482"/>
                </a:lnTo>
                <a:cubicBezTo>
                  <a:pt x="17609" y="14482"/>
                  <a:pt x="18410" y="13751"/>
                  <a:pt x="18410" y="12828"/>
                </a:cubicBezTo>
                <a:lnTo>
                  <a:pt x="18410" y="7493"/>
                </a:lnTo>
                <a:lnTo>
                  <a:pt x="16573" y="7493"/>
                </a:lnTo>
                <a:lnTo>
                  <a:pt x="20081" y="3985"/>
                </a:lnTo>
                <a:lnTo>
                  <a:pt x="23754" y="7493"/>
                </a:lnTo>
                <a:lnTo>
                  <a:pt x="21917" y="7493"/>
                </a:lnTo>
                <a:lnTo>
                  <a:pt x="21917" y="12828"/>
                </a:lnTo>
                <a:cubicBezTo>
                  <a:pt x="21917" y="15596"/>
                  <a:pt x="19341" y="18155"/>
                  <a:pt x="16573" y="18155"/>
                </a:cubicBezTo>
                <a:lnTo>
                  <a:pt x="14911" y="18155"/>
                </a:lnTo>
                <a:cubicBezTo>
                  <a:pt x="12143" y="18155"/>
                  <a:pt x="9567" y="15596"/>
                  <a:pt x="9567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66680" y="0"/>
            <a:ext cx="67820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Modèle atomique de Thomsom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981080"/>
            <a:ext cx="4800600" cy="47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eaeaea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imes New Roman"/>
              </a:rPr>
              <a:t>Il est né en 1871 et meurt en 1937. Il affirmait que la matière est principalement constitué</a:t>
            </a:r>
            <a:r>
              <a:rPr b="0" lang="en-CA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fr-CA" sz="3200" spc="-1" strike="noStrike">
                <a:solidFill>
                  <a:srgbClr val="ff3300"/>
                </a:solidFill>
                <a:latin typeface="Times New Roman"/>
              </a:rPr>
              <a:t> de vide. Il a fait l’expérience de la feuille d’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71800" y="457200"/>
            <a:ext cx="358128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therfo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962520"/>
            <a:ext cx="23115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eaeaea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41044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981080" y="380880"/>
            <a:ext cx="5715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Expérience de la feuille d'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eaeaea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7391520" y="6095880"/>
            <a:ext cx="718920" cy="468360"/>
          </a:xfrm>
          <a:custGeom>
            <a:avLst/>
            <a:gdLst>
              <a:gd name="textAreaLeft" fmla="*/ 30240 w 718920"/>
              <a:gd name="textAreaRight" fmla="*/ 688680 w 718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3147" h="21600">
                <a:moveTo>
                  <a:pt x="0" y="0"/>
                </a:moveTo>
                <a:lnTo>
                  <a:pt x="33147" y="0"/>
                </a:lnTo>
                <a:lnTo>
                  <a:pt x="33147" y="21600"/>
                </a:lnTo>
                <a:lnTo>
                  <a:pt x="0" y="21600"/>
                </a:lnTo>
                <a:close/>
              </a:path>
              <a:path fill="lightenLess" w="33147" h="21600">
                <a:moveTo>
                  <a:pt x="0" y="0"/>
                </a:moveTo>
                <a:lnTo>
                  <a:pt x="33147" y="0"/>
                </a:lnTo>
                <a:lnTo>
                  <a:pt x="31747" y="1400"/>
                </a:lnTo>
                <a:lnTo>
                  <a:pt x="1400" y="1400"/>
                </a:lnTo>
                <a:close/>
              </a:path>
              <a:path fill="darken" w="33147" h="21600">
                <a:moveTo>
                  <a:pt x="33147" y="0"/>
                </a:moveTo>
                <a:lnTo>
                  <a:pt x="33147" y="21600"/>
                </a:lnTo>
                <a:lnTo>
                  <a:pt x="31747" y="20200"/>
                </a:lnTo>
                <a:lnTo>
                  <a:pt x="31747" y="1400"/>
                </a:lnTo>
                <a:close/>
              </a:path>
              <a:path fill="darkenLess" w="33147" h="21600">
                <a:moveTo>
                  <a:pt x="33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47" y="20200"/>
                </a:lnTo>
                <a:close/>
              </a:path>
              <a:path fill="lighten" w="33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47" h="21600">
                <a:moveTo>
                  <a:pt x="9567" y="7493"/>
                </a:moveTo>
                <a:lnTo>
                  <a:pt x="13074" y="7493"/>
                </a:lnTo>
                <a:lnTo>
                  <a:pt x="13074" y="12828"/>
                </a:lnTo>
                <a:cubicBezTo>
                  <a:pt x="13074" y="13751"/>
                  <a:pt x="13875" y="14482"/>
                  <a:pt x="14911" y="14482"/>
                </a:cubicBezTo>
                <a:lnTo>
                  <a:pt x="16573" y="14482"/>
                </a:lnTo>
                <a:cubicBezTo>
                  <a:pt x="17609" y="14482"/>
                  <a:pt x="18410" y="13751"/>
                  <a:pt x="18410" y="12828"/>
                </a:cubicBezTo>
                <a:lnTo>
                  <a:pt x="18410" y="7493"/>
                </a:lnTo>
                <a:lnTo>
                  <a:pt x="16573" y="7493"/>
                </a:lnTo>
                <a:lnTo>
                  <a:pt x="20081" y="3985"/>
                </a:lnTo>
                <a:lnTo>
                  <a:pt x="23754" y="7493"/>
                </a:lnTo>
                <a:lnTo>
                  <a:pt x="21917" y="7493"/>
                </a:lnTo>
                <a:lnTo>
                  <a:pt x="21917" y="12828"/>
                </a:lnTo>
                <a:cubicBezTo>
                  <a:pt x="21917" y="15596"/>
                  <a:pt x="19341" y="18155"/>
                  <a:pt x="16573" y="18155"/>
                </a:cubicBezTo>
                <a:lnTo>
                  <a:pt x="14911" y="18155"/>
                </a:lnTo>
                <a:cubicBezTo>
                  <a:pt x="12143" y="18155"/>
                  <a:pt x="9567" y="15596"/>
                  <a:pt x="9567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209680"/>
            <a:ext cx="4419720" cy="426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600200" y="609480"/>
            <a:ext cx="536256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Modèle atom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943600" y="2362320"/>
            <a:ext cx="24987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3300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Times New Roman"/>
              </a:rPr>
              <a:t>Définition: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Plus petite partie d’un élément chimique, qui peut être seule ou en combinaison avec d’autres at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Élé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Times New Roman"/>
              </a:rPr>
              <a:t>Définition: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ubstance pure considérée comme indécompo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Moléc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Times New Roman"/>
              </a:rPr>
              <a:t>Définition: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Plus petite partie d’un corps (composé ou élément) qui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ut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exister et posséder les propriétés caractéristiques de ce corp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5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us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esp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éron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que vous avez appris beaucoup de chose sur ces 5 scientifiques et sur la matiè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76520" y="304920"/>
            <a:ext cx="5257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clus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Dans ces diapositives, nous allons vous parler de Démocrite,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’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Aristote,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de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Dalton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de Thomson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t de Rutherford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e sont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scientifiques qui on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étudié la matiè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1314720" cy="1447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4952880"/>
            <a:ext cx="13143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62920" y="304920"/>
            <a:ext cx="1314360" cy="1447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162920" y="4952880"/>
            <a:ext cx="1314360" cy="1447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666880" y="228600"/>
            <a:ext cx="388620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troductio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0000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6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NIER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, Eva.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CA" sz="1200" spc="-1" strike="noStrike">
                <a:solidFill>
                  <a:srgbClr val="000000"/>
                </a:solidFill>
                <a:latin typeface="Times New Roman"/>
              </a:rPr>
              <a:t>En quête des propriétés et de la structure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Les éditions HRW, bibliothèque nationale du Québec. 1991,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50 pages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Modèle atomique. (Page consultée le 26 janvier 2004).  </a:t>
            </a:r>
            <a:r>
              <a:rPr b="0" i="1" lang="en-CA" sz="1200" spc="-1" strike="noStrike">
                <a:solidFill>
                  <a:srgbClr val="000000"/>
                </a:solidFill>
                <a:latin typeface="Times New Roman"/>
              </a:rPr>
              <a:t>Atome,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[En ligne].  Adresse URL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ttp://membres.licos.fr/veloclub/sagas/at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Times New Roman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Modèle atomique. (Page consultée le 26 janvier 2004).  </a:t>
            </a:r>
            <a:r>
              <a:rPr b="0" i="1" lang="en-CA" sz="1200" spc="-1" strike="noStrike">
                <a:solidFill>
                  <a:srgbClr val="000000"/>
                </a:solidFill>
                <a:latin typeface="Times New Roman"/>
              </a:rPr>
              <a:t>Modruth.jpg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[En ligne].  Adresse URL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ttp://membres.licos.fr/veloclub/sagas/atome/modruth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Times New Roman"/>
              </a:rPr>
              <a:t>Image grat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Modèle atomique. (Page consultée le 26 janvier 2004).  </a:t>
            </a:r>
            <a:r>
              <a:rPr b="0" i="1" lang="en-CA" sz="1200" spc="-1" strike="noStrike">
                <a:solidFill>
                  <a:srgbClr val="000000"/>
                </a:solidFill>
                <a:latin typeface="Times New Roman"/>
              </a:rPr>
              <a:t>Democriteface.jpg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[En ligne].  Adresse URL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ttp://membres.licos.fr/veloclub/sagas/atome/hpbimg/Democritefac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Times New Roman"/>
              </a:rPr>
              <a:t>Image grat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Modèle atomique. (Page consultée le 26 janvier 2004).  </a:t>
            </a:r>
            <a:r>
              <a:rPr b="0" i="1" lang="en-CA" sz="1200" spc="-1" strike="noStrike">
                <a:solidFill>
                  <a:srgbClr val="000000"/>
                </a:solidFill>
                <a:latin typeface="Times New Roman"/>
              </a:rPr>
              <a:t>Daltonface.jpg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[En ligne].  Adresse URL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ttp://membres.licos.fr/veloclub/sagas/atome/hpbimg/Daltonfac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Times New Roman"/>
              </a:rPr>
              <a:t>Image grat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Times New Roman"/>
              </a:rPr>
              <a:t>MU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ibliothèque de office 2000 : </a:t>
            </a:r>
            <a:r>
              <a:rPr b="0" i="1" lang="en-CA" sz="1200" spc="-1" strike="noStrike">
                <a:solidFill>
                  <a:srgbClr val="000000"/>
                </a:solidFill>
                <a:latin typeface="Times New Roman"/>
              </a:rPr>
              <a:t>FINCL_02.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56000" y="33336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édiagraphie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5000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5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0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8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30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500"/>
                            </p:stCondLst>
                            <p:childTnLst>
                              <p:par>
                                <p:cTn id="43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8000"/>
                            </p:stCondLst>
                            <p:childTnLst>
                              <p:par>
                                <p:cTn id="43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5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30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des matiè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moc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685800" y="1981080"/>
            <a:ext cx="493560" cy="49716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497160"/>
              <a:gd name="textAreaBottom" fmla="*/ 465480 h 497160"/>
            </a:gdLst>
            <a:ahLst/>
            <a:rect l="textAreaLeft" t="textAreaTop" r="textAreaRight" b="textAreaBottom"/>
            <a:pathLst>
              <a:path w="21600" h="21757">
                <a:moveTo>
                  <a:pt x="0" y="0"/>
                </a:moveTo>
                <a:lnTo>
                  <a:pt x="21600" y="0"/>
                </a:lnTo>
                <a:lnTo>
                  <a:pt x="21600" y="21757"/>
                </a:lnTo>
                <a:lnTo>
                  <a:pt x="0" y="21757"/>
                </a:lnTo>
                <a:close/>
              </a:path>
              <a:path fill="lightenLess" w="21600" h="21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7">
                <a:moveTo>
                  <a:pt x="21600" y="0"/>
                </a:moveTo>
                <a:lnTo>
                  <a:pt x="21600" y="21757"/>
                </a:lnTo>
                <a:lnTo>
                  <a:pt x="20200" y="20357"/>
                </a:lnTo>
                <a:lnTo>
                  <a:pt x="20200" y="1400"/>
                </a:lnTo>
                <a:close/>
              </a:path>
              <a:path fill="darkenLess" w="21600" h="21757">
                <a:moveTo>
                  <a:pt x="21600" y="21757"/>
                </a:moveTo>
                <a:lnTo>
                  <a:pt x="0" y="21757"/>
                </a:lnTo>
                <a:lnTo>
                  <a:pt x="1400" y="20357"/>
                </a:lnTo>
                <a:lnTo>
                  <a:pt x="20200" y="20357"/>
                </a:lnTo>
                <a:close/>
              </a:path>
              <a:path fill="lighten" w="21600" h="21757">
                <a:moveTo>
                  <a:pt x="0" y="21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7"/>
                </a:lnTo>
                <a:close/>
              </a:path>
              <a:path fill="darken" w="21600" h="21757">
                <a:moveTo>
                  <a:pt x="3794" y="3872"/>
                </a:moveTo>
                <a:lnTo>
                  <a:pt x="17806" y="10879"/>
                </a:lnTo>
                <a:lnTo>
                  <a:pt x="3794" y="178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685800" y="2743200"/>
            <a:ext cx="493560" cy="49680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496800"/>
              <a:gd name="textAreaBottom" fmla="*/ 465120 h 496800"/>
            </a:gdLst>
            <a:ahLst/>
            <a:rect l="textAreaLeft" t="textAreaTop" r="textAreaRight" b="textAreaBottom"/>
            <a:pathLst>
              <a:path w="21600" h="21742">
                <a:moveTo>
                  <a:pt x="0" y="0"/>
                </a:moveTo>
                <a:lnTo>
                  <a:pt x="21600" y="0"/>
                </a:lnTo>
                <a:lnTo>
                  <a:pt x="21600" y="21742"/>
                </a:lnTo>
                <a:lnTo>
                  <a:pt x="0" y="21742"/>
                </a:lnTo>
                <a:close/>
              </a:path>
              <a:path fill="lightenLess" w="21600" h="217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2">
                <a:moveTo>
                  <a:pt x="21600" y="0"/>
                </a:moveTo>
                <a:lnTo>
                  <a:pt x="21600" y="21742"/>
                </a:lnTo>
                <a:lnTo>
                  <a:pt x="20200" y="20342"/>
                </a:lnTo>
                <a:lnTo>
                  <a:pt x="20200" y="1400"/>
                </a:lnTo>
                <a:close/>
              </a:path>
              <a:path fill="darkenLess" w="21600" h="21742">
                <a:moveTo>
                  <a:pt x="21600" y="21742"/>
                </a:moveTo>
                <a:lnTo>
                  <a:pt x="0" y="21742"/>
                </a:lnTo>
                <a:lnTo>
                  <a:pt x="1400" y="20342"/>
                </a:lnTo>
                <a:lnTo>
                  <a:pt x="20200" y="20342"/>
                </a:lnTo>
                <a:close/>
              </a:path>
              <a:path fill="lighten" w="21600" h="21742">
                <a:moveTo>
                  <a:pt x="0" y="217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2"/>
                </a:lnTo>
                <a:close/>
              </a:path>
              <a:path fill="darken" w="21600" h="21742">
                <a:moveTo>
                  <a:pt x="3794" y="3864"/>
                </a:moveTo>
                <a:lnTo>
                  <a:pt x="17806" y="10871"/>
                </a:lnTo>
                <a:lnTo>
                  <a:pt x="3794" y="1787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743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ist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685800" y="3505320"/>
            <a:ext cx="496800" cy="493560"/>
          </a:xfrm>
          <a:custGeom>
            <a:avLst/>
            <a:gdLst>
              <a:gd name="textAreaLeft" fmla="*/ 31680 w 496800"/>
              <a:gd name="textAreaRight" fmla="*/ 465120 w 49680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1742" h="21600">
                <a:moveTo>
                  <a:pt x="0" y="0"/>
                </a:moveTo>
                <a:lnTo>
                  <a:pt x="21742" y="0"/>
                </a:lnTo>
                <a:lnTo>
                  <a:pt x="21742" y="21600"/>
                </a:lnTo>
                <a:lnTo>
                  <a:pt x="0" y="21600"/>
                </a:lnTo>
                <a:close/>
              </a:path>
              <a:path fill="lightenLess" w="21742" h="21600">
                <a:moveTo>
                  <a:pt x="0" y="0"/>
                </a:moveTo>
                <a:lnTo>
                  <a:pt x="21742" y="0"/>
                </a:lnTo>
                <a:lnTo>
                  <a:pt x="20342" y="1400"/>
                </a:lnTo>
                <a:lnTo>
                  <a:pt x="1400" y="1400"/>
                </a:lnTo>
                <a:close/>
              </a:path>
              <a:path fill="darken" w="21742" h="21600">
                <a:moveTo>
                  <a:pt x="21742" y="0"/>
                </a:moveTo>
                <a:lnTo>
                  <a:pt x="21742" y="21600"/>
                </a:lnTo>
                <a:lnTo>
                  <a:pt x="20342" y="20200"/>
                </a:lnTo>
                <a:lnTo>
                  <a:pt x="20342" y="1400"/>
                </a:lnTo>
                <a:close/>
              </a:path>
              <a:path fill="darkenLess" w="21742" h="21600">
                <a:moveTo>
                  <a:pt x="217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2" y="20200"/>
                </a:lnTo>
                <a:close/>
              </a:path>
              <a:path fill="lighten" w="217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2" h="21600">
                <a:moveTo>
                  <a:pt x="3864" y="3794"/>
                </a:moveTo>
                <a:lnTo>
                  <a:pt x="17877" y="10800"/>
                </a:lnTo>
                <a:lnTo>
                  <a:pt x="386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350532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l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685800" y="4267080"/>
            <a:ext cx="496800" cy="493920"/>
          </a:xfrm>
          <a:custGeom>
            <a:avLst/>
            <a:gdLst>
              <a:gd name="textAreaLeft" fmla="*/ 31680 w 496800"/>
              <a:gd name="textAreaRight" fmla="*/ 465120 w 49680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1726" h="21600">
                <a:moveTo>
                  <a:pt x="0" y="0"/>
                </a:moveTo>
                <a:lnTo>
                  <a:pt x="21726" y="0"/>
                </a:lnTo>
                <a:lnTo>
                  <a:pt x="21726" y="21600"/>
                </a:lnTo>
                <a:lnTo>
                  <a:pt x="0" y="21600"/>
                </a:lnTo>
                <a:close/>
              </a:path>
              <a:path fill="lightenLess" w="21726" h="21600">
                <a:moveTo>
                  <a:pt x="0" y="0"/>
                </a:moveTo>
                <a:lnTo>
                  <a:pt x="21726" y="0"/>
                </a:lnTo>
                <a:lnTo>
                  <a:pt x="20326" y="1400"/>
                </a:lnTo>
                <a:lnTo>
                  <a:pt x="1400" y="1400"/>
                </a:lnTo>
                <a:close/>
              </a:path>
              <a:path fill="darken" w="21726" h="21600">
                <a:moveTo>
                  <a:pt x="21726" y="0"/>
                </a:moveTo>
                <a:lnTo>
                  <a:pt x="21726" y="21600"/>
                </a:lnTo>
                <a:lnTo>
                  <a:pt x="20326" y="20200"/>
                </a:lnTo>
                <a:lnTo>
                  <a:pt x="20326" y="1400"/>
                </a:lnTo>
                <a:close/>
              </a:path>
              <a:path fill="darkenLess" w="21726" h="21600">
                <a:moveTo>
                  <a:pt x="21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26" y="20200"/>
                </a:lnTo>
                <a:close/>
              </a:path>
              <a:path fill="lighten" w="21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26" h="21600">
                <a:moveTo>
                  <a:pt x="3856" y="3794"/>
                </a:moveTo>
                <a:lnTo>
                  <a:pt x="17869" y="10800"/>
                </a:lnTo>
                <a:lnTo>
                  <a:pt x="385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6360" y="419112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4" action="ppaction://hlinksldjump"/>
          </p:cNvPr>
          <p:cNvSpPr/>
          <p:nvPr/>
        </p:nvSpPr>
        <p:spPr>
          <a:xfrm>
            <a:off x="685800" y="4952880"/>
            <a:ext cx="496800" cy="493920"/>
          </a:xfrm>
          <a:custGeom>
            <a:avLst/>
            <a:gdLst>
              <a:gd name="textAreaLeft" fmla="*/ 31680 w 496800"/>
              <a:gd name="textAreaRight" fmla="*/ 465120 w 49680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1726" h="21600">
                <a:moveTo>
                  <a:pt x="0" y="0"/>
                </a:moveTo>
                <a:lnTo>
                  <a:pt x="21726" y="0"/>
                </a:lnTo>
                <a:lnTo>
                  <a:pt x="21726" y="21600"/>
                </a:lnTo>
                <a:lnTo>
                  <a:pt x="0" y="21600"/>
                </a:lnTo>
                <a:close/>
              </a:path>
              <a:path fill="lightenLess" w="21726" h="21600">
                <a:moveTo>
                  <a:pt x="0" y="0"/>
                </a:moveTo>
                <a:lnTo>
                  <a:pt x="21726" y="0"/>
                </a:lnTo>
                <a:lnTo>
                  <a:pt x="20326" y="1400"/>
                </a:lnTo>
                <a:lnTo>
                  <a:pt x="1400" y="1400"/>
                </a:lnTo>
                <a:close/>
              </a:path>
              <a:path fill="darken" w="21726" h="21600">
                <a:moveTo>
                  <a:pt x="21726" y="0"/>
                </a:moveTo>
                <a:lnTo>
                  <a:pt x="21726" y="21600"/>
                </a:lnTo>
                <a:lnTo>
                  <a:pt x="20326" y="20200"/>
                </a:lnTo>
                <a:lnTo>
                  <a:pt x="20326" y="1400"/>
                </a:lnTo>
                <a:close/>
              </a:path>
              <a:path fill="darkenLess" w="21726" h="21600">
                <a:moveTo>
                  <a:pt x="21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26" y="20200"/>
                </a:lnTo>
                <a:close/>
              </a:path>
              <a:path fill="lighten" w="21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26" h="21600">
                <a:moveTo>
                  <a:pt x="3856" y="3794"/>
                </a:moveTo>
                <a:lnTo>
                  <a:pt x="17869" y="10800"/>
                </a:lnTo>
                <a:lnTo>
                  <a:pt x="385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876920"/>
            <a:ext cx="29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therf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zoom dir="in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19400" y="2514600"/>
            <a:ext cx="2905200" cy="3962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743200" y="304920"/>
            <a:ext cx="35719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émocrit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00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cover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400 avant Jésus-Christ, Démocrite pensait que la matière était discontinue. Que les particules sont séparées par des espaces v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81080" y="533520"/>
            <a:ext cx="44960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émocrit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9000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162920" y="6095880"/>
            <a:ext cx="718920" cy="50004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48" h="21600">
                <a:moveTo>
                  <a:pt x="8518" y="7493"/>
                </a:moveTo>
                <a:lnTo>
                  <a:pt x="12025" y="7493"/>
                </a:lnTo>
                <a:lnTo>
                  <a:pt x="12025" y="12828"/>
                </a:lnTo>
                <a:cubicBezTo>
                  <a:pt x="12025" y="13751"/>
                  <a:pt x="12826" y="14482"/>
                  <a:pt x="13862" y="14482"/>
                </a:cubicBezTo>
                <a:lnTo>
                  <a:pt x="15524" y="14482"/>
                </a:lnTo>
                <a:cubicBezTo>
                  <a:pt x="16560" y="14482"/>
                  <a:pt x="17361" y="13751"/>
                  <a:pt x="17361" y="12828"/>
                </a:cubicBezTo>
                <a:lnTo>
                  <a:pt x="17361" y="7493"/>
                </a:lnTo>
                <a:lnTo>
                  <a:pt x="15524" y="7493"/>
                </a:lnTo>
                <a:lnTo>
                  <a:pt x="19032" y="3985"/>
                </a:lnTo>
                <a:lnTo>
                  <a:pt x="22705" y="7493"/>
                </a:lnTo>
                <a:lnTo>
                  <a:pt x="20868" y="7493"/>
                </a:lnTo>
                <a:lnTo>
                  <a:pt x="20868" y="12828"/>
                </a:lnTo>
                <a:cubicBezTo>
                  <a:pt x="20868" y="15596"/>
                  <a:pt x="18292" y="18155"/>
                  <a:pt x="15524" y="18155"/>
                </a:cubicBezTo>
                <a:lnTo>
                  <a:pt x="13862" y="18155"/>
                </a:lnTo>
                <a:cubicBezTo>
                  <a:pt x="11094" y="18155"/>
                  <a:pt x="8518" y="15596"/>
                  <a:pt x="8518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1600" y="685800"/>
            <a:ext cx="6705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odèle atomique de Démocrite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200400"/>
            <a:ext cx="2590920" cy="2514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09680"/>
            <a:ext cx="3124440" cy="3962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895480" y="228600"/>
            <a:ext cx="3353040" cy="16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istot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istote est né en 380 avant Jésus-Christ. Ce scientifique pensait le contraire de Démocrite. Il pensait que la matière était continue.Cela veut dire qu’il n’y a pas d’espace que l’espace est rempli d’une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90920" y="0"/>
            <a:ext cx="30477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Aristote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7543800" y="6095880"/>
            <a:ext cx="719280" cy="50004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1064" h="21600">
                <a:moveTo>
                  <a:pt x="0" y="0"/>
                </a:moveTo>
                <a:lnTo>
                  <a:pt x="31064" y="0"/>
                </a:lnTo>
                <a:lnTo>
                  <a:pt x="31064" y="21600"/>
                </a:lnTo>
                <a:lnTo>
                  <a:pt x="0" y="21600"/>
                </a:lnTo>
                <a:close/>
              </a:path>
              <a:path fill="lightenLess" w="31064" h="21600">
                <a:moveTo>
                  <a:pt x="0" y="0"/>
                </a:moveTo>
                <a:lnTo>
                  <a:pt x="31064" y="0"/>
                </a:lnTo>
                <a:lnTo>
                  <a:pt x="29664" y="1400"/>
                </a:lnTo>
                <a:lnTo>
                  <a:pt x="1400" y="1400"/>
                </a:lnTo>
                <a:close/>
              </a:path>
              <a:path fill="darken" w="31064" h="21600">
                <a:moveTo>
                  <a:pt x="31064" y="0"/>
                </a:moveTo>
                <a:lnTo>
                  <a:pt x="31064" y="21600"/>
                </a:lnTo>
                <a:lnTo>
                  <a:pt x="29664" y="20200"/>
                </a:lnTo>
                <a:lnTo>
                  <a:pt x="29664" y="1400"/>
                </a:lnTo>
                <a:close/>
              </a:path>
              <a:path fill="darkenLess" w="31064" h="21600">
                <a:moveTo>
                  <a:pt x="31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64" y="20200"/>
                </a:lnTo>
                <a:close/>
              </a:path>
              <a:path fill="lighten" w="31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64" h="21600">
                <a:moveTo>
                  <a:pt x="8525" y="7493"/>
                </a:moveTo>
                <a:lnTo>
                  <a:pt x="12033" y="7493"/>
                </a:lnTo>
                <a:lnTo>
                  <a:pt x="12033" y="12828"/>
                </a:lnTo>
                <a:cubicBezTo>
                  <a:pt x="12033" y="13751"/>
                  <a:pt x="12834" y="14482"/>
                  <a:pt x="13869" y="14482"/>
                </a:cubicBezTo>
                <a:lnTo>
                  <a:pt x="15532" y="14482"/>
                </a:lnTo>
                <a:cubicBezTo>
                  <a:pt x="16568" y="14482"/>
                  <a:pt x="17368" y="13751"/>
                  <a:pt x="17368" y="12828"/>
                </a:cubicBezTo>
                <a:lnTo>
                  <a:pt x="17368" y="7493"/>
                </a:lnTo>
                <a:lnTo>
                  <a:pt x="15532" y="7493"/>
                </a:lnTo>
                <a:lnTo>
                  <a:pt x="19039" y="3985"/>
                </a:lnTo>
                <a:lnTo>
                  <a:pt x="22712" y="7493"/>
                </a:lnTo>
                <a:lnTo>
                  <a:pt x="20876" y="7493"/>
                </a:lnTo>
                <a:lnTo>
                  <a:pt x="20876" y="12828"/>
                </a:lnTo>
                <a:cubicBezTo>
                  <a:pt x="20876" y="15596"/>
                  <a:pt x="18300" y="18155"/>
                  <a:pt x="15532" y="18155"/>
                </a:cubicBezTo>
                <a:lnTo>
                  <a:pt x="13869" y="18155"/>
                </a:lnTo>
                <a:cubicBezTo>
                  <a:pt x="11102" y="18155"/>
                  <a:pt x="8525" y="15596"/>
                  <a:pt x="8525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362320"/>
            <a:ext cx="3589200" cy="416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505320" y="533520"/>
            <a:ext cx="265752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alton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9:29:07Z</dcterms:created>
  <dc:creator>C.S.B.E.</dc:creator>
  <dc:description/>
  <dc:language>en-US</dc:language>
  <cp:lastModifiedBy>ab</cp:lastModifiedBy>
  <dcterms:modified xsi:type="dcterms:W3CDTF">2004-03-22T23:12:10Z</dcterms:modified>
  <cp:revision>29</cp:revision>
  <dc:subject/>
  <dc:title> </dc:title>
</cp:coreProperties>
</file>