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535-3593-4B3B-B2D0-10A4484E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4BB-D7A6-45E2-8242-B45B99D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CCC-DA40-4B02-8CD2-A696399F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D67-D3EA-4C1D-8103-E64722A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8DC-C2B7-43C7-AC5A-D7D8B2E5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1FE-6876-40F7-8C70-6EC93BE3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00B-7EA2-4524-8918-B058CD5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C2E-E813-4B8E-BBB3-830F63C5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44D-566D-4F14-B6BC-8718E19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478-21E2-4486-BD23-EBB169F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713-E42F-4C31-A747-52CD813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C8A-6DE7-423B-8D39-E6FA2D9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70F-5E72-482D-A2E1-93A939DD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20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32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À la découverte de la matière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5486400"/>
            <a:ext cx="609588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vail réalisé par Tommy Lehoux et Tommy Gilbert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IN00358_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2667240" cy="240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828800"/>
            <a:ext cx="6019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James Thomson est l`inventeur des électrons(charges négatives).Selon lui, les charges négatives et positives sont réunis de façon homogène. Il élabora « pain aux raisins », c`est-à-dire que les charges négatives sont dans un espace composé de charges positives pour donnée un résultat neu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00"/>
            </a:gs>
            <a:gs pos="50000">
              <a:srgbClr val="009900"/>
            </a:gs>
            <a:gs pos="100000">
              <a:srgbClr val="004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95480" y="533520"/>
            <a:ext cx="31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.Rutherfor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71 à 1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004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20040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s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71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50000">
              <a:srgbClr val="009900"/>
            </a:gs>
            <a:gs pos="100000">
              <a:srgbClr val="00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447920"/>
            <a:ext cx="586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inventé un tout nouveau modèle atomique grâce à l`expérience de la feuille d`or.Il a découvert les neutrons et les protons.Selon lui, les charges positives sont concentrés dans le noyau et les charges négatives évoluent autour dans un très grand espace.Il a dit que la matière était majoritairement constitué de v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429000" y="5335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.Boh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523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5 à 19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ohr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27828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600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Bohr a pratiquement eu la même idée que Rutherford.D`après lui, dans le noyau il y a des charges positives et des charges neutres et des charges négatives évoluent autour sur des couches électroniqu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00400" y="380880"/>
            <a:ext cx="249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 molécu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6688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finition:Plus petite d’un corps (composé ou élément ) qui puisse exister et posséder les propriétés caractéristiques de ce cor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429000" y="30492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es ato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3434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finition:Plus petite partie d’un élément chimique, qui peut être seule ou en combinaison avec d’autres at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IN00358_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18302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76720" y="4572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s élé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27672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finition:Substance pure considérée comme indécompos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457200"/>
            <a:ext cx="8410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différent entre les éléments,les atomes et les molécule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362320"/>
            <a:ext cx="52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ifférence entre un atome et une molécule.C’est que la molécule peu avoir plusieurs sorte d’atome.Tendit qu’un atome est aussi un élé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819520" y="45720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810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`est ce que nous savions sur les différents scientifiques qui ont étudier la matière.Il est à noter que les modèles atomiques sont encore plus améliorer aujourd`hui que dans le temps de ses cherch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0000"/>
            </a:gs>
            <a:gs pos="50000">
              <a:srgbClr val="ff0000"/>
            </a:gs>
            <a:gs pos="100000">
              <a:srgbClr val="73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666880" y="3808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3623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438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819520"/>
            <a:ext cx="73152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Nous allons vous présenter différents modèles atomiques de différents scientifiques et leurs hypothèse sur la disposition de la matièr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68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971800" y="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es référ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21932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GRENIER, E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va.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n quête des propriétés et de la structure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 Les éditions hrw ltée, bibliothèque national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 du Québec,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991,150 pages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dèle atomique.  (Page consultée le 26 janvier 2004). 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Atome,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 [En ligne].  Adresse URL:   </a:t>
            </a:r>
            <a:r>
              <a:rPr b="0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:www.chez.com/shu3u1/1.5.ht</a:t>
            </a:r>
            <a:r>
              <a:rPr b="0" lang="en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IM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La structure de l’atome.  (Page consultée le 26 janvier 2004). 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Modeledebohr.jpg,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[En ligne].  Adresse URL: http://membres.licos.fr/veloclub/sagas/atome/modeledeBohr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Atome.  (Page consultée le 26 janvier 2004).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Atom.gif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[En ligne].  Adresse URL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//home.clara.net/don.ainley/atom</a:t>
            </a:r>
            <a:r>
              <a:rPr b="0" lang="en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Bohr.  (Page consultée le 28 janvier 2004). 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Bohr.gif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[En ligne].  Adresse URL: </a:t>
            </a:r>
            <a:r>
              <a:rPr b="0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//www.uoregon.edv/~ch111/images/boh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MUSIQ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Bibliothèque office 2000: </a:t>
            </a: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PARNT_06.m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0" y="380880"/>
            <a:ext cx="4495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 table des matiè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609480" y="1752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1828800"/>
            <a:ext cx="171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mocr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0948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2438280"/>
            <a:ext cx="1295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isto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971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00200" y="3048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.Dalt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609480" y="3581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0200" y="3733920"/>
            <a:ext cx="1809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.J.Thoms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609480" y="4191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4343400"/>
            <a:ext cx="1781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.Rutherfor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609480" y="4800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00200" y="4876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.Boh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4114800" y="1752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7" action="ppaction://hlinksldjump"/>
          </p:cNvPr>
          <p:cNvSpPr/>
          <p:nvPr/>
        </p:nvSpPr>
        <p:spPr>
          <a:xfrm>
            <a:off x="4114800" y="2971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411480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fin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0" y="3048120"/>
            <a:ext cx="1685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éfé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52880" y="2438280"/>
            <a:ext cx="1838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457200"/>
            <a:ext cx="2743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ocrit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676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600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e siècle avant Jésus-Chr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200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tom1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40704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71800" y="990720"/>
            <a:ext cx="396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`après Démocrite, la matière est discontinue.Il a supposé qu`il a des espaces vides entre les particules.D`après lui, les particules sont tellement petites qu`elles ne peuvent pas être divisées.Selon lui, la disposition et arrangement des particules varient d`une substance à l`au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971800" y="380880"/>
            <a:ext cx="2895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risto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1523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e siècle avant Jésus-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327672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on Aristote, la matière est continue. Il supposait qu`il n`y a pas d`espace entre les particules. Aristote n`a pas dessiné de modèles atom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525780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ton a reprit l`idée de Démocrite. Il est l` instigateur de la théorie atom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3808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.Dalt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2193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66 à18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ototo" descr=""/>
          <p:cNvPicPr/>
          <p:nvPr/>
        </p:nvPicPr>
        <p:blipFill>
          <a:blip r:embed="rId1"/>
          <a:srcRect l="0" t="0" r="20006" b="19997"/>
          <a:stretch/>
        </p:blipFill>
        <p:spPr>
          <a:xfrm>
            <a:off x="2666880" y="20001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685800"/>
            <a:ext cx="4572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La matière est composé de particules indivi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Tous les atomes d`un élément sont ident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Les atomes de différents éléments sont diffé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Dans les réactions chimiques, les atomes se combinent pour formées de nouveaux phénomè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00400" y="3808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.J.Thoms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6 à 1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dalruth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8798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5:39:01Z</dcterms:created>
  <dc:creator>C.S.B.E.</dc:creator>
  <dc:description/>
  <dc:language>en-US</dc:language>
  <cp:lastModifiedBy>Vicky Veilleux</cp:lastModifiedBy>
  <dcterms:modified xsi:type="dcterms:W3CDTF">2004-03-22T02:45:49Z</dcterms:modified>
  <cp:revision>31</cp:revision>
  <dc:subject/>
  <dc:title>Présentation PowerPoint</dc:title>
</cp:coreProperties>
</file>